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UNECElogoWhite200px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5A3C784C-5173-43DB-8086-2D0C6DD6FBA8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UNECElogoWhite200px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The 2010 Census as a valuable source on International Migr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0384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99"/>
                </a:solidFill>
                <a:latin typeface="Arial"/>
              </a:rPr>
              <a:t>Enrico Bisogn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Workshop on International Migration Stati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Edinburgh, 23-24 November 2006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Other topics to keep in min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Migration module: is this a viable solution for my country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On immigra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On emigra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On long-term / short-ter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Another alternative: short form/long for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2010 Census: the operational challenges 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How to address difficult groups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Publicity campaig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Languages of the census for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Interview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2010 Census: the proces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What can I do to influence the decision-making process? How to buy a ‘stake’ in the Census process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Who can support the migration section of the Census: what data users (policy makers, research, NGOs, International Organizations) 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ffff99"/>
                </a:solidFill>
                <a:latin typeface="Arial"/>
              </a:rPr>
              <a:t>Adding international need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952880"/>
            <a:ext cx="9144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733920"/>
            <a:ext cx="914400" cy="1218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1840" y="3352680"/>
            <a:ext cx="3993840" cy="1828800"/>
            <a:chOff x="501840" y="3352680"/>
            <a:chExt cx="3993840" cy="1828800"/>
          </a:xfrm>
        </p:grpSpPr>
        <p:sp>
          <p:nvSpPr>
            <p:cNvPr id="115" name=""/>
            <p:cNvSpPr/>
            <p:nvPr/>
          </p:nvSpPr>
          <p:spPr>
            <a:xfrm>
              <a:off x="3581280" y="3352680"/>
              <a:ext cx="914400" cy="1828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840" y="3657600"/>
              <a:ext cx="178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32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nb-NO" sz="3200" spc="-1" strike="noStrike">
                  <a:solidFill>
                    <a:srgbClr val="000000"/>
                  </a:solidFill>
                  <a:latin typeface="Arial"/>
                </a:rPr>
                <a:t>nee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56480" y="1981080"/>
            <a:ext cx="4039200" cy="1371600"/>
            <a:chOff x="456480" y="1981080"/>
            <a:chExt cx="4039200" cy="1371600"/>
          </a:xfrm>
        </p:grpSpPr>
        <p:sp>
          <p:nvSpPr>
            <p:cNvPr id="118" name=""/>
            <p:cNvSpPr/>
            <p:nvPr/>
          </p:nvSpPr>
          <p:spPr>
            <a:xfrm>
              <a:off x="3581280" y="2133720"/>
              <a:ext cx="914400" cy="12189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6480" y="198108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3200" spc="-1" strike="noStrike">
                  <a:solidFill>
                    <a:srgbClr val="ccccff"/>
                  </a:solidFill>
                  <a:latin typeface="Arial"/>
                </a:rPr>
                <a:t>Internation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3200" spc="-1" strike="noStrike">
                  <a:solidFill>
                    <a:srgbClr val="ccccff"/>
                  </a:solidFill>
                  <a:latin typeface="Arial"/>
                </a:rPr>
                <a:t>recomm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29000" y="2236680"/>
            <a:ext cx="5380560" cy="1068840"/>
            <a:chOff x="3429000" y="2236680"/>
            <a:chExt cx="5380560" cy="1068840"/>
          </a:xfrm>
        </p:grpSpPr>
        <p:sp>
          <p:nvSpPr>
            <p:cNvPr id="121" name=""/>
            <p:cNvSpPr/>
            <p:nvPr/>
          </p:nvSpPr>
          <p:spPr>
            <a:xfrm>
              <a:off x="3429000" y="2743200"/>
              <a:ext cx="35053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51120" y="2236680"/>
              <a:ext cx="155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3200" spc="-1" strike="noStrike">
                  <a:solidFill>
                    <a:srgbClr val="000000"/>
                  </a:solidFill>
                  <a:latin typeface="Arial"/>
                </a:rPr>
                <a:t>Criti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32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The main poin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Some indications from 2000 Censu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Plans for 2010 Censu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How to influence the ‘Census process’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Int.l migration in 2000 Censu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Intl. migration in 2000 Census </a:t>
            </a:r>
            <a:r>
              <a:rPr b="1" i="1" lang="fr-CH" sz="2400" spc="-1" strike="noStrike">
                <a:solidFill>
                  <a:srgbClr val="ffff99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Intl. migration in 2000 Census </a:t>
            </a:r>
            <a:r>
              <a:rPr b="1" i="1" lang="fr-CH" sz="2400" spc="-1" strike="noStrike">
                <a:solidFill>
                  <a:srgbClr val="ffff99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issemination of 2000 Census data on International migr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An assessment would be needed on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What tables ?</a:t>
            </a: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 What cross-tabulations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What geographical detail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What publications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Which analytical studies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Which users were targeted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2010 Census : what plans?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First of all: in your opinion, is the Census a valuable source on international migration in your country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If yes: go to slide 8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If no: go to the en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Census 2010: </a:t>
            </a:r>
            <a:br>
              <a:rPr sz="3600"/>
            </a:b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your ideas on the conten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What groups to includ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Residency rules for difficult-to-count group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What topics to includ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Immigration backgroun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Timing and geography of mi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Other topics to keep in min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ason for mig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opulation with refugee background and IDP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Ethnicit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-24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4:41:39Z</dcterms:created>
  <dc:creator>Jessica Gardner</dc:creator>
  <dc:description/>
  <dc:language>en-US</dc:language>
  <cp:lastModifiedBy>unece</cp:lastModifiedBy>
  <dcterms:modified xsi:type="dcterms:W3CDTF">2006-11-22T16:23:24Z</dcterms:modified>
  <cp:revision>102</cp:revision>
  <dc:subject/>
  <dc:title>Title of the Presentation</dc:title>
</cp:coreProperties>
</file>