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551-6511-46C7-94AA-B6EA428C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7ED-49EF-45ED-8D99-717D79D1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7A1-8163-4396-8E70-23A82CE6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8B4-0F98-44EE-8E7A-C4EE34EF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E01-10B7-4884-A76B-D6C88B9E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CD4-16E7-474B-B356-40B30DBB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7F1-2EC7-4617-AC8A-BD9EF348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935-7669-4284-AF11-0AFBD1F9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9F3-0E24-4EBB-9DF9-F59BD4EB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EFB-C95E-4413-B38C-3E05CD7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868-B8AB-4A84-94ED-A247369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70D-D37D-452A-97B8-44294298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DDAB-FFFC-402F-9106-2366E38FF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3600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333399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ТАТИСТИКА МЕЖДУНАРОДНОЙ МИГРАЦИИ В СТРАНАХ С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5734080"/>
          <a:ext cx="10080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324000" y="5734080"/>
                    <a:ext cx="1008000" cy="825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692360" y="5877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льга Чудин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сковский Государственный Университет им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B9F-DE51-449F-9EC8-47B5A15594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нципы сбора данных о пото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1991 года -  прописка по месту жительства, критери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ней для граждан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ней для иностранце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истические талоны направляются  из органов регистрации в органы статист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яются  талоны на прибывших и на выбывш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292720" y="486900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03640" y="501336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27640" y="522936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48360" y="2997360"/>
            <a:ext cx="1873440" cy="1368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32130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 стат.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2997360"/>
            <a:ext cx="2160720" cy="122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ли и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о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508720" y="4149360"/>
            <a:ext cx="0" cy="647640"/>
          </a:xfrm>
          <a:prstGeom prst="line">
            <a:avLst/>
          </a:prstGeom>
          <a:ln w="507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3716280"/>
            <a:ext cx="10080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1640" y="51768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5032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0360" y="5229360"/>
            <a:ext cx="1439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, обработка, публик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4292640"/>
            <a:ext cx="0" cy="9349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330-5B9A-43C6-8EFE-72664401C8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дресный  листок прибытия – основа отчетности в органах реги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668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113-E4DF-496A-A2B8-E5F287A9F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пыт РФ –с 1995 г. новые правила регистрации населения и  формирования стат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643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ат. талон составляется  при регистрации по месту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59280" y="1844640"/>
            <a:ext cx="3889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гистрация по месту пребывания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е ограничена во времени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о стат. талоны не составл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20168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 flipH="1">
            <a:off x="6300720" y="3789360"/>
            <a:ext cx="122400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3645000"/>
            <a:ext cx="115272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90640" y="3141720"/>
            <a:ext cx="119844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198440" cy="136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692360" y="3573360"/>
            <a:ext cx="119700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98E-642F-4BF9-816B-94C247CCD7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ждународная миграция в РФ: эффект погрешностей учета из-за изменений его правил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1971-200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ел. данные Росстата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1333440"/>
            <a:ext cx="7829280" cy="552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915-2CBD-4955-9336-DE5F3565D2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 иммиграционного потока в  РФ по гражданст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26920" y="1700280"/>
          <a:ext cx="7705800" cy="44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77058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37C-D413-4AC3-B444-907A59D4CE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5280" y="1413000"/>
          <a:ext cx="8353440" cy="49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35344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Данные Росстата о  международных мигрантах и данные МВД о лицах, получивших  вид на жительство и разрешение на временное про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F95-4EB0-47BA-8901-3A71434A83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чество охвата текущим учетом потоков миграции:  вопросы регистрации и снятия с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тсутствие строгого контроля в отношении регистрации и стимулов к 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егистрация более полная, чем снятие с у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нятие с учета – главный стимул – необходимость продажи жилища новому владель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ктика органов МВД – снятие с учета по истечении срока регистрации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астичный учет в консульствах за гран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AEA-DC77-4EEC-9B7D-E4F5264D2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Требования страны прибытия  на ПМЖ предъявить документ о снятии с регистрационного учета в стране вых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600200"/>
          <a:ext cx="8218440" cy="4532400"/>
        </p:xfrm>
        <a:graphic>
          <a:graphicData uri="http://schemas.openxmlformats.org/drawingml/2006/table">
            <a:tbl>
              <a:tblPr/>
              <a:tblGrid>
                <a:gridCol w="2590920"/>
                <a:gridCol w="562752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ребу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е требу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rm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ela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Kyrgyz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ajik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urkmen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Uzbek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zerbai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ulg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sto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eor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at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ew Zea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or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e 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United 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71D-E6D0-478E-BE3F-25A44205A8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равнение данных Росстата и ряда стран о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заимных миграционных потоках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 2005, 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Статкомитет С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413000"/>
          <a:ext cx="424476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424476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3280" y="1413000"/>
          <a:ext cx="4249800" cy="496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413000"/>
                    <a:ext cx="42498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A91-06D7-4F2E-AD92-8E8ACC424F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б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бочей силы или заня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мохозя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 границе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для того, чтобы измерить явления, которые нельзя измерить иными методами или при отсутствии надежных регулярных источников статистики (Молдова, Таджикистан, Груз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770-CAB1-4E59-A938-3A44F2518F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траны  СНГ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1991-2006:    15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лет  формирования миграционной статистики в нов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Функции и 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дминистративных  систем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ациональных статистических служб в области учета 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3.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австречу регистрам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.  Заключение: проблемы и возможные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C3C-DEE4-46AD-AA89-D60E9DB86E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Административны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зрешения на проживание (временное, постоянное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зрешения на работу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остранные рабо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изы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(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ыданные иностранцам за границей, внутри страны и пр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анные по регистрации  иностранцев по типам виз и  целям преб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анные о приобретении гражд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егистрация населения по месту пребывания и месту ж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97F-F49A-44ED-A480-3756B10DF0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Данные, собираемые на границе: аккуратность интерпре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сновная проблема пограничной статистики  - недоучет  лиц, которым не требуется виза,  и  пассажиров, следующих железной дорогой (отсутствие автоматизированных средств учет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Недостаток нормальных данных на основе  регистрации  побуждает к использованию данных «на поверхн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Неадекватная интерпретация ведет к дезинформации общества, росту ксенофобии и  социальной нестаби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играционные карты – хорошая альтернатива или вынужденная мера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85C-C577-4913-BB18-97D6139DE1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играционная кар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19280" y="1413000"/>
          <a:ext cx="5689440" cy="39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13000"/>
                    <a:ext cx="5689440" cy="390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068-29DD-4F3F-B38E-8CBD181FC7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Отсутствие ориентиров для миграционной поли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Повышение стоимости проводимой политики в силу ее неэффе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скажение  общественного  мнения под влиянием  неадекватной информаци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оследствия недостатка  надежной статистики 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9E9-02DA-4B5F-B776-773BB6E88D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гистры населения: прекрасное будущее демографической статистики или новые пробле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се страны  Содружества начали реализацию программы перевода документооборота и регистрации фактов , физических и юридических лиц  в электронный вид.  У всех на повестке дня – создание регистра насе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 одной стороны:  неизбежность перехода от бумажных носителей и ручной работы с картотеками и пересылкой  документов по почте, ручного кодирования и повторного ввода -  к современным базам данных (новые возможности , которые  даже трудно оцени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 другой стороны – следует быть реалистами:  потребуется немалое время на отладку системы  и технической стороны работы, и взаимодействия  между заинтересованными (вовлеченными ведомств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ля стран с  многочисленным населением:  существует ли предел надежности при работе с большим числом записей и транзакц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ак будут решаться вопросы защиты данных,  централизации баз  и обмена информацией – готовы ли наши общества жить в новом информационном пространств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6F7-8E21-46E0-AB97-C7165B4C28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Заключительные замечания 1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остоянные перестановки и реструктурирование ведомств, отвечающих за миграционную политику и сбор данных,  передел  обязанностей и функций на способствует наращиванию потенциала  в области сбора статистики и улучшению  ее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сновные проблемы связаны с учетом потоков мигрантов, как прибывающих, так и выбыва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оступность  данных статистических служб стала лучше, но не во всех странах СНГ,  административные источники  по-прежнему чаще всего не публикуют своей стат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екомендации  международных организаций чаще всего  адресованы статистическим службам, тогда как  решения в области  сбора статистики часто принимают совсем другие ведо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Нужна ли координация усилий стран СНГ в отношении гармонизации статистики: Насколько это возможно и кто может стать координатор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DE3-A24F-4118-81C4-B4BC11338C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Заключительные замечан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Несмотря на проблемы  финансового, и технического характера в области статистики  и имеющие место центробежные и дезинтеграционные тенденции в СНГ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тем не менее существуют сильные экономические аргументы в пользу совместного управления  миграцией и  рынком труда в регионе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Это следует принять во внимание для того, чтобы пересмотреть существующие системы сбора статистики международной миграции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  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обсудить общие проблемы  и постараться найти решения, выгодные для всех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0CF-82C2-42DC-BE18-990F157406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9000"/>
            <a:ext cx="8002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НГ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1991-2006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иод  изменений в статистике международной миг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989000"/>
            <a:ext cx="837252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оздание новых систем сбора данных о миграционных процессах, которые ранее были незначительными или не существов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оздание новых систем и ведомств для регистрации и регулирования новых явлений в области миграции. Перераспределение обязанностей и полномо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Новое законодательство в области гражданства, свободы передвижений, статуса иностранцев, беженцев, трудовых мигрантов и пр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тмена регистрации (Грузия), изменение ее правил  и последствия для статистики миг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хнический  прогресс – новые возможности в области сбора и обработки данных – основа для  перехода к системе регистров. Первый опыт создания регистра - Мол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оступ  к данным, которые ранее были закрыт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зменение вопросника переписей раунда 2000 г. Целевые выборочные обследования в национальном мастшта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E83-C38C-4894-A4FB-C34B4A4A27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number of countries (including  major countries , such as ……the former USSR) have no statistics whatsoever”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y are mostly low-immigration … countries”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некоторых странах (в том числе  таких  больших как … бывший СССР)  статистика отсутствует вообще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о, в основном,  страны с низким уровнем иммигр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Tapinos George. Can one really talk of the globalization of migration flows? In Globalization, migration and development. OECD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F8E-DC5B-4A49-9869-E4B4E113EC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истемы сбора данных о международной миграции в странах С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549360"/>
          <a:ext cx="7993080" cy="6191280"/>
        </p:xfrm>
        <a:graphic>
          <a:graphicData uri="http://schemas.openxmlformats.org/drawingml/2006/table">
            <a:tbl>
              <a:tblPr/>
              <a:tblGrid>
                <a:gridCol w="4608720"/>
                <a:gridCol w="1469880"/>
                <a:gridCol w="19144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 u="sng">
                          <a:solidFill>
                            <a:srgbClr val="006699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6699"/>
                          </a:solidFill>
                          <a:uFillTx/>
                          <a:latin typeface="Arial"/>
                        </a:rPr>
                        <a:t>текущий учет на основе регистрации</a:t>
                      </a:r>
                      <a:r>
                        <a:rPr b="1" lang="en-US" sz="1600" spc="-1" strike="noStrike" u="sng">
                          <a:solidFill>
                            <a:srgbClr val="006699"/>
                          </a:solidFill>
                          <a:uFillTx/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переписи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обследования рабочей силы и домохозяй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тистика  беженцев и п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тистика трудовой миг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играционные карты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аджикистан, Молдова, Украина, и др.)  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граничная стат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тистика  зарубежных студ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нные о видах на  жите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едомственный учет  зарегистрированных иностранных граждан разных катего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нные о приобретении гражда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тистика виз (МИД и МИ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CF0-F837-4832-906C-57988D8DD4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2803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истемы сбора данных  национальными статистическими  институтами (службами и комитетами и агентст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06436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екущий учет потоко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щие черты для стран, сохранивших прежнюю  систему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бор талонов статистического учета на основе регист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личные черты – различия в критерии определения мигра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ереписи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разные проблемы, стоящие перед странами – разные вопросы включены в программу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Определение численности иммигра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следования домохозяйств и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бочей силы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рочие сведения из административн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388-E8D8-43D6-A346-53DFB483D5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58920" y="1773360"/>
          <a:ext cx="720072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73360"/>
                    <a:ext cx="7200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пись 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основа для оценки численности иммигрантов. Особенности применения подхода ООН в странах бывшего СССР (иммигранты- лица, родившиеся за рубеж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FD8-C8C2-49F0-A938-77688D21AF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исленность основных категорий для оценки последствий миграции по данным переписей  раунда 200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55840" y="597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54040" y="6618240"/>
            <a:ext cx="301788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2920" y="6627240"/>
            <a:ext cx="201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 action="ppaction://hlinksldjump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в т.ч.580 , не давших отв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49680"/>
        </p:xfrm>
        <a:graphic>
          <a:graphicData uri="http://schemas.openxmlformats.org/drawingml/2006/table">
            <a:tbl>
              <a:tblPr/>
              <a:tblGrid>
                <a:gridCol w="1685880"/>
                <a:gridCol w="830160"/>
                <a:gridCol w="1028880"/>
                <a:gridCol w="1028520"/>
                <a:gridCol w="916200"/>
                <a:gridCol w="1028520"/>
                <a:gridCol w="855720"/>
                <a:gridCol w="855720"/>
              </a:tblGrid>
              <a:tr h="100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населени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er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ись в ст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ись за предел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тво страны перепис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цы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каз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 чис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3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73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54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409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846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6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5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45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86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8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4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53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39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3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67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1667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608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58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442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5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9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3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18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5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1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542-D047-4F26-AADF-6AAA520B58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исток статистического учета мигранта (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6960" y="1125360"/>
            <a:ext cx="4146480" cy="511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745080" cy="48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4AD-9942-4A53-8DA9-8F06DB2D4E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9:30:58Z</dcterms:created>
  <dc:creator>user</dc:creator>
  <dc:description/>
  <dc:language>en-US</dc:language>
  <cp:lastModifiedBy>user</cp:lastModifiedBy>
  <dcterms:modified xsi:type="dcterms:W3CDTF">2006-11-22T16:27:47Z</dcterms:modified>
  <cp:revision>41</cp:revision>
  <dc:subject/>
  <dc:title>STATISTICS  OF INTERNATIONAL MIGRATION  IN THE CIS COUNTRIES</dc:title>
</cp:coreProperties>
</file>