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22F-DDCB-44D9-9DE4-81769BFD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EC0-4F58-4987-B06E-88679E95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15E-0E86-40C4-9A80-82334FE2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1BC-F03B-4F9E-88AB-FA84B9F0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8A65-CA9F-40BE-9B2F-76805D21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E537-B356-4A81-A8C4-D8F45F36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CFCA-AB4E-48B4-8524-A1FD7C7F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4F0B-FC4F-434F-9E7A-869D3ED1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CE08-C317-4E02-BEFE-3AF5D86E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6AD1-C1CB-4B65-A06F-FAB8FB37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5AF7-AF90-4D72-984D-B0647CC7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4B0-37E4-4D48-B853-A85394E4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9BAC-AA40-4A7C-A2D5-D6BE47DE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C165-4B38-4C59-A02C-EA65B1A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4A79-367E-4039-918C-2FB7FB52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D7F9-8E53-4EFA-842E-9F0C401E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650E-AB7E-47D4-B703-ACB4E9BF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F62-2B55-458B-8A68-042AD004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D38-ED05-4DED-B502-3A082A7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CF0-BA44-407E-8F5A-4043209D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678-AE58-4FFC-82BA-B191C1DC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92A-61B0-4736-953D-7B0931A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1F1-F50E-4A69-9743-188B881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BA5-94D8-4A3C-A7A8-1460054A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124000" y="6248520"/>
            <a:ext cx="511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UNECE/EUROSTAT/UNFPA wor kshop on internatinal migraton statistics, 23-24 november 2006, Edinbur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9FA9-38F2-4106-AE0B-136807C85251}" type="slidenum">
              <a:rPr b="0" lang="fr-CH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4FC7-FCBA-4416-99C7-460C084CD6DF}" type="slidenum">
              <a:rPr b="0" lang="fr-CH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ffffcc"/>
                </a:solidFill>
                <a:latin typeface="Arial"/>
              </a:rPr>
              <a:t>The way ahead</a:t>
            </a:r>
            <a:br>
              <a:rPr sz="5100"/>
            </a:br>
            <a:r>
              <a:rPr b="0" lang="fr-CH" sz="5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to improve international migration statistic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Conclusions of the UNECE workshop, 23/24 november 2006, Edinburgh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Werner Hau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51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eaeaea"/>
                </a:solidFill>
                <a:latin typeface="Verdana"/>
              </a:rPr>
              <a:t>Thank you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Improve demographic analy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 more demographic analysis on the comparability and quality of different data sources on the national level (censuses, vital statistics, administative data, survey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 ressources and know how in NSI’s, access to individual data, lack of metadat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 Mobilisation of professional expertise, initiation of research projects, training, …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Better use of administrative dat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better use of administrative records from different ministries (border control, interior, labour, health, education etc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Lack of cooperation between statistics and administrative authorities, difficulty of access, statistical needs not adequately reflected in administrative proced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Create interagency task force, participate in interagency committees, create high level commitment, initiate government decisions …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mprove or change the registration systems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reform of population registration systems which should adequately reflect permanent and temporary residence, arrivals and departures of nationals and foreign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Tradition, lack of ressources and incentives, links with rights and obligations (political, economic, family and housing etc.), limited influence of NSI’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Improve political awareness, initiate legal changes, create incentives for registration and deregistration, learn from countries with efficient registration systems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Efficient </a:t>
            </a: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registration: </a:t>
            </a: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part of a larger</a:t>
            </a: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 political and social contex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Why 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to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register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No or very low fe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residence and work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social and health servic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educ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Access to p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olitical righ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Why 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to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register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pay t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xes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do m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ilitary servi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receive bills and remin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eregistration as a condition for registr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If the incentives are absent or work in the wrong direction: the results will be statistical undercount, overcount and lack of reliability and timeliness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nvest in the 2010 Population Censu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advocacy and consultation on national level, assure comparability with: a) other countries on the basis of UN recommendations and b) with earlier national censuses, introduction of a migration module on emigrants absent from the household for more than one year and questions on reasons of mig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methodological, political, ressou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International coordination of population and migration questions, define common migration module learning from migrant sending countries (Tunesia, Mexiko, Philippines), mobilisation of ressources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ntroduce migration questions in household surve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more frequent data on immigration/emigration, data on migrants and expatriates on the labour market, their living conditions, income and heal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Coverage of migrants in household surveys (institutional households, irregular migrants, temporary absent/present migrant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Develop standardised modules on migrants and remittances for LFS, LSMS, rolling censuses etc. in sending and receiving countries, coordination between different countries and international organis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Horizontal iss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Involve all relevant national stakeholders,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organise interagency cooperation (who: national governments, NSI’s, migration related ministrie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Develop a masterplan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for the improvement of migration statistics that is realistic and adresses the needs of migrant sending countries in the medium and long term (who: NSI’s, governments, international organisation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Organise international coordination for countries 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with a common history and a common migration context (e.g. CIS countries, South-east European countries) (who: UNECE, IOM, CIS …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Organise political advocacy and mobilise resources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for the 2010 round of censuses to coordinate questionnaires and support NSI’s (Who: NSI’s, PARIS 21, UNFPA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Pool the professional expert knowledge 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through coordinated technical assistance (UNECE/IOM/UNFPA …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Take the UN recommendations as a refer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Develop pragmatic and feasible 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Take the needs of migrant sending countries seri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Take the constraints of migrant receiving countries seri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Respect regional and historical differ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8:06:55Z</dcterms:created>
  <dc:creator>Werner Haug</dc:creator>
  <dc:description/>
  <dc:language>en-US</dc:language>
  <cp:lastModifiedBy>eurostat</cp:lastModifiedBy>
  <dcterms:modified xsi:type="dcterms:W3CDTF">2006-11-24T16:23:38Z</dcterms:modified>
  <cp:revision>48</cp:revision>
  <dc:subject/>
  <dc:title>The way ahead  Improve migration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