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491-BDE5-4F08-B5E6-8AF99B42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502-22C7-4ACF-A31E-3C1E8D63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396-AF94-4BE4-A778-93087E49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0FC-908C-4ED2-9915-7CF2B860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294-0112-4123-BB2D-08A18C75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32B-7927-4390-9FE7-E98531CA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F15-8D62-42AA-88CF-6AD76508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A7C-7494-48BF-AC73-9F1D89EB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4A12-36F2-4F96-855D-BCC142D6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319-21F1-45DE-955E-6787907E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26FC-A193-4D6B-9B10-A285C2E2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CCD-F004-4BE0-9915-B7ADC463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95640" y="6244920"/>
            <a:ext cx="489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UNECE/UNFPA/EUROSTAT workshop, Edinbrugh, 23-24 november 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0A4D-547D-45A2-BA22-B8E9D6303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536400"/>
            <a:ext cx="8915400" cy="5783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9520" y="536400"/>
            <a:ext cx="8664480" cy="578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3141720"/>
            <a:ext cx="842472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9900"/>
                </a:solidFill>
                <a:latin typeface="Garamond"/>
              </a:rPr>
              <a:t>The geographical dimension of the Population Census and its contribution to the analysis of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9900"/>
                </a:solidFill>
                <a:latin typeface="Garamond"/>
              </a:rPr>
              <a:t>Werner Ha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fr-CH" sz="2800" spc="-1" strike="noStrike">
                <a:solidFill>
                  <a:srgbClr val="ff9900"/>
                </a:solidFill>
                <a:latin typeface="Garamond"/>
              </a:rPr>
              <a:t>Swiss Federal Statistical Off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23960" y="752400"/>
            <a:ext cx="769608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Apply regional analysis to annual data between Census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8640" y="762120"/>
            <a:ext cx="76867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28640" y="762120"/>
            <a:ext cx="76867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28640" y="762120"/>
            <a:ext cx="76867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Understand the contribution of net migration to population growth and dec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23960" y="757080"/>
            <a:ext cx="769608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23960" y="757080"/>
            <a:ext cx="769608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23960" y="757080"/>
            <a:ext cx="769608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Understand interregional migration flows based on the Census question about place of residence 5 years 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47628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Migration and territorial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1413000"/>
            <a:ext cx="792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gration is linked to a number of socio-economic and territorial factors like agricultural and industri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lo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educational level, urban-rural differentiations, infrastructure etc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itude and remoteness play a particu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 role in Central Asian countries where a  large part of the 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ulation lives in mountainous an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mi-ari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as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97640" cy="593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3480" y="5681520"/>
            <a:ext cx="203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Source: Kudabaev, Schuler, Torgasho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The contribution of Population Cens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70904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opulation Censuses are a unique occasion to identify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the regional patterns of migration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in connection with the specific territorial make up of a country and related ecological and cultural differ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Preconditions and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gitizing of internal and external b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ding of administrative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king of territorial changes since the last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 of urban and rural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ion of a harmonised database from different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ns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tion of 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itude and remoteness database (or oth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logical indica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ation of thematic maps by oblast, rayon,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es and vil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ling of migration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476280"/>
            <a:ext cx="566100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0000"/>
                </a:solidFill>
                <a:latin typeface="Times New Roman"/>
              </a:rPr>
              <a:t>Mountain Atlas of Kyrgyz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Arial"/>
              </a:rPr>
              <a:t>Edited by the National Statistical Committee, Bishkek, 2003,</a:t>
            </a:r>
            <a:r>
              <a:rPr b="0" lang="en-GB" sz="1600" spc="-1" strike="noStrike">
                <a:solidFill>
                  <a:srgbClr val="fc0128"/>
                </a:solidFill>
                <a:latin typeface="Arial"/>
              </a:rPr>
              <a:t> with the support of Goscartography, the Swiss Federal Institute of Technology and the Swiss Development Co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708280"/>
            <a:ext cx="4038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ffff00"/>
                </a:solidFill>
                <a:latin typeface="Times New Roman"/>
              </a:rPr>
              <a:t>Population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ffff00"/>
                </a:solidFill>
                <a:latin typeface="Times New Roman"/>
              </a:rPr>
              <a:t>Dem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ffff00"/>
                </a:solidFill>
                <a:latin typeface="Times New Roman"/>
              </a:rPr>
              <a:t>Migration and na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ffff00"/>
                </a:solidFill>
                <a:latin typeface="Times New Roman"/>
              </a:rPr>
              <a:t>Economic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ffff00"/>
                </a:solidFill>
                <a:latin typeface="Times New Roman"/>
              </a:rPr>
              <a:t>Liv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ffff00"/>
                </a:solidFill>
                <a:latin typeface="Times New Roman"/>
              </a:rPr>
              <a:t>Public and privat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2565360"/>
            <a:ext cx="352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ffff00"/>
                </a:solidFill>
                <a:latin typeface="Times New Roman"/>
              </a:rPr>
              <a:t>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ffff00"/>
                </a:solidFill>
                <a:latin typeface="Times New Roman"/>
              </a:rPr>
              <a:t>Land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ffff00"/>
                </a:solidFill>
                <a:latin typeface="Times New Roman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ffff00"/>
                </a:solidFill>
                <a:latin typeface="Times New Roman"/>
              </a:rPr>
              <a:t>L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Digitizing Borders and introducing ecological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4840" y="0"/>
            <a:ext cx="893916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Comparability of administrative and political units between Cens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4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28640" y="762120"/>
            <a:ext cx="76867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2:28:53Z</dcterms:created>
  <dc:creator>Werner Haug</dc:creator>
  <dc:description/>
  <dc:language>en-US</dc:language>
  <cp:lastModifiedBy>Werner Haug</cp:lastModifiedBy>
  <dcterms:modified xsi:type="dcterms:W3CDTF">2006-11-23T09:00:01Z</dcterms:modified>
  <cp:revision>10</cp:revision>
  <dc:subject/>
  <dc:title>Bishkek Mountain Summit 2002  /  October 30th</dc:title>
</cp:coreProperties>
</file>