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8EC4-A3D9-464C-A311-79B739620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C4D4-065B-4ED6-8EEB-2F34C6A48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CF648-D0F0-4D86-8EA6-0CDB95544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1A76-B9B7-4004-B1E2-D9B575820B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71EB-BA94-4FD6-8D0B-18B5A7CAE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56204-8DD3-4E96-8CB8-1B0662789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C2CE-4624-4870-8BB3-9F03B0566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C9FF-E9A2-4B60-90D8-253D64516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3D90-E87D-41EF-8F9E-3F4CEA384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6309-BB5B-4C42-96B0-F91E651AD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520D-CB42-4060-BF58-FD68EC741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4DE47-82DD-4678-B04B-2D7C3EF4D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07f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spcBef>
                <a:spcPts val="751"/>
              </a:spcBef>
              <a:buClr>
                <a:srgbClr val="024ee6"/>
              </a:buClr>
              <a:buSzPct val="70000"/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3" marL="1600200" indent="-228600">
              <a:spcBef>
                <a:spcPts val="751"/>
              </a:spcBef>
              <a:buClr>
                <a:srgbClr val="024ee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4" marL="2057400" indent="-228600">
              <a:spcBef>
                <a:spcPts val="751"/>
              </a:spcBef>
              <a:buClr>
                <a:srgbClr val="024ee6"/>
              </a:buClr>
              <a:buSzPct val="70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8172360" y="0"/>
          <a:ext cx="97164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72360" y="0"/>
                    <a:ext cx="9716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a2c1fe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a2c1fe"/>
                </a:solidFill>
                <a:latin typeface="Book Antiqua"/>
              </a:rPr>
              <a:t>&lt;footer&gt;</a:t>
            </a:r>
            <a:r>
              <a:rPr b="0" lang="sl-SI" sz="1400" spc="-1" strike="noStrike">
                <a:solidFill>
                  <a:srgbClr val="a2c1fe"/>
                </a:solidFill>
                <a:latin typeface="Book Antiqua"/>
              </a:rPr>
              <a:t>30.1.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4328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a2c1fe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B700-1E0C-4FFB-BA18-15188D4B0E73}" type="slidenum">
              <a:rPr b="0" lang="sl-SI" sz="1400" spc="-1" strike="noStrike">
                <a:solidFill>
                  <a:srgbClr val="a2c1fe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07f"/>
                </a:solidFill>
                <a:latin typeface="Book Antiqua"/>
              </a:rPr>
              <a:t>WEB-SUPPORTED STATISTICAL DISSEMINATION PROCESS SERVING </a:t>
            </a:r>
            <a:br>
              <a:rPr sz="3600"/>
            </a:br>
            <a:r>
              <a:rPr b="0" lang="en-US" sz="3600" spc="-1" strike="noStrike">
                <a:solidFill>
                  <a:srgbClr val="fdd07f"/>
                </a:solidFill>
                <a:latin typeface="Book Antiqua"/>
              </a:rPr>
              <a:t>STATISTICAL DATA USERS</a:t>
            </a:r>
            <a:endParaRPr b="0" lang="en-US" sz="36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Matjaž Jug, M.Sc.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Overview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Common </a:t>
            </a: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A</a:t>
            </a: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nalytical </a:t>
            </a: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Architecture in SORS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Dissemination solution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Web Technology </a:t>
            </a: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i</a:t>
            </a: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n Statistical Process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Web Technology in Dissemination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Conclusion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07f"/>
                </a:solidFill>
                <a:latin typeface="Book Antiqua"/>
              </a:rPr>
              <a:t>Common </a:t>
            </a: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A</a:t>
            </a:r>
            <a:r>
              <a:rPr b="0" lang="en-US" sz="4000" spc="-1" strike="noStrike">
                <a:solidFill>
                  <a:srgbClr val="fdd07f"/>
                </a:solidFill>
                <a:latin typeface="Book Antiqua"/>
              </a:rPr>
              <a:t>nalytical </a:t>
            </a: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Architecture in S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85960" y="1717560"/>
            <a:ext cx="5437080" cy="47577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9000" y="3254400"/>
            <a:ext cx="1582560" cy="879480"/>
          </a:xfrm>
          <a:prstGeom prst="flowChartMagneticDisk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09960" y="4586400"/>
            <a:ext cx="1582920" cy="88092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loud"/>
          <p:cNvSpPr/>
          <p:nvPr/>
        </p:nvSpPr>
        <p:spPr>
          <a:xfrm>
            <a:off x="3780000" y="2205000"/>
            <a:ext cx="1528560" cy="565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501920"/>
            <a:ext cx="1170000" cy="101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345440" y="5843520"/>
            <a:ext cx="1170000" cy="10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flipH="1">
            <a:off x="603360" y="5778360"/>
            <a:ext cx="117000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 flipH="1">
            <a:off x="6725880" y="1366920"/>
            <a:ext cx="1236600" cy="96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 flipH="1">
            <a:off x="7481520" y="1933560"/>
            <a:ext cx="1204920" cy="960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49960" y="5456160"/>
            <a:ext cx="2063520" cy="81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32360" y="5581800"/>
            <a:ext cx="962280" cy="5029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OL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039000" y="4133520"/>
            <a:ext cx="1512720" cy="1950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83160" y="4952880"/>
            <a:ext cx="962280" cy="5032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107040" y="2625840"/>
            <a:ext cx="1374840" cy="62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213520" y="2184480"/>
            <a:ext cx="1512720" cy="12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52360" y="2498760"/>
            <a:ext cx="1582920" cy="10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66720" y="2940120"/>
            <a:ext cx="962280" cy="5032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ME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2680" y="1076400"/>
            <a:ext cx="20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Users of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8040" y="1303200"/>
            <a:ext cx="185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Statistician (design of surv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445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DW administ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56240" y="1995480"/>
            <a:ext cx="963720" cy="5032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13320" y="2687760"/>
            <a:ext cx="962280" cy="5032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43000">
            <a:off x="3689640" y="4210920"/>
            <a:ext cx="568440" cy="414360"/>
          </a:xfrm>
          <a:prstGeom prst="rightArrow">
            <a:avLst>
              <a:gd name="adj1" fmla="val 50000"/>
              <a:gd name="adj2" fmla="val 3429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8577200">
            <a:off x="4791960" y="4210560"/>
            <a:ext cx="568440" cy="414360"/>
          </a:xfrm>
          <a:prstGeom prst="rightArrow">
            <a:avLst>
              <a:gd name="adj1" fmla="val 50000"/>
              <a:gd name="adj2" fmla="val 3429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3992000">
            <a:off x="4860720" y="2763720"/>
            <a:ext cx="566640" cy="414360"/>
          </a:xfrm>
          <a:prstGeom prst="rightArrow">
            <a:avLst>
              <a:gd name="adj1" fmla="val 50000"/>
              <a:gd name="adj2" fmla="val 341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1360" y="5349960"/>
            <a:ext cx="163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Statistician (execution of surv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8000" y="4292640"/>
            <a:ext cx="210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Metadata – definitions of data structure &amp; classification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4221000"/>
            <a:ext cx="123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Statistical data for publ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03680" y="267480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72120" y="2533680"/>
            <a:ext cx="123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Published data and 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3170160"/>
            <a:ext cx="1582560" cy="87948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35280" y="3254400"/>
            <a:ext cx="1582560" cy="87948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681000">
            <a:off x="3622320" y="2763720"/>
            <a:ext cx="566640" cy="414360"/>
          </a:xfrm>
          <a:prstGeom prst="rightArrow">
            <a:avLst>
              <a:gd name="adj1" fmla="val 50000"/>
              <a:gd name="adj2" fmla="val 341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66720" y="2122560"/>
            <a:ext cx="1581120" cy="1131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9800" y="2309760"/>
            <a:ext cx="961920" cy="50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KLAS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78200" y="4708440"/>
            <a:ext cx="1582920" cy="8812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4853160"/>
            <a:ext cx="1582920" cy="88092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D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47720" y="5516640"/>
            <a:ext cx="1987560" cy="744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24160" y="5581800"/>
            <a:ext cx="961920" cy="5029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DW AD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Dissemination solution in SORS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Dissemination proces based on PC-AXIS solutions was implemented in 2002/2003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Web site was renovated in 2003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07f"/>
                </a:solidFill>
                <a:latin typeface="Book Antiqua"/>
              </a:rPr>
              <a:t>Web Technology </a:t>
            </a:r>
            <a:r>
              <a:rPr b="0" lang="sl-SI" sz="3600" spc="-1" strike="noStrike">
                <a:solidFill>
                  <a:srgbClr val="fdd07f"/>
                </a:solidFill>
                <a:latin typeface="Book Antiqua"/>
              </a:rPr>
              <a:t>i</a:t>
            </a:r>
            <a:r>
              <a:rPr b="0" lang="en-US" sz="3600" spc="-1" strike="noStrike">
                <a:solidFill>
                  <a:srgbClr val="fdd07f"/>
                </a:solidFill>
                <a:latin typeface="Book Antiqua"/>
              </a:rPr>
              <a:t>n Statistical Process</a:t>
            </a:r>
            <a:r>
              <a:rPr b="0" lang="sl-SI" sz="3600" spc="-1" strike="noStrike">
                <a:solidFill>
                  <a:srgbClr val="fdd07f"/>
                </a:solidFill>
                <a:latin typeface="Book Antiqua"/>
              </a:rPr>
              <a:t> – the upload of PC-AXIS matrix to the dissemination server</a:t>
            </a:r>
            <a:endParaRPr b="0" lang="en-US" sz="36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4944960" y="2565360"/>
            <a:ext cx="1582920" cy="879480"/>
          </a:xfrm>
          <a:prstGeom prst="flowChartMagneticDisk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3789360"/>
            <a:ext cx="1582920" cy="87948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2276640"/>
            <a:ext cx="1366920" cy="136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298600"/>
            <a:ext cx="1656000" cy="8812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DW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73080" y="2421000"/>
            <a:ext cx="792360" cy="635040"/>
          </a:xfrm>
          <a:prstGeom prst="rightArrow">
            <a:avLst>
              <a:gd name="adj1" fmla="val 50000"/>
              <a:gd name="adj2" fmla="val 31193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3789360"/>
            <a:ext cx="1366920" cy="136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722680"/>
            <a:ext cx="792000" cy="635040"/>
          </a:xfrm>
          <a:prstGeom prst="rightArrow">
            <a:avLst>
              <a:gd name="adj1" fmla="val 50000"/>
              <a:gd name="adj2" fmla="val 31179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2276640"/>
            <a:ext cx="0" cy="288108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8720" y="3068640"/>
            <a:ext cx="1224000" cy="11523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tat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883800">
            <a:off x="6587640" y="2707920"/>
            <a:ext cx="792360" cy="635040"/>
          </a:xfrm>
          <a:prstGeom prst="rightArrow">
            <a:avLst>
              <a:gd name="adj1" fmla="val 50000"/>
              <a:gd name="adj2" fmla="val 31193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862000">
            <a:off x="6587640" y="3860640"/>
            <a:ext cx="792360" cy="635040"/>
          </a:xfrm>
          <a:prstGeom prst="rightArrow">
            <a:avLst>
              <a:gd name="adj1" fmla="val 50000"/>
              <a:gd name="adj2" fmla="val 31193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27400" y="3992400"/>
            <a:ext cx="792360" cy="635040"/>
          </a:xfrm>
          <a:prstGeom prst="rightArrow">
            <a:avLst>
              <a:gd name="adj1" fmla="val 50000"/>
              <a:gd name="adj2" fmla="val 31193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1366920" cy="129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35280" y="4149720"/>
            <a:ext cx="792000" cy="635040"/>
          </a:xfrm>
          <a:prstGeom prst="rightArrow">
            <a:avLst>
              <a:gd name="adj1" fmla="val 50000"/>
              <a:gd name="adj2" fmla="val 31179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579800">
            <a:off x="1692360" y="3500280"/>
            <a:ext cx="792000" cy="635040"/>
          </a:xfrm>
          <a:prstGeom prst="rightArrow">
            <a:avLst>
              <a:gd name="adj1" fmla="val 50000"/>
              <a:gd name="adj2" fmla="val 31179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Questions?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6:52:54Z</dcterms:created>
  <dc:creator>JUG</dc:creator>
  <dc:description/>
  <dc:language>en-US</dc:language>
  <cp:lastModifiedBy>Sektor za izkazovanje statističnih podatkov in metod</cp:lastModifiedBy>
  <dcterms:modified xsi:type="dcterms:W3CDTF">2004-05-07T09:43:52Z</dcterms:modified>
  <cp:revision>103</cp:revision>
  <dc:subject/>
  <dc:title>Data Warehousing Architecture and Techniques in Statistical Office of the Republic of Sloven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87842107</vt:r8>
  </property>
  <property fmtid="{D5CDD505-2E9C-101B-9397-08002B2CF9AE}" pid="3" name="_AuthorEmail">
    <vt:lpwstr>Matjaz.Jug@stat.esgov.gov.si</vt:lpwstr>
  </property>
  <property fmtid="{D5CDD505-2E9C-101B-9397-08002B2CF9AE}" pid="4" name="_AuthorEmailDisplayName">
    <vt:lpwstr>Matjaz Jug</vt:lpwstr>
  </property>
  <property fmtid="{D5CDD505-2E9C-101B-9397-08002B2CF9AE}" pid="5" name="_EmailSubject">
    <vt:lpwstr>Presentations for MSIS</vt:lpwstr>
  </property>
</Properties>
</file>