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4F94-9493-4733-A18D-44B8E2B4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0CF6-BAFB-4791-9206-FC690EB94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1655-659C-4E57-8CC4-76CD0D710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E562-3426-4EF8-90F2-FE4111F1B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5C00-A7EC-47E1-80EF-0332C79A9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0CB0-0FB6-44C8-94F2-E1844201C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E32E-8C73-4CFF-A792-F7B34ABAE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D94D-0FDE-4F48-B459-6B42B8EDA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64C7-85A6-4277-98B2-DF2483656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F9D5-426C-442C-9A92-17C191E33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4C46-A01B-4F8F-8AA2-4684D93E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C227-0A69-4213-887C-0A667E24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3" marL="1600200" indent="-228600">
              <a:spcBef>
                <a:spcPts val="751"/>
              </a:spcBef>
              <a:buClr>
                <a:srgbClr val="024ee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4" marL="20574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172360" y="0"/>
          <a:ext cx="9716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2360" y="0"/>
                    <a:ext cx="971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footer&gt;</a:t>
            </a: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30.1.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43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64F-F395-4CEC-A685-CDEAB4232838}" type="slidenum"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WEB-SUPPORTED STATISTICAL DISSEMINATION PROCESS SERVING </a:t>
            </a:r>
            <a:br>
              <a:rPr sz="3600"/>
            </a:b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STATISTICAL DATA USERS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Matjaž Jug, M.Sc.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Overview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Common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A</a:t>
            </a: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nalytical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Architecture in SORS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Dissemination solut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Web Technology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i</a:t>
            </a: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n Statistical Process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Web Technology in Disseminat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Conclus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Common </a:t>
            </a: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A</a:t>
            </a: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nalytical </a:t>
            </a: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Architecture in 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85960" y="1717560"/>
            <a:ext cx="5437080" cy="4757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9000" y="3254400"/>
            <a:ext cx="1582560" cy="8794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9960" y="4586400"/>
            <a:ext cx="1582920" cy="88092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3780000" y="2205000"/>
            <a:ext cx="1528560" cy="565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01920"/>
            <a:ext cx="117000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45440" y="5843520"/>
            <a:ext cx="117000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603360" y="5778360"/>
            <a:ext cx="117000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flipH="1">
            <a:off x="6725880" y="1366920"/>
            <a:ext cx="1236600" cy="96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>
            <a:off x="7481520" y="1933560"/>
            <a:ext cx="1204920" cy="96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9960" y="5456160"/>
            <a:ext cx="2063520" cy="81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2360" y="5581800"/>
            <a:ext cx="962280" cy="502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039000" y="4133520"/>
            <a:ext cx="1512720" cy="19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83160" y="495288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07040" y="2625840"/>
            <a:ext cx="137484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13520" y="2184480"/>
            <a:ext cx="1512720" cy="1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52360" y="2498760"/>
            <a:ext cx="1582920" cy="10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66720" y="294012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2680" y="107640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Users of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8040" y="1303200"/>
            <a:ext cx="185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atistician (design of surv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45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DW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6240" y="1995480"/>
            <a:ext cx="96372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3320" y="268776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43000">
            <a:off x="3689640" y="4210920"/>
            <a:ext cx="568440" cy="414360"/>
          </a:xfrm>
          <a:prstGeom prst="rightArrow">
            <a:avLst>
              <a:gd name="adj1" fmla="val 50000"/>
              <a:gd name="adj2" fmla="val 34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577200">
            <a:off x="4791960" y="4210560"/>
            <a:ext cx="568440" cy="414360"/>
          </a:xfrm>
          <a:prstGeom prst="rightArrow">
            <a:avLst>
              <a:gd name="adj1" fmla="val 50000"/>
              <a:gd name="adj2" fmla="val 34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3992000">
            <a:off x="4860720" y="2763720"/>
            <a:ext cx="566640" cy="414360"/>
          </a:xfrm>
          <a:prstGeom prst="rightArrow">
            <a:avLst>
              <a:gd name="adj1" fmla="val 50000"/>
              <a:gd name="adj2" fmla="val 341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1360" y="5349960"/>
            <a:ext cx="163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atistician (execution of surv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4292640"/>
            <a:ext cx="210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adata – definitions of data structure &amp; classificatio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221000"/>
            <a:ext cx="12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Statistical data for publ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03680" y="267480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2120" y="2533680"/>
            <a:ext cx="12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ublished data and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170160"/>
            <a:ext cx="158256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35280" y="3254400"/>
            <a:ext cx="158256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681000">
            <a:off x="3622320" y="2763720"/>
            <a:ext cx="566640" cy="414360"/>
          </a:xfrm>
          <a:prstGeom prst="rightArrow">
            <a:avLst>
              <a:gd name="adj1" fmla="val 50000"/>
              <a:gd name="adj2" fmla="val 341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66720" y="2122560"/>
            <a:ext cx="1581120" cy="11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9800" y="2309760"/>
            <a:ext cx="961920" cy="50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KLAS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200" y="4708440"/>
            <a:ext cx="1582920" cy="8812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4853160"/>
            <a:ext cx="1582920" cy="88092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47720" y="5516640"/>
            <a:ext cx="1987560" cy="74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4160" y="5581800"/>
            <a:ext cx="961920" cy="502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DW AD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Dissemination solution in SORS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Dissemination proces based on PC-AXIS solutions was implemented in 2002/2003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Web site was renovated in 2003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Web Technology </a:t>
            </a: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i</a:t>
            </a: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n Statistical Process</a:t>
            </a: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 – the upload of PC-AXIS matrix to the dissemination server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4944960" y="2565360"/>
            <a:ext cx="1582920" cy="8794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3789360"/>
            <a:ext cx="158292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276640"/>
            <a:ext cx="1366920" cy="136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298600"/>
            <a:ext cx="1656000" cy="8812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DW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42100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3789360"/>
            <a:ext cx="1366920" cy="136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72268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2276640"/>
            <a:ext cx="0" cy="28810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3068640"/>
            <a:ext cx="1224000" cy="11523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ta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883800">
            <a:off x="6587640" y="270792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862000">
            <a:off x="6587640" y="386064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27400" y="399240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366920" cy="129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14972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579800">
            <a:off x="1692360" y="350028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Questions?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52:54Z</dcterms:created>
  <dc:creator>JUG</dc:creator>
  <dc:description/>
  <dc:language>en-US</dc:language>
  <cp:lastModifiedBy>Sektor za izkazovanje statističnih podatkov in metod</cp:lastModifiedBy>
  <dcterms:modified xsi:type="dcterms:W3CDTF">2004-05-07T09:43:52Z</dcterms:modified>
  <cp:revision>103</cp:revision>
  <dc:subject/>
  <dc:title>Data Warehousing Architecture and Techniques in Statistical Office of the Republic of Sloven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7842107</vt:r8>
  </property>
  <property fmtid="{D5CDD505-2E9C-101B-9397-08002B2CF9AE}" pid="3" name="_AuthorEmail">
    <vt:lpwstr>Matjaz.Jug@stat.esgov.gov.si</vt:lpwstr>
  </property>
  <property fmtid="{D5CDD505-2E9C-101B-9397-08002B2CF9AE}" pid="4" name="_AuthorEmailDisplayName">
    <vt:lpwstr>Matjaz Jug</vt:lpwstr>
  </property>
  <property fmtid="{D5CDD505-2E9C-101B-9397-08002B2CF9AE}" pid="5" name="_EmailSubject">
    <vt:lpwstr>Presentations for MSIS</vt:lpwstr>
  </property>
</Properties>
</file>