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464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003320" y="762120"/>
            <a:ext cx="47750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ITC Officina Sans Book"/>
              </a:rPr>
              <a:t>Click to move the slide</a:t>
            </a: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64796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9220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09520" y="92203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58C9-AAED-4C9B-AF73-468E10F0F2CA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00332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Import av data fra OR - alt. Registrering av metadata i AltI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Applikasjons- og meldingsbeskrivelser (Xformt og XMLSche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Visuelt Design - Skjemaverktø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Innebærer logikk for navitgasjon og kalkulasjo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Knytt skjema til prosess (MD edito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Prosess = arbeidsflyt hos avgiver. Gjøres kun for nye skj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Prosessene er ferdig definert i AltInn. - _Eksem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Tilgangskontroll - dersom skjema krever at ulike roller har lulike rettigh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Preutfylling - kommer fra OR. Kobling til AltInn regi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Validering (skjemaverktø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Std validering genereres automatisk. Kryssvalidering og kompliserte feltvalideringer legges på manue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Grensesnitt - MS Bizta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Test og godkje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00332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Arbeidsfly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Instansiering av arbeidsproses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Det vil etableres et gitt antall generiske arbeidsproses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Skjemak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Styrer inneholder på ”Andre skjem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00332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1 - Skjema-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2 - Grensesnitt fagsyste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3 - Notartjen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4 - Sikkerhetsløs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5 - Sertifikat Valdering Autorit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6 - Offentlige regis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7 - Preutfy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8 - Rolleadministrasj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00332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Skjemaadministrasj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Grensesnitt saksbehandlings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00332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Overordnet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Funk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Vedlegg 9 - Overordnet design Administrasjonsløsning/meta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00332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Metadata GRUNNLEGGENDE  KON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Metadata, data om data som skal rapporteres i skjemaer har følgende livssykl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· Etaten definerer et nytt skjema eller en endring på et eksisterende skj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· Oppgaveregisteret registrerer metadata om skjemaet inn i sin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· Oppgaveregisteret videresender informasjon om at metadata er oppdatert til AltInn, som er abon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· Altinn laster siste versjon av de endrede skj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· Metadataene benyttes til å lage et presentasjonsformat for skjema i AltI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· Skjema konfigureres for bruk i Alti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· Skjema versjoneres og testes i godkjenningsmiljø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· Skjema settes i produksj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00332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o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gaveplikter for næringslivet skal registreres i OR. Utvidelse av metadatabase til å omfatte metadata nødvendig for elektronisk rappor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167-9F28-4912-8B17-0BA29AD7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772308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" y="4043160"/>
            <a:ext cx="772308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ED2-78F2-4800-98FF-64286E84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292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5080" y="40431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2920" y="40431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396E-2424-4592-B50E-1AD6A0A1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36160" y="20829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47600" y="20829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25080" y="40431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36160" y="40431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47600" y="40431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9EAB-BC5D-4632-8F03-D9B3E499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D33B-8052-4F5B-934A-442C8951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25080" y="2082960"/>
            <a:ext cx="7723080" cy="37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19C1-3189-48CB-8688-D68BB697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772308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69B0-DDBB-4050-8348-A8C2DB79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376884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2920" y="2082960"/>
            <a:ext cx="376884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3008-7C07-46A1-B749-27570168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B2BA-6676-49A1-978E-993D7AB6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9240" y="1281240"/>
            <a:ext cx="773892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E4F8-53B2-48D1-8697-DE5A77FF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2920" y="2082960"/>
            <a:ext cx="376884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5080" y="40431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810B-60B5-4FEE-8F6D-BF135438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25080" y="2082960"/>
            <a:ext cx="7723080" cy="37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5BE-7D09-4081-97FE-EF6A0822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376884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292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2920" y="40431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650B-CD22-4113-9964-D98E3B6C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292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25080" y="4043160"/>
            <a:ext cx="772308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38D9-5393-4E68-A759-F2F1D842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772308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" y="4043160"/>
            <a:ext cx="772308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3B22-88EC-45ED-80DD-817D12B3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292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25080" y="40431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82920" y="40431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7050-2DBA-47EC-949F-0F8F5CBA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36160" y="20829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547600" y="20829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25080" y="40431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936160" y="40431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547600" y="40431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3154-D216-4743-BE2F-0DD18E21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772308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7A8-70ED-418E-B6E3-B65BE6BA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376884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2920" y="2082960"/>
            <a:ext cx="376884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28C-07A9-46EE-B40C-35E9C241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A801-73C6-4499-B781-96E6F446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9240" y="1281240"/>
            <a:ext cx="773892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4EB-0294-48A6-8633-09703F5A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920" y="2082960"/>
            <a:ext cx="376884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5080" y="40431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A7A3-4ECC-4301-9BE9-495533B1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376884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92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2920" y="40431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B6C-0557-4741-BE38-2197A085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292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5080" y="4043160"/>
            <a:ext cx="772308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051B-9F0D-476E-838B-0061558E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ITC Officina Sans Book"/>
              </a:rPr>
              <a:t>Click to edit the title text format</a:t>
            </a: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5080" y="2082960"/>
            <a:ext cx="772308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22200" indent="-322200"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200"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  <a:p>
            <a:pPr lvl="2" marL="1074600" indent="-215640"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  <a:p>
            <a:pPr lvl="3" marL="1504800" indent="-215640">
              <a:spcBef>
                <a:spcPts val="601"/>
              </a:spcBef>
              <a:buClr>
                <a:srgbClr val="008000"/>
              </a:buClr>
              <a:buFont typeface="NewCenturySchlbk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  <a:p>
            <a:pPr lvl="4" marL="1932120" indent="-212760">
              <a:spcBef>
                <a:spcPts val="601"/>
              </a:spcBef>
              <a:buClr>
                <a:srgbClr val="008000"/>
              </a:buClr>
              <a:buSzPct val="85000"/>
              <a:buFont typeface="NewCenturySchlbk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  <a:p>
            <a:pPr lvl="5" marL="1932120" indent="-212760">
              <a:spcBef>
                <a:spcPts val="601"/>
              </a:spcBef>
              <a:buClr>
                <a:srgbClr val="000000"/>
              </a:buClr>
              <a:buSzPct val="85000"/>
              <a:buFont typeface="NewCenturySchlbk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  <a:p>
            <a:pPr lvl="6" marL="1932120" indent="-212760">
              <a:spcBef>
                <a:spcPts val="601"/>
              </a:spcBef>
              <a:buClr>
                <a:srgbClr val="000000"/>
              </a:buClr>
              <a:buSzPct val="85000"/>
              <a:buFont typeface="NewCenturySchlbk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3720" y="6252840"/>
            <a:ext cx="1868400" cy="469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en-US" sz="1300" spc="-1" strike="noStrike">
                <a:solidFill>
                  <a:srgbClr val="000000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ITC Officina Sans Book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6160" y="6252840"/>
            <a:ext cx="2911680" cy="469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en-US" sz="1300" spc="-1" strike="noStrike">
                <a:solidFill>
                  <a:srgbClr val="000000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ITC Officina Sans Book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1880" y="6252840"/>
            <a:ext cx="1868400" cy="469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en-US" sz="1300" spc="-1" strike="noStrike">
                <a:solidFill>
                  <a:srgbClr val="000000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E4AEFF44-856A-4219-9FB1-20A07D90B7BC}" type="slidenum">
              <a:rPr b="0" lang="en-US" sz="1300" spc="-1" strike="noStrike">
                <a:solidFill>
                  <a:srgbClr val="000000"/>
                </a:solidFill>
                <a:latin typeface="ITC Officina Sans 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1640" y="227160"/>
            <a:ext cx="8514000" cy="790560"/>
          </a:xfrm>
          <a:custGeom>
            <a:avLst/>
            <a:gdLst/>
            <a:ahLst/>
            <a:rect l="l" t="t" r="r" b="b"/>
            <a:pathLst>
              <a:path w="5363" h="498">
                <a:moveTo>
                  <a:pt x="0" y="497"/>
                </a:moveTo>
                <a:lnTo>
                  <a:pt x="5041" y="498"/>
                </a:lnTo>
                <a:lnTo>
                  <a:pt x="5074" y="497"/>
                </a:lnTo>
                <a:lnTo>
                  <a:pt x="5107" y="492"/>
                </a:lnTo>
                <a:lnTo>
                  <a:pt x="5138" y="484"/>
                </a:lnTo>
                <a:lnTo>
                  <a:pt x="5168" y="472"/>
                </a:lnTo>
                <a:lnTo>
                  <a:pt x="5196" y="458"/>
                </a:lnTo>
                <a:lnTo>
                  <a:pt x="5223" y="442"/>
                </a:lnTo>
                <a:lnTo>
                  <a:pt x="5247" y="422"/>
                </a:lnTo>
                <a:lnTo>
                  <a:pt x="5270" y="400"/>
                </a:lnTo>
                <a:lnTo>
                  <a:pt x="5289" y="377"/>
                </a:lnTo>
                <a:lnTo>
                  <a:pt x="5307" y="352"/>
                </a:lnTo>
                <a:lnTo>
                  <a:pt x="5322" y="326"/>
                </a:lnTo>
                <a:lnTo>
                  <a:pt x="5336" y="297"/>
                </a:lnTo>
                <a:lnTo>
                  <a:pt x="5346" y="268"/>
                </a:lnTo>
                <a:lnTo>
                  <a:pt x="5353" y="237"/>
                </a:lnTo>
                <a:lnTo>
                  <a:pt x="5359" y="205"/>
                </a:lnTo>
                <a:lnTo>
                  <a:pt x="5361" y="172"/>
                </a:lnTo>
                <a:lnTo>
                  <a:pt x="5362" y="171"/>
                </a:lnTo>
                <a:lnTo>
                  <a:pt x="5363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16000" y="127080"/>
            <a:ext cx="7632720" cy="873000"/>
            <a:chOff x="216000" y="127080"/>
            <a:chExt cx="7632720" cy="873000"/>
          </a:xfrm>
        </p:grpSpPr>
        <p:sp>
          <p:nvSpPr>
            <p:cNvPr id="7" name=""/>
            <p:cNvSpPr/>
            <p:nvPr/>
          </p:nvSpPr>
          <p:spPr>
            <a:xfrm>
              <a:off x="428760" y="493560"/>
              <a:ext cx="286992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c2d82"/>
                  </a:solidFill>
                  <a:latin typeface="ITC Officina Sans Book"/>
                </a:rPr>
                <a:t>Skattedirektorat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16000" y="127080"/>
              <a:ext cx="450720" cy="307800"/>
            </a:xfrm>
            <a:custGeom>
              <a:avLst/>
              <a:gdLst/>
              <a:ahLst/>
              <a:rect l="l" t="t" r="r" b="b"/>
              <a:pathLst>
                <a:path w="284" h="194">
                  <a:moveTo>
                    <a:pt x="208" y="47"/>
                  </a:moveTo>
                  <a:lnTo>
                    <a:pt x="141" y="116"/>
                  </a:lnTo>
                  <a:lnTo>
                    <a:pt x="141" y="77"/>
                  </a:lnTo>
                  <a:lnTo>
                    <a:pt x="208" y="9"/>
                  </a:lnTo>
                  <a:lnTo>
                    <a:pt x="204" y="9"/>
                  </a:lnTo>
                  <a:lnTo>
                    <a:pt x="200" y="8"/>
                  </a:lnTo>
                  <a:lnTo>
                    <a:pt x="196" y="8"/>
                  </a:lnTo>
                  <a:lnTo>
                    <a:pt x="192" y="6"/>
                  </a:lnTo>
                  <a:lnTo>
                    <a:pt x="187" y="6"/>
                  </a:lnTo>
                  <a:lnTo>
                    <a:pt x="184" y="5"/>
                  </a:lnTo>
                  <a:lnTo>
                    <a:pt x="180" y="5"/>
                  </a:lnTo>
                  <a:lnTo>
                    <a:pt x="176" y="3"/>
                  </a:lnTo>
                  <a:lnTo>
                    <a:pt x="170" y="3"/>
                  </a:lnTo>
                  <a:lnTo>
                    <a:pt x="166" y="3"/>
                  </a:lnTo>
                  <a:lnTo>
                    <a:pt x="162" y="3"/>
                  </a:lnTo>
                  <a:lnTo>
                    <a:pt x="158" y="1"/>
                  </a:lnTo>
                  <a:lnTo>
                    <a:pt x="152" y="1"/>
                  </a:lnTo>
                  <a:lnTo>
                    <a:pt x="148" y="1"/>
                  </a:lnTo>
                  <a:lnTo>
                    <a:pt x="145" y="1"/>
                  </a:lnTo>
                  <a:lnTo>
                    <a:pt x="141" y="0"/>
                  </a:lnTo>
                  <a:lnTo>
                    <a:pt x="141" y="39"/>
                  </a:lnTo>
                  <a:lnTo>
                    <a:pt x="126" y="40"/>
                  </a:lnTo>
                  <a:lnTo>
                    <a:pt x="112" y="40"/>
                  </a:lnTo>
                  <a:lnTo>
                    <a:pt x="98" y="44"/>
                  </a:lnTo>
                  <a:lnTo>
                    <a:pt x="85" y="46"/>
                  </a:lnTo>
                  <a:lnTo>
                    <a:pt x="72" y="49"/>
                  </a:lnTo>
                  <a:lnTo>
                    <a:pt x="60" y="53"/>
                  </a:lnTo>
                  <a:lnTo>
                    <a:pt x="50" y="58"/>
                  </a:lnTo>
                  <a:lnTo>
                    <a:pt x="40" y="62"/>
                  </a:lnTo>
                  <a:lnTo>
                    <a:pt x="32" y="68"/>
                  </a:lnTo>
                  <a:lnTo>
                    <a:pt x="25" y="74"/>
                  </a:lnTo>
                  <a:lnTo>
                    <a:pt x="18" y="81"/>
                  </a:lnTo>
                  <a:lnTo>
                    <a:pt x="12" y="87"/>
                  </a:lnTo>
                  <a:lnTo>
                    <a:pt x="7" y="94"/>
                  </a:lnTo>
                  <a:lnTo>
                    <a:pt x="4" y="101"/>
                  </a:lnTo>
                  <a:lnTo>
                    <a:pt x="1" y="108"/>
                  </a:lnTo>
                  <a:lnTo>
                    <a:pt x="0" y="116"/>
                  </a:lnTo>
                  <a:lnTo>
                    <a:pt x="1" y="125"/>
                  </a:lnTo>
                  <a:lnTo>
                    <a:pt x="4" y="133"/>
                  </a:lnTo>
                  <a:lnTo>
                    <a:pt x="7" y="140"/>
                  </a:lnTo>
                  <a:lnTo>
                    <a:pt x="12" y="147"/>
                  </a:lnTo>
                  <a:lnTo>
                    <a:pt x="18" y="155"/>
                  </a:lnTo>
                  <a:lnTo>
                    <a:pt x="25" y="161"/>
                  </a:lnTo>
                  <a:lnTo>
                    <a:pt x="32" y="166"/>
                  </a:lnTo>
                  <a:lnTo>
                    <a:pt x="40" y="172"/>
                  </a:lnTo>
                  <a:lnTo>
                    <a:pt x="50" y="177"/>
                  </a:lnTo>
                  <a:lnTo>
                    <a:pt x="60" y="182"/>
                  </a:lnTo>
                  <a:lnTo>
                    <a:pt x="72" y="185"/>
                  </a:lnTo>
                  <a:lnTo>
                    <a:pt x="85" y="188"/>
                  </a:lnTo>
                  <a:lnTo>
                    <a:pt x="98" y="191"/>
                  </a:lnTo>
                  <a:lnTo>
                    <a:pt x="112" y="193"/>
                  </a:lnTo>
                  <a:lnTo>
                    <a:pt x="126" y="193"/>
                  </a:lnTo>
                  <a:lnTo>
                    <a:pt x="141" y="193"/>
                  </a:lnTo>
                  <a:lnTo>
                    <a:pt x="154" y="193"/>
                  </a:lnTo>
                  <a:lnTo>
                    <a:pt x="169" y="193"/>
                  </a:lnTo>
                  <a:lnTo>
                    <a:pt x="182" y="191"/>
                  </a:lnTo>
                  <a:lnTo>
                    <a:pt x="196" y="188"/>
                  </a:lnTo>
                  <a:lnTo>
                    <a:pt x="207" y="185"/>
                  </a:lnTo>
                  <a:lnTo>
                    <a:pt x="220" y="182"/>
                  </a:lnTo>
                  <a:lnTo>
                    <a:pt x="230" y="177"/>
                  </a:lnTo>
                  <a:lnTo>
                    <a:pt x="242" y="172"/>
                  </a:lnTo>
                  <a:lnTo>
                    <a:pt x="250" y="166"/>
                  </a:lnTo>
                  <a:lnTo>
                    <a:pt x="258" y="161"/>
                  </a:lnTo>
                  <a:lnTo>
                    <a:pt x="264" y="155"/>
                  </a:lnTo>
                  <a:lnTo>
                    <a:pt x="272" y="147"/>
                  </a:lnTo>
                  <a:lnTo>
                    <a:pt x="276" y="140"/>
                  </a:lnTo>
                  <a:lnTo>
                    <a:pt x="280" y="133"/>
                  </a:lnTo>
                  <a:lnTo>
                    <a:pt x="282" y="125"/>
                  </a:lnTo>
                  <a:lnTo>
                    <a:pt x="283" y="116"/>
                  </a:lnTo>
                  <a:lnTo>
                    <a:pt x="282" y="112"/>
                  </a:lnTo>
                  <a:lnTo>
                    <a:pt x="282" y="107"/>
                  </a:lnTo>
                  <a:lnTo>
                    <a:pt x="279" y="101"/>
                  </a:lnTo>
                  <a:lnTo>
                    <a:pt x="277" y="96"/>
                  </a:lnTo>
                  <a:lnTo>
                    <a:pt x="273" y="92"/>
                  </a:lnTo>
                  <a:lnTo>
                    <a:pt x="270" y="86"/>
                  </a:lnTo>
                  <a:lnTo>
                    <a:pt x="266" y="82"/>
                  </a:lnTo>
                  <a:lnTo>
                    <a:pt x="262" y="76"/>
                  </a:lnTo>
                  <a:lnTo>
                    <a:pt x="256" y="72"/>
                  </a:lnTo>
                  <a:lnTo>
                    <a:pt x="250" y="68"/>
                  </a:lnTo>
                  <a:lnTo>
                    <a:pt x="243" y="65"/>
                  </a:lnTo>
                  <a:lnTo>
                    <a:pt x="238" y="60"/>
                  </a:lnTo>
                  <a:lnTo>
                    <a:pt x="230" y="58"/>
                  </a:lnTo>
                  <a:lnTo>
                    <a:pt x="223" y="54"/>
                  </a:lnTo>
                  <a:lnTo>
                    <a:pt x="216" y="51"/>
                  </a:lnTo>
                  <a:lnTo>
                    <a:pt x="208" y="47"/>
                  </a:lnTo>
                  <a:lnTo>
                    <a:pt x="208" y="47"/>
                  </a:lnTo>
                  <a:lnTo>
                    <a:pt x="208" y="47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" name="" descr=""/>
            <p:cNvPicPr/>
            <p:nvPr/>
          </p:nvPicPr>
          <p:blipFill>
            <a:blip r:embed="rId2"/>
            <a:stretch/>
          </p:blipFill>
          <p:spPr>
            <a:xfrm>
              <a:off x="2438280" y="228600"/>
              <a:ext cx="242568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3"/>
            <a:stretch/>
          </p:blipFill>
          <p:spPr>
            <a:xfrm>
              <a:off x="5334120" y="304920"/>
              <a:ext cx="2514600" cy="3142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ITC Officina Sans Book"/>
              </a:rPr>
              <a:t>Click to edit the title text format</a:t>
            </a:r>
            <a:endParaRPr b="1" lang="en-US" sz="5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en-US" sz="1300" spc="-1" strike="noStrike">
                <a:solidFill>
                  <a:srgbClr val="000000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ITC Officina Sans Book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en-US" sz="1300" spc="-1" strike="noStrike">
                <a:solidFill>
                  <a:srgbClr val="000000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ITC Officina Sans Book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en-US" sz="1300" spc="-1" strike="noStrike">
                <a:solidFill>
                  <a:srgbClr val="000000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12884302-373C-440C-89E0-4D33C51C88CE}" type="slidenum">
              <a:rPr b="0" lang="en-US" sz="1300" spc="-1" strike="noStrike">
                <a:solidFill>
                  <a:srgbClr val="000000"/>
                </a:solidFill>
                <a:latin typeface="ITC Officina Sans 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"/>
            <a:ext cx="8513640" cy="790560"/>
          </a:xfrm>
          <a:custGeom>
            <a:avLst/>
            <a:gdLst/>
            <a:ahLst/>
            <a:rect l="l" t="t" r="r" b="b"/>
            <a:pathLst>
              <a:path w="5363" h="498">
                <a:moveTo>
                  <a:pt x="0" y="497"/>
                </a:moveTo>
                <a:lnTo>
                  <a:pt x="5041" y="498"/>
                </a:lnTo>
                <a:lnTo>
                  <a:pt x="5074" y="497"/>
                </a:lnTo>
                <a:lnTo>
                  <a:pt x="5107" y="492"/>
                </a:lnTo>
                <a:lnTo>
                  <a:pt x="5138" y="484"/>
                </a:lnTo>
                <a:lnTo>
                  <a:pt x="5168" y="472"/>
                </a:lnTo>
                <a:lnTo>
                  <a:pt x="5196" y="458"/>
                </a:lnTo>
                <a:lnTo>
                  <a:pt x="5223" y="442"/>
                </a:lnTo>
                <a:lnTo>
                  <a:pt x="5247" y="422"/>
                </a:lnTo>
                <a:lnTo>
                  <a:pt x="5270" y="400"/>
                </a:lnTo>
                <a:lnTo>
                  <a:pt x="5289" y="377"/>
                </a:lnTo>
                <a:lnTo>
                  <a:pt x="5307" y="352"/>
                </a:lnTo>
                <a:lnTo>
                  <a:pt x="5322" y="326"/>
                </a:lnTo>
                <a:lnTo>
                  <a:pt x="5336" y="297"/>
                </a:lnTo>
                <a:lnTo>
                  <a:pt x="5346" y="268"/>
                </a:lnTo>
                <a:lnTo>
                  <a:pt x="5353" y="237"/>
                </a:lnTo>
                <a:lnTo>
                  <a:pt x="5359" y="205"/>
                </a:lnTo>
                <a:lnTo>
                  <a:pt x="5361" y="172"/>
                </a:lnTo>
                <a:lnTo>
                  <a:pt x="5362" y="171"/>
                </a:lnTo>
                <a:lnTo>
                  <a:pt x="536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09480" y="152280"/>
            <a:ext cx="7632720" cy="873000"/>
            <a:chOff x="609480" y="152280"/>
            <a:chExt cx="7632720" cy="873000"/>
          </a:xfrm>
        </p:grpSpPr>
        <p:sp>
          <p:nvSpPr>
            <p:cNvPr id="53" name=""/>
            <p:cNvSpPr/>
            <p:nvPr/>
          </p:nvSpPr>
          <p:spPr>
            <a:xfrm>
              <a:off x="822240" y="518760"/>
              <a:ext cx="286992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c2d82"/>
                  </a:solidFill>
                  <a:latin typeface="ITC Officina Sans Book"/>
                </a:rPr>
                <a:t>Skattedirektorat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9480" y="152280"/>
              <a:ext cx="450720" cy="307800"/>
            </a:xfrm>
            <a:custGeom>
              <a:avLst/>
              <a:gdLst/>
              <a:ahLst/>
              <a:rect l="l" t="t" r="r" b="b"/>
              <a:pathLst>
                <a:path w="284" h="194">
                  <a:moveTo>
                    <a:pt x="208" y="47"/>
                  </a:moveTo>
                  <a:lnTo>
                    <a:pt x="141" y="116"/>
                  </a:lnTo>
                  <a:lnTo>
                    <a:pt x="141" y="77"/>
                  </a:lnTo>
                  <a:lnTo>
                    <a:pt x="208" y="9"/>
                  </a:lnTo>
                  <a:lnTo>
                    <a:pt x="204" y="9"/>
                  </a:lnTo>
                  <a:lnTo>
                    <a:pt x="200" y="8"/>
                  </a:lnTo>
                  <a:lnTo>
                    <a:pt x="196" y="8"/>
                  </a:lnTo>
                  <a:lnTo>
                    <a:pt x="192" y="6"/>
                  </a:lnTo>
                  <a:lnTo>
                    <a:pt x="187" y="6"/>
                  </a:lnTo>
                  <a:lnTo>
                    <a:pt x="184" y="5"/>
                  </a:lnTo>
                  <a:lnTo>
                    <a:pt x="180" y="5"/>
                  </a:lnTo>
                  <a:lnTo>
                    <a:pt x="176" y="3"/>
                  </a:lnTo>
                  <a:lnTo>
                    <a:pt x="170" y="3"/>
                  </a:lnTo>
                  <a:lnTo>
                    <a:pt x="166" y="3"/>
                  </a:lnTo>
                  <a:lnTo>
                    <a:pt x="162" y="3"/>
                  </a:lnTo>
                  <a:lnTo>
                    <a:pt x="158" y="1"/>
                  </a:lnTo>
                  <a:lnTo>
                    <a:pt x="152" y="1"/>
                  </a:lnTo>
                  <a:lnTo>
                    <a:pt x="148" y="1"/>
                  </a:lnTo>
                  <a:lnTo>
                    <a:pt x="145" y="1"/>
                  </a:lnTo>
                  <a:lnTo>
                    <a:pt x="141" y="0"/>
                  </a:lnTo>
                  <a:lnTo>
                    <a:pt x="141" y="39"/>
                  </a:lnTo>
                  <a:lnTo>
                    <a:pt x="126" y="40"/>
                  </a:lnTo>
                  <a:lnTo>
                    <a:pt x="112" y="40"/>
                  </a:lnTo>
                  <a:lnTo>
                    <a:pt x="98" y="44"/>
                  </a:lnTo>
                  <a:lnTo>
                    <a:pt x="85" y="46"/>
                  </a:lnTo>
                  <a:lnTo>
                    <a:pt x="72" y="49"/>
                  </a:lnTo>
                  <a:lnTo>
                    <a:pt x="60" y="53"/>
                  </a:lnTo>
                  <a:lnTo>
                    <a:pt x="50" y="58"/>
                  </a:lnTo>
                  <a:lnTo>
                    <a:pt x="40" y="62"/>
                  </a:lnTo>
                  <a:lnTo>
                    <a:pt x="32" y="68"/>
                  </a:lnTo>
                  <a:lnTo>
                    <a:pt x="25" y="74"/>
                  </a:lnTo>
                  <a:lnTo>
                    <a:pt x="18" y="81"/>
                  </a:lnTo>
                  <a:lnTo>
                    <a:pt x="12" y="87"/>
                  </a:lnTo>
                  <a:lnTo>
                    <a:pt x="7" y="94"/>
                  </a:lnTo>
                  <a:lnTo>
                    <a:pt x="4" y="101"/>
                  </a:lnTo>
                  <a:lnTo>
                    <a:pt x="1" y="108"/>
                  </a:lnTo>
                  <a:lnTo>
                    <a:pt x="0" y="116"/>
                  </a:lnTo>
                  <a:lnTo>
                    <a:pt x="1" y="125"/>
                  </a:lnTo>
                  <a:lnTo>
                    <a:pt x="4" y="133"/>
                  </a:lnTo>
                  <a:lnTo>
                    <a:pt x="7" y="140"/>
                  </a:lnTo>
                  <a:lnTo>
                    <a:pt x="12" y="147"/>
                  </a:lnTo>
                  <a:lnTo>
                    <a:pt x="18" y="155"/>
                  </a:lnTo>
                  <a:lnTo>
                    <a:pt x="25" y="161"/>
                  </a:lnTo>
                  <a:lnTo>
                    <a:pt x="32" y="166"/>
                  </a:lnTo>
                  <a:lnTo>
                    <a:pt x="40" y="172"/>
                  </a:lnTo>
                  <a:lnTo>
                    <a:pt x="50" y="177"/>
                  </a:lnTo>
                  <a:lnTo>
                    <a:pt x="60" y="182"/>
                  </a:lnTo>
                  <a:lnTo>
                    <a:pt x="72" y="185"/>
                  </a:lnTo>
                  <a:lnTo>
                    <a:pt x="85" y="188"/>
                  </a:lnTo>
                  <a:lnTo>
                    <a:pt x="98" y="191"/>
                  </a:lnTo>
                  <a:lnTo>
                    <a:pt x="112" y="193"/>
                  </a:lnTo>
                  <a:lnTo>
                    <a:pt x="126" y="193"/>
                  </a:lnTo>
                  <a:lnTo>
                    <a:pt x="141" y="193"/>
                  </a:lnTo>
                  <a:lnTo>
                    <a:pt x="154" y="193"/>
                  </a:lnTo>
                  <a:lnTo>
                    <a:pt x="169" y="193"/>
                  </a:lnTo>
                  <a:lnTo>
                    <a:pt x="182" y="191"/>
                  </a:lnTo>
                  <a:lnTo>
                    <a:pt x="196" y="188"/>
                  </a:lnTo>
                  <a:lnTo>
                    <a:pt x="207" y="185"/>
                  </a:lnTo>
                  <a:lnTo>
                    <a:pt x="220" y="182"/>
                  </a:lnTo>
                  <a:lnTo>
                    <a:pt x="230" y="177"/>
                  </a:lnTo>
                  <a:lnTo>
                    <a:pt x="242" y="172"/>
                  </a:lnTo>
                  <a:lnTo>
                    <a:pt x="250" y="166"/>
                  </a:lnTo>
                  <a:lnTo>
                    <a:pt x="258" y="161"/>
                  </a:lnTo>
                  <a:lnTo>
                    <a:pt x="264" y="155"/>
                  </a:lnTo>
                  <a:lnTo>
                    <a:pt x="272" y="147"/>
                  </a:lnTo>
                  <a:lnTo>
                    <a:pt x="276" y="140"/>
                  </a:lnTo>
                  <a:lnTo>
                    <a:pt x="280" y="133"/>
                  </a:lnTo>
                  <a:lnTo>
                    <a:pt x="282" y="125"/>
                  </a:lnTo>
                  <a:lnTo>
                    <a:pt x="283" y="116"/>
                  </a:lnTo>
                  <a:lnTo>
                    <a:pt x="282" y="112"/>
                  </a:lnTo>
                  <a:lnTo>
                    <a:pt x="282" y="107"/>
                  </a:lnTo>
                  <a:lnTo>
                    <a:pt x="279" y="101"/>
                  </a:lnTo>
                  <a:lnTo>
                    <a:pt x="277" y="96"/>
                  </a:lnTo>
                  <a:lnTo>
                    <a:pt x="273" y="92"/>
                  </a:lnTo>
                  <a:lnTo>
                    <a:pt x="270" y="86"/>
                  </a:lnTo>
                  <a:lnTo>
                    <a:pt x="266" y="82"/>
                  </a:lnTo>
                  <a:lnTo>
                    <a:pt x="262" y="76"/>
                  </a:lnTo>
                  <a:lnTo>
                    <a:pt x="256" y="72"/>
                  </a:lnTo>
                  <a:lnTo>
                    <a:pt x="250" y="68"/>
                  </a:lnTo>
                  <a:lnTo>
                    <a:pt x="243" y="65"/>
                  </a:lnTo>
                  <a:lnTo>
                    <a:pt x="238" y="60"/>
                  </a:lnTo>
                  <a:lnTo>
                    <a:pt x="230" y="58"/>
                  </a:lnTo>
                  <a:lnTo>
                    <a:pt x="223" y="54"/>
                  </a:lnTo>
                  <a:lnTo>
                    <a:pt x="216" y="51"/>
                  </a:lnTo>
                  <a:lnTo>
                    <a:pt x="208" y="47"/>
                  </a:lnTo>
                  <a:lnTo>
                    <a:pt x="208" y="47"/>
                  </a:lnTo>
                  <a:lnTo>
                    <a:pt x="208" y="47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831760" y="253800"/>
              <a:ext cx="242568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5727600" y="330120"/>
              <a:ext cx="2514600" cy="3142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br>
              <a:rPr sz="3000"/>
            </a:br>
            <a:br>
              <a:rPr sz="3000"/>
            </a:br>
            <a:r>
              <a:rPr b="1" lang="nb-NO" sz="3000" spc="-1" strike="noStrike">
                <a:solidFill>
                  <a:srgbClr val="008000"/>
                </a:solidFill>
                <a:latin typeface="ITC Officina Sans Book"/>
              </a:rPr>
              <a:t>	</a:t>
            </a:r>
            <a:r>
              <a:rPr b="1" lang="nb-NO" sz="5400" spc="-1" strike="noStrike">
                <a:solidFill>
                  <a:srgbClr val="008000"/>
                </a:solidFill>
                <a:latin typeface="ITC Officina Sans Book"/>
              </a:rPr>
              <a:t>The AltInn System</a:t>
            </a:r>
            <a:br>
              <a:rPr sz="3000"/>
            </a:br>
            <a:br>
              <a:rPr sz="3000"/>
            </a:br>
            <a:r>
              <a:rPr b="1" lang="nb-NO" sz="3000" spc="-1" strike="noStrike">
                <a:solidFill>
                  <a:srgbClr val="008000"/>
                </a:solidFill>
                <a:latin typeface="ITC Officina Sans Book"/>
              </a:rPr>
              <a:t> </a:t>
            </a:r>
            <a:r>
              <a:rPr b="1" lang="nb-NO" sz="4000" spc="-1" strike="noStrike">
                <a:solidFill>
                  <a:srgbClr val="008000"/>
                </a:solidFill>
                <a:latin typeface="ITC Officina Sans Book"/>
              </a:rPr>
              <a:t>Overview</a:t>
            </a:r>
            <a:endParaRPr b="1" lang="en-US" sz="4000" spc="-1" strike="noStrike">
              <a:solidFill>
                <a:srgbClr val="008000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9240" y="1280880"/>
            <a:ext cx="7767720" cy="1385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3400" spc="-1" strike="noStrike">
                <a:solidFill>
                  <a:srgbClr val="008000"/>
                </a:solidFill>
                <a:latin typeface="ITC Officina Sans Book"/>
              </a:rPr>
              <a:t>Work process for</a:t>
            </a:r>
            <a:br>
              <a:rPr sz="3400"/>
            </a:br>
            <a:r>
              <a:rPr b="1" lang="nb-NO" sz="3400" spc="-1" strike="noStrike">
                <a:solidFill>
                  <a:srgbClr val="008000"/>
                </a:solidFill>
                <a:latin typeface="ITC Officina Sans Book"/>
              </a:rPr>
              <a:t>generating Forms</a:t>
            </a:r>
            <a:br>
              <a:rPr sz="3400"/>
            </a:br>
            <a:r>
              <a:rPr b="1" lang="nb-NO" sz="3400" spc="-1" strike="noStrike">
                <a:solidFill>
                  <a:srgbClr val="008000"/>
                </a:solidFill>
                <a:latin typeface="ITC Officina Sans Book"/>
              </a:rPr>
              <a:t>in AltInn</a:t>
            </a: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0" y="1270080"/>
          <a:ext cx="7201080" cy="53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70080"/>
                    <a:ext cx="720108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3000" spc="-1" strike="noStrike">
                <a:solidFill>
                  <a:srgbClr val="008000"/>
                </a:solidFill>
                <a:latin typeface="ITC Officina Sans Book"/>
              </a:rPr>
              <a:t>Components in the Communication</a:t>
            </a:r>
            <a:br>
              <a:rPr sz="3000"/>
            </a:br>
            <a:r>
              <a:rPr b="1" lang="nb-NO" sz="3000" spc="-1" strike="noStrike">
                <a:solidFill>
                  <a:srgbClr val="008000"/>
                </a:solidFill>
                <a:latin typeface="ITC Officina Sans Book"/>
              </a:rPr>
              <a:t>Service Center</a:t>
            </a:r>
            <a:endParaRPr b="1" lang="en-US" sz="30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772308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22200" indent="-322200">
              <a:spcBef>
                <a:spcPts val="799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NewCenturySchlbk"/>
              </a:rPr>
              <a:t>Archive</a:t>
            </a:r>
            <a:endParaRPr b="1" lang="en-US" sz="32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200">
              <a:spcBef>
                <a:spcPts val="550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NewCenturySchlbk"/>
              </a:rPr>
              <a:t>Juridical log of all forms/data received</a:t>
            </a:r>
            <a:endParaRPr b="0" lang="en-US" sz="22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200">
              <a:spcBef>
                <a:spcPts val="550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NewCenturySchlbk"/>
              </a:rPr>
              <a:t>Forms in the archive are available to sender and receiver (enterprise and agency)</a:t>
            </a:r>
            <a:endParaRPr b="0" lang="en-US" sz="22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0">
              <a:spcBef>
                <a:spcPts val="774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1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NewCenturySchlbk"/>
              </a:rPr>
              <a:t>Subscription data </a:t>
            </a: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(respondants in the survey)</a:t>
            </a:r>
            <a:endParaRPr b="1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200">
              <a:spcBef>
                <a:spcPts val="550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NewCenturySchlbk"/>
              </a:rPr>
              <a:t>Informs respondants of the reporting period of the survey</a:t>
            </a:r>
            <a:endParaRPr b="0" lang="en-US" sz="22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0">
              <a:spcBef>
                <a:spcPts val="550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2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25440" y="2082960"/>
            <a:ext cx="790416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22200" indent="-322200"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NewCenturySchlbk"/>
              </a:rPr>
              <a:t>The Workflow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20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Keeps track of which step in the process the forms are in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20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Ensures that forms are in the worklist for the enterprise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NewCenturySchlbk"/>
              </a:rPr>
              <a:t>The Forms Catalog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20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Keeps track of which forms that have been established in the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NewCenturySchlbk"/>
              </a:rPr>
              <a:t>The Forms Engine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20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The run-time component steering the filling of the form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20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Handles the navigation of in the menu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0960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5440" y="2082960"/>
            <a:ext cx="7723080" cy="37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rmAutofit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NewCenturySchlbk"/>
              </a:rPr>
              <a:t>Port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Covers the application components which are not directly attached to the filling of the 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NewCenturySchlbk"/>
              </a:rPr>
              <a:t>User administration and acc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A copy of one public register contains information of rights and roles of people who may log on to th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NewCenturySchlbk"/>
              </a:rPr>
              <a:t>Client signature and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Includes a PKI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100000"/>
              </a:lnSpc>
              <a:spcBef>
                <a:spcPts val="550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0960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5440" y="2082960"/>
            <a:ext cx="7723080" cy="37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rmAutofit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NewCenturySchlbk"/>
              </a:rPr>
              <a:t>Pref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Data from public registers are used to prefill forms, to lighten the burden of filling in the for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NewCenturySchlbk"/>
              </a:rPr>
              <a:t>AltInn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Contains copies of public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3400" spc="-1" strike="noStrike">
                <a:solidFill>
                  <a:srgbClr val="008000"/>
                </a:solidFill>
                <a:latin typeface="ITC Officina Sans Book"/>
              </a:rPr>
              <a:t>XML platform</a:t>
            </a: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772308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22200" indent="-322200"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NewCenturySchlbk"/>
              </a:rPr>
              <a:t>BizTalk Server/.Net environment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386" name=""/>
          <p:cNvSpPr/>
          <p:nvPr/>
        </p:nvSpPr>
        <p:spPr>
          <a:xfrm>
            <a:off x="3019320" y="3600360"/>
            <a:ext cx="3505320" cy="2135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4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24040" y="2914560"/>
            <a:ext cx="12193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24040" y="3524400"/>
            <a:ext cx="1219320" cy="380880"/>
          </a:xfrm>
          <a:prstGeom prst="rect">
            <a:avLst/>
          </a:prstGeom>
          <a:solidFill>
            <a:srgbClr val="a7a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05120" y="3733920"/>
            <a:ext cx="2286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43440" y="3790800"/>
            <a:ext cx="181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ransportprotokoller (kanal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15160" y="4133880"/>
            <a:ext cx="3902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10920" y="4191120"/>
            <a:ext cx="20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28960" y="3600360"/>
            <a:ext cx="581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24000" y="3657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199960" y="36576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38120" y="365760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76320" y="2990880"/>
            <a:ext cx="838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72080" y="304812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Web por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24640" y="4057560"/>
            <a:ext cx="79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53240" y="4896000"/>
            <a:ext cx="781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43760" y="596412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05120" y="2514600"/>
            <a:ext cx="221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476520" y="3981600"/>
            <a:ext cx="2590920" cy="13716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4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010040" y="4133880"/>
            <a:ext cx="1523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44400" y="4181400"/>
            <a:ext cx="105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zTalk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48400" y="5124600"/>
            <a:ext cx="571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44160" y="518148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47920" y="3753000"/>
            <a:ext cx="3048120" cy="1830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19320" y="4438800"/>
            <a:ext cx="457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14720" y="449568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47920" y="4876920"/>
            <a:ext cx="324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42960" y="4933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57760" y="5334120"/>
            <a:ext cx="5331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53160" y="539100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sm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47920" y="4114800"/>
            <a:ext cx="390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42600" y="41720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390920" y="5353200"/>
            <a:ext cx="12477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85600" y="541188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aptere (pl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95600" y="541188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4120" y="541188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39800" y="2614680"/>
            <a:ext cx="368280" cy="293760"/>
            <a:chOff x="739800" y="2614680"/>
            <a:chExt cx="368280" cy="293760"/>
          </a:xfrm>
        </p:grpSpPr>
        <p:grpSp>
          <p:nvGrpSpPr>
            <p:cNvPr id="422" name=""/>
            <p:cNvGrpSpPr/>
            <p:nvPr/>
          </p:nvGrpSpPr>
          <p:grpSpPr>
            <a:xfrm>
              <a:off x="739800" y="2616120"/>
              <a:ext cx="119160" cy="292320"/>
              <a:chOff x="739800" y="2616120"/>
              <a:chExt cx="119160" cy="292320"/>
            </a:xfrm>
          </p:grpSpPr>
          <p:sp>
            <p:nvSpPr>
              <p:cNvPr id="423" name=""/>
              <p:cNvSpPr/>
              <p:nvPr/>
            </p:nvSpPr>
            <p:spPr>
              <a:xfrm>
                <a:off x="770040" y="2616120"/>
                <a:ext cx="60120" cy="52560"/>
              </a:xfrm>
              <a:custGeom>
                <a:avLst/>
                <a:gdLst/>
                <a:ahLst/>
                <a:rect l="l" t="t" r="r" b="b"/>
                <a:pathLst>
                  <a:path w="38" h="33">
                    <a:moveTo>
                      <a:pt x="0" y="17"/>
                    </a:moveTo>
                    <a:lnTo>
                      <a:pt x="0" y="15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9"/>
                    </a:lnTo>
                    <a:lnTo>
                      <a:pt x="36" y="10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8" y="15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8"/>
                    </a:lnTo>
                    <a:lnTo>
                      <a:pt x="37" y="20"/>
                    </a:lnTo>
                    <a:lnTo>
                      <a:pt x="37" y="22"/>
                    </a:lnTo>
                    <a:lnTo>
                      <a:pt x="36" y="23"/>
                    </a:lnTo>
                    <a:lnTo>
                      <a:pt x="35" y="25"/>
                    </a:lnTo>
                    <a:lnTo>
                      <a:pt x="34" y="26"/>
                    </a:lnTo>
                    <a:lnTo>
                      <a:pt x="33" y="27"/>
                    </a:lnTo>
                    <a:lnTo>
                      <a:pt x="32" y="29"/>
                    </a:lnTo>
                    <a:lnTo>
                      <a:pt x="31" y="30"/>
                    </a:lnTo>
                    <a:lnTo>
                      <a:pt x="29" y="31"/>
                    </a:lnTo>
                    <a:lnTo>
                      <a:pt x="28" y="31"/>
                    </a:lnTo>
                    <a:lnTo>
                      <a:pt x="26" y="32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3" y="33"/>
                    </a:lnTo>
                    <a:lnTo>
                      <a:pt x="12" y="32"/>
                    </a:lnTo>
                    <a:lnTo>
                      <a:pt x="10" y="31"/>
                    </a:lnTo>
                    <a:lnTo>
                      <a:pt x="8" y="31"/>
                    </a:lnTo>
                    <a:lnTo>
                      <a:pt x="7" y="30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0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9800" y="2695680"/>
                <a:ext cx="119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0280" y="2801880"/>
                <a:ext cx="58680" cy="10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9800" y="2668680"/>
                <a:ext cx="60480" cy="239760"/>
              </a:xfrm>
              <a:custGeom>
                <a:avLst/>
                <a:gdLst/>
                <a:ahLst/>
                <a:rect l="l" t="t" r="r" b="b"/>
                <a:pathLst>
                  <a:path w="38" h="151">
                    <a:moveTo>
                      <a:pt x="38" y="0"/>
                    </a:moveTo>
                    <a:lnTo>
                      <a:pt x="38" y="84"/>
                    </a:lnTo>
                    <a:lnTo>
                      <a:pt x="0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70040" y="2616120"/>
                <a:ext cx="60120" cy="52560"/>
              </a:xfrm>
              <a:custGeom>
                <a:avLst/>
                <a:gdLst/>
                <a:ahLst/>
                <a:rect l="l" t="t" r="r" b="b"/>
                <a:pathLst>
                  <a:path w="38" h="33">
                    <a:moveTo>
                      <a:pt x="0" y="17"/>
                    </a:moveTo>
                    <a:lnTo>
                      <a:pt x="0" y="15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9"/>
                    </a:lnTo>
                    <a:lnTo>
                      <a:pt x="36" y="10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8" y="15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8"/>
                    </a:lnTo>
                    <a:lnTo>
                      <a:pt x="37" y="20"/>
                    </a:lnTo>
                    <a:lnTo>
                      <a:pt x="37" y="22"/>
                    </a:lnTo>
                    <a:lnTo>
                      <a:pt x="36" y="23"/>
                    </a:lnTo>
                    <a:lnTo>
                      <a:pt x="35" y="25"/>
                    </a:lnTo>
                    <a:lnTo>
                      <a:pt x="34" y="26"/>
                    </a:lnTo>
                    <a:lnTo>
                      <a:pt x="33" y="27"/>
                    </a:lnTo>
                    <a:lnTo>
                      <a:pt x="32" y="29"/>
                    </a:lnTo>
                    <a:lnTo>
                      <a:pt x="31" y="30"/>
                    </a:lnTo>
                    <a:lnTo>
                      <a:pt x="29" y="31"/>
                    </a:lnTo>
                    <a:lnTo>
                      <a:pt x="28" y="31"/>
                    </a:lnTo>
                    <a:lnTo>
                      <a:pt x="26" y="32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3" y="33"/>
                    </a:lnTo>
                    <a:lnTo>
                      <a:pt x="12" y="32"/>
                    </a:lnTo>
                    <a:lnTo>
                      <a:pt x="10" y="31"/>
                    </a:lnTo>
                    <a:lnTo>
                      <a:pt x="8" y="31"/>
                    </a:lnTo>
                    <a:lnTo>
                      <a:pt x="7" y="30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0" y="18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890640" y="2614680"/>
              <a:ext cx="85680" cy="209520"/>
              <a:chOff x="890640" y="2614680"/>
              <a:chExt cx="85680" cy="209520"/>
            </a:xfrm>
          </p:grpSpPr>
          <p:sp>
            <p:nvSpPr>
              <p:cNvPr id="429" name=""/>
              <p:cNvSpPr/>
              <p:nvPr/>
            </p:nvSpPr>
            <p:spPr>
              <a:xfrm>
                <a:off x="912960" y="261468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12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5" y="17"/>
                    </a:lnTo>
                    <a:lnTo>
                      <a:pt x="25" y="18"/>
                    </a:lnTo>
                    <a:lnTo>
                      <a:pt x="24" y="19"/>
                    </a:lnTo>
                    <a:lnTo>
                      <a:pt x="23" y="20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20" y="22"/>
                    </a:lnTo>
                    <a:lnTo>
                      <a:pt x="19" y="22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3" y="24"/>
                    </a:lnTo>
                    <a:lnTo>
                      <a:pt x="11" y="24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3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90640" y="267192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933480" y="2747880"/>
                <a:ext cx="42840" cy="76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90640" y="2652840"/>
                <a:ext cx="42840" cy="171360"/>
              </a:xfrm>
              <a:custGeom>
                <a:avLst/>
                <a:gdLst/>
                <a:ahLst/>
                <a:rect l="l" t="t" r="r" b="b"/>
                <a:pathLst>
                  <a:path w="27" h="108">
                    <a:moveTo>
                      <a:pt x="27" y="0"/>
                    </a:moveTo>
                    <a:lnTo>
                      <a:pt x="27" y="60"/>
                    </a:lnTo>
                    <a:lnTo>
                      <a:pt x="0" y="10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12960" y="261468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12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5" y="17"/>
                    </a:lnTo>
                    <a:lnTo>
                      <a:pt x="25" y="18"/>
                    </a:lnTo>
                    <a:lnTo>
                      <a:pt x="24" y="19"/>
                    </a:lnTo>
                    <a:lnTo>
                      <a:pt x="23" y="20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20" y="22"/>
                    </a:lnTo>
                    <a:lnTo>
                      <a:pt x="19" y="22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3" y="24"/>
                    </a:lnTo>
                    <a:lnTo>
                      <a:pt x="11" y="24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3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1025640" y="2700360"/>
              <a:ext cx="82440" cy="165240"/>
              <a:chOff x="1025640" y="2700360"/>
              <a:chExt cx="82440" cy="165240"/>
            </a:xfrm>
          </p:grpSpPr>
          <p:sp>
            <p:nvSpPr>
              <p:cNvPr id="435" name=""/>
              <p:cNvSpPr/>
              <p:nvPr/>
            </p:nvSpPr>
            <p:spPr>
              <a:xfrm>
                <a:off x="1046160" y="270036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9"/>
                    </a:moveTo>
                    <a:lnTo>
                      <a:pt x="0" y="8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5"/>
                    </a:lnTo>
                    <a:lnTo>
                      <a:pt x="22" y="16"/>
                    </a:lnTo>
                    <a:lnTo>
                      <a:pt x="21" y="17"/>
                    </a:lnTo>
                    <a:lnTo>
                      <a:pt x="20" y="17"/>
                    </a:lnTo>
                    <a:lnTo>
                      <a:pt x="19" y="18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16" y="18"/>
                    </a:lnTo>
                    <a:lnTo>
                      <a:pt x="14" y="19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025640" y="274464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066680" y="2805120"/>
                <a:ext cx="4140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025640" y="2730600"/>
                <a:ext cx="41040" cy="135000"/>
              </a:xfrm>
              <a:custGeom>
                <a:avLst/>
                <a:gdLst/>
                <a:ahLst/>
                <a:rect l="l" t="t" r="r" b="b"/>
                <a:pathLst>
                  <a:path w="26" h="85">
                    <a:moveTo>
                      <a:pt x="26" y="0"/>
                    </a:moveTo>
                    <a:lnTo>
                      <a:pt x="26" y="47"/>
                    </a:lnTo>
                    <a:lnTo>
                      <a:pt x="0" y="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046160" y="270036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9"/>
                    </a:moveTo>
                    <a:lnTo>
                      <a:pt x="0" y="8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5"/>
                    </a:lnTo>
                    <a:lnTo>
                      <a:pt x="22" y="16"/>
                    </a:lnTo>
                    <a:lnTo>
                      <a:pt x="21" y="17"/>
                    </a:lnTo>
                    <a:lnTo>
                      <a:pt x="20" y="17"/>
                    </a:lnTo>
                    <a:lnTo>
                      <a:pt x="19" y="18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16" y="18"/>
                    </a:lnTo>
                    <a:lnTo>
                      <a:pt x="14" y="19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3946680" y="4680000"/>
            <a:ext cx="183960" cy="280800"/>
            <a:chOff x="3946680" y="4680000"/>
            <a:chExt cx="183960" cy="280800"/>
          </a:xfrm>
        </p:grpSpPr>
        <p:sp>
          <p:nvSpPr>
            <p:cNvPr id="441" name=""/>
            <p:cNvSpPr/>
            <p:nvPr/>
          </p:nvSpPr>
          <p:spPr>
            <a:xfrm>
              <a:off x="3952800" y="4687920"/>
              <a:ext cx="169920" cy="26352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88" y="0"/>
                  </a:moveTo>
                  <a:lnTo>
                    <a:pt x="0" y="0"/>
                  </a:lnTo>
                  <a:lnTo>
                    <a:pt x="0" y="166"/>
                  </a:lnTo>
                  <a:lnTo>
                    <a:pt x="107" y="166"/>
                  </a:lnTo>
                  <a:lnTo>
                    <a:pt x="107" y="2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52800" y="4687920"/>
              <a:ext cx="169920" cy="26352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88" y="0"/>
                  </a:moveTo>
                  <a:lnTo>
                    <a:pt x="0" y="0"/>
                  </a:lnTo>
                  <a:lnTo>
                    <a:pt x="0" y="166"/>
                  </a:lnTo>
                  <a:lnTo>
                    <a:pt x="107" y="166"/>
                  </a:lnTo>
                  <a:lnTo>
                    <a:pt x="107" y="22"/>
                  </a:lnTo>
                  <a:lnTo>
                    <a:pt x="88" y="0"/>
                  </a:lnTo>
                  <a:close/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46680" y="4680000"/>
              <a:ext cx="183960" cy="280800"/>
            </a:xfrm>
            <a:custGeom>
              <a:avLst/>
              <a:gdLst/>
              <a:ahLst/>
              <a:rect l="l" t="t" r="r" b="b"/>
              <a:pathLst>
                <a:path w="116" h="177">
                  <a:moveTo>
                    <a:pt x="111" y="33"/>
                  </a:moveTo>
                  <a:lnTo>
                    <a:pt x="111" y="171"/>
                  </a:lnTo>
                  <a:lnTo>
                    <a:pt x="4" y="171"/>
                  </a:lnTo>
                  <a:lnTo>
                    <a:pt x="4" y="5"/>
                  </a:lnTo>
                  <a:lnTo>
                    <a:pt x="87" y="5"/>
                  </a:lnTo>
                  <a:lnTo>
                    <a:pt x="87" y="33"/>
                  </a:lnTo>
                  <a:lnTo>
                    <a:pt x="111" y="33"/>
                  </a:lnTo>
                  <a:close/>
                  <a:moveTo>
                    <a:pt x="19" y="154"/>
                  </a:moveTo>
                  <a:lnTo>
                    <a:pt x="97" y="154"/>
                  </a:lnTo>
                  <a:lnTo>
                    <a:pt x="97" y="149"/>
                  </a:lnTo>
                  <a:lnTo>
                    <a:pt x="19" y="149"/>
                  </a:lnTo>
                  <a:lnTo>
                    <a:pt x="19" y="154"/>
                  </a:lnTo>
                  <a:close/>
                  <a:moveTo>
                    <a:pt x="19" y="135"/>
                  </a:moveTo>
                  <a:lnTo>
                    <a:pt x="97" y="135"/>
                  </a:lnTo>
                  <a:lnTo>
                    <a:pt x="97" y="130"/>
                  </a:lnTo>
                  <a:lnTo>
                    <a:pt x="19" y="130"/>
                  </a:lnTo>
                  <a:lnTo>
                    <a:pt x="19" y="135"/>
                  </a:lnTo>
                  <a:close/>
                  <a:moveTo>
                    <a:pt x="19" y="116"/>
                  </a:moveTo>
                  <a:lnTo>
                    <a:pt x="97" y="116"/>
                  </a:lnTo>
                  <a:lnTo>
                    <a:pt x="97" y="110"/>
                  </a:lnTo>
                  <a:lnTo>
                    <a:pt x="19" y="110"/>
                  </a:lnTo>
                  <a:lnTo>
                    <a:pt x="19" y="116"/>
                  </a:lnTo>
                  <a:close/>
                  <a:moveTo>
                    <a:pt x="19" y="96"/>
                  </a:moveTo>
                  <a:lnTo>
                    <a:pt x="97" y="96"/>
                  </a:lnTo>
                  <a:lnTo>
                    <a:pt x="97" y="91"/>
                  </a:lnTo>
                  <a:lnTo>
                    <a:pt x="19" y="91"/>
                  </a:lnTo>
                  <a:lnTo>
                    <a:pt x="19" y="96"/>
                  </a:lnTo>
                  <a:close/>
                  <a:moveTo>
                    <a:pt x="19" y="77"/>
                  </a:moveTo>
                  <a:lnTo>
                    <a:pt x="97" y="77"/>
                  </a:lnTo>
                  <a:lnTo>
                    <a:pt x="97" y="72"/>
                  </a:lnTo>
                  <a:lnTo>
                    <a:pt x="19" y="72"/>
                  </a:lnTo>
                  <a:lnTo>
                    <a:pt x="19" y="77"/>
                  </a:lnTo>
                  <a:close/>
                  <a:moveTo>
                    <a:pt x="19" y="58"/>
                  </a:moveTo>
                  <a:lnTo>
                    <a:pt x="97" y="58"/>
                  </a:lnTo>
                  <a:lnTo>
                    <a:pt x="97" y="52"/>
                  </a:lnTo>
                  <a:lnTo>
                    <a:pt x="19" y="52"/>
                  </a:lnTo>
                  <a:lnTo>
                    <a:pt x="19" y="58"/>
                  </a:lnTo>
                  <a:close/>
                  <a:moveTo>
                    <a:pt x="19" y="38"/>
                  </a:moveTo>
                  <a:lnTo>
                    <a:pt x="77" y="38"/>
                  </a:lnTo>
                  <a:lnTo>
                    <a:pt x="77" y="33"/>
                  </a:lnTo>
                  <a:lnTo>
                    <a:pt x="19" y="33"/>
                  </a:lnTo>
                  <a:lnTo>
                    <a:pt x="19" y="38"/>
                  </a:lnTo>
                  <a:close/>
                  <a:moveTo>
                    <a:pt x="111" y="27"/>
                  </a:moveTo>
                  <a:lnTo>
                    <a:pt x="92" y="27"/>
                  </a:lnTo>
                  <a:lnTo>
                    <a:pt x="92" y="5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77"/>
                  </a:lnTo>
                  <a:lnTo>
                    <a:pt x="116" y="177"/>
                  </a:lnTo>
                  <a:lnTo>
                    <a:pt x="116" y="33"/>
                  </a:lnTo>
                  <a:lnTo>
                    <a:pt x="111" y="2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448320" y="5505480"/>
            <a:ext cx="228600" cy="382680"/>
            <a:chOff x="6448320" y="5505480"/>
            <a:chExt cx="228600" cy="382680"/>
          </a:xfrm>
        </p:grpSpPr>
        <p:sp>
          <p:nvSpPr>
            <p:cNvPr id="445" name=""/>
            <p:cNvSpPr/>
            <p:nvPr/>
          </p:nvSpPr>
          <p:spPr>
            <a:xfrm>
              <a:off x="6448320" y="5505480"/>
              <a:ext cx="228600" cy="38268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48320" y="555480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905520" y="4438800"/>
            <a:ext cx="228600" cy="380880"/>
            <a:chOff x="6905520" y="4438800"/>
            <a:chExt cx="228600" cy="380880"/>
          </a:xfrm>
        </p:grpSpPr>
        <p:sp>
          <p:nvSpPr>
            <p:cNvPr id="448" name=""/>
            <p:cNvSpPr/>
            <p:nvPr/>
          </p:nvSpPr>
          <p:spPr>
            <a:xfrm>
              <a:off x="6905520" y="4438800"/>
              <a:ext cx="228600" cy="38088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05520" y="448632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04720" y="3143160"/>
            <a:ext cx="228600" cy="381240"/>
            <a:chOff x="504720" y="3143160"/>
            <a:chExt cx="228600" cy="381240"/>
          </a:xfrm>
        </p:grpSpPr>
        <p:sp>
          <p:nvSpPr>
            <p:cNvPr id="451" name=""/>
            <p:cNvSpPr/>
            <p:nvPr/>
          </p:nvSpPr>
          <p:spPr>
            <a:xfrm>
              <a:off x="504720" y="3143160"/>
              <a:ext cx="228600" cy="38124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4720" y="319104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809640" y="3143160"/>
            <a:ext cx="228600" cy="381240"/>
            <a:chOff x="809640" y="3143160"/>
            <a:chExt cx="228600" cy="381240"/>
          </a:xfrm>
        </p:grpSpPr>
        <p:sp>
          <p:nvSpPr>
            <p:cNvPr id="454" name=""/>
            <p:cNvSpPr/>
            <p:nvPr/>
          </p:nvSpPr>
          <p:spPr>
            <a:xfrm>
              <a:off x="809640" y="3143160"/>
              <a:ext cx="228600" cy="38124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09640" y="319104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1114560" y="3143160"/>
            <a:ext cx="228600" cy="381240"/>
            <a:chOff x="1114560" y="3143160"/>
            <a:chExt cx="228600" cy="381240"/>
          </a:xfrm>
        </p:grpSpPr>
        <p:sp>
          <p:nvSpPr>
            <p:cNvPr id="457" name=""/>
            <p:cNvSpPr/>
            <p:nvPr/>
          </p:nvSpPr>
          <p:spPr>
            <a:xfrm>
              <a:off x="1114560" y="3143160"/>
              <a:ext cx="228600" cy="38124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14560" y="319104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4467240" y="4591080"/>
            <a:ext cx="581040" cy="504720"/>
          </a:xfrm>
          <a:prstGeom prst="rect">
            <a:avLst/>
          </a:prstGeom>
          <a:ln w="0">
            <a:noFill/>
          </a:ln>
        </p:spPr>
      </p:pic>
      <p:grpSp>
        <p:nvGrpSpPr>
          <p:cNvPr id="460" name=""/>
          <p:cNvGrpSpPr/>
          <p:nvPr/>
        </p:nvGrpSpPr>
        <p:grpSpPr>
          <a:xfrm>
            <a:off x="4086360" y="4772160"/>
            <a:ext cx="380880" cy="104760"/>
            <a:chOff x="4086360" y="4772160"/>
            <a:chExt cx="380880" cy="104760"/>
          </a:xfrm>
        </p:grpSpPr>
        <p:sp>
          <p:nvSpPr>
            <p:cNvPr id="461" name=""/>
            <p:cNvSpPr/>
            <p:nvPr/>
          </p:nvSpPr>
          <p:spPr>
            <a:xfrm>
              <a:off x="4086360" y="4819680"/>
              <a:ext cx="3045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72200" y="477216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457960" y="4667400"/>
            <a:ext cx="304560" cy="304560"/>
            <a:chOff x="5457960" y="4667400"/>
            <a:chExt cx="304560" cy="304560"/>
          </a:xfrm>
        </p:grpSpPr>
        <p:sp>
          <p:nvSpPr>
            <p:cNvPr id="464" name=""/>
            <p:cNvSpPr/>
            <p:nvPr/>
          </p:nvSpPr>
          <p:spPr>
            <a:xfrm>
              <a:off x="5457960" y="4667400"/>
              <a:ext cx="304560" cy="3045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0"/>
                  </a:moveTo>
                  <a:cubicBezTo>
                    <a:pt x="1" y="31"/>
                    <a:pt x="2" y="31"/>
                    <a:pt x="4" y="31"/>
                  </a:cubicBezTo>
                  <a:cubicBezTo>
                    <a:pt x="5" y="32"/>
                    <a:pt x="6" y="32"/>
                    <a:pt x="7" y="32"/>
                  </a:cubicBezTo>
                  <a:cubicBezTo>
                    <a:pt x="9" y="32"/>
                    <a:pt x="10" y="32"/>
                    <a:pt x="10" y="32"/>
                  </a:cubicBezTo>
                  <a:cubicBezTo>
                    <a:pt x="11" y="32"/>
                    <a:pt x="12" y="31"/>
                    <a:pt x="13" y="31"/>
                  </a:cubicBezTo>
                  <a:cubicBezTo>
                    <a:pt x="13" y="31"/>
                    <a:pt x="14" y="30"/>
                    <a:pt x="14" y="30"/>
                  </a:cubicBezTo>
                  <a:cubicBezTo>
                    <a:pt x="15" y="30"/>
                    <a:pt x="16" y="30"/>
                    <a:pt x="16" y="29"/>
                  </a:cubicBezTo>
                  <a:cubicBezTo>
                    <a:pt x="17" y="29"/>
                    <a:pt x="18" y="29"/>
                    <a:pt x="19" y="28"/>
                  </a:cubicBezTo>
                  <a:cubicBezTo>
                    <a:pt x="19" y="28"/>
                    <a:pt x="20" y="28"/>
                    <a:pt x="21" y="28"/>
                  </a:cubicBezTo>
                  <a:cubicBezTo>
                    <a:pt x="22" y="27"/>
                    <a:pt x="23" y="27"/>
                    <a:pt x="24" y="27"/>
                  </a:cubicBezTo>
                  <a:cubicBezTo>
                    <a:pt x="25" y="27"/>
                    <a:pt x="26" y="27"/>
                    <a:pt x="28" y="27"/>
                  </a:cubicBezTo>
                  <a:lnTo>
                    <a:pt x="28" y="24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6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57960" y="4667400"/>
              <a:ext cx="304560" cy="3045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0"/>
                  </a:moveTo>
                  <a:cubicBezTo>
                    <a:pt x="1" y="31"/>
                    <a:pt x="2" y="31"/>
                    <a:pt x="4" y="31"/>
                  </a:cubicBezTo>
                  <a:cubicBezTo>
                    <a:pt x="5" y="32"/>
                    <a:pt x="6" y="32"/>
                    <a:pt x="7" y="32"/>
                  </a:cubicBezTo>
                  <a:cubicBezTo>
                    <a:pt x="9" y="32"/>
                    <a:pt x="10" y="32"/>
                    <a:pt x="10" y="32"/>
                  </a:cubicBezTo>
                  <a:cubicBezTo>
                    <a:pt x="11" y="32"/>
                    <a:pt x="12" y="31"/>
                    <a:pt x="13" y="31"/>
                  </a:cubicBezTo>
                  <a:cubicBezTo>
                    <a:pt x="13" y="31"/>
                    <a:pt x="14" y="30"/>
                    <a:pt x="14" y="30"/>
                  </a:cubicBezTo>
                  <a:cubicBezTo>
                    <a:pt x="15" y="30"/>
                    <a:pt x="16" y="30"/>
                    <a:pt x="16" y="29"/>
                  </a:cubicBezTo>
                  <a:cubicBezTo>
                    <a:pt x="17" y="29"/>
                    <a:pt x="18" y="29"/>
                    <a:pt x="19" y="28"/>
                  </a:cubicBezTo>
                  <a:cubicBezTo>
                    <a:pt x="19" y="28"/>
                    <a:pt x="20" y="28"/>
                    <a:pt x="21" y="28"/>
                  </a:cubicBezTo>
                  <a:cubicBezTo>
                    <a:pt x="22" y="27"/>
                    <a:pt x="23" y="27"/>
                    <a:pt x="24" y="27"/>
                  </a:cubicBezTo>
                  <a:cubicBezTo>
                    <a:pt x="25" y="27"/>
                    <a:pt x="26" y="27"/>
                    <a:pt x="28" y="27"/>
                  </a:cubicBezTo>
                  <a:lnTo>
                    <a:pt x="28" y="24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477040" y="4714920"/>
              <a:ext cx="247680" cy="1810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0"/>
                  </a:moveTo>
                  <a:lnTo>
                    <a:pt x="26" y="0"/>
                  </a:lnTo>
                  <a:lnTo>
                    <a:pt x="26" y="1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96120" y="4695840"/>
              <a:ext cx="247680" cy="17136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0" y="0"/>
                  </a:move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076720" y="4772160"/>
            <a:ext cx="381240" cy="104760"/>
            <a:chOff x="5076720" y="4772160"/>
            <a:chExt cx="381240" cy="104760"/>
          </a:xfrm>
        </p:grpSpPr>
        <p:sp>
          <p:nvSpPr>
            <p:cNvPr id="469" name=""/>
            <p:cNvSpPr/>
            <p:nvPr/>
          </p:nvSpPr>
          <p:spPr>
            <a:xfrm>
              <a:off x="5076720" y="4819680"/>
              <a:ext cx="3049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62560" y="477216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76720" y="4591080"/>
            <a:ext cx="381240" cy="228600"/>
            <a:chOff x="5076720" y="4591080"/>
            <a:chExt cx="381240" cy="228600"/>
          </a:xfrm>
        </p:grpSpPr>
        <p:sp>
          <p:nvSpPr>
            <p:cNvPr id="472" name=""/>
            <p:cNvSpPr/>
            <p:nvPr/>
          </p:nvSpPr>
          <p:spPr>
            <a:xfrm flipV="1">
              <a:off x="5076720" y="4619520"/>
              <a:ext cx="314640" cy="2001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53200" y="459108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30" y="60"/>
                  </a:moveTo>
                  <a:lnTo>
                    <a:pt x="66" y="0"/>
                  </a:lnTo>
                  <a:lnTo>
                    <a:pt x="0" y="6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076720" y="4819680"/>
            <a:ext cx="381240" cy="228600"/>
            <a:chOff x="5076720" y="4819680"/>
            <a:chExt cx="381240" cy="228600"/>
          </a:xfrm>
        </p:grpSpPr>
        <p:sp>
          <p:nvSpPr>
            <p:cNvPr id="475" name=""/>
            <p:cNvSpPr/>
            <p:nvPr/>
          </p:nvSpPr>
          <p:spPr>
            <a:xfrm>
              <a:off x="5076720" y="4819680"/>
              <a:ext cx="314640" cy="2001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53200" y="496260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0" y="54"/>
                  </a:moveTo>
                  <a:lnTo>
                    <a:pt x="66" y="54"/>
                  </a:lnTo>
                  <a:lnTo>
                    <a:pt x="3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943360" y="3086280"/>
            <a:ext cx="1828800" cy="542880"/>
            <a:chOff x="2943360" y="3086280"/>
            <a:chExt cx="1828800" cy="542880"/>
          </a:xfrm>
        </p:grpSpPr>
        <p:sp>
          <p:nvSpPr>
            <p:cNvPr id="478" name=""/>
            <p:cNvSpPr/>
            <p:nvPr/>
          </p:nvSpPr>
          <p:spPr>
            <a:xfrm>
              <a:off x="3019320" y="3133800"/>
              <a:ext cx="1676520" cy="4381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943360" y="3086280"/>
              <a:ext cx="114120" cy="104760"/>
            </a:xfrm>
            <a:custGeom>
              <a:avLst/>
              <a:gdLst/>
              <a:ahLst/>
              <a:rect l="l" t="t" r="r" b="b"/>
              <a:pathLst>
                <a:path w="72" h="66">
                  <a:moveTo>
                    <a:pt x="72" y="0"/>
                  </a:moveTo>
                  <a:lnTo>
                    <a:pt x="0" y="12"/>
                  </a:lnTo>
                  <a:lnTo>
                    <a:pt x="54" y="6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67400" y="352440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66"/>
                  </a:moveTo>
                  <a:lnTo>
                    <a:pt x="66" y="48"/>
                  </a:lnTo>
                  <a:lnTo>
                    <a:pt x="18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943360" y="3705120"/>
            <a:ext cx="590400" cy="238320"/>
            <a:chOff x="2943360" y="3705120"/>
            <a:chExt cx="590400" cy="238320"/>
          </a:xfrm>
        </p:grpSpPr>
        <p:sp>
          <p:nvSpPr>
            <p:cNvPr id="482" name=""/>
            <p:cNvSpPr/>
            <p:nvPr/>
          </p:nvSpPr>
          <p:spPr>
            <a:xfrm>
              <a:off x="3009960" y="3743280"/>
              <a:ext cx="447840" cy="1429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43360" y="3705120"/>
              <a:ext cx="114120" cy="9540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72" y="0"/>
                  </a:moveTo>
                  <a:lnTo>
                    <a:pt x="0" y="6"/>
                  </a:lnTo>
                  <a:lnTo>
                    <a:pt x="54" y="6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29000" y="383868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66"/>
                  </a:moveTo>
                  <a:lnTo>
                    <a:pt x="66" y="54"/>
                  </a:lnTo>
                  <a:lnTo>
                    <a:pt x="18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343160" y="3057480"/>
            <a:ext cx="380880" cy="276120"/>
            <a:chOff x="1343160" y="3057480"/>
            <a:chExt cx="380880" cy="276120"/>
          </a:xfrm>
        </p:grpSpPr>
        <p:sp>
          <p:nvSpPr>
            <p:cNvPr id="486" name=""/>
            <p:cNvSpPr/>
            <p:nvPr/>
          </p:nvSpPr>
          <p:spPr>
            <a:xfrm>
              <a:off x="1343160" y="3105000"/>
              <a:ext cx="30456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0" y="144"/>
                  </a:moveTo>
                  <a:lnTo>
                    <a:pt x="138" y="144"/>
                  </a:lnTo>
                  <a:lnTo>
                    <a:pt x="138" y="0"/>
                  </a:lnTo>
                  <a:lnTo>
                    <a:pt x="192" y="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29000" y="305748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1343160" y="3286080"/>
            <a:ext cx="380880" cy="486000"/>
            <a:chOff x="1343160" y="3286080"/>
            <a:chExt cx="380880" cy="486000"/>
          </a:xfrm>
        </p:grpSpPr>
        <p:sp>
          <p:nvSpPr>
            <p:cNvPr id="489" name=""/>
            <p:cNvSpPr/>
            <p:nvPr/>
          </p:nvSpPr>
          <p:spPr>
            <a:xfrm>
              <a:off x="1419120" y="3333600"/>
              <a:ext cx="228600" cy="38124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0"/>
                  </a:moveTo>
                  <a:lnTo>
                    <a:pt x="90" y="0"/>
                  </a:lnTo>
                  <a:lnTo>
                    <a:pt x="90" y="240"/>
                  </a:lnTo>
                  <a:lnTo>
                    <a:pt x="144" y="24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43160" y="328608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0"/>
                  </a:moveTo>
                  <a:lnTo>
                    <a:pt x="0" y="30"/>
                  </a:lnTo>
                  <a:lnTo>
                    <a:pt x="66" y="6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29000" y="3666960"/>
              <a:ext cx="95040" cy="10512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6524640" y="4591080"/>
            <a:ext cx="380880" cy="123840"/>
            <a:chOff x="6524640" y="4591080"/>
            <a:chExt cx="380880" cy="123840"/>
          </a:xfrm>
        </p:grpSpPr>
        <p:sp>
          <p:nvSpPr>
            <p:cNvPr id="493" name=""/>
            <p:cNvSpPr/>
            <p:nvPr/>
          </p:nvSpPr>
          <p:spPr>
            <a:xfrm flipV="1">
              <a:off x="6600960" y="4638240"/>
              <a:ext cx="228600" cy="19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524640" y="46101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0" y="0"/>
                  </a:moveTo>
                  <a:lnTo>
                    <a:pt x="0" y="36"/>
                  </a:lnTo>
                  <a:lnTo>
                    <a:pt x="66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10480" y="459108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" y="66"/>
                  </a:moveTo>
                  <a:lnTo>
                    <a:pt x="60" y="24"/>
                  </a:lnTo>
                  <a:lnTo>
                    <a:pt x="0" y="0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010200" y="5429160"/>
            <a:ext cx="438120" cy="267840"/>
            <a:chOff x="6010200" y="5429160"/>
            <a:chExt cx="438120" cy="267840"/>
          </a:xfrm>
        </p:grpSpPr>
        <p:sp>
          <p:nvSpPr>
            <p:cNvPr id="497" name=""/>
            <p:cNvSpPr/>
            <p:nvPr/>
          </p:nvSpPr>
          <p:spPr>
            <a:xfrm>
              <a:off x="6067440" y="5447880"/>
              <a:ext cx="324000" cy="2203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10200" y="5429160"/>
              <a:ext cx="114480" cy="9648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72" y="6"/>
                  </a:moveTo>
                  <a:lnTo>
                    <a:pt x="0" y="0"/>
                  </a:lnTo>
                  <a:lnTo>
                    <a:pt x="42" y="61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43560" y="560196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54"/>
                  </a:moveTo>
                  <a:lnTo>
                    <a:pt x="66" y="60"/>
                  </a:lnTo>
                  <a:lnTo>
                    <a:pt x="3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019320" y="3600360"/>
            <a:ext cx="3505320" cy="2135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4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724040" y="2914560"/>
            <a:ext cx="12193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24040" y="3524400"/>
            <a:ext cx="1219320" cy="380880"/>
          </a:xfrm>
          <a:prstGeom prst="rect">
            <a:avLst/>
          </a:prstGeom>
          <a:solidFill>
            <a:srgbClr val="a7a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705120" y="3733920"/>
            <a:ext cx="2286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97360" y="3760920"/>
            <a:ext cx="2209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ranspor tprotocols (channel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15160" y="4133880"/>
            <a:ext cx="3902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10920" y="4191120"/>
            <a:ext cx="20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28960" y="3600360"/>
            <a:ext cx="581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16280" y="360828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Arial"/>
              </a:rPr>
              <a:t>Web-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76320" y="2990880"/>
            <a:ext cx="838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72080" y="304812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Web por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524640" y="4057560"/>
            <a:ext cx="79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53240" y="4896000"/>
            <a:ext cx="781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43760" y="596412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68440" y="5208480"/>
            <a:ext cx="92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Arial"/>
              </a:rPr>
              <a:t>Agency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05120" y="2514600"/>
            <a:ext cx="221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476520" y="3981600"/>
            <a:ext cx="2590920" cy="13716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4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10040" y="4133880"/>
            <a:ext cx="1523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244400" y="4181400"/>
            <a:ext cx="105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zTalk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48400" y="5124600"/>
            <a:ext cx="571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44160" y="518148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247920" y="3753000"/>
            <a:ext cx="3048120" cy="1830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19320" y="4438800"/>
            <a:ext cx="457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14720" y="449568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47920" y="4876920"/>
            <a:ext cx="324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342960" y="4933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7760" y="5334120"/>
            <a:ext cx="5331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53160" y="539100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sm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47920" y="4114800"/>
            <a:ext cx="390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342600" y="41720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90920" y="5353200"/>
            <a:ext cx="12477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85240" y="5411880"/>
            <a:ext cx="80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apters (pl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95600" y="541188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34120" y="541188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739800" y="2616120"/>
            <a:ext cx="119160" cy="292320"/>
            <a:chOff x="739800" y="2616120"/>
            <a:chExt cx="119160" cy="292320"/>
          </a:xfrm>
        </p:grpSpPr>
        <p:sp>
          <p:nvSpPr>
            <p:cNvPr id="535" name=""/>
            <p:cNvSpPr/>
            <p:nvPr/>
          </p:nvSpPr>
          <p:spPr>
            <a:xfrm>
              <a:off x="770040" y="261612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0" y="17"/>
                  </a:move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6" y="10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38" y="17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7" y="20"/>
                  </a:lnTo>
                  <a:lnTo>
                    <a:pt x="37" y="22"/>
                  </a:lnTo>
                  <a:lnTo>
                    <a:pt x="36" y="23"/>
                  </a:lnTo>
                  <a:lnTo>
                    <a:pt x="35" y="25"/>
                  </a:lnTo>
                  <a:lnTo>
                    <a:pt x="34" y="26"/>
                  </a:lnTo>
                  <a:lnTo>
                    <a:pt x="33" y="27"/>
                  </a:lnTo>
                  <a:lnTo>
                    <a:pt x="32" y="29"/>
                  </a:lnTo>
                  <a:lnTo>
                    <a:pt x="31" y="30"/>
                  </a:lnTo>
                  <a:lnTo>
                    <a:pt x="29" y="31"/>
                  </a:lnTo>
                  <a:lnTo>
                    <a:pt x="28" y="31"/>
                  </a:lnTo>
                  <a:lnTo>
                    <a:pt x="26" y="32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1" y="33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5" y="33"/>
                  </a:lnTo>
                  <a:lnTo>
                    <a:pt x="13" y="33"/>
                  </a:lnTo>
                  <a:lnTo>
                    <a:pt x="12" y="32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9800" y="2695680"/>
              <a:ext cx="119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00280" y="2801880"/>
              <a:ext cx="58680" cy="10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9800" y="2668680"/>
              <a:ext cx="60480" cy="239760"/>
            </a:xfrm>
            <a:custGeom>
              <a:avLst/>
              <a:gdLst/>
              <a:ahLst/>
              <a:rect l="l" t="t" r="r" b="b"/>
              <a:pathLst>
                <a:path w="38" h="151">
                  <a:moveTo>
                    <a:pt x="38" y="0"/>
                  </a:moveTo>
                  <a:lnTo>
                    <a:pt x="38" y="84"/>
                  </a:lnTo>
                  <a:lnTo>
                    <a:pt x="0" y="1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0040" y="261612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0" y="17"/>
                  </a:move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6" y="10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38" y="17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7" y="20"/>
                  </a:lnTo>
                  <a:lnTo>
                    <a:pt x="37" y="22"/>
                  </a:lnTo>
                  <a:lnTo>
                    <a:pt x="36" y="23"/>
                  </a:lnTo>
                  <a:lnTo>
                    <a:pt x="35" y="25"/>
                  </a:lnTo>
                  <a:lnTo>
                    <a:pt x="34" y="26"/>
                  </a:lnTo>
                  <a:lnTo>
                    <a:pt x="33" y="27"/>
                  </a:lnTo>
                  <a:lnTo>
                    <a:pt x="32" y="29"/>
                  </a:lnTo>
                  <a:lnTo>
                    <a:pt x="31" y="30"/>
                  </a:lnTo>
                  <a:lnTo>
                    <a:pt x="29" y="31"/>
                  </a:lnTo>
                  <a:lnTo>
                    <a:pt x="28" y="31"/>
                  </a:lnTo>
                  <a:lnTo>
                    <a:pt x="26" y="32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1" y="33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5" y="33"/>
                  </a:lnTo>
                  <a:lnTo>
                    <a:pt x="13" y="33"/>
                  </a:lnTo>
                  <a:lnTo>
                    <a:pt x="12" y="32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890640" y="2614680"/>
            <a:ext cx="85680" cy="209520"/>
            <a:chOff x="890640" y="2614680"/>
            <a:chExt cx="85680" cy="209520"/>
          </a:xfrm>
        </p:grpSpPr>
        <p:sp>
          <p:nvSpPr>
            <p:cNvPr id="541" name=""/>
            <p:cNvSpPr/>
            <p:nvPr/>
          </p:nvSpPr>
          <p:spPr>
            <a:xfrm>
              <a:off x="912960" y="2614680"/>
              <a:ext cx="4104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1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3" y="20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7" y="23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90640" y="26719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33480" y="2747880"/>
              <a:ext cx="428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90640" y="2652840"/>
              <a:ext cx="42840" cy="171360"/>
            </a:xfrm>
            <a:custGeom>
              <a:avLst/>
              <a:gdLst/>
              <a:ahLst/>
              <a:rect l="l" t="t" r="r" b="b"/>
              <a:pathLst>
                <a:path w="27" h="108">
                  <a:moveTo>
                    <a:pt x="27" y="0"/>
                  </a:moveTo>
                  <a:lnTo>
                    <a:pt x="27" y="60"/>
                  </a:lnTo>
                  <a:lnTo>
                    <a:pt x="0" y="1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12960" y="2614680"/>
              <a:ext cx="4104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1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3" y="20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7" y="23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025640" y="2700360"/>
            <a:ext cx="82440" cy="165240"/>
            <a:chOff x="1025640" y="2700360"/>
            <a:chExt cx="82440" cy="165240"/>
          </a:xfrm>
        </p:grpSpPr>
        <p:sp>
          <p:nvSpPr>
            <p:cNvPr id="547" name=""/>
            <p:cNvSpPr/>
            <p:nvPr/>
          </p:nvSpPr>
          <p:spPr>
            <a:xfrm>
              <a:off x="1046160" y="270036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025640" y="2744640"/>
              <a:ext cx="82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66680" y="2805120"/>
              <a:ext cx="414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025640" y="2730600"/>
              <a:ext cx="41040" cy="135000"/>
            </a:xfrm>
            <a:custGeom>
              <a:avLst/>
              <a:gdLst/>
              <a:ahLst/>
              <a:rect l="l" t="t" r="r" b="b"/>
              <a:pathLst>
                <a:path w="26" h="85">
                  <a:moveTo>
                    <a:pt x="26" y="0"/>
                  </a:moveTo>
                  <a:lnTo>
                    <a:pt x="26" y="47"/>
                  </a:lnTo>
                  <a:lnTo>
                    <a:pt x="0" y="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046160" y="270036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739800" y="2616120"/>
            <a:ext cx="119160" cy="292320"/>
            <a:chOff x="739800" y="2616120"/>
            <a:chExt cx="119160" cy="292320"/>
          </a:xfrm>
        </p:grpSpPr>
        <p:sp>
          <p:nvSpPr>
            <p:cNvPr id="553" name=""/>
            <p:cNvSpPr/>
            <p:nvPr/>
          </p:nvSpPr>
          <p:spPr>
            <a:xfrm>
              <a:off x="770040" y="261612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0" y="17"/>
                  </a:move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6" y="10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38" y="17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7" y="20"/>
                  </a:lnTo>
                  <a:lnTo>
                    <a:pt x="37" y="22"/>
                  </a:lnTo>
                  <a:lnTo>
                    <a:pt x="36" y="23"/>
                  </a:lnTo>
                  <a:lnTo>
                    <a:pt x="35" y="25"/>
                  </a:lnTo>
                  <a:lnTo>
                    <a:pt x="34" y="26"/>
                  </a:lnTo>
                  <a:lnTo>
                    <a:pt x="33" y="27"/>
                  </a:lnTo>
                  <a:lnTo>
                    <a:pt x="32" y="29"/>
                  </a:lnTo>
                  <a:lnTo>
                    <a:pt x="31" y="30"/>
                  </a:lnTo>
                  <a:lnTo>
                    <a:pt x="29" y="31"/>
                  </a:lnTo>
                  <a:lnTo>
                    <a:pt x="28" y="31"/>
                  </a:lnTo>
                  <a:lnTo>
                    <a:pt x="26" y="32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1" y="33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5" y="33"/>
                  </a:lnTo>
                  <a:lnTo>
                    <a:pt x="13" y="33"/>
                  </a:lnTo>
                  <a:lnTo>
                    <a:pt x="12" y="32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9800" y="2695680"/>
              <a:ext cx="119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00280" y="2801880"/>
              <a:ext cx="58680" cy="10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39800" y="2668680"/>
              <a:ext cx="60480" cy="239760"/>
            </a:xfrm>
            <a:custGeom>
              <a:avLst/>
              <a:gdLst/>
              <a:ahLst/>
              <a:rect l="l" t="t" r="r" b="b"/>
              <a:pathLst>
                <a:path w="38" h="151">
                  <a:moveTo>
                    <a:pt x="38" y="0"/>
                  </a:moveTo>
                  <a:lnTo>
                    <a:pt x="38" y="84"/>
                  </a:lnTo>
                  <a:lnTo>
                    <a:pt x="0" y="1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0040" y="261612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0" y="17"/>
                  </a:move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6" y="10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38" y="17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7" y="20"/>
                  </a:lnTo>
                  <a:lnTo>
                    <a:pt x="37" y="22"/>
                  </a:lnTo>
                  <a:lnTo>
                    <a:pt x="36" y="23"/>
                  </a:lnTo>
                  <a:lnTo>
                    <a:pt x="35" y="25"/>
                  </a:lnTo>
                  <a:lnTo>
                    <a:pt x="34" y="26"/>
                  </a:lnTo>
                  <a:lnTo>
                    <a:pt x="33" y="27"/>
                  </a:lnTo>
                  <a:lnTo>
                    <a:pt x="32" y="29"/>
                  </a:lnTo>
                  <a:lnTo>
                    <a:pt x="31" y="30"/>
                  </a:lnTo>
                  <a:lnTo>
                    <a:pt x="29" y="31"/>
                  </a:lnTo>
                  <a:lnTo>
                    <a:pt x="28" y="31"/>
                  </a:lnTo>
                  <a:lnTo>
                    <a:pt x="26" y="32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1" y="33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5" y="33"/>
                  </a:lnTo>
                  <a:lnTo>
                    <a:pt x="13" y="33"/>
                  </a:lnTo>
                  <a:lnTo>
                    <a:pt x="12" y="32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890640" y="2614680"/>
            <a:ext cx="85680" cy="209520"/>
            <a:chOff x="890640" y="2614680"/>
            <a:chExt cx="85680" cy="209520"/>
          </a:xfrm>
        </p:grpSpPr>
        <p:sp>
          <p:nvSpPr>
            <p:cNvPr id="559" name=""/>
            <p:cNvSpPr/>
            <p:nvPr/>
          </p:nvSpPr>
          <p:spPr>
            <a:xfrm>
              <a:off x="912960" y="2614680"/>
              <a:ext cx="4104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1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3" y="20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7" y="23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90640" y="26719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33480" y="2747880"/>
              <a:ext cx="428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90640" y="2652840"/>
              <a:ext cx="42840" cy="171360"/>
            </a:xfrm>
            <a:custGeom>
              <a:avLst/>
              <a:gdLst/>
              <a:ahLst/>
              <a:rect l="l" t="t" r="r" b="b"/>
              <a:pathLst>
                <a:path w="27" h="108">
                  <a:moveTo>
                    <a:pt x="27" y="0"/>
                  </a:moveTo>
                  <a:lnTo>
                    <a:pt x="27" y="60"/>
                  </a:lnTo>
                  <a:lnTo>
                    <a:pt x="0" y="1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12960" y="2614680"/>
              <a:ext cx="4104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1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3" y="20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7" y="23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025640" y="2700360"/>
            <a:ext cx="82440" cy="165240"/>
            <a:chOff x="1025640" y="2700360"/>
            <a:chExt cx="82440" cy="165240"/>
          </a:xfrm>
        </p:grpSpPr>
        <p:sp>
          <p:nvSpPr>
            <p:cNvPr id="565" name=""/>
            <p:cNvSpPr/>
            <p:nvPr/>
          </p:nvSpPr>
          <p:spPr>
            <a:xfrm>
              <a:off x="1046160" y="270036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25640" y="2744640"/>
              <a:ext cx="82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66680" y="2805120"/>
              <a:ext cx="414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25640" y="2730600"/>
              <a:ext cx="41040" cy="135000"/>
            </a:xfrm>
            <a:custGeom>
              <a:avLst/>
              <a:gdLst/>
              <a:ahLst/>
              <a:rect l="l" t="t" r="r" b="b"/>
              <a:pathLst>
                <a:path w="26" h="85">
                  <a:moveTo>
                    <a:pt x="26" y="0"/>
                  </a:moveTo>
                  <a:lnTo>
                    <a:pt x="26" y="47"/>
                  </a:lnTo>
                  <a:lnTo>
                    <a:pt x="0" y="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46160" y="270036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3946680" y="4680000"/>
            <a:ext cx="183960" cy="280800"/>
            <a:chOff x="3946680" y="4680000"/>
            <a:chExt cx="183960" cy="280800"/>
          </a:xfrm>
        </p:grpSpPr>
        <p:sp>
          <p:nvSpPr>
            <p:cNvPr id="571" name=""/>
            <p:cNvSpPr/>
            <p:nvPr/>
          </p:nvSpPr>
          <p:spPr>
            <a:xfrm>
              <a:off x="3952800" y="4687920"/>
              <a:ext cx="169920" cy="26352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88" y="0"/>
                  </a:moveTo>
                  <a:lnTo>
                    <a:pt x="0" y="0"/>
                  </a:lnTo>
                  <a:lnTo>
                    <a:pt x="0" y="166"/>
                  </a:lnTo>
                  <a:lnTo>
                    <a:pt x="107" y="166"/>
                  </a:lnTo>
                  <a:lnTo>
                    <a:pt x="107" y="2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52800" y="4687920"/>
              <a:ext cx="169920" cy="26352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88" y="0"/>
                  </a:moveTo>
                  <a:lnTo>
                    <a:pt x="0" y="0"/>
                  </a:lnTo>
                  <a:lnTo>
                    <a:pt x="0" y="166"/>
                  </a:lnTo>
                  <a:lnTo>
                    <a:pt x="107" y="166"/>
                  </a:lnTo>
                  <a:lnTo>
                    <a:pt x="107" y="22"/>
                  </a:lnTo>
                  <a:lnTo>
                    <a:pt x="88" y="0"/>
                  </a:lnTo>
                  <a:close/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46680" y="4680000"/>
              <a:ext cx="183960" cy="280800"/>
            </a:xfrm>
            <a:custGeom>
              <a:avLst/>
              <a:gdLst/>
              <a:ahLst/>
              <a:rect l="l" t="t" r="r" b="b"/>
              <a:pathLst>
                <a:path w="116" h="177">
                  <a:moveTo>
                    <a:pt x="111" y="33"/>
                  </a:moveTo>
                  <a:lnTo>
                    <a:pt x="111" y="171"/>
                  </a:lnTo>
                  <a:lnTo>
                    <a:pt x="4" y="171"/>
                  </a:lnTo>
                  <a:lnTo>
                    <a:pt x="4" y="5"/>
                  </a:lnTo>
                  <a:lnTo>
                    <a:pt x="87" y="5"/>
                  </a:lnTo>
                  <a:lnTo>
                    <a:pt x="87" y="33"/>
                  </a:lnTo>
                  <a:lnTo>
                    <a:pt x="111" y="33"/>
                  </a:lnTo>
                  <a:close/>
                  <a:moveTo>
                    <a:pt x="19" y="154"/>
                  </a:moveTo>
                  <a:lnTo>
                    <a:pt x="97" y="154"/>
                  </a:lnTo>
                  <a:lnTo>
                    <a:pt x="97" y="149"/>
                  </a:lnTo>
                  <a:lnTo>
                    <a:pt x="19" y="149"/>
                  </a:lnTo>
                  <a:lnTo>
                    <a:pt x="19" y="154"/>
                  </a:lnTo>
                  <a:close/>
                  <a:moveTo>
                    <a:pt x="19" y="135"/>
                  </a:moveTo>
                  <a:lnTo>
                    <a:pt x="97" y="135"/>
                  </a:lnTo>
                  <a:lnTo>
                    <a:pt x="97" y="130"/>
                  </a:lnTo>
                  <a:lnTo>
                    <a:pt x="19" y="130"/>
                  </a:lnTo>
                  <a:lnTo>
                    <a:pt x="19" y="135"/>
                  </a:lnTo>
                  <a:close/>
                  <a:moveTo>
                    <a:pt x="19" y="116"/>
                  </a:moveTo>
                  <a:lnTo>
                    <a:pt x="97" y="116"/>
                  </a:lnTo>
                  <a:lnTo>
                    <a:pt x="97" y="110"/>
                  </a:lnTo>
                  <a:lnTo>
                    <a:pt x="19" y="110"/>
                  </a:lnTo>
                  <a:lnTo>
                    <a:pt x="19" y="116"/>
                  </a:lnTo>
                  <a:close/>
                  <a:moveTo>
                    <a:pt x="19" y="96"/>
                  </a:moveTo>
                  <a:lnTo>
                    <a:pt x="97" y="96"/>
                  </a:lnTo>
                  <a:lnTo>
                    <a:pt x="97" y="91"/>
                  </a:lnTo>
                  <a:lnTo>
                    <a:pt x="19" y="91"/>
                  </a:lnTo>
                  <a:lnTo>
                    <a:pt x="19" y="96"/>
                  </a:lnTo>
                  <a:close/>
                  <a:moveTo>
                    <a:pt x="19" y="77"/>
                  </a:moveTo>
                  <a:lnTo>
                    <a:pt x="97" y="77"/>
                  </a:lnTo>
                  <a:lnTo>
                    <a:pt x="97" y="72"/>
                  </a:lnTo>
                  <a:lnTo>
                    <a:pt x="19" y="72"/>
                  </a:lnTo>
                  <a:lnTo>
                    <a:pt x="19" y="77"/>
                  </a:lnTo>
                  <a:close/>
                  <a:moveTo>
                    <a:pt x="19" y="58"/>
                  </a:moveTo>
                  <a:lnTo>
                    <a:pt x="97" y="58"/>
                  </a:lnTo>
                  <a:lnTo>
                    <a:pt x="97" y="52"/>
                  </a:lnTo>
                  <a:lnTo>
                    <a:pt x="19" y="52"/>
                  </a:lnTo>
                  <a:lnTo>
                    <a:pt x="19" y="58"/>
                  </a:lnTo>
                  <a:close/>
                  <a:moveTo>
                    <a:pt x="19" y="38"/>
                  </a:moveTo>
                  <a:lnTo>
                    <a:pt x="77" y="38"/>
                  </a:lnTo>
                  <a:lnTo>
                    <a:pt x="77" y="33"/>
                  </a:lnTo>
                  <a:lnTo>
                    <a:pt x="19" y="33"/>
                  </a:lnTo>
                  <a:lnTo>
                    <a:pt x="19" y="38"/>
                  </a:lnTo>
                  <a:close/>
                  <a:moveTo>
                    <a:pt x="111" y="27"/>
                  </a:moveTo>
                  <a:lnTo>
                    <a:pt x="92" y="27"/>
                  </a:lnTo>
                  <a:lnTo>
                    <a:pt x="92" y="5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77"/>
                  </a:lnTo>
                  <a:lnTo>
                    <a:pt x="116" y="177"/>
                  </a:lnTo>
                  <a:lnTo>
                    <a:pt x="116" y="33"/>
                  </a:lnTo>
                  <a:lnTo>
                    <a:pt x="111" y="2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448320" y="5505480"/>
            <a:ext cx="228600" cy="382680"/>
            <a:chOff x="6448320" y="5505480"/>
            <a:chExt cx="228600" cy="382680"/>
          </a:xfrm>
        </p:grpSpPr>
        <p:sp>
          <p:nvSpPr>
            <p:cNvPr id="575" name=""/>
            <p:cNvSpPr/>
            <p:nvPr/>
          </p:nvSpPr>
          <p:spPr>
            <a:xfrm>
              <a:off x="6448320" y="5505480"/>
              <a:ext cx="228600" cy="38268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48320" y="555480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905520" y="4438800"/>
            <a:ext cx="228600" cy="380880"/>
            <a:chOff x="6905520" y="4438800"/>
            <a:chExt cx="228600" cy="380880"/>
          </a:xfrm>
        </p:grpSpPr>
        <p:sp>
          <p:nvSpPr>
            <p:cNvPr id="578" name=""/>
            <p:cNvSpPr/>
            <p:nvPr/>
          </p:nvSpPr>
          <p:spPr>
            <a:xfrm>
              <a:off x="6905520" y="4438800"/>
              <a:ext cx="228600" cy="38088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905520" y="448632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04720" y="3143160"/>
            <a:ext cx="228600" cy="381240"/>
            <a:chOff x="504720" y="3143160"/>
            <a:chExt cx="228600" cy="381240"/>
          </a:xfrm>
        </p:grpSpPr>
        <p:sp>
          <p:nvSpPr>
            <p:cNvPr id="581" name=""/>
            <p:cNvSpPr/>
            <p:nvPr/>
          </p:nvSpPr>
          <p:spPr>
            <a:xfrm>
              <a:off x="504720" y="3143160"/>
              <a:ext cx="228600" cy="38124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4720" y="319104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809640" y="3143160"/>
            <a:ext cx="228600" cy="381240"/>
            <a:chOff x="809640" y="3143160"/>
            <a:chExt cx="228600" cy="381240"/>
          </a:xfrm>
        </p:grpSpPr>
        <p:sp>
          <p:nvSpPr>
            <p:cNvPr id="584" name=""/>
            <p:cNvSpPr/>
            <p:nvPr/>
          </p:nvSpPr>
          <p:spPr>
            <a:xfrm>
              <a:off x="809640" y="3143160"/>
              <a:ext cx="228600" cy="38124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09640" y="319104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1114560" y="3143160"/>
            <a:ext cx="228600" cy="381240"/>
            <a:chOff x="1114560" y="3143160"/>
            <a:chExt cx="228600" cy="381240"/>
          </a:xfrm>
        </p:grpSpPr>
        <p:sp>
          <p:nvSpPr>
            <p:cNvPr id="587" name=""/>
            <p:cNvSpPr/>
            <p:nvPr/>
          </p:nvSpPr>
          <p:spPr>
            <a:xfrm>
              <a:off x="1114560" y="3143160"/>
              <a:ext cx="228600" cy="38124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14560" y="319104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4467240" y="4591080"/>
            <a:ext cx="581040" cy="50472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4137120" y="4819680"/>
            <a:ext cx="304560" cy="1440"/>
          </a:xfrm>
          <a:prstGeom prst="line">
            <a:avLst/>
          </a:prstGeom>
          <a:ln cap="rnd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5457960" y="4667400"/>
            <a:ext cx="304560" cy="304560"/>
            <a:chOff x="5457960" y="4667400"/>
            <a:chExt cx="304560" cy="304560"/>
          </a:xfrm>
        </p:grpSpPr>
        <p:sp>
          <p:nvSpPr>
            <p:cNvPr id="592" name=""/>
            <p:cNvSpPr/>
            <p:nvPr/>
          </p:nvSpPr>
          <p:spPr>
            <a:xfrm>
              <a:off x="5457960" y="4667400"/>
              <a:ext cx="304560" cy="3045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0"/>
                  </a:moveTo>
                  <a:cubicBezTo>
                    <a:pt x="1" y="31"/>
                    <a:pt x="2" y="31"/>
                    <a:pt x="4" y="31"/>
                  </a:cubicBezTo>
                  <a:cubicBezTo>
                    <a:pt x="5" y="32"/>
                    <a:pt x="6" y="32"/>
                    <a:pt x="7" y="32"/>
                  </a:cubicBezTo>
                  <a:cubicBezTo>
                    <a:pt x="9" y="32"/>
                    <a:pt x="10" y="32"/>
                    <a:pt x="10" y="32"/>
                  </a:cubicBezTo>
                  <a:cubicBezTo>
                    <a:pt x="11" y="32"/>
                    <a:pt x="12" y="31"/>
                    <a:pt x="13" y="31"/>
                  </a:cubicBezTo>
                  <a:cubicBezTo>
                    <a:pt x="13" y="31"/>
                    <a:pt x="14" y="30"/>
                    <a:pt x="14" y="30"/>
                  </a:cubicBezTo>
                  <a:cubicBezTo>
                    <a:pt x="15" y="30"/>
                    <a:pt x="16" y="30"/>
                    <a:pt x="16" y="29"/>
                  </a:cubicBezTo>
                  <a:cubicBezTo>
                    <a:pt x="17" y="29"/>
                    <a:pt x="18" y="29"/>
                    <a:pt x="19" y="28"/>
                  </a:cubicBezTo>
                  <a:cubicBezTo>
                    <a:pt x="19" y="28"/>
                    <a:pt x="20" y="28"/>
                    <a:pt x="21" y="28"/>
                  </a:cubicBezTo>
                  <a:cubicBezTo>
                    <a:pt x="22" y="27"/>
                    <a:pt x="23" y="27"/>
                    <a:pt x="24" y="27"/>
                  </a:cubicBezTo>
                  <a:cubicBezTo>
                    <a:pt x="25" y="27"/>
                    <a:pt x="26" y="27"/>
                    <a:pt x="28" y="27"/>
                  </a:cubicBezTo>
                  <a:lnTo>
                    <a:pt x="28" y="24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6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57960" y="4667400"/>
              <a:ext cx="304560" cy="3045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0"/>
                  </a:moveTo>
                  <a:cubicBezTo>
                    <a:pt x="1" y="31"/>
                    <a:pt x="2" y="31"/>
                    <a:pt x="4" y="31"/>
                  </a:cubicBezTo>
                  <a:cubicBezTo>
                    <a:pt x="5" y="32"/>
                    <a:pt x="6" y="32"/>
                    <a:pt x="7" y="32"/>
                  </a:cubicBezTo>
                  <a:cubicBezTo>
                    <a:pt x="9" y="32"/>
                    <a:pt x="10" y="32"/>
                    <a:pt x="10" y="32"/>
                  </a:cubicBezTo>
                  <a:cubicBezTo>
                    <a:pt x="11" y="32"/>
                    <a:pt x="12" y="31"/>
                    <a:pt x="13" y="31"/>
                  </a:cubicBezTo>
                  <a:cubicBezTo>
                    <a:pt x="13" y="31"/>
                    <a:pt x="14" y="30"/>
                    <a:pt x="14" y="30"/>
                  </a:cubicBezTo>
                  <a:cubicBezTo>
                    <a:pt x="15" y="30"/>
                    <a:pt x="16" y="30"/>
                    <a:pt x="16" y="29"/>
                  </a:cubicBezTo>
                  <a:cubicBezTo>
                    <a:pt x="17" y="29"/>
                    <a:pt x="18" y="29"/>
                    <a:pt x="19" y="28"/>
                  </a:cubicBezTo>
                  <a:cubicBezTo>
                    <a:pt x="19" y="28"/>
                    <a:pt x="20" y="28"/>
                    <a:pt x="21" y="28"/>
                  </a:cubicBezTo>
                  <a:cubicBezTo>
                    <a:pt x="22" y="27"/>
                    <a:pt x="23" y="27"/>
                    <a:pt x="24" y="27"/>
                  </a:cubicBezTo>
                  <a:cubicBezTo>
                    <a:pt x="25" y="27"/>
                    <a:pt x="26" y="27"/>
                    <a:pt x="28" y="27"/>
                  </a:cubicBezTo>
                  <a:lnTo>
                    <a:pt x="28" y="24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477040" y="4714920"/>
              <a:ext cx="247680" cy="1810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0"/>
                  </a:moveTo>
                  <a:lnTo>
                    <a:pt x="26" y="0"/>
                  </a:lnTo>
                  <a:lnTo>
                    <a:pt x="26" y="1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496120" y="4695840"/>
              <a:ext cx="247680" cy="17136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0" y="0"/>
                  </a:move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076720" y="4772160"/>
            <a:ext cx="381240" cy="104760"/>
            <a:chOff x="5076720" y="4772160"/>
            <a:chExt cx="381240" cy="104760"/>
          </a:xfrm>
        </p:grpSpPr>
        <p:sp>
          <p:nvSpPr>
            <p:cNvPr id="597" name=""/>
            <p:cNvSpPr/>
            <p:nvPr/>
          </p:nvSpPr>
          <p:spPr>
            <a:xfrm>
              <a:off x="5076720" y="4819680"/>
              <a:ext cx="3049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62560" y="477216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5076720" y="4591080"/>
            <a:ext cx="381240" cy="228600"/>
            <a:chOff x="5076720" y="4591080"/>
            <a:chExt cx="381240" cy="228600"/>
          </a:xfrm>
        </p:grpSpPr>
        <p:sp>
          <p:nvSpPr>
            <p:cNvPr id="600" name=""/>
            <p:cNvSpPr/>
            <p:nvPr/>
          </p:nvSpPr>
          <p:spPr>
            <a:xfrm flipV="1">
              <a:off x="5076720" y="4619520"/>
              <a:ext cx="314640" cy="2001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53200" y="459108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30" y="60"/>
                  </a:moveTo>
                  <a:lnTo>
                    <a:pt x="66" y="0"/>
                  </a:lnTo>
                  <a:lnTo>
                    <a:pt x="0" y="6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076720" y="4819680"/>
            <a:ext cx="381240" cy="228600"/>
            <a:chOff x="5076720" y="4819680"/>
            <a:chExt cx="381240" cy="228600"/>
          </a:xfrm>
        </p:grpSpPr>
        <p:sp>
          <p:nvSpPr>
            <p:cNvPr id="603" name=""/>
            <p:cNvSpPr/>
            <p:nvPr/>
          </p:nvSpPr>
          <p:spPr>
            <a:xfrm>
              <a:off x="5076720" y="4819680"/>
              <a:ext cx="314640" cy="2001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53200" y="496260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0" y="54"/>
                  </a:moveTo>
                  <a:lnTo>
                    <a:pt x="66" y="54"/>
                  </a:lnTo>
                  <a:lnTo>
                    <a:pt x="3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943360" y="3086280"/>
            <a:ext cx="1828800" cy="542880"/>
            <a:chOff x="2943360" y="3086280"/>
            <a:chExt cx="1828800" cy="542880"/>
          </a:xfrm>
        </p:grpSpPr>
        <p:sp>
          <p:nvSpPr>
            <p:cNvPr id="606" name=""/>
            <p:cNvSpPr/>
            <p:nvPr/>
          </p:nvSpPr>
          <p:spPr>
            <a:xfrm>
              <a:off x="3019320" y="3133800"/>
              <a:ext cx="1676520" cy="4381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943360" y="3086280"/>
              <a:ext cx="114120" cy="104760"/>
            </a:xfrm>
            <a:custGeom>
              <a:avLst/>
              <a:gdLst/>
              <a:ahLst/>
              <a:rect l="l" t="t" r="r" b="b"/>
              <a:pathLst>
                <a:path w="72" h="66">
                  <a:moveTo>
                    <a:pt x="72" y="0"/>
                  </a:moveTo>
                  <a:lnTo>
                    <a:pt x="0" y="12"/>
                  </a:lnTo>
                  <a:lnTo>
                    <a:pt x="54" y="6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667400" y="352440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66"/>
                  </a:moveTo>
                  <a:lnTo>
                    <a:pt x="66" y="48"/>
                  </a:lnTo>
                  <a:lnTo>
                    <a:pt x="18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943360" y="3705120"/>
            <a:ext cx="590400" cy="238320"/>
            <a:chOff x="2943360" y="3705120"/>
            <a:chExt cx="590400" cy="238320"/>
          </a:xfrm>
        </p:grpSpPr>
        <p:sp>
          <p:nvSpPr>
            <p:cNvPr id="610" name=""/>
            <p:cNvSpPr/>
            <p:nvPr/>
          </p:nvSpPr>
          <p:spPr>
            <a:xfrm>
              <a:off x="3009960" y="3743280"/>
              <a:ext cx="447840" cy="1429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943360" y="3705120"/>
              <a:ext cx="114120" cy="9540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72" y="0"/>
                  </a:moveTo>
                  <a:lnTo>
                    <a:pt x="0" y="6"/>
                  </a:lnTo>
                  <a:lnTo>
                    <a:pt x="54" y="6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429000" y="383868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66"/>
                  </a:moveTo>
                  <a:lnTo>
                    <a:pt x="66" y="54"/>
                  </a:lnTo>
                  <a:lnTo>
                    <a:pt x="18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343160" y="3057480"/>
            <a:ext cx="380880" cy="276120"/>
            <a:chOff x="1343160" y="3057480"/>
            <a:chExt cx="380880" cy="276120"/>
          </a:xfrm>
        </p:grpSpPr>
        <p:sp>
          <p:nvSpPr>
            <p:cNvPr id="614" name=""/>
            <p:cNvSpPr/>
            <p:nvPr/>
          </p:nvSpPr>
          <p:spPr>
            <a:xfrm>
              <a:off x="1343160" y="3105000"/>
              <a:ext cx="30456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0" y="144"/>
                  </a:moveTo>
                  <a:lnTo>
                    <a:pt x="138" y="144"/>
                  </a:lnTo>
                  <a:lnTo>
                    <a:pt x="138" y="0"/>
                  </a:lnTo>
                  <a:lnTo>
                    <a:pt x="192" y="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29000" y="305748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343160" y="3286080"/>
            <a:ext cx="380880" cy="486000"/>
            <a:chOff x="1343160" y="3286080"/>
            <a:chExt cx="380880" cy="486000"/>
          </a:xfrm>
        </p:grpSpPr>
        <p:sp>
          <p:nvSpPr>
            <p:cNvPr id="617" name=""/>
            <p:cNvSpPr/>
            <p:nvPr/>
          </p:nvSpPr>
          <p:spPr>
            <a:xfrm>
              <a:off x="1419120" y="3333600"/>
              <a:ext cx="228600" cy="38124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0"/>
                  </a:moveTo>
                  <a:lnTo>
                    <a:pt x="90" y="0"/>
                  </a:lnTo>
                  <a:lnTo>
                    <a:pt x="90" y="240"/>
                  </a:lnTo>
                  <a:lnTo>
                    <a:pt x="144" y="24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43160" y="328608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0"/>
                  </a:moveTo>
                  <a:lnTo>
                    <a:pt x="0" y="30"/>
                  </a:lnTo>
                  <a:lnTo>
                    <a:pt x="66" y="6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29000" y="3666960"/>
              <a:ext cx="95040" cy="10512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6524640" y="4591080"/>
            <a:ext cx="380880" cy="123840"/>
            <a:chOff x="6524640" y="4591080"/>
            <a:chExt cx="380880" cy="123840"/>
          </a:xfrm>
        </p:grpSpPr>
        <p:sp>
          <p:nvSpPr>
            <p:cNvPr id="621" name=""/>
            <p:cNvSpPr/>
            <p:nvPr/>
          </p:nvSpPr>
          <p:spPr>
            <a:xfrm flipV="1">
              <a:off x="6600960" y="4638240"/>
              <a:ext cx="228600" cy="19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524640" y="46101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0" y="0"/>
                  </a:moveTo>
                  <a:lnTo>
                    <a:pt x="0" y="36"/>
                  </a:lnTo>
                  <a:lnTo>
                    <a:pt x="66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10480" y="459108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" y="66"/>
                  </a:moveTo>
                  <a:lnTo>
                    <a:pt x="60" y="24"/>
                  </a:lnTo>
                  <a:lnTo>
                    <a:pt x="0" y="0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010200" y="5429160"/>
            <a:ext cx="438120" cy="267840"/>
            <a:chOff x="6010200" y="5429160"/>
            <a:chExt cx="438120" cy="267840"/>
          </a:xfrm>
        </p:grpSpPr>
        <p:sp>
          <p:nvSpPr>
            <p:cNvPr id="625" name=""/>
            <p:cNvSpPr/>
            <p:nvPr/>
          </p:nvSpPr>
          <p:spPr>
            <a:xfrm>
              <a:off x="6067440" y="5447880"/>
              <a:ext cx="324000" cy="2203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010200" y="5429160"/>
              <a:ext cx="114480" cy="9648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72" y="6"/>
                  </a:moveTo>
                  <a:lnTo>
                    <a:pt x="0" y="0"/>
                  </a:lnTo>
                  <a:lnTo>
                    <a:pt x="42" y="61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43560" y="560196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54"/>
                  </a:moveTo>
                  <a:lnTo>
                    <a:pt x="66" y="60"/>
                  </a:lnTo>
                  <a:lnTo>
                    <a:pt x="3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924360" y="498780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65880" y="475632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SK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6842160" y="3790800"/>
            <a:ext cx="228600" cy="380880"/>
            <a:chOff x="6842160" y="3790800"/>
            <a:chExt cx="228600" cy="380880"/>
          </a:xfrm>
        </p:grpSpPr>
        <p:sp>
          <p:nvSpPr>
            <p:cNvPr id="631" name=""/>
            <p:cNvSpPr/>
            <p:nvPr/>
          </p:nvSpPr>
          <p:spPr>
            <a:xfrm>
              <a:off x="6842160" y="3790800"/>
              <a:ext cx="228600" cy="38088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42160" y="383832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6303960" y="3923280"/>
            <a:ext cx="526680" cy="265680"/>
            <a:chOff x="6303960" y="3923280"/>
            <a:chExt cx="526680" cy="265680"/>
          </a:xfrm>
        </p:grpSpPr>
        <p:sp>
          <p:nvSpPr>
            <p:cNvPr id="634" name=""/>
            <p:cNvSpPr/>
            <p:nvPr/>
          </p:nvSpPr>
          <p:spPr>
            <a:xfrm flipV="1">
              <a:off x="6417720" y="3997800"/>
              <a:ext cx="296280" cy="1065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20623200">
              <a:off x="6315480" y="4066200"/>
              <a:ext cx="14400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0" y="0"/>
                  </a:moveTo>
                  <a:lnTo>
                    <a:pt x="0" y="36"/>
                  </a:lnTo>
                  <a:lnTo>
                    <a:pt x="66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20623200">
              <a:off x="6687720" y="3939480"/>
              <a:ext cx="13068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" y="66"/>
                  </a:moveTo>
                  <a:lnTo>
                    <a:pt x="60" y="24"/>
                  </a:lnTo>
                  <a:lnTo>
                    <a:pt x="0" y="0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435600" y="3657600"/>
            <a:ext cx="130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ternal data provi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3400" spc="-1" strike="noStrike">
                <a:solidFill>
                  <a:srgbClr val="008000"/>
                </a:solidFill>
                <a:latin typeface="ITC Officina Sans Book"/>
              </a:rPr>
              <a:t>XML is the basic format in AltInn</a:t>
            </a: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639" name=""/>
          <p:cNvSpPr/>
          <p:nvPr/>
        </p:nvSpPr>
        <p:spPr>
          <a:xfrm>
            <a:off x="207180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ark4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494240" cy="47340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6247440" y="3124080"/>
            <a:ext cx="130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ternal data provi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51760" y="2971800"/>
            <a:ext cx="92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Arial"/>
              </a:rPr>
              <a:t>Agency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6200000">
            <a:off x="2189520" y="3929400"/>
            <a:ext cx="64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Arial"/>
              </a:rPr>
              <a:t>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352680" y="5943600"/>
            <a:ext cx="381240" cy="4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4292640" y="5892840"/>
            <a:ext cx="380880" cy="4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3400" spc="-1" strike="noStrike">
                <a:solidFill>
                  <a:srgbClr val="008000"/>
                </a:solidFill>
                <a:latin typeface="ITC Officina Sans Book"/>
              </a:rPr>
              <a:t>Schema model - Metadata</a:t>
            </a: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647" name=""/>
          <p:cNvSpPr/>
          <p:nvPr/>
        </p:nvSpPr>
        <p:spPr>
          <a:xfrm>
            <a:off x="193824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ark2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553080" cy="446724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971640" y="3213000"/>
            <a:ext cx="208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ahoma"/>
              </a:rPr>
              <a:t>link forms and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971640" y="3933720"/>
            <a:ext cx="20876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ahoma"/>
              </a:rPr>
              <a:t>link forms data and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85960" y="1104840"/>
            <a:ext cx="5338800" cy="4459320"/>
          </a:xfrm>
          <a:prstGeom prst="rect">
            <a:avLst/>
          </a:prstGeom>
          <a:solidFill>
            <a:srgbClr val="c0c0c0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1380960"/>
            <a:ext cx="4673520" cy="3679920"/>
          </a:xfrm>
          <a:prstGeom prst="rect">
            <a:avLst/>
          </a:prstGeom>
          <a:solidFill>
            <a:srgbClr val="969696"/>
          </a:solidFill>
          <a:ln w="30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80120" y="5194440"/>
            <a:ext cx="1803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2280" y="4589640"/>
            <a:ext cx="15570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2068560"/>
            <a:ext cx="828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95560" y="2386080"/>
            <a:ext cx="1362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67160" y="2908440"/>
            <a:ext cx="1976400" cy="110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85040" y="3068640"/>
            <a:ext cx="1404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Tahoma"/>
              </a:rPr>
              <a:t>Receiving 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16520" y="3328920"/>
            <a:ext cx="97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Tahoma"/>
              </a:rPr>
              <a:t>Valid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12120" y="3503520"/>
            <a:ext cx="114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Tahoma"/>
              </a:rPr>
              <a:t>Distrib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280" y="3048120"/>
          <a:ext cx="114300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8120"/>
                    <a:ext cx="114300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83320" y="2666880"/>
          <a:ext cx="1660680" cy="17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83320" y="2666880"/>
                    <a:ext cx="166068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295280" y="3352680"/>
            <a:ext cx="2210040" cy="228600"/>
          </a:xfrm>
          <a:prstGeom prst="leftRightArrow">
            <a:avLst>
              <a:gd name="adj1" fmla="val 50000"/>
              <a:gd name="adj2" fmla="val 192459"/>
            </a:avLst>
          </a:prstGeom>
          <a:solidFill>
            <a:srgbClr val="81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352680"/>
            <a:ext cx="2210040" cy="228600"/>
          </a:xfrm>
          <a:prstGeom prst="leftRightArrow">
            <a:avLst>
              <a:gd name="adj1" fmla="val 50000"/>
              <a:gd name="adj2" fmla="val 192459"/>
            </a:avLst>
          </a:prstGeom>
          <a:solidFill>
            <a:srgbClr val="81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002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lt In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85960" y="1104840"/>
            <a:ext cx="5338800" cy="4459320"/>
          </a:xfrm>
          <a:prstGeom prst="rect">
            <a:avLst/>
          </a:prstGeom>
          <a:solidFill>
            <a:srgbClr val="c0c0c0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1413000"/>
            <a:ext cx="4673520" cy="3679560"/>
          </a:xfrm>
          <a:prstGeom prst="rect">
            <a:avLst/>
          </a:prstGeom>
          <a:solidFill>
            <a:srgbClr val="969696"/>
          </a:solidFill>
          <a:ln w="30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80120" y="5194440"/>
            <a:ext cx="1803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72280" y="4589640"/>
            <a:ext cx="15570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2068560"/>
            <a:ext cx="828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95560" y="2386080"/>
            <a:ext cx="1362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483320" y="2666880"/>
          <a:ext cx="166068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3320" y="2666880"/>
                    <a:ext cx="166068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410080" y="3352680"/>
            <a:ext cx="2210040" cy="228600"/>
          </a:xfrm>
          <a:prstGeom prst="leftRightArrow">
            <a:avLst>
              <a:gd name="adj1" fmla="val 50000"/>
              <a:gd name="adj2" fmla="val 192459"/>
            </a:avLst>
          </a:prstGeom>
          <a:solidFill>
            <a:srgbClr val="81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073160"/>
            <a:ext cx="901800" cy="4408560"/>
          </a:xfrm>
          <a:custGeom>
            <a:avLst/>
            <a:gdLst/>
            <a:ahLst/>
            <a:rect l="l" t="t" r="r" b="b"/>
            <a:pathLst>
              <a:path w="568" h="2777">
                <a:moveTo>
                  <a:pt x="568" y="2777"/>
                </a:moveTo>
                <a:lnTo>
                  <a:pt x="568" y="0"/>
                </a:lnTo>
                <a:lnTo>
                  <a:pt x="0" y="0"/>
                </a:lnTo>
                <a:lnTo>
                  <a:pt x="6" y="2777"/>
                </a:lnTo>
                <a:lnTo>
                  <a:pt x="568" y="2777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-323640" y="2904480"/>
            <a:ext cx="1451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900" spc="-1" strike="noStrike">
                <a:solidFill>
                  <a:srgbClr val="f8f8f8"/>
                </a:solidFill>
                <a:latin typeface="Tahoma"/>
              </a:rPr>
              <a:t>Data Sour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1146240"/>
            <a:ext cx="317520" cy="2070000"/>
          </a:xfrm>
          <a:custGeom>
            <a:avLst/>
            <a:gdLst/>
            <a:ahLst/>
            <a:rect l="l" t="t" r="r" b="b"/>
            <a:pathLst>
              <a:path w="200" h="1304">
                <a:moveTo>
                  <a:pt x="200" y="1304"/>
                </a:moveTo>
                <a:lnTo>
                  <a:pt x="193" y="0"/>
                </a:lnTo>
                <a:lnTo>
                  <a:pt x="0" y="0"/>
                </a:lnTo>
                <a:lnTo>
                  <a:pt x="0" y="1304"/>
                </a:lnTo>
                <a:lnTo>
                  <a:pt x="200" y="130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31160" y="2547720"/>
            <a:ext cx="26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830880" y="239616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15080" y="1966680"/>
            <a:ext cx="89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Arial"/>
              </a:rPr>
              <a:t>line us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9560" y="3390840"/>
            <a:ext cx="328680" cy="191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0600" y="4223160"/>
            <a:ext cx="167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Arial"/>
              </a:rPr>
              <a:t>Enterprise 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38240" y="3605040"/>
            <a:ext cx="122400" cy="123840"/>
          </a:xfrm>
          <a:custGeom>
            <a:avLst/>
            <a:gdLst/>
            <a:ahLst/>
            <a:rect l="l" t="t" r="r" b="b"/>
            <a:pathLst>
              <a:path w="77" h="78">
                <a:moveTo>
                  <a:pt x="77" y="0"/>
                </a:moveTo>
                <a:lnTo>
                  <a:pt x="0" y="39"/>
                </a:lnTo>
                <a:lnTo>
                  <a:pt x="77" y="78"/>
                </a:lnTo>
                <a:lnTo>
                  <a:pt x="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8240" y="2048040"/>
            <a:ext cx="112680" cy="122040"/>
          </a:xfrm>
          <a:custGeom>
            <a:avLst/>
            <a:gdLst/>
            <a:ahLst/>
            <a:rect l="l" t="t" r="r" b="b"/>
            <a:pathLst>
              <a:path w="71" h="77">
                <a:moveTo>
                  <a:pt x="71" y="0"/>
                </a:moveTo>
                <a:lnTo>
                  <a:pt x="0" y="39"/>
                </a:lnTo>
                <a:lnTo>
                  <a:pt x="71" y="77"/>
                </a:lnTo>
                <a:lnTo>
                  <a:pt x="7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30400" y="3657600"/>
            <a:ext cx="546120" cy="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3610080"/>
            <a:ext cx="122040" cy="123840"/>
          </a:xfrm>
          <a:custGeom>
            <a:avLst/>
            <a:gdLst/>
            <a:ahLst/>
            <a:rect l="l" t="t" r="r" b="b"/>
            <a:pathLst>
              <a:path w="77" h="78">
                <a:moveTo>
                  <a:pt x="0" y="78"/>
                </a:moveTo>
                <a:lnTo>
                  <a:pt x="77" y="39"/>
                </a:lnTo>
                <a:lnTo>
                  <a:pt x="0" y="0"/>
                </a:lnTo>
                <a:lnTo>
                  <a:pt x="0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20680" y="2098800"/>
            <a:ext cx="685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85960" y="2048040"/>
            <a:ext cx="112680" cy="122040"/>
          </a:xfrm>
          <a:custGeom>
            <a:avLst/>
            <a:gdLst/>
            <a:ahLst/>
            <a:rect l="l" t="t" r="r" b="b"/>
            <a:pathLst>
              <a:path w="71" h="77">
                <a:moveTo>
                  <a:pt x="0" y="77"/>
                </a:moveTo>
                <a:lnTo>
                  <a:pt x="71" y="39"/>
                </a:lnTo>
                <a:lnTo>
                  <a:pt x="0" y="0"/>
                </a:lnTo>
                <a:lnTo>
                  <a:pt x="0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95320" y="2039760"/>
            <a:ext cx="112680" cy="122400"/>
          </a:xfrm>
          <a:custGeom>
            <a:avLst/>
            <a:gdLst/>
            <a:ahLst/>
            <a:rect l="l" t="t" r="r" b="b"/>
            <a:pathLst>
              <a:path w="71" h="77">
                <a:moveTo>
                  <a:pt x="0" y="77"/>
                </a:moveTo>
                <a:lnTo>
                  <a:pt x="71" y="39"/>
                </a:lnTo>
                <a:lnTo>
                  <a:pt x="0" y="0"/>
                </a:lnTo>
                <a:lnTo>
                  <a:pt x="0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63640" y="3213000"/>
            <a:ext cx="1728360" cy="850680"/>
            <a:chOff x="1763640" y="3213000"/>
            <a:chExt cx="1728360" cy="850680"/>
          </a:xfrm>
        </p:grpSpPr>
        <p:sp>
          <p:nvSpPr>
            <p:cNvPr id="143" name=""/>
            <p:cNvSpPr/>
            <p:nvPr/>
          </p:nvSpPr>
          <p:spPr>
            <a:xfrm>
              <a:off x="1763640" y="3213000"/>
              <a:ext cx="1301400" cy="850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23480" y="3335040"/>
              <a:ext cx="932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Interfac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49640" y="3500280"/>
              <a:ext cx="992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enterpris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1680" y="3500280"/>
              <a:ext cx="6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19960" y="3673080"/>
              <a:ext cx="77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syste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74840" y="3674880"/>
              <a:ext cx="2250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73320" y="3624120"/>
              <a:ext cx="121680" cy="12384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77" y="0"/>
                  </a:moveTo>
                  <a:lnTo>
                    <a:pt x="0" y="32"/>
                  </a:lnTo>
                  <a:lnTo>
                    <a:pt x="77" y="7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79680" y="3624120"/>
              <a:ext cx="112320" cy="12384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0" y="78"/>
                  </a:moveTo>
                  <a:lnTo>
                    <a:pt x="71" y="32"/>
                  </a:lnTo>
                  <a:lnTo>
                    <a:pt x="0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835280" y="1773360"/>
            <a:ext cx="2490120" cy="1166760"/>
            <a:chOff x="1835280" y="1773360"/>
            <a:chExt cx="2490120" cy="1166760"/>
          </a:xfrm>
        </p:grpSpPr>
        <p:sp>
          <p:nvSpPr>
            <p:cNvPr id="152" name=""/>
            <p:cNvSpPr/>
            <p:nvPr/>
          </p:nvSpPr>
          <p:spPr>
            <a:xfrm>
              <a:off x="1835280" y="1773360"/>
              <a:ext cx="1310760" cy="676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Fo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20400" y="1897200"/>
              <a:ext cx="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97560" y="1897200"/>
              <a:ext cx="6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09320" y="2060640"/>
              <a:ext cx="58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port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25520" y="2335320"/>
              <a:ext cx="1147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73200" y="2335320"/>
              <a:ext cx="108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22440" y="283716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0"/>
                  </a:moveTo>
                  <a:lnTo>
                    <a:pt x="39" y="65"/>
                  </a:lnTo>
                  <a:lnTo>
                    <a:pt x="6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6680" y="2427480"/>
              <a:ext cx="70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200" spc="-1" strike="noStrike">
                  <a:solidFill>
                    <a:srgbClr val="ffff66"/>
                  </a:solidFill>
                  <a:latin typeface="Tahoma"/>
                </a:rPr>
                <a:t>Repor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51280" y="2570400"/>
              <a:ext cx="34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ahoma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452200" y="4600440"/>
            <a:ext cx="1427040" cy="392400"/>
            <a:chOff x="5452200" y="4600440"/>
            <a:chExt cx="1427040" cy="392400"/>
          </a:xfrm>
        </p:grpSpPr>
        <p:sp>
          <p:nvSpPr>
            <p:cNvPr id="162" name=""/>
            <p:cNvSpPr/>
            <p:nvPr/>
          </p:nvSpPr>
          <p:spPr>
            <a:xfrm>
              <a:off x="6289920" y="4600440"/>
              <a:ext cx="41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Ro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52200" y="4764240"/>
              <a:ext cx="1427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administ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06520" y="4600440"/>
              <a:ext cx="6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381640" y="5205240"/>
            <a:ext cx="16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Tahoma"/>
              </a:rPr>
              <a:t>Security 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560600" y="5553000"/>
            <a:ext cx="1251000" cy="933480"/>
            <a:chOff x="1560600" y="5553000"/>
            <a:chExt cx="1251000" cy="933480"/>
          </a:xfrm>
        </p:grpSpPr>
        <p:sp>
          <p:nvSpPr>
            <p:cNvPr id="167" name=""/>
            <p:cNvSpPr/>
            <p:nvPr/>
          </p:nvSpPr>
          <p:spPr>
            <a:xfrm>
              <a:off x="1560600" y="5810400"/>
              <a:ext cx="1251000" cy="676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83800" y="5850000"/>
              <a:ext cx="938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Certifica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33040" y="6014880"/>
              <a:ext cx="91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Valid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96040" y="6189840"/>
              <a:ext cx="848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Authorit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174760" y="5646240"/>
              <a:ext cx="1800" cy="101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24000" y="5727600"/>
              <a:ext cx="123840" cy="112680"/>
            </a:xfrm>
            <a:custGeom>
              <a:avLst/>
              <a:gdLst/>
              <a:ahLst/>
              <a:rect l="l" t="t" r="r" b="b"/>
              <a:pathLst>
                <a:path w="78" h="71">
                  <a:moveTo>
                    <a:pt x="0" y="0"/>
                  </a:moveTo>
                  <a:lnTo>
                    <a:pt x="39" y="71"/>
                  </a:lnTo>
                  <a:lnTo>
                    <a:pt x="7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24000" y="555300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78"/>
                  </a:moveTo>
                  <a:lnTo>
                    <a:pt x="39" y="0"/>
                  </a:lnTo>
                  <a:lnTo>
                    <a:pt x="0" y="78"/>
                  </a:lnTo>
                  <a:lnTo>
                    <a:pt x="78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843280" y="5589720"/>
            <a:ext cx="4630680" cy="1057320"/>
            <a:chOff x="2843280" y="5589720"/>
            <a:chExt cx="4630680" cy="1057320"/>
          </a:xfrm>
        </p:grpSpPr>
        <p:sp>
          <p:nvSpPr>
            <p:cNvPr id="175" name=""/>
            <p:cNvSpPr/>
            <p:nvPr/>
          </p:nvSpPr>
          <p:spPr>
            <a:xfrm>
              <a:off x="2843280" y="5826240"/>
              <a:ext cx="4608000" cy="82080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89160" y="6265800"/>
              <a:ext cx="186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900" spc="-1" strike="noStrike">
                  <a:solidFill>
                    <a:srgbClr val="f8f8f8"/>
                  </a:solidFill>
                  <a:latin typeface="Tahoma"/>
                </a:rPr>
                <a:t>Public registe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11040" y="5877000"/>
              <a:ext cx="1365120" cy="399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23800" y="5856480"/>
              <a:ext cx="58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61520" y="58564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22800" y="6031080"/>
              <a:ext cx="70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regis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52960" y="5877000"/>
              <a:ext cx="1330560" cy="399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52840" y="5856480"/>
              <a:ext cx="999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Register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13800" y="58564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51040" y="6031080"/>
              <a:ext cx="122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Legal ent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99280" y="5877000"/>
              <a:ext cx="1330560" cy="411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99720" y="5856480"/>
              <a:ext cx="152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200" spc="-1" strike="noStrike">
                  <a:solidFill>
                    <a:srgbClr val="000099"/>
                  </a:solidFill>
                  <a:latin typeface="Arial"/>
                </a:rPr>
                <a:t>Central population</a:t>
              </a: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63360" y="6031080"/>
              <a:ext cx="56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regi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83160" y="5703840"/>
              <a:ext cx="180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15480" y="5610240"/>
              <a:ext cx="133560" cy="12384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77" y="78"/>
                  </a:moveTo>
                  <a:lnTo>
                    <a:pt x="39" y="0"/>
                  </a:lnTo>
                  <a:lnTo>
                    <a:pt x="0" y="78"/>
                  </a:lnTo>
                  <a:lnTo>
                    <a:pt x="77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159160" y="5683320"/>
              <a:ext cx="180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91480" y="5589720"/>
              <a:ext cx="145440" cy="12384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84" y="78"/>
                  </a:moveTo>
                  <a:lnTo>
                    <a:pt x="45" y="0"/>
                  </a:lnTo>
                  <a:lnTo>
                    <a:pt x="0" y="78"/>
                  </a:lnTo>
                  <a:lnTo>
                    <a:pt x="8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612840" y="5671800"/>
              <a:ext cx="1800" cy="195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55960" y="5589720"/>
              <a:ext cx="135000" cy="11412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78" y="72"/>
                  </a:moveTo>
                  <a:lnTo>
                    <a:pt x="33" y="0"/>
                  </a:lnTo>
                  <a:lnTo>
                    <a:pt x="0" y="72"/>
                  </a:lnTo>
                  <a:lnTo>
                    <a:pt x="7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149640" y="1986120"/>
            <a:ext cx="2252520" cy="2327040"/>
            <a:chOff x="3149640" y="1986120"/>
            <a:chExt cx="2252520" cy="2327040"/>
          </a:xfrm>
        </p:grpSpPr>
        <p:sp>
          <p:nvSpPr>
            <p:cNvPr id="195" name=""/>
            <p:cNvSpPr/>
            <p:nvPr/>
          </p:nvSpPr>
          <p:spPr>
            <a:xfrm flipV="1">
              <a:off x="4900680" y="2048040"/>
              <a:ext cx="1440" cy="2265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241800" y="2048040"/>
              <a:ext cx="1658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49640" y="1986120"/>
              <a:ext cx="122040" cy="12384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77" y="0"/>
                  </a:moveTo>
                  <a:lnTo>
                    <a:pt x="0" y="45"/>
                  </a:lnTo>
                  <a:lnTo>
                    <a:pt x="77" y="7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90400" y="206856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ahoma"/>
                </a:rPr>
                <a:t>P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52840" y="2068560"/>
              <a:ext cx="4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32080" y="22226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ahoma"/>
                </a:rPr>
                <a:t>fi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467160" y="2908440"/>
            <a:ext cx="1976400" cy="110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846960" y="3213000"/>
            <a:ext cx="974880" cy="576000"/>
            <a:chOff x="3846960" y="3213000"/>
            <a:chExt cx="974880" cy="576000"/>
          </a:xfrm>
        </p:grpSpPr>
        <p:sp>
          <p:nvSpPr>
            <p:cNvPr id="203" name=""/>
            <p:cNvSpPr/>
            <p:nvPr/>
          </p:nvSpPr>
          <p:spPr>
            <a:xfrm>
              <a:off x="4092480" y="3213000"/>
              <a:ext cx="72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Receiv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51000" y="3385800"/>
              <a:ext cx="786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Valida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46960" y="3560400"/>
              <a:ext cx="962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Distribu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581280" y="4016520"/>
            <a:ext cx="1606680" cy="895320"/>
            <a:chOff x="3581280" y="4016520"/>
            <a:chExt cx="1606680" cy="895320"/>
          </a:xfrm>
        </p:grpSpPr>
        <p:sp>
          <p:nvSpPr>
            <p:cNvPr id="207" name=""/>
            <p:cNvSpPr/>
            <p:nvPr/>
          </p:nvSpPr>
          <p:spPr>
            <a:xfrm>
              <a:off x="3581280" y="4267080"/>
              <a:ext cx="1587600" cy="644760"/>
            </a:xfrm>
            <a:custGeom>
              <a:avLst/>
              <a:gdLst/>
              <a:ahLst/>
              <a:rect l="l" t="t" r="r" b="b"/>
              <a:pathLst>
                <a:path w="1000" h="406">
                  <a:moveTo>
                    <a:pt x="503" y="0"/>
                  </a:moveTo>
                  <a:lnTo>
                    <a:pt x="400" y="0"/>
                  </a:lnTo>
                  <a:lnTo>
                    <a:pt x="309" y="6"/>
                  </a:lnTo>
                  <a:lnTo>
                    <a:pt x="225" y="13"/>
                  </a:lnTo>
                  <a:lnTo>
                    <a:pt x="148" y="19"/>
                  </a:lnTo>
                  <a:lnTo>
                    <a:pt x="90" y="25"/>
                  </a:lnTo>
                  <a:lnTo>
                    <a:pt x="45" y="32"/>
                  </a:lnTo>
                  <a:lnTo>
                    <a:pt x="12" y="45"/>
                  </a:lnTo>
                  <a:lnTo>
                    <a:pt x="0" y="45"/>
                  </a:lnTo>
                  <a:lnTo>
                    <a:pt x="0" y="355"/>
                  </a:lnTo>
                  <a:lnTo>
                    <a:pt x="12" y="368"/>
                  </a:lnTo>
                  <a:lnTo>
                    <a:pt x="45" y="374"/>
                  </a:lnTo>
                  <a:lnTo>
                    <a:pt x="90" y="381"/>
                  </a:lnTo>
                  <a:lnTo>
                    <a:pt x="148" y="394"/>
                  </a:lnTo>
                  <a:lnTo>
                    <a:pt x="225" y="400"/>
                  </a:lnTo>
                  <a:lnTo>
                    <a:pt x="309" y="400"/>
                  </a:lnTo>
                  <a:lnTo>
                    <a:pt x="400" y="406"/>
                  </a:lnTo>
                  <a:lnTo>
                    <a:pt x="503" y="406"/>
                  </a:lnTo>
                  <a:lnTo>
                    <a:pt x="600" y="406"/>
                  </a:lnTo>
                  <a:lnTo>
                    <a:pt x="697" y="400"/>
                  </a:lnTo>
                  <a:lnTo>
                    <a:pt x="781" y="400"/>
                  </a:lnTo>
                  <a:lnTo>
                    <a:pt x="858" y="394"/>
                  </a:lnTo>
                  <a:lnTo>
                    <a:pt x="916" y="381"/>
                  </a:lnTo>
                  <a:lnTo>
                    <a:pt x="968" y="374"/>
                  </a:lnTo>
                  <a:lnTo>
                    <a:pt x="987" y="368"/>
                  </a:lnTo>
                  <a:lnTo>
                    <a:pt x="1000" y="355"/>
                  </a:lnTo>
                  <a:lnTo>
                    <a:pt x="1000" y="45"/>
                  </a:lnTo>
                  <a:lnTo>
                    <a:pt x="987" y="45"/>
                  </a:lnTo>
                  <a:lnTo>
                    <a:pt x="968" y="32"/>
                  </a:lnTo>
                  <a:lnTo>
                    <a:pt x="916" y="25"/>
                  </a:lnTo>
                  <a:lnTo>
                    <a:pt x="858" y="19"/>
                  </a:lnTo>
                  <a:lnTo>
                    <a:pt x="781" y="13"/>
                  </a:lnTo>
                  <a:lnTo>
                    <a:pt x="697" y="6"/>
                  </a:lnTo>
                  <a:lnTo>
                    <a:pt x="600" y="0"/>
                  </a:lnTo>
                  <a:lnTo>
                    <a:pt x="503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00360" y="4303800"/>
              <a:ext cx="1587600" cy="163440"/>
            </a:xfrm>
            <a:custGeom>
              <a:avLst/>
              <a:gdLst/>
              <a:ahLst/>
              <a:rect l="l" t="t" r="r" b="b"/>
              <a:pathLst>
                <a:path w="1000" h="103">
                  <a:moveTo>
                    <a:pt x="0" y="45"/>
                  </a:moveTo>
                  <a:lnTo>
                    <a:pt x="12" y="58"/>
                  </a:lnTo>
                  <a:lnTo>
                    <a:pt x="45" y="71"/>
                  </a:lnTo>
                  <a:lnTo>
                    <a:pt x="90" y="77"/>
                  </a:lnTo>
                  <a:lnTo>
                    <a:pt x="148" y="84"/>
                  </a:lnTo>
                  <a:lnTo>
                    <a:pt x="225" y="96"/>
                  </a:lnTo>
                  <a:lnTo>
                    <a:pt x="309" y="96"/>
                  </a:lnTo>
                  <a:lnTo>
                    <a:pt x="400" y="103"/>
                  </a:lnTo>
                  <a:lnTo>
                    <a:pt x="503" y="103"/>
                  </a:lnTo>
                  <a:lnTo>
                    <a:pt x="600" y="103"/>
                  </a:lnTo>
                  <a:lnTo>
                    <a:pt x="697" y="96"/>
                  </a:lnTo>
                  <a:lnTo>
                    <a:pt x="781" y="96"/>
                  </a:lnTo>
                  <a:lnTo>
                    <a:pt x="858" y="84"/>
                  </a:lnTo>
                  <a:lnTo>
                    <a:pt x="916" y="77"/>
                  </a:lnTo>
                  <a:lnTo>
                    <a:pt x="968" y="71"/>
                  </a:lnTo>
                  <a:lnTo>
                    <a:pt x="987" y="58"/>
                  </a:lnTo>
                  <a:lnTo>
                    <a:pt x="1000" y="45"/>
                  </a:lnTo>
                  <a:lnTo>
                    <a:pt x="987" y="45"/>
                  </a:lnTo>
                  <a:lnTo>
                    <a:pt x="968" y="32"/>
                  </a:lnTo>
                  <a:lnTo>
                    <a:pt x="916" y="25"/>
                  </a:lnTo>
                  <a:lnTo>
                    <a:pt x="858" y="19"/>
                  </a:lnTo>
                  <a:lnTo>
                    <a:pt x="781" y="13"/>
                  </a:lnTo>
                  <a:lnTo>
                    <a:pt x="697" y="6"/>
                  </a:lnTo>
                  <a:lnTo>
                    <a:pt x="600" y="0"/>
                  </a:lnTo>
                  <a:lnTo>
                    <a:pt x="503" y="0"/>
                  </a:lnTo>
                  <a:lnTo>
                    <a:pt x="400" y="0"/>
                  </a:lnTo>
                  <a:lnTo>
                    <a:pt x="309" y="6"/>
                  </a:lnTo>
                  <a:lnTo>
                    <a:pt x="225" y="13"/>
                  </a:lnTo>
                  <a:lnTo>
                    <a:pt x="148" y="19"/>
                  </a:lnTo>
                  <a:lnTo>
                    <a:pt x="90" y="25"/>
                  </a:lnTo>
                  <a:lnTo>
                    <a:pt x="45" y="32"/>
                  </a:lnTo>
                  <a:lnTo>
                    <a:pt x="12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81280" y="4267080"/>
              <a:ext cx="1587600" cy="644760"/>
            </a:xfrm>
            <a:custGeom>
              <a:avLst/>
              <a:gdLst/>
              <a:ahLst/>
              <a:rect l="l" t="t" r="r" b="b"/>
              <a:pathLst>
                <a:path w="1000" h="406">
                  <a:moveTo>
                    <a:pt x="503" y="0"/>
                  </a:moveTo>
                  <a:lnTo>
                    <a:pt x="400" y="0"/>
                  </a:lnTo>
                  <a:lnTo>
                    <a:pt x="309" y="6"/>
                  </a:lnTo>
                  <a:lnTo>
                    <a:pt x="225" y="13"/>
                  </a:lnTo>
                  <a:lnTo>
                    <a:pt x="148" y="19"/>
                  </a:lnTo>
                  <a:lnTo>
                    <a:pt x="90" y="25"/>
                  </a:lnTo>
                  <a:lnTo>
                    <a:pt x="45" y="32"/>
                  </a:lnTo>
                  <a:lnTo>
                    <a:pt x="12" y="45"/>
                  </a:lnTo>
                  <a:lnTo>
                    <a:pt x="0" y="45"/>
                  </a:lnTo>
                  <a:lnTo>
                    <a:pt x="0" y="355"/>
                  </a:lnTo>
                  <a:lnTo>
                    <a:pt x="12" y="368"/>
                  </a:lnTo>
                  <a:lnTo>
                    <a:pt x="45" y="374"/>
                  </a:lnTo>
                  <a:lnTo>
                    <a:pt x="90" y="381"/>
                  </a:lnTo>
                  <a:lnTo>
                    <a:pt x="148" y="394"/>
                  </a:lnTo>
                  <a:lnTo>
                    <a:pt x="225" y="400"/>
                  </a:lnTo>
                  <a:lnTo>
                    <a:pt x="309" y="400"/>
                  </a:lnTo>
                  <a:lnTo>
                    <a:pt x="400" y="406"/>
                  </a:lnTo>
                  <a:lnTo>
                    <a:pt x="503" y="406"/>
                  </a:lnTo>
                  <a:lnTo>
                    <a:pt x="600" y="406"/>
                  </a:lnTo>
                  <a:lnTo>
                    <a:pt x="697" y="400"/>
                  </a:lnTo>
                  <a:lnTo>
                    <a:pt x="781" y="400"/>
                  </a:lnTo>
                  <a:lnTo>
                    <a:pt x="858" y="394"/>
                  </a:lnTo>
                  <a:lnTo>
                    <a:pt x="916" y="381"/>
                  </a:lnTo>
                  <a:lnTo>
                    <a:pt x="968" y="374"/>
                  </a:lnTo>
                  <a:lnTo>
                    <a:pt x="987" y="368"/>
                  </a:lnTo>
                  <a:lnTo>
                    <a:pt x="1000" y="355"/>
                  </a:lnTo>
                  <a:lnTo>
                    <a:pt x="1000" y="45"/>
                  </a:lnTo>
                  <a:lnTo>
                    <a:pt x="987" y="45"/>
                  </a:lnTo>
                  <a:lnTo>
                    <a:pt x="968" y="32"/>
                  </a:lnTo>
                  <a:lnTo>
                    <a:pt x="916" y="25"/>
                  </a:lnTo>
                  <a:lnTo>
                    <a:pt x="858" y="19"/>
                  </a:lnTo>
                  <a:lnTo>
                    <a:pt x="781" y="13"/>
                  </a:lnTo>
                  <a:lnTo>
                    <a:pt x="697" y="6"/>
                  </a:lnTo>
                  <a:lnTo>
                    <a:pt x="600" y="0"/>
                  </a:lnTo>
                  <a:lnTo>
                    <a:pt x="503" y="0"/>
                  </a:lnTo>
                  <a:lnTo>
                    <a:pt x="503" y="0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0360" y="4375080"/>
              <a:ext cx="1587600" cy="92160"/>
            </a:xfrm>
            <a:custGeom>
              <a:avLst/>
              <a:gdLst/>
              <a:ahLst/>
              <a:rect l="l" t="t" r="r" b="b"/>
              <a:pathLst>
                <a:path w="1000" h="58">
                  <a:moveTo>
                    <a:pt x="0" y="0"/>
                  </a:moveTo>
                  <a:lnTo>
                    <a:pt x="12" y="13"/>
                  </a:lnTo>
                  <a:lnTo>
                    <a:pt x="45" y="26"/>
                  </a:lnTo>
                  <a:lnTo>
                    <a:pt x="90" y="32"/>
                  </a:lnTo>
                  <a:lnTo>
                    <a:pt x="148" y="39"/>
                  </a:lnTo>
                  <a:lnTo>
                    <a:pt x="225" y="51"/>
                  </a:lnTo>
                  <a:lnTo>
                    <a:pt x="309" y="51"/>
                  </a:lnTo>
                  <a:lnTo>
                    <a:pt x="400" y="58"/>
                  </a:lnTo>
                  <a:lnTo>
                    <a:pt x="503" y="58"/>
                  </a:lnTo>
                  <a:lnTo>
                    <a:pt x="600" y="58"/>
                  </a:lnTo>
                  <a:lnTo>
                    <a:pt x="697" y="51"/>
                  </a:lnTo>
                  <a:lnTo>
                    <a:pt x="781" y="51"/>
                  </a:lnTo>
                  <a:lnTo>
                    <a:pt x="858" y="39"/>
                  </a:lnTo>
                  <a:lnTo>
                    <a:pt x="916" y="32"/>
                  </a:lnTo>
                  <a:lnTo>
                    <a:pt x="968" y="26"/>
                  </a:lnTo>
                  <a:lnTo>
                    <a:pt x="987" y="13"/>
                  </a:lnTo>
                  <a:lnTo>
                    <a:pt x="1000" y="0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60200" y="4430880"/>
              <a:ext cx="72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99"/>
                  </a:solidFill>
                  <a:latin typeface="Tahoma"/>
                </a:rPr>
                <a:t>•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53440" y="4467240"/>
              <a:ext cx="720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Archiv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76120" y="4605480"/>
              <a:ext cx="72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99"/>
                  </a:solidFill>
                  <a:latin typeface="Tahoma"/>
                </a:rPr>
                <a:t>•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62880" y="4648320"/>
              <a:ext cx="992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Work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86160" y="4097160"/>
              <a:ext cx="1800" cy="123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24240" y="4016520"/>
              <a:ext cx="13356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84" y="71"/>
                  </a:moveTo>
                  <a:lnTo>
                    <a:pt x="39" y="0"/>
                  </a:lnTo>
                  <a:lnTo>
                    <a:pt x="0" y="71"/>
                  </a:lnTo>
                  <a:lnTo>
                    <a:pt x="84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24240" y="4200480"/>
              <a:ext cx="133560" cy="12384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0" y="0"/>
                  </a:moveTo>
                  <a:lnTo>
                    <a:pt x="39" y="78"/>
                  </a:lnTo>
                  <a:lnTo>
                    <a:pt x="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85960" y="1104840"/>
            <a:ext cx="5338800" cy="4459320"/>
          </a:xfrm>
          <a:prstGeom prst="rect">
            <a:avLst/>
          </a:prstGeom>
          <a:solidFill>
            <a:srgbClr val="c0c0c0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1380960"/>
            <a:ext cx="4681440" cy="3679920"/>
          </a:xfrm>
          <a:prstGeom prst="rect">
            <a:avLst/>
          </a:prstGeom>
          <a:solidFill>
            <a:srgbClr val="969696"/>
          </a:solidFill>
          <a:ln w="30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80120" y="5194440"/>
            <a:ext cx="1803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72280" y="4589640"/>
            <a:ext cx="15570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2068560"/>
            <a:ext cx="828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95560" y="2386080"/>
            <a:ext cx="1362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073160"/>
            <a:ext cx="901800" cy="4408560"/>
          </a:xfrm>
          <a:custGeom>
            <a:avLst/>
            <a:gdLst/>
            <a:ahLst/>
            <a:rect l="l" t="t" r="r" b="b"/>
            <a:pathLst>
              <a:path w="568" h="2777">
                <a:moveTo>
                  <a:pt x="568" y="2777"/>
                </a:moveTo>
                <a:lnTo>
                  <a:pt x="568" y="0"/>
                </a:lnTo>
                <a:lnTo>
                  <a:pt x="0" y="0"/>
                </a:lnTo>
                <a:lnTo>
                  <a:pt x="6" y="2777"/>
                </a:lnTo>
                <a:lnTo>
                  <a:pt x="568" y="2777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-221400" y="3017520"/>
            <a:ext cx="1247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900" spc="-1" strike="noStrike">
                <a:solidFill>
                  <a:srgbClr val="f8f8f8"/>
                </a:solidFill>
                <a:latin typeface="Tahoma"/>
              </a:rPr>
              <a:t>Enterpris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0720" y="1146240"/>
            <a:ext cx="317520" cy="2070000"/>
          </a:xfrm>
          <a:custGeom>
            <a:avLst/>
            <a:gdLst/>
            <a:ahLst/>
            <a:rect l="l" t="t" r="r" b="b"/>
            <a:pathLst>
              <a:path w="200" h="1304">
                <a:moveTo>
                  <a:pt x="200" y="1304"/>
                </a:moveTo>
                <a:lnTo>
                  <a:pt x="193" y="0"/>
                </a:lnTo>
                <a:lnTo>
                  <a:pt x="0" y="0"/>
                </a:lnTo>
                <a:lnTo>
                  <a:pt x="0" y="1304"/>
                </a:lnTo>
                <a:lnTo>
                  <a:pt x="200" y="130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731160" y="2547720"/>
            <a:ext cx="26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830880" y="239616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415080" y="1966680"/>
            <a:ext cx="89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Arial"/>
              </a:rPr>
              <a:t>line us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560" y="3390840"/>
            <a:ext cx="328680" cy="191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45080" y="4075200"/>
            <a:ext cx="143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Arial"/>
              </a:rPr>
              <a:t>Enterprise sys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8240" y="3605040"/>
            <a:ext cx="122400" cy="123840"/>
          </a:xfrm>
          <a:custGeom>
            <a:avLst/>
            <a:gdLst/>
            <a:ahLst/>
            <a:rect l="l" t="t" r="r" b="b"/>
            <a:pathLst>
              <a:path w="77" h="78">
                <a:moveTo>
                  <a:pt x="77" y="0"/>
                </a:moveTo>
                <a:lnTo>
                  <a:pt x="0" y="39"/>
                </a:lnTo>
                <a:lnTo>
                  <a:pt x="77" y="78"/>
                </a:lnTo>
                <a:lnTo>
                  <a:pt x="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38240" y="2048040"/>
            <a:ext cx="112680" cy="122040"/>
          </a:xfrm>
          <a:custGeom>
            <a:avLst/>
            <a:gdLst/>
            <a:ahLst/>
            <a:rect l="l" t="t" r="r" b="b"/>
            <a:pathLst>
              <a:path w="71" h="77">
                <a:moveTo>
                  <a:pt x="71" y="0"/>
                </a:moveTo>
                <a:lnTo>
                  <a:pt x="0" y="39"/>
                </a:lnTo>
                <a:lnTo>
                  <a:pt x="71" y="77"/>
                </a:lnTo>
                <a:lnTo>
                  <a:pt x="7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30400" y="3657600"/>
            <a:ext cx="546120" cy="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3610080"/>
            <a:ext cx="122040" cy="123840"/>
          </a:xfrm>
          <a:custGeom>
            <a:avLst/>
            <a:gdLst/>
            <a:ahLst/>
            <a:rect l="l" t="t" r="r" b="b"/>
            <a:pathLst>
              <a:path w="77" h="78">
                <a:moveTo>
                  <a:pt x="0" y="78"/>
                </a:moveTo>
                <a:lnTo>
                  <a:pt x="77" y="39"/>
                </a:lnTo>
                <a:lnTo>
                  <a:pt x="0" y="0"/>
                </a:lnTo>
                <a:lnTo>
                  <a:pt x="0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20680" y="2098800"/>
            <a:ext cx="685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85960" y="2048040"/>
            <a:ext cx="112680" cy="122040"/>
          </a:xfrm>
          <a:custGeom>
            <a:avLst/>
            <a:gdLst/>
            <a:ahLst/>
            <a:rect l="l" t="t" r="r" b="b"/>
            <a:pathLst>
              <a:path w="71" h="77">
                <a:moveTo>
                  <a:pt x="0" y="77"/>
                </a:moveTo>
                <a:lnTo>
                  <a:pt x="71" y="39"/>
                </a:lnTo>
                <a:lnTo>
                  <a:pt x="0" y="0"/>
                </a:lnTo>
                <a:lnTo>
                  <a:pt x="0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95320" y="2039760"/>
            <a:ext cx="112680" cy="122400"/>
          </a:xfrm>
          <a:custGeom>
            <a:avLst/>
            <a:gdLst/>
            <a:ahLst/>
            <a:rect l="l" t="t" r="r" b="b"/>
            <a:pathLst>
              <a:path w="71" h="77">
                <a:moveTo>
                  <a:pt x="0" y="77"/>
                </a:moveTo>
                <a:lnTo>
                  <a:pt x="71" y="39"/>
                </a:lnTo>
                <a:lnTo>
                  <a:pt x="0" y="0"/>
                </a:lnTo>
                <a:lnTo>
                  <a:pt x="0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763640" y="3213000"/>
            <a:ext cx="1728360" cy="850680"/>
            <a:chOff x="1763640" y="3213000"/>
            <a:chExt cx="1728360" cy="850680"/>
          </a:xfrm>
        </p:grpSpPr>
        <p:sp>
          <p:nvSpPr>
            <p:cNvPr id="240" name=""/>
            <p:cNvSpPr/>
            <p:nvPr/>
          </p:nvSpPr>
          <p:spPr>
            <a:xfrm>
              <a:off x="1763640" y="3213000"/>
              <a:ext cx="1301400" cy="850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23480" y="3335040"/>
              <a:ext cx="932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Interfac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60080" y="3500280"/>
              <a:ext cx="108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Enterprise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51680" y="3500280"/>
              <a:ext cx="6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9960" y="3673080"/>
              <a:ext cx="77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syste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74840" y="3674880"/>
              <a:ext cx="2250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73320" y="3624120"/>
              <a:ext cx="121680" cy="12384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77" y="0"/>
                  </a:moveTo>
                  <a:lnTo>
                    <a:pt x="0" y="32"/>
                  </a:lnTo>
                  <a:lnTo>
                    <a:pt x="77" y="7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79680" y="3624120"/>
              <a:ext cx="112320" cy="12384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0" y="78"/>
                  </a:moveTo>
                  <a:lnTo>
                    <a:pt x="71" y="32"/>
                  </a:lnTo>
                  <a:lnTo>
                    <a:pt x="0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908000" y="1773360"/>
            <a:ext cx="2490840" cy="1166760"/>
            <a:chOff x="1908000" y="1773360"/>
            <a:chExt cx="2490840" cy="1166760"/>
          </a:xfrm>
        </p:grpSpPr>
        <p:sp>
          <p:nvSpPr>
            <p:cNvPr id="249" name=""/>
            <p:cNvSpPr/>
            <p:nvPr/>
          </p:nvSpPr>
          <p:spPr>
            <a:xfrm>
              <a:off x="1908000" y="1773360"/>
              <a:ext cx="1311120" cy="676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2760" y="1897200"/>
              <a:ext cx="59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71000" y="1897200"/>
              <a:ext cx="6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82400" y="2060640"/>
              <a:ext cx="58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port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98600" y="2335320"/>
              <a:ext cx="1147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6280" y="2335320"/>
              <a:ext cx="144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95520" y="283716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0"/>
                  </a:moveTo>
                  <a:lnTo>
                    <a:pt x="39" y="65"/>
                  </a:lnTo>
                  <a:lnTo>
                    <a:pt x="6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14000" y="242748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200" spc="-1" strike="noStrike">
                  <a:solidFill>
                    <a:srgbClr val="ffff66"/>
                  </a:solidFill>
                  <a:latin typeface="Tahoma"/>
                </a:rPr>
                <a:t>repor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24720" y="2570400"/>
              <a:ext cx="34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ahoma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24120" y="4303800"/>
            <a:ext cx="1587600" cy="644400"/>
          </a:xfrm>
          <a:custGeom>
            <a:avLst/>
            <a:gdLst/>
            <a:ahLst/>
            <a:rect l="l" t="t" r="r" b="b"/>
            <a:pathLst>
              <a:path w="1000" h="406">
                <a:moveTo>
                  <a:pt x="503" y="0"/>
                </a:moveTo>
                <a:lnTo>
                  <a:pt x="400" y="0"/>
                </a:lnTo>
                <a:lnTo>
                  <a:pt x="309" y="6"/>
                </a:lnTo>
                <a:lnTo>
                  <a:pt x="225" y="13"/>
                </a:lnTo>
                <a:lnTo>
                  <a:pt x="148" y="19"/>
                </a:lnTo>
                <a:lnTo>
                  <a:pt x="90" y="25"/>
                </a:lnTo>
                <a:lnTo>
                  <a:pt x="45" y="32"/>
                </a:lnTo>
                <a:lnTo>
                  <a:pt x="12" y="45"/>
                </a:lnTo>
                <a:lnTo>
                  <a:pt x="0" y="45"/>
                </a:lnTo>
                <a:lnTo>
                  <a:pt x="0" y="355"/>
                </a:lnTo>
                <a:lnTo>
                  <a:pt x="12" y="368"/>
                </a:lnTo>
                <a:lnTo>
                  <a:pt x="45" y="374"/>
                </a:lnTo>
                <a:lnTo>
                  <a:pt x="90" y="381"/>
                </a:lnTo>
                <a:lnTo>
                  <a:pt x="148" y="394"/>
                </a:lnTo>
                <a:lnTo>
                  <a:pt x="225" y="400"/>
                </a:lnTo>
                <a:lnTo>
                  <a:pt x="309" y="400"/>
                </a:lnTo>
                <a:lnTo>
                  <a:pt x="400" y="406"/>
                </a:lnTo>
                <a:lnTo>
                  <a:pt x="503" y="406"/>
                </a:lnTo>
                <a:lnTo>
                  <a:pt x="600" y="406"/>
                </a:lnTo>
                <a:lnTo>
                  <a:pt x="697" y="400"/>
                </a:lnTo>
                <a:lnTo>
                  <a:pt x="781" y="400"/>
                </a:lnTo>
                <a:lnTo>
                  <a:pt x="858" y="394"/>
                </a:lnTo>
                <a:lnTo>
                  <a:pt x="916" y="381"/>
                </a:lnTo>
                <a:lnTo>
                  <a:pt x="968" y="374"/>
                </a:lnTo>
                <a:lnTo>
                  <a:pt x="987" y="368"/>
                </a:lnTo>
                <a:lnTo>
                  <a:pt x="1000" y="355"/>
                </a:lnTo>
                <a:lnTo>
                  <a:pt x="1000" y="45"/>
                </a:lnTo>
                <a:lnTo>
                  <a:pt x="987" y="45"/>
                </a:lnTo>
                <a:lnTo>
                  <a:pt x="968" y="32"/>
                </a:lnTo>
                <a:lnTo>
                  <a:pt x="916" y="25"/>
                </a:lnTo>
                <a:lnTo>
                  <a:pt x="858" y="19"/>
                </a:lnTo>
                <a:lnTo>
                  <a:pt x="781" y="13"/>
                </a:lnTo>
                <a:lnTo>
                  <a:pt x="697" y="6"/>
                </a:lnTo>
                <a:lnTo>
                  <a:pt x="600" y="0"/>
                </a:lnTo>
                <a:lnTo>
                  <a:pt x="503" y="0"/>
                </a:lnTo>
                <a:lnTo>
                  <a:pt x="503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00360" y="4303800"/>
            <a:ext cx="1587600" cy="163440"/>
          </a:xfrm>
          <a:custGeom>
            <a:avLst/>
            <a:gdLst/>
            <a:ahLst/>
            <a:rect l="l" t="t" r="r" b="b"/>
            <a:pathLst>
              <a:path w="1000" h="103">
                <a:moveTo>
                  <a:pt x="0" y="45"/>
                </a:moveTo>
                <a:lnTo>
                  <a:pt x="12" y="58"/>
                </a:lnTo>
                <a:lnTo>
                  <a:pt x="45" y="71"/>
                </a:lnTo>
                <a:lnTo>
                  <a:pt x="90" y="77"/>
                </a:lnTo>
                <a:lnTo>
                  <a:pt x="148" y="84"/>
                </a:lnTo>
                <a:lnTo>
                  <a:pt x="225" y="96"/>
                </a:lnTo>
                <a:lnTo>
                  <a:pt x="309" y="96"/>
                </a:lnTo>
                <a:lnTo>
                  <a:pt x="400" y="103"/>
                </a:lnTo>
                <a:lnTo>
                  <a:pt x="503" y="103"/>
                </a:lnTo>
                <a:lnTo>
                  <a:pt x="600" y="103"/>
                </a:lnTo>
                <a:lnTo>
                  <a:pt x="697" y="96"/>
                </a:lnTo>
                <a:lnTo>
                  <a:pt x="781" y="96"/>
                </a:lnTo>
                <a:lnTo>
                  <a:pt x="858" y="84"/>
                </a:lnTo>
                <a:lnTo>
                  <a:pt x="916" y="77"/>
                </a:lnTo>
                <a:lnTo>
                  <a:pt x="968" y="71"/>
                </a:lnTo>
                <a:lnTo>
                  <a:pt x="987" y="58"/>
                </a:lnTo>
                <a:lnTo>
                  <a:pt x="1000" y="45"/>
                </a:lnTo>
                <a:lnTo>
                  <a:pt x="987" y="45"/>
                </a:lnTo>
                <a:lnTo>
                  <a:pt x="968" y="32"/>
                </a:lnTo>
                <a:lnTo>
                  <a:pt x="916" y="25"/>
                </a:lnTo>
                <a:lnTo>
                  <a:pt x="858" y="19"/>
                </a:lnTo>
                <a:lnTo>
                  <a:pt x="781" y="13"/>
                </a:lnTo>
                <a:lnTo>
                  <a:pt x="697" y="6"/>
                </a:lnTo>
                <a:lnTo>
                  <a:pt x="600" y="0"/>
                </a:lnTo>
                <a:lnTo>
                  <a:pt x="503" y="0"/>
                </a:lnTo>
                <a:lnTo>
                  <a:pt x="400" y="0"/>
                </a:lnTo>
                <a:lnTo>
                  <a:pt x="309" y="6"/>
                </a:lnTo>
                <a:lnTo>
                  <a:pt x="225" y="13"/>
                </a:lnTo>
                <a:lnTo>
                  <a:pt x="148" y="19"/>
                </a:lnTo>
                <a:lnTo>
                  <a:pt x="90" y="25"/>
                </a:lnTo>
                <a:lnTo>
                  <a:pt x="45" y="32"/>
                </a:lnTo>
                <a:lnTo>
                  <a:pt x="12" y="45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f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24120" y="4303800"/>
            <a:ext cx="1587600" cy="644400"/>
          </a:xfrm>
          <a:custGeom>
            <a:avLst/>
            <a:gdLst/>
            <a:ahLst/>
            <a:rect l="l" t="t" r="r" b="b"/>
            <a:pathLst>
              <a:path w="1000" h="406">
                <a:moveTo>
                  <a:pt x="503" y="0"/>
                </a:moveTo>
                <a:lnTo>
                  <a:pt x="400" y="0"/>
                </a:lnTo>
                <a:lnTo>
                  <a:pt x="309" y="6"/>
                </a:lnTo>
                <a:lnTo>
                  <a:pt x="225" y="13"/>
                </a:lnTo>
                <a:lnTo>
                  <a:pt x="148" y="19"/>
                </a:lnTo>
                <a:lnTo>
                  <a:pt x="90" y="25"/>
                </a:lnTo>
                <a:lnTo>
                  <a:pt x="45" y="32"/>
                </a:lnTo>
                <a:lnTo>
                  <a:pt x="12" y="45"/>
                </a:lnTo>
                <a:lnTo>
                  <a:pt x="0" y="45"/>
                </a:lnTo>
                <a:lnTo>
                  <a:pt x="0" y="355"/>
                </a:lnTo>
                <a:lnTo>
                  <a:pt x="12" y="368"/>
                </a:lnTo>
                <a:lnTo>
                  <a:pt x="45" y="374"/>
                </a:lnTo>
                <a:lnTo>
                  <a:pt x="90" y="381"/>
                </a:lnTo>
                <a:lnTo>
                  <a:pt x="148" y="394"/>
                </a:lnTo>
                <a:lnTo>
                  <a:pt x="225" y="400"/>
                </a:lnTo>
                <a:lnTo>
                  <a:pt x="309" y="400"/>
                </a:lnTo>
                <a:lnTo>
                  <a:pt x="400" y="406"/>
                </a:lnTo>
                <a:lnTo>
                  <a:pt x="503" y="406"/>
                </a:lnTo>
                <a:lnTo>
                  <a:pt x="600" y="406"/>
                </a:lnTo>
                <a:lnTo>
                  <a:pt x="697" y="400"/>
                </a:lnTo>
                <a:lnTo>
                  <a:pt x="781" y="400"/>
                </a:lnTo>
                <a:lnTo>
                  <a:pt x="858" y="394"/>
                </a:lnTo>
                <a:lnTo>
                  <a:pt x="916" y="381"/>
                </a:lnTo>
                <a:lnTo>
                  <a:pt x="968" y="374"/>
                </a:lnTo>
                <a:lnTo>
                  <a:pt x="987" y="368"/>
                </a:lnTo>
                <a:lnTo>
                  <a:pt x="1000" y="355"/>
                </a:lnTo>
                <a:lnTo>
                  <a:pt x="1000" y="45"/>
                </a:lnTo>
                <a:lnTo>
                  <a:pt x="987" y="45"/>
                </a:lnTo>
                <a:lnTo>
                  <a:pt x="968" y="32"/>
                </a:lnTo>
                <a:lnTo>
                  <a:pt x="916" y="25"/>
                </a:lnTo>
                <a:lnTo>
                  <a:pt x="858" y="19"/>
                </a:lnTo>
                <a:lnTo>
                  <a:pt x="781" y="13"/>
                </a:lnTo>
                <a:lnTo>
                  <a:pt x="697" y="6"/>
                </a:lnTo>
                <a:lnTo>
                  <a:pt x="600" y="0"/>
                </a:lnTo>
                <a:lnTo>
                  <a:pt x="503" y="0"/>
                </a:lnTo>
                <a:lnTo>
                  <a:pt x="503" y="0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76120" y="4641840"/>
            <a:ext cx="7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Tahoma"/>
              </a:rPr>
              <a:t>•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60360" y="4648320"/>
            <a:ext cx="94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Tahoma"/>
              </a:rPr>
              <a:t>Work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86160" y="4097160"/>
            <a:ext cx="1800" cy="123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24240" y="4016520"/>
            <a:ext cx="133560" cy="112680"/>
          </a:xfrm>
          <a:custGeom>
            <a:avLst/>
            <a:gdLst/>
            <a:ahLst/>
            <a:rect l="l" t="t" r="r" b="b"/>
            <a:pathLst>
              <a:path w="84" h="71">
                <a:moveTo>
                  <a:pt x="84" y="71"/>
                </a:moveTo>
                <a:lnTo>
                  <a:pt x="39" y="0"/>
                </a:lnTo>
                <a:lnTo>
                  <a:pt x="0" y="71"/>
                </a:lnTo>
                <a:lnTo>
                  <a:pt x="84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24240" y="4200480"/>
            <a:ext cx="133560" cy="123840"/>
          </a:xfrm>
          <a:custGeom>
            <a:avLst/>
            <a:gdLst/>
            <a:ahLst/>
            <a:rect l="l" t="t" r="r" b="b"/>
            <a:pathLst>
              <a:path w="84" h="78">
                <a:moveTo>
                  <a:pt x="0" y="0"/>
                </a:moveTo>
                <a:lnTo>
                  <a:pt x="39" y="78"/>
                </a:lnTo>
                <a:lnTo>
                  <a:pt x="8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00360" y="4375080"/>
            <a:ext cx="1587600" cy="92160"/>
          </a:xfrm>
          <a:custGeom>
            <a:avLst/>
            <a:gdLst/>
            <a:ahLst/>
            <a:rect l="l" t="t" r="r" b="b"/>
            <a:pathLst>
              <a:path w="1000" h="58">
                <a:moveTo>
                  <a:pt x="0" y="0"/>
                </a:moveTo>
                <a:lnTo>
                  <a:pt x="12" y="13"/>
                </a:lnTo>
                <a:lnTo>
                  <a:pt x="45" y="26"/>
                </a:lnTo>
                <a:lnTo>
                  <a:pt x="90" y="32"/>
                </a:lnTo>
                <a:lnTo>
                  <a:pt x="148" y="39"/>
                </a:lnTo>
                <a:lnTo>
                  <a:pt x="225" y="51"/>
                </a:lnTo>
                <a:lnTo>
                  <a:pt x="309" y="51"/>
                </a:lnTo>
                <a:lnTo>
                  <a:pt x="400" y="58"/>
                </a:lnTo>
                <a:lnTo>
                  <a:pt x="503" y="58"/>
                </a:lnTo>
                <a:lnTo>
                  <a:pt x="600" y="58"/>
                </a:lnTo>
                <a:lnTo>
                  <a:pt x="697" y="51"/>
                </a:lnTo>
                <a:lnTo>
                  <a:pt x="781" y="51"/>
                </a:lnTo>
                <a:lnTo>
                  <a:pt x="858" y="39"/>
                </a:lnTo>
                <a:lnTo>
                  <a:pt x="916" y="32"/>
                </a:lnTo>
                <a:lnTo>
                  <a:pt x="968" y="26"/>
                </a:lnTo>
                <a:lnTo>
                  <a:pt x="987" y="13"/>
                </a:lnTo>
                <a:lnTo>
                  <a:pt x="1000" y="0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53440" y="4467240"/>
            <a:ext cx="72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Tahoma"/>
              </a:rPr>
              <a:t>Arch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4120" y="4467240"/>
            <a:ext cx="7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Tahoma"/>
              </a:rPr>
              <a:t>•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452200" y="4600440"/>
            <a:ext cx="1427040" cy="392400"/>
            <a:chOff x="5452200" y="4600440"/>
            <a:chExt cx="1427040" cy="392400"/>
          </a:xfrm>
        </p:grpSpPr>
        <p:sp>
          <p:nvSpPr>
            <p:cNvPr id="270" name=""/>
            <p:cNvSpPr/>
            <p:nvPr/>
          </p:nvSpPr>
          <p:spPr>
            <a:xfrm>
              <a:off x="6289920" y="4600440"/>
              <a:ext cx="41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Ro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52200" y="4764240"/>
              <a:ext cx="1427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administ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06520" y="4600440"/>
              <a:ext cx="6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5375880" y="5205240"/>
            <a:ext cx="160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Tahoma"/>
              </a:rPr>
              <a:t>Security 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560600" y="5553000"/>
            <a:ext cx="1251000" cy="933480"/>
            <a:chOff x="1560600" y="5553000"/>
            <a:chExt cx="1251000" cy="933480"/>
          </a:xfrm>
        </p:grpSpPr>
        <p:sp>
          <p:nvSpPr>
            <p:cNvPr id="275" name=""/>
            <p:cNvSpPr/>
            <p:nvPr/>
          </p:nvSpPr>
          <p:spPr>
            <a:xfrm>
              <a:off x="1560600" y="5810400"/>
              <a:ext cx="1251000" cy="676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83800" y="5850000"/>
              <a:ext cx="938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Certifica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33400" y="6014880"/>
              <a:ext cx="733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Valida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96040" y="6189840"/>
              <a:ext cx="848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Authorit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174760" y="5646240"/>
              <a:ext cx="1800" cy="101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24000" y="5727600"/>
              <a:ext cx="123840" cy="112680"/>
            </a:xfrm>
            <a:custGeom>
              <a:avLst/>
              <a:gdLst/>
              <a:ahLst/>
              <a:rect l="l" t="t" r="r" b="b"/>
              <a:pathLst>
                <a:path w="78" h="71">
                  <a:moveTo>
                    <a:pt x="0" y="0"/>
                  </a:moveTo>
                  <a:lnTo>
                    <a:pt x="39" y="71"/>
                  </a:lnTo>
                  <a:lnTo>
                    <a:pt x="7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24000" y="555300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78"/>
                  </a:moveTo>
                  <a:lnTo>
                    <a:pt x="39" y="0"/>
                  </a:lnTo>
                  <a:lnTo>
                    <a:pt x="0" y="78"/>
                  </a:lnTo>
                  <a:lnTo>
                    <a:pt x="78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943360" y="5532480"/>
            <a:ext cx="4365360" cy="1057320"/>
            <a:chOff x="2943360" y="5532480"/>
            <a:chExt cx="4365360" cy="1057320"/>
          </a:xfrm>
        </p:grpSpPr>
        <p:sp>
          <p:nvSpPr>
            <p:cNvPr id="283" name=""/>
            <p:cNvSpPr/>
            <p:nvPr/>
          </p:nvSpPr>
          <p:spPr>
            <a:xfrm>
              <a:off x="2943360" y="5769000"/>
              <a:ext cx="4222440" cy="82080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92040" y="6208560"/>
              <a:ext cx="1748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900" spc="-1" strike="noStrike">
                  <a:solidFill>
                    <a:srgbClr val="f8f8f8"/>
                  </a:solidFill>
                  <a:latin typeface="Tahoma"/>
                </a:rPr>
                <a:t>Public regist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97080" y="5819760"/>
              <a:ext cx="1251000" cy="399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92560" y="5799240"/>
              <a:ext cx="58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05440" y="57992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48080" y="5973840"/>
              <a:ext cx="70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regis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92760" y="5819760"/>
              <a:ext cx="1219320" cy="399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66000" y="5799240"/>
              <a:ext cx="1242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Legal Ent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18320" y="57992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32240" y="5973840"/>
              <a:ext cx="70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regis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60760" y="5819760"/>
              <a:ext cx="1219320" cy="411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50760" y="5799240"/>
              <a:ext cx="116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Central pop.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19800" y="5973840"/>
              <a:ext cx="70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regis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713040" y="5646600"/>
              <a:ext cx="180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51120" y="5553000"/>
              <a:ext cx="122400" cy="12384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77" y="78"/>
                  </a:moveTo>
                  <a:lnTo>
                    <a:pt x="39" y="0"/>
                  </a:lnTo>
                  <a:lnTo>
                    <a:pt x="0" y="78"/>
                  </a:lnTo>
                  <a:lnTo>
                    <a:pt x="77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065560" y="5626080"/>
              <a:ext cx="180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03640" y="5532480"/>
              <a:ext cx="133560" cy="12384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84" y="78"/>
                  </a:moveTo>
                  <a:lnTo>
                    <a:pt x="45" y="0"/>
                  </a:lnTo>
                  <a:lnTo>
                    <a:pt x="0" y="78"/>
                  </a:lnTo>
                  <a:lnTo>
                    <a:pt x="8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397560" y="5614560"/>
              <a:ext cx="1800" cy="195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45360" y="5532480"/>
              <a:ext cx="123840" cy="11412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78" y="72"/>
                  </a:moveTo>
                  <a:lnTo>
                    <a:pt x="33" y="0"/>
                  </a:lnTo>
                  <a:lnTo>
                    <a:pt x="0" y="72"/>
                  </a:lnTo>
                  <a:lnTo>
                    <a:pt x="7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149640" y="1986120"/>
            <a:ext cx="2252520" cy="2327040"/>
            <a:chOff x="3149640" y="1986120"/>
            <a:chExt cx="2252520" cy="2327040"/>
          </a:xfrm>
        </p:grpSpPr>
        <p:sp>
          <p:nvSpPr>
            <p:cNvPr id="303" name=""/>
            <p:cNvSpPr/>
            <p:nvPr/>
          </p:nvSpPr>
          <p:spPr>
            <a:xfrm flipV="1">
              <a:off x="4900680" y="2048040"/>
              <a:ext cx="1440" cy="2265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241800" y="2048040"/>
              <a:ext cx="1658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49640" y="1986120"/>
              <a:ext cx="122040" cy="12384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77" y="0"/>
                  </a:moveTo>
                  <a:lnTo>
                    <a:pt x="0" y="45"/>
                  </a:lnTo>
                  <a:lnTo>
                    <a:pt x="77" y="7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90400" y="206856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ahoma"/>
                </a:rPr>
                <a:t>P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52840" y="2068560"/>
              <a:ext cx="4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32080" y="22226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ahoma"/>
                </a:rPr>
                <a:t>fi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467160" y="2908440"/>
            <a:ext cx="1976400" cy="110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75680" y="3213000"/>
            <a:ext cx="974880" cy="576000"/>
            <a:chOff x="3775680" y="3213000"/>
            <a:chExt cx="974880" cy="576000"/>
          </a:xfrm>
        </p:grpSpPr>
        <p:sp>
          <p:nvSpPr>
            <p:cNvPr id="311" name=""/>
            <p:cNvSpPr/>
            <p:nvPr/>
          </p:nvSpPr>
          <p:spPr>
            <a:xfrm>
              <a:off x="4021200" y="3213000"/>
              <a:ext cx="72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Receiv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79720" y="3385800"/>
              <a:ext cx="786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Valida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75680" y="3560400"/>
              <a:ext cx="962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Distribu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7934400" y="1146240"/>
            <a:ext cx="963360" cy="435600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5400000">
            <a:off x="8170920" y="3366000"/>
            <a:ext cx="1078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900" spc="-1" strike="noStrike">
                <a:solidFill>
                  <a:srgbClr val="f8f8f8"/>
                </a:solidFill>
                <a:latin typeface="Tahoma"/>
              </a:rPr>
              <a:t>Agenc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28000" y="1197000"/>
            <a:ext cx="388800" cy="115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8060040" y="1671120"/>
            <a:ext cx="582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For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8318880" y="20912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7934040" y="1940760"/>
            <a:ext cx="56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Arial"/>
              </a:rPr>
              <a:t>own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067600" y="2754360"/>
            <a:ext cx="389160" cy="117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5400000">
            <a:off x="8006760" y="3303720"/>
            <a:ext cx="68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Arial"/>
              </a:rPr>
              <a:t>Agenc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8318880" y="347400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5400000">
            <a:off x="7793280" y="3197160"/>
            <a:ext cx="76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syste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75200" y="1504800"/>
            <a:ext cx="20894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81600" y="1452600"/>
            <a:ext cx="123840" cy="123840"/>
          </a:xfrm>
          <a:custGeom>
            <a:avLst/>
            <a:gdLst/>
            <a:ahLst/>
            <a:rect l="l" t="t" r="r" b="b"/>
            <a:pathLst>
              <a:path w="78" h="78">
                <a:moveTo>
                  <a:pt x="78" y="0"/>
                </a:moveTo>
                <a:lnTo>
                  <a:pt x="0" y="39"/>
                </a:lnTo>
                <a:lnTo>
                  <a:pt x="78" y="78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954920" y="1452600"/>
            <a:ext cx="122400" cy="123840"/>
          </a:xfrm>
          <a:custGeom>
            <a:avLst/>
            <a:gdLst/>
            <a:ahLst/>
            <a:rect l="l" t="t" r="r" b="b"/>
            <a:pathLst>
              <a:path w="77" h="78">
                <a:moveTo>
                  <a:pt x="0" y="78"/>
                </a:moveTo>
                <a:lnTo>
                  <a:pt x="77" y="39"/>
                </a:lnTo>
                <a:lnTo>
                  <a:pt x="0" y="0"/>
                </a:lnTo>
                <a:lnTo>
                  <a:pt x="0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99360" y="3605040"/>
            <a:ext cx="7272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07200" y="3544920"/>
            <a:ext cx="122400" cy="122040"/>
          </a:xfrm>
          <a:custGeom>
            <a:avLst/>
            <a:gdLst/>
            <a:ahLst/>
            <a:rect l="l" t="t" r="r" b="b"/>
            <a:pathLst>
              <a:path w="77" h="77">
                <a:moveTo>
                  <a:pt x="77" y="0"/>
                </a:moveTo>
                <a:lnTo>
                  <a:pt x="0" y="38"/>
                </a:lnTo>
                <a:lnTo>
                  <a:pt x="77" y="77"/>
                </a:lnTo>
                <a:lnTo>
                  <a:pt x="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005680" y="3544920"/>
            <a:ext cx="123840" cy="122040"/>
          </a:xfrm>
          <a:custGeom>
            <a:avLst/>
            <a:gdLst/>
            <a:ahLst/>
            <a:rect l="l" t="t" r="r" b="b"/>
            <a:pathLst>
              <a:path w="78" h="77">
                <a:moveTo>
                  <a:pt x="0" y="77"/>
                </a:moveTo>
                <a:lnTo>
                  <a:pt x="78" y="38"/>
                </a:lnTo>
                <a:lnTo>
                  <a:pt x="0" y="0"/>
                </a:lnTo>
                <a:lnTo>
                  <a:pt x="0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067600" y="4241880"/>
            <a:ext cx="389160" cy="1168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8123040" y="4781880"/>
            <a:ext cx="45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Web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5400000">
            <a:off x="7752600" y="4711680"/>
            <a:ext cx="848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Arial"/>
              </a:rPr>
              <a:t>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86680" y="4784760"/>
            <a:ext cx="7365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94520" y="4722840"/>
            <a:ext cx="122400" cy="123840"/>
          </a:xfrm>
          <a:custGeom>
            <a:avLst/>
            <a:gdLst/>
            <a:ahLst/>
            <a:rect l="l" t="t" r="r" b="b"/>
            <a:pathLst>
              <a:path w="77" h="78">
                <a:moveTo>
                  <a:pt x="77" y="0"/>
                </a:moveTo>
                <a:lnTo>
                  <a:pt x="0" y="39"/>
                </a:lnTo>
                <a:lnTo>
                  <a:pt x="77" y="78"/>
                </a:lnTo>
                <a:lnTo>
                  <a:pt x="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904160" y="4722840"/>
            <a:ext cx="112680" cy="123840"/>
          </a:xfrm>
          <a:custGeom>
            <a:avLst/>
            <a:gdLst/>
            <a:ahLst/>
            <a:rect l="l" t="t" r="r" b="b"/>
            <a:pathLst>
              <a:path w="71" h="78">
                <a:moveTo>
                  <a:pt x="0" y="78"/>
                </a:moveTo>
                <a:lnTo>
                  <a:pt x="71" y="39"/>
                </a:lnTo>
                <a:lnTo>
                  <a:pt x="0" y="0"/>
                </a:lnTo>
                <a:lnTo>
                  <a:pt x="0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998880" y="1166760"/>
            <a:ext cx="1782720" cy="676440"/>
            <a:chOff x="3998880" y="1166760"/>
            <a:chExt cx="1782720" cy="676440"/>
          </a:xfrm>
        </p:grpSpPr>
        <p:sp>
          <p:nvSpPr>
            <p:cNvPr id="337" name=""/>
            <p:cNvSpPr/>
            <p:nvPr/>
          </p:nvSpPr>
          <p:spPr>
            <a:xfrm>
              <a:off x="3998880" y="1166760"/>
              <a:ext cx="1782720" cy="676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10800" y="1289160"/>
              <a:ext cx="59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39800" y="1289160"/>
              <a:ext cx="6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91840" y="1463760"/>
              <a:ext cx="1427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administ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508720" y="3141720"/>
            <a:ext cx="1731960" cy="850680"/>
            <a:chOff x="5508720" y="3141720"/>
            <a:chExt cx="1731960" cy="850680"/>
          </a:xfrm>
        </p:grpSpPr>
        <p:sp>
          <p:nvSpPr>
            <p:cNvPr id="342" name=""/>
            <p:cNvSpPr/>
            <p:nvPr/>
          </p:nvSpPr>
          <p:spPr>
            <a:xfrm>
              <a:off x="5938920" y="3141720"/>
              <a:ext cx="1301760" cy="850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48000" y="3182760"/>
              <a:ext cx="932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Interfac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27720" y="3346200"/>
              <a:ext cx="18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47840" y="3346200"/>
              <a:ext cx="6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79960" y="3511440"/>
              <a:ext cx="695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Agenc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6360" y="3686040"/>
              <a:ext cx="68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syst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00880" y="3511440"/>
              <a:ext cx="245880" cy="1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508720" y="3449520"/>
              <a:ext cx="122040" cy="12168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0"/>
                  </a:moveTo>
                  <a:lnTo>
                    <a:pt x="0" y="45"/>
                  </a:lnTo>
                  <a:lnTo>
                    <a:pt x="77" y="77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26240" y="3449520"/>
              <a:ext cx="133200" cy="12168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0" y="77"/>
                  </a:moveTo>
                  <a:lnTo>
                    <a:pt x="84" y="45"/>
                  </a:lnTo>
                  <a:lnTo>
                    <a:pt x="0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5800" y="2209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5400" spc="-1" strike="noStrike">
                <a:solidFill>
                  <a:srgbClr val="008000"/>
                </a:solidFill>
                <a:latin typeface="ITC Officina Sans Book"/>
              </a:rPr>
              <a:t>Forms Develop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505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rmAutofit/>
          </a:bodyPr>
          <a:p>
            <a:pPr marL="322200" indent="-322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3400" spc="-1" strike="noStrike">
                <a:solidFill>
                  <a:srgbClr val="008000"/>
                </a:solidFill>
                <a:latin typeface="ITC Officina Sans Book"/>
              </a:rPr>
              <a:t>The current standard layout</a:t>
            </a: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772308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476360" y="2708280"/>
          <a:ext cx="580068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08280"/>
                    <a:ext cx="580068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95280" y="1146240"/>
            <a:ext cx="80136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2438280" y="1066680"/>
          <a:ext cx="6705720" cy="5008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066680"/>
                    <a:ext cx="670572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9240" y="158760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3400" spc="-1" strike="noStrike">
                <a:solidFill>
                  <a:srgbClr val="008000"/>
                </a:solidFill>
                <a:latin typeface="ITC Officina Sans Book"/>
              </a:rPr>
              <a:t>Life cycle</a:t>
            </a:r>
            <a:br>
              <a:rPr sz="3400"/>
            </a:br>
            <a:r>
              <a:rPr b="1" lang="nb-NO" sz="3400" spc="-1" strike="noStrike">
                <a:solidFill>
                  <a:srgbClr val="008000"/>
                </a:solidFill>
                <a:latin typeface="ITC Officina Sans Book"/>
              </a:rPr>
              <a:t>forms / </a:t>
            </a:r>
            <a:br>
              <a:rPr sz="3400"/>
            </a:br>
            <a:r>
              <a:rPr b="1" lang="nb-NO" sz="3400" spc="-1" strike="noStrike">
                <a:solidFill>
                  <a:srgbClr val="008000"/>
                </a:solidFill>
                <a:latin typeface="ITC Officina Sans Book"/>
              </a:rPr>
              <a:t>metadata</a:t>
            </a: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363" name=""/>
          <p:cNvSpPr/>
          <p:nvPr/>
        </p:nvSpPr>
        <p:spPr>
          <a:xfrm>
            <a:off x="324000" y="4437000"/>
            <a:ext cx="3313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NB! Most of the data will be sent from the Enterpri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(Not filling in the web form manu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0" y="2128680"/>
            <a:ext cx="9144000" cy="5034240"/>
            <a:chOff x="0" y="2128680"/>
            <a:chExt cx="9144000" cy="5034240"/>
          </a:xfrm>
        </p:grpSpPr>
        <p:pic>
          <p:nvPicPr>
            <p:cNvPr id="365" name="" descr=""/>
            <p:cNvPicPr/>
            <p:nvPr/>
          </p:nvPicPr>
          <p:blipFill>
            <a:blip r:embed="rId1"/>
            <a:stretch/>
          </p:blipFill>
          <p:spPr>
            <a:xfrm>
              <a:off x="152280" y="2128680"/>
              <a:ext cx="8920440" cy="49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0" y="3505320"/>
              <a:ext cx="533520" cy="335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534520" y="3505320"/>
              <a:ext cx="533160" cy="335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2280" y="6705720"/>
              <a:ext cx="8991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91120" y="4495680"/>
              <a:ext cx="4419360" cy="1981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733920"/>
              <a:ext cx="2133720" cy="457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ITC Officina Sans Book"/>
              </a:rPr>
              <a:t>Metadata</a:t>
            </a: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1920" y="2082960"/>
            <a:ext cx="899172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22200" indent="-32220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NewCenturySchlbk"/>
              </a:rPr>
              <a:t>Defining data (fields, variables)</a:t>
            </a:r>
            <a:endParaRPr b="1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NewCenturySchlbk"/>
              </a:rPr>
              <a:t>Format type (datatype, length, min/max value, etc)</a:t>
            </a:r>
            <a:endParaRPr b="1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NewCenturySchlbk"/>
              </a:rPr>
              <a:t>Groups</a:t>
            </a:r>
            <a:endParaRPr b="1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NewCenturySchlbk"/>
              </a:rPr>
              <a:t>Text (info text, help text, hints)</a:t>
            </a:r>
            <a:endParaRPr b="1" lang="en-US" sz="18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6:01:51Z</dcterms:created>
  <dc:creator>MetaFrame SKD</dc:creator>
  <dc:description/>
  <dc:language>en-US</dc:language>
  <cp:lastModifiedBy>Torgeir Vik</cp:lastModifiedBy>
  <cp:lastPrinted>2002-12-18T21:00:14Z</cp:lastPrinted>
  <dcterms:modified xsi:type="dcterms:W3CDTF">2004-05-05T07:59:43Z</dcterms:modified>
  <cp:revision>40</cp:revision>
  <dc:subject/>
  <dc:title>Velkommen til kick-off for AltInns mottaksprosjekt!  9.-10. oktober 2002</dc:title>
</cp:coreProperties>
</file>