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7380288"/>
  <p:notesSz cx="986790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8DD-E29A-4E31-9AE5-D36550D1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4420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EA8-B7AF-4D35-9100-78C2FEA4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042-EB40-4EB7-9ACA-9E2ECB22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E13-24D3-4799-8042-B6B40DC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2AD-68E5-427C-896C-11EBC08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591-2009-41F4-8FE6-7E3F572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5EF-82D4-4C2F-9B2C-47145A46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BE3-1833-4702-8B76-FD5F11A2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55560"/>
            <a:ext cx="777240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598-F3BD-4674-9521-0D20D18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BD3-AD66-414E-A40D-5BEF31E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B9A-5B9D-49FF-9905-628475F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0A8-333B-4942-891B-0FF74652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724440"/>
            <a:ext cx="1905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724440"/>
            <a:ext cx="2898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724440"/>
            <a:ext cx="1905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C1DA-C1D5-4A7B-B958-B31FB3DA2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6574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4.png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image" Target="../media/image17.png"/><Relationship Id="rId22" Type="http://schemas.openxmlformats.org/officeDocument/2006/relationships/image" Target="../media/image18.wmf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522360"/>
            <a:ext cx="728496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4560" y="6170760"/>
            <a:ext cx="713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17000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usage of a data capture tool in statistical surveys on enterp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397800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Times New Roman"/>
              </a:rPr>
              <a:t>Rossana Balestrino, Patrizia La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Times New Roman"/>
              </a:rPr>
              <a:t>Istat - Via C. Balbo 16 - 00184 Roma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649908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760" y="5911920"/>
            <a:ext cx="768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1840" y="744480"/>
            <a:ext cx="579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Classes of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4838760"/>
            <a:ext cx="1951200" cy="1363320"/>
            <a:chOff x="914400" y="4838760"/>
            <a:chExt cx="1951200" cy="1363320"/>
          </a:xfrm>
        </p:grpSpPr>
        <p:sp>
          <p:nvSpPr>
            <p:cNvPr id="52" name=""/>
            <p:cNvSpPr/>
            <p:nvPr/>
          </p:nvSpPr>
          <p:spPr>
            <a:xfrm>
              <a:off x="1176120" y="5742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Househo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14400" y="4838760"/>
              <a:ext cx="1912680" cy="86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3581280" y="5002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ampling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Limited coverage of technological equipment and access  to the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Face-to-face and CATI/CAPI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25480" y="706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986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00800" y="3116160"/>
            <a:ext cx="1698120" cy="1504440"/>
            <a:chOff x="6400800" y="3116160"/>
            <a:chExt cx="1698120" cy="1504440"/>
          </a:xfrm>
        </p:grpSpPr>
        <p:sp>
          <p:nvSpPr>
            <p:cNvPr id="58" name=""/>
            <p:cNvSpPr/>
            <p:nvPr/>
          </p:nvSpPr>
          <p:spPr>
            <a:xfrm>
              <a:off x="6400800" y="41608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Enterpr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3116160"/>
              <a:ext cx="1698120" cy="102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273480" y="163980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Total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Web and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Adequate technological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Known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4520" y="3090960"/>
            <a:ext cx="38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ampling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Heterogeneous technological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Information systems not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Unknown and changeable pro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elf-inter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90720" y="1557360"/>
            <a:ext cx="1827000" cy="8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9800" y="229536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3480" y="6203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5480" y="6348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570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65280"/>
            <a:ext cx="7918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Multi-technique approach  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to data collectio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2131560"/>
            <a:ext cx="8135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lets us introduce innovation in the processes without forcing the respondent environ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vercomes population coverage problems in selecting sample uni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favours the respondent who can select the way he prefers;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provides the advantages of CASIC techniques   (timeliness, cost, quality) but implies a higher management co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51640" y="233280"/>
            <a:ext cx="1209600" cy="4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792920" y="84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8200" y="584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6354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eleform  - (VERITY U.S.A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961640"/>
            <a:ext cx="7991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product is a bridge between paper forms and electronic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turns paper into digital forms treated through OCR engi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can generate electronic forms HTML or PDF, which can be administered by web or by e-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allows the fax-server use for mailing and receiving paper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t ISTAT Teleform was selected in 2000 because of the positive relation between quality and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209600" cy="4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23840" y="613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77240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12720"/>
            <a:ext cx="7010280" cy="428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8160" y="2052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elefor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0320" y="574560"/>
            <a:ext cx="7544880" cy="5739840"/>
            <a:chOff x="760320" y="574560"/>
            <a:chExt cx="7544880" cy="5739840"/>
          </a:xfrm>
        </p:grpSpPr>
        <p:grpSp>
          <p:nvGrpSpPr>
            <p:cNvPr id="83" name=""/>
            <p:cNvGrpSpPr/>
            <p:nvPr/>
          </p:nvGrpSpPr>
          <p:grpSpPr>
            <a:xfrm>
              <a:off x="4484160" y="5879520"/>
              <a:ext cx="255240" cy="390240"/>
              <a:chOff x="4484160" y="5879520"/>
              <a:chExt cx="255240" cy="390240"/>
            </a:xfrm>
          </p:grpSpPr>
          <p:sp>
            <p:nvSpPr>
              <p:cNvPr id="84" name=""/>
              <p:cNvSpPr/>
              <p:nvPr/>
            </p:nvSpPr>
            <p:spPr>
              <a:xfrm>
                <a:off x="4563720" y="5879520"/>
                <a:ext cx="175680" cy="278640"/>
              </a:xfrm>
              <a:custGeom>
                <a:avLst/>
                <a:gdLst/>
                <a:ahLst/>
                <a:rect l="l" t="t" r="r" b="b"/>
                <a:pathLst>
                  <a:path w="561" h="873">
                    <a:moveTo>
                      <a:pt x="0" y="494"/>
                    </a:moveTo>
                    <a:lnTo>
                      <a:pt x="26" y="516"/>
                    </a:lnTo>
                    <a:lnTo>
                      <a:pt x="38" y="539"/>
                    </a:lnTo>
                    <a:lnTo>
                      <a:pt x="50" y="574"/>
                    </a:lnTo>
                    <a:lnTo>
                      <a:pt x="66" y="611"/>
                    </a:lnTo>
                    <a:lnTo>
                      <a:pt x="66" y="637"/>
                    </a:lnTo>
                    <a:lnTo>
                      <a:pt x="65" y="670"/>
                    </a:lnTo>
                    <a:lnTo>
                      <a:pt x="61" y="698"/>
                    </a:lnTo>
                    <a:lnTo>
                      <a:pt x="58" y="726"/>
                    </a:lnTo>
                    <a:lnTo>
                      <a:pt x="58" y="753"/>
                    </a:lnTo>
                    <a:lnTo>
                      <a:pt x="62" y="777"/>
                    </a:lnTo>
                    <a:lnTo>
                      <a:pt x="69" y="803"/>
                    </a:lnTo>
                    <a:lnTo>
                      <a:pt x="82" y="823"/>
                    </a:lnTo>
                    <a:lnTo>
                      <a:pt x="99" y="840"/>
                    </a:lnTo>
                    <a:lnTo>
                      <a:pt x="119" y="853"/>
                    </a:lnTo>
                    <a:lnTo>
                      <a:pt x="139" y="863"/>
                    </a:lnTo>
                    <a:lnTo>
                      <a:pt x="163" y="869"/>
                    </a:lnTo>
                    <a:lnTo>
                      <a:pt x="188" y="873"/>
                    </a:lnTo>
                    <a:lnTo>
                      <a:pt x="215" y="873"/>
                    </a:lnTo>
                    <a:lnTo>
                      <a:pt x="239" y="870"/>
                    </a:lnTo>
                    <a:lnTo>
                      <a:pt x="265" y="865"/>
                    </a:lnTo>
                    <a:lnTo>
                      <a:pt x="292" y="859"/>
                    </a:lnTo>
                    <a:lnTo>
                      <a:pt x="318" y="850"/>
                    </a:lnTo>
                    <a:lnTo>
                      <a:pt x="342" y="838"/>
                    </a:lnTo>
                    <a:lnTo>
                      <a:pt x="360" y="827"/>
                    </a:lnTo>
                    <a:lnTo>
                      <a:pt x="380" y="812"/>
                    </a:lnTo>
                    <a:lnTo>
                      <a:pt x="398" y="797"/>
                    </a:lnTo>
                    <a:lnTo>
                      <a:pt x="410" y="780"/>
                    </a:lnTo>
                    <a:lnTo>
                      <a:pt x="422" y="763"/>
                    </a:lnTo>
                    <a:lnTo>
                      <a:pt x="434" y="740"/>
                    </a:lnTo>
                    <a:lnTo>
                      <a:pt x="441" y="721"/>
                    </a:lnTo>
                    <a:lnTo>
                      <a:pt x="452" y="701"/>
                    </a:lnTo>
                    <a:lnTo>
                      <a:pt x="462" y="685"/>
                    </a:lnTo>
                    <a:lnTo>
                      <a:pt x="484" y="660"/>
                    </a:lnTo>
                    <a:lnTo>
                      <a:pt x="495" y="651"/>
                    </a:lnTo>
                    <a:lnTo>
                      <a:pt x="512" y="636"/>
                    </a:lnTo>
                    <a:lnTo>
                      <a:pt x="561" y="617"/>
                    </a:lnTo>
                    <a:lnTo>
                      <a:pt x="522" y="619"/>
                    </a:lnTo>
                    <a:lnTo>
                      <a:pt x="497" y="625"/>
                    </a:lnTo>
                    <a:lnTo>
                      <a:pt x="479" y="629"/>
                    </a:lnTo>
                    <a:lnTo>
                      <a:pt x="458" y="641"/>
                    </a:lnTo>
                    <a:lnTo>
                      <a:pt x="451" y="648"/>
                    </a:lnTo>
                    <a:lnTo>
                      <a:pt x="435" y="663"/>
                    </a:lnTo>
                    <a:lnTo>
                      <a:pt x="422" y="680"/>
                    </a:lnTo>
                    <a:lnTo>
                      <a:pt x="391" y="729"/>
                    </a:lnTo>
                    <a:lnTo>
                      <a:pt x="370" y="747"/>
                    </a:lnTo>
                    <a:lnTo>
                      <a:pt x="349" y="762"/>
                    </a:lnTo>
                    <a:lnTo>
                      <a:pt x="322" y="778"/>
                    </a:lnTo>
                    <a:lnTo>
                      <a:pt x="295" y="789"/>
                    </a:lnTo>
                    <a:lnTo>
                      <a:pt x="314" y="764"/>
                    </a:lnTo>
                    <a:lnTo>
                      <a:pt x="328" y="743"/>
                    </a:lnTo>
                    <a:lnTo>
                      <a:pt x="346" y="718"/>
                    </a:lnTo>
                    <a:lnTo>
                      <a:pt x="356" y="684"/>
                    </a:lnTo>
                    <a:lnTo>
                      <a:pt x="375" y="629"/>
                    </a:lnTo>
                    <a:lnTo>
                      <a:pt x="420" y="560"/>
                    </a:lnTo>
                    <a:lnTo>
                      <a:pt x="369" y="608"/>
                    </a:lnTo>
                    <a:lnTo>
                      <a:pt x="355" y="624"/>
                    </a:lnTo>
                    <a:lnTo>
                      <a:pt x="325" y="681"/>
                    </a:lnTo>
                    <a:lnTo>
                      <a:pt x="348" y="589"/>
                    </a:lnTo>
                    <a:lnTo>
                      <a:pt x="357" y="536"/>
                    </a:lnTo>
                    <a:lnTo>
                      <a:pt x="358" y="494"/>
                    </a:lnTo>
                    <a:lnTo>
                      <a:pt x="355" y="463"/>
                    </a:lnTo>
                    <a:lnTo>
                      <a:pt x="347" y="436"/>
                    </a:lnTo>
                    <a:lnTo>
                      <a:pt x="336" y="406"/>
                    </a:lnTo>
                    <a:lnTo>
                      <a:pt x="323" y="372"/>
                    </a:lnTo>
                    <a:lnTo>
                      <a:pt x="330" y="438"/>
                    </a:lnTo>
                    <a:lnTo>
                      <a:pt x="327" y="482"/>
                    </a:lnTo>
                    <a:lnTo>
                      <a:pt x="296" y="407"/>
                    </a:lnTo>
                    <a:lnTo>
                      <a:pt x="283" y="373"/>
                    </a:lnTo>
                    <a:lnTo>
                      <a:pt x="280" y="341"/>
                    </a:lnTo>
                    <a:lnTo>
                      <a:pt x="281" y="306"/>
                    </a:lnTo>
                    <a:lnTo>
                      <a:pt x="285" y="275"/>
                    </a:lnTo>
                    <a:lnTo>
                      <a:pt x="292" y="242"/>
                    </a:lnTo>
                    <a:lnTo>
                      <a:pt x="281" y="258"/>
                    </a:lnTo>
                    <a:lnTo>
                      <a:pt x="273" y="278"/>
                    </a:lnTo>
                    <a:lnTo>
                      <a:pt x="264" y="316"/>
                    </a:lnTo>
                    <a:lnTo>
                      <a:pt x="260" y="343"/>
                    </a:lnTo>
                    <a:lnTo>
                      <a:pt x="258" y="373"/>
                    </a:lnTo>
                    <a:lnTo>
                      <a:pt x="265" y="413"/>
                    </a:lnTo>
                    <a:lnTo>
                      <a:pt x="276" y="500"/>
                    </a:lnTo>
                    <a:lnTo>
                      <a:pt x="258" y="579"/>
                    </a:lnTo>
                    <a:lnTo>
                      <a:pt x="211" y="454"/>
                    </a:lnTo>
                    <a:lnTo>
                      <a:pt x="200" y="424"/>
                    </a:lnTo>
                    <a:lnTo>
                      <a:pt x="193" y="387"/>
                    </a:lnTo>
                    <a:lnTo>
                      <a:pt x="190" y="347"/>
                    </a:lnTo>
                    <a:lnTo>
                      <a:pt x="193" y="307"/>
                    </a:lnTo>
                    <a:lnTo>
                      <a:pt x="197" y="275"/>
                    </a:lnTo>
                    <a:lnTo>
                      <a:pt x="206" y="244"/>
                    </a:lnTo>
                    <a:lnTo>
                      <a:pt x="215" y="213"/>
                    </a:lnTo>
                    <a:lnTo>
                      <a:pt x="225" y="184"/>
                    </a:lnTo>
                    <a:lnTo>
                      <a:pt x="228" y="156"/>
                    </a:lnTo>
                    <a:lnTo>
                      <a:pt x="230" y="125"/>
                    </a:lnTo>
                    <a:lnTo>
                      <a:pt x="228" y="90"/>
                    </a:lnTo>
                    <a:lnTo>
                      <a:pt x="222" y="49"/>
                    </a:lnTo>
                    <a:lnTo>
                      <a:pt x="209" y="0"/>
                    </a:lnTo>
                    <a:lnTo>
                      <a:pt x="210" y="48"/>
                    </a:lnTo>
                    <a:lnTo>
                      <a:pt x="213" y="77"/>
                    </a:lnTo>
                    <a:lnTo>
                      <a:pt x="210" y="116"/>
                    </a:lnTo>
                    <a:lnTo>
                      <a:pt x="199" y="151"/>
                    </a:lnTo>
                    <a:lnTo>
                      <a:pt x="187" y="185"/>
                    </a:lnTo>
                    <a:lnTo>
                      <a:pt x="173" y="218"/>
                    </a:lnTo>
                    <a:lnTo>
                      <a:pt x="159" y="248"/>
                    </a:lnTo>
                    <a:lnTo>
                      <a:pt x="141" y="284"/>
                    </a:lnTo>
                    <a:lnTo>
                      <a:pt x="123" y="333"/>
                    </a:lnTo>
                    <a:lnTo>
                      <a:pt x="113" y="374"/>
                    </a:lnTo>
                    <a:lnTo>
                      <a:pt x="101" y="517"/>
                    </a:lnTo>
                    <a:lnTo>
                      <a:pt x="108" y="547"/>
                    </a:lnTo>
                    <a:lnTo>
                      <a:pt x="123" y="599"/>
                    </a:lnTo>
                    <a:lnTo>
                      <a:pt x="65" y="519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84160" y="6124680"/>
                <a:ext cx="244440" cy="145080"/>
              </a:xfrm>
              <a:custGeom>
                <a:avLst/>
                <a:gdLst/>
                <a:ahLst/>
                <a:rect l="l" t="t" r="r" b="b"/>
                <a:pathLst>
                  <a:path w="781" h="457">
                    <a:moveTo>
                      <a:pt x="388" y="21"/>
                    </a:moveTo>
                    <a:lnTo>
                      <a:pt x="0" y="162"/>
                    </a:lnTo>
                    <a:lnTo>
                      <a:pt x="382" y="0"/>
                    </a:lnTo>
                    <a:lnTo>
                      <a:pt x="472" y="5"/>
                    </a:lnTo>
                    <a:lnTo>
                      <a:pt x="559" y="21"/>
                    </a:lnTo>
                    <a:lnTo>
                      <a:pt x="781" y="213"/>
                    </a:lnTo>
                    <a:lnTo>
                      <a:pt x="521" y="34"/>
                    </a:lnTo>
                    <a:lnTo>
                      <a:pt x="745" y="457"/>
                    </a:lnTo>
                    <a:lnTo>
                      <a:pt x="491" y="34"/>
                    </a:lnTo>
                    <a:lnTo>
                      <a:pt x="470" y="59"/>
                    </a:lnTo>
                    <a:lnTo>
                      <a:pt x="413" y="253"/>
                    </a:lnTo>
                    <a:lnTo>
                      <a:pt x="440" y="49"/>
                    </a:lnTo>
                    <a:lnTo>
                      <a:pt x="161" y="438"/>
                    </a:lnTo>
                    <a:lnTo>
                      <a:pt x="414" y="28"/>
                    </a:lnTo>
                    <a:lnTo>
                      <a:pt x="388" y="2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71640" y="5913000"/>
                <a:ext cx="147600" cy="230760"/>
              </a:xfrm>
              <a:custGeom>
                <a:avLst/>
                <a:gdLst/>
                <a:ahLst/>
                <a:rect l="l" t="t" r="r" b="b"/>
                <a:pathLst>
                  <a:path w="470" h="723">
                    <a:moveTo>
                      <a:pt x="0" y="399"/>
                    </a:moveTo>
                    <a:lnTo>
                      <a:pt x="23" y="419"/>
                    </a:lnTo>
                    <a:lnTo>
                      <a:pt x="32" y="443"/>
                    </a:lnTo>
                    <a:lnTo>
                      <a:pt x="42" y="475"/>
                    </a:lnTo>
                    <a:lnTo>
                      <a:pt x="56" y="510"/>
                    </a:lnTo>
                    <a:lnTo>
                      <a:pt x="56" y="534"/>
                    </a:lnTo>
                    <a:lnTo>
                      <a:pt x="55" y="564"/>
                    </a:lnTo>
                    <a:lnTo>
                      <a:pt x="62" y="597"/>
                    </a:lnTo>
                    <a:lnTo>
                      <a:pt x="66" y="621"/>
                    </a:lnTo>
                    <a:lnTo>
                      <a:pt x="73" y="641"/>
                    </a:lnTo>
                    <a:lnTo>
                      <a:pt x="80" y="661"/>
                    </a:lnTo>
                    <a:lnTo>
                      <a:pt x="93" y="679"/>
                    </a:lnTo>
                    <a:lnTo>
                      <a:pt x="104" y="693"/>
                    </a:lnTo>
                    <a:lnTo>
                      <a:pt x="122" y="705"/>
                    </a:lnTo>
                    <a:lnTo>
                      <a:pt x="142" y="714"/>
                    </a:lnTo>
                    <a:lnTo>
                      <a:pt x="171" y="721"/>
                    </a:lnTo>
                    <a:lnTo>
                      <a:pt x="200" y="723"/>
                    </a:lnTo>
                    <a:lnTo>
                      <a:pt x="227" y="720"/>
                    </a:lnTo>
                    <a:lnTo>
                      <a:pt x="253" y="713"/>
                    </a:lnTo>
                    <a:lnTo>
                      <a:pt x="282" y="704"/>
                    </a:lnTo>
                    <a:lnTo>
                      <a:pt x="309" y="688"/>
                    </a:lnTo>
                    <a:lnTo>
                      <a:pt x="329" y="669"/>
                    </a:lnTo>
                    <a:lnTo>
                      <a:pt x="343" y="649"/>
                    </a:lnTo>
                    <a:lnTo>
                      <a:pt x="355" y="628"/>
                    </a:lnTo>
                    <a:lnTo>
                      <a:pt x="371" y="600"/>
                    </a:lnTo>
                    <a:lnTo>
                      <a:pt x="386" y="574"/>
                    </a:lnTo>
                    <a:lnTo>
                      <a:pt x="405" y="551"/>
                    </a:lnTo>
                    <a:lnTo>
                      <a:pt x="430" y="530"/>
                    </a:lnTo>
                    <a:lnTo>
                      <a:pt x="470" y="515"/>
                    </a:lnTo>
                    <a:lnTo>
                      <a:pt x="437" y="517"/>
                    </a:lnTo>
                    <a:lnTo>
                      <a:pt x="418" y="523"/>
                    </a:lnTo>
                    <a:lnTo>
                      <a:pt x="398" y="535"/>
                    </a:lnTo>
                    <a:lnTo>
                      <a:pt x="384" y="548"/>
                    </a:lnTo>
                    <a:lnTo>
                      <a:pt x="365" y="570"/>
                    </a:lnTo>
                    <a:lnTo>
                      <a:pt x="344" y="599"/>
                    </a:lnTo>
                    <a:lnTo>
                      <a:pt x="328" y="620"/>
                    </a:lnTo>
                    <a:lnTo>
                      <a:pt x="311" y="637"/>
                    </a:lnTo>
                    <a:lnTo>
                      <a:pt x="293" y="652"/>
                    </a:lnTo>
                    <a:lnTo>
                      <a:pt x="270" y="666"/>
                    </a:lnTo>
                    <a:lnTo>
                      <a:pt x="247" y="676"/>
                    </a:lnTo>
                    <a:lnTo>
                      <a:pt x="263" y="653"/>
                    </a:lnTo>
                    <a:lnTo>
                      <a:pt x="275" y="633"/>
                    </a:lnTo>
                    <a:lnTo>
                      <a:pt x="290" y="609"/>
                    </a:lnTo>
                    <a:lnTo>
                      <a:pt x="299" y="578"/>
                    </a:lnTo>
                    <a:lnTo>
                      <a:pt x="314" y="526"/>
                    </a:lnTo>
                    <a:lnTo>
                      <a:pt x="351" y="461"/>
                    </a:lnTo>
                    <a:lnTo>
                      <a:pt x="310" y="507"/>
                    </a:lnTo>
                    <a:lnTo>
                      <a:pt x="298" y="522"/>
                    </a:lnTo>
                    <a:lnTo>
                      <a:pt x="272" y="574"/>
                    </a:lnTo>
                    <a:lnTo>
                      <a:pt x="292" y="488"/>
                    </a:lnTo>
                    <a:lnTo>
                      <a:pt x="299" y="440"/>
                    </a:lnTo>
                    <a:lnTo>
                      <a:pt x="300" y="399"/>
                    </a:lnTo>
                    <a:lnTo>
                      <a:pt x="291" y="345"/>
                    </a:lnTo>
                    <a:lnTo>
                      <a:pt x="282" y="316"/>
                    </a:lnTo>
                    <a:lnTo>
                      <a:pt x="273" y="297"/>
                    </a:lnTo>
                    <a:lnTo>
                      <a:pt x="276" y="346"/>
                    </a:lnTo>
                    <a:lnTo>
                      <a:pt x="274" y="388"/>
                    </a:lnTo>
                    <a:lnTo>
                      <a:pt x="248" y="314"/>
                    </a:lnTo>
                    <a:lnTo>
                      <a:pt x="241" y="286"/>
                    </a:lnTo>
                    <a:lnTo>
                      <a:pt x="238" y="252"/>
                    </a:lnTo>
                    <a:lnTo>
                      <a:pt x="239" y="221"/>
                    </a:lnTo>
                    <a:lnTo>
                      <a:pt x="246" y="162"/>
                    </a:lnTo>
                    <a:lnTo>
                      <a:pt x="227" y="231"/>
                    </a:lnTo>
                    <a:lnTo>
                      <a:pt x="221" y="266"/>
                    </a:lnTo>
                    <a:lnTo>
                      <a:pt x="221" y="297"/>
                    </a:lnTo>
                    <a:lnTo>
                      <a:pt x="225" y="327"/>
                    </a:lnTo>
                    <a:lnTo>
                      <a:pt x="229" y="363"/>
                    </a:lnTo>
                    <a:lnTo>
                      <a:pt x="232" y="406"/>
                    </a:lnTo>
                    <a:lnTo>
                      <a:pt x="216" y="479"/>
                    </a:lnTo>
                    <a:lnTo>
                      <a:pt x="168" y="359"/>
                    </a:lnTo>
                    <a:lnTo>
                      <a:pt x="163" y="334"/>
                    </a:lnTo>
                    <a:lnTo>
                      <a:pt x="160" y="300"/>
                    </a:lnTo>
                    <a:lnTo>
                      <a:pt x="162" y="265"/>
                    </a:lnTo>
                    <a:lnTo>
                      <a:pt x="167" y="232"/>
                    </a:lnTo>
                    <a:lnTo>
                      <a:pt x="176" y="193"/>
                    </a:lnTo>
                    <a:lnTo>
                      <a:pt x="187" y="165"/>
                    </a:lnTo>
                    <a:lnTo>
                      <a:pt x="194" y="133"/>
                    </a:lnTo>
                    <a:lnTo>
                      <a:pt x="198" y="101"/>
                    </a:lnTo>
                    <a:lnTo>
                      <a:pt x="198" y="76"/>
                    </a:lnTo>
                    <a:lnTo>
                      <a:pt x="194" y="42"/>
                    </a:lnTo>
                    <a:lnTo>
                      <a:pt x="180" y="0"/>
                    </a:lnTo>
                    <a:lnTo>
                      <a:pt x="181" y="44"/>
                    </a:lnTo>
                    <a:lnTo>
                      <a:pt x="179" y="81"/>
                    </a:lnTo>
                    <a:lnTo>
                      <a:pt x="172" y="114"/>
                    </a:lnTo>
                    <a:lnTo>
                      <a:pt x="161" y="143"/>
                    </a:lnTo>
                    <a:lnTo>
                      <a:pt x="141" y="184"/>
                    </a:lnTo>
                    <a:lnTo>
                      <a:pt x="118" y="247"/>
                    </a:lnTo>
                    <a:lnTo>
                      <a:pt x="104" y="286"/>
                    </a:lnTo>
                    <a:lnTo>
                      <a:pt x="86" y="420"/>
                    </a:lnTo>
                    <a:lnTo>
                      <a:pt x="90" y="449"/>
                    </a:lnTo>
                    <a:lnTo>
                      <a:pt x="103" y="498"/>
                    </a:lnTo>
                    <a:lnTo>
                      <a:pt x="55" y="422"/>
                    </a:lnTo>
                    <a:lnTo>
                      <a:pt x="0" y="399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454480" y="60073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60320" y="574560"/>
              <a:ext cx="7544880" cy="5594760"/>
              <a:chOff x="760320" y="574560"/>
              <a:chExt cx="7544880" cy="5594760"/>
            </a:xfrm>
          </p:grpSpPr>
          <p:sp>
            <p:nvSpPr>
              <p:cNvPr id="89" name=""/>
              <p:cNvSpPr/>
              <p:nvPr/>
            </p:nvSpPr>
            <p:spPr>
              <a:xfrm>
                <a:off x="4493520" y="608364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4240" y="4782600"/>
                <a:ext cx="556200" cy="63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6240" y="4782600"/>
                <a:ext cx="6220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flipV="1">
                <a:off x="3135240" y="5164920"/>
                <a:ext cx="1056240" cy="611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80320" y="516528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F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35240" y="1849680"/>
                <a:ext cx="396000" cy="407520"/>
              </a:xfrm>
              <a:custGeom>
                <a:avLst/>
                <a:gdLst>
                  <a:gd name="textAreaLeft" fmla="*/ 0 w 396000"/>
                  <a:gd name="textAreaRight" fmla="*/ 396360 w 396000"/>
                  <a:gd name="textAreaTop" fmla="*/ 0 h 407520"/>
                  <a:gd name="textAreaBottom" fmla="*/ 407880 h 40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435" stAng="10800000" swAng="5400000"/>
                    <a:lnTo>
                      <a:pt x="15150" y="4725"/>
                    </a:lnTo>
                    <a:lnTo>
                      <a:pt x="15150" y="0"/>
                    </a:lnTo>
                    <a:lnTo>
                      <a:pt x="21600" y="6079"/>
                    </a:lnTo>
                    <a:lnTo>
                      <a:pt x="15150" y="12158"/>
                    </a:lnTo>
                    <a:lnTo>
                      <a:pt x="15150" y="7433"/>
                    </a:lnTo>
                    <a:lnTo>
                      <a:pt x="12427" y="7433"/>
                    </a:lnTo>
                    <a:arcTo wR="9719" hR="4727" stAng="16200000" swAng="-5400000"/>
                    <a:lnTo>
                      <a:pt x="2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135240" y="2256840"/>
                <a:ext cx="396000" cy="407880"/>
              </a:xfrm>
              <a:custGeom>
                <a:avLst/>
                <a:gdLst>
                  <a:gd name="textAreaLeft" fmla="*/ 0 w 396000"/>
                  <a:gd name="textAreaRight" fmla="*/ 396360 w 396000"/>
                  <a:gd name="textAreaTop" fmla="*/ -360 h 407880"/>
                  <a:gd name="textAreaBottom" fmla="*/ 40788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435" stAng="10800000" swAng="5400000"/>
                    <a:lnTo>
                      <a:pt x="15074" y="4725"/>
                    </a:lnTo>
                    <a:lnTo>
                      <a:pt x="15074" y="0"/>
                    </a:lnTo>
                    <a:lnTo>
                      <a:pt x="21600" y="6079"/>
                    </a:lnTo>
                    <a:lnTo>
                      <a:pt x="15074" y="12158"/>
                    </a:lnTo>
                    <a:lnTo>
                      <a:pt x="15074" y="7433"/>
                    </a:lnTo>
                    <a:lnTo>
                      <a:pt x="12427" y="7433"/>
                    </a:lnTo>
                    <a:arcTo wR="9719" hR="4727" stAng="16200000" swAng="-5400000"/>
                    <a:lnTo>
                      <a:pt x="2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44640" y="1645560"/>
                <a:ext cx="509400" cy="4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12520" y="2334240"/>
                <a:ext cx="89604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2344680" y="2151000"/>
                <a:ext cx="847080" cy="20880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73640" y="1386360"/>
                <a:ext cx="89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Mail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35840" y="2711520"/>
                <a:ext cx="77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ire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5400" y="3864240"/>
                <a:ext cx="46368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076280" y="5407920"/>
                <a:ext cx="678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can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6872040" y="2914560"/>
                <a:ext cx="1433160" cy="859680"/>
                <a:chOff x="6872040" y="2914560"/>
                <a:chExt cx="1433160" cy="859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6872040" y="3221640"/>
                  <a:ext cx="1433160" cy="552600"/>
                  <a:chOff x="6872040" y="3221640"/>
                  <a:chExt cx="1433160" cy="552600"/>
                </a:xfrm>
              </p:grpSpPr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95160" y="3221640"/>
                    <a:ext cx="4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4320" y="3221640"/>
                    <a:ext cx="4086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2040" y="3221640"/>
                    <a:ext cx="4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8" name=""/>
                <p:cNvSpPr/>
                <p:nvPr/>
              </p:nvSpPr>
              <p:spPr>
                <a:xfrm>
                  <a:off x="7347240" y="2914560"/>
                  <a:ext cx="671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Ver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86080" y="4017600"/>
                <a:ext cx="509400" cy="559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"/>
              <p:cNvGrpSpPr/>
              <p:nvPr/>
            </p:nvGrpSpPr>
            <p:grpSpPr>
              <a:xfrm>
                <a:off x="5549760" y="2640240"/>
                <a:ext cx="370800" cy="509400"/>
                <a:chOff x="5549760" y="2640240"/>
                <a:chExt cx="370800" cy="509400"/>
              </a:xfrm>
            </p:grpSpPr>
            <p:pic>
              <p:nvPicPr>
                <p:cNvPr id="1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49760" y="2640240"/>
                  <a:ext cx="14472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75840" y="2640240"/>
                  <a:ext cx="14472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02640" y="2640240"/>
                <a:ext cx="144720" cy="5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464080" y="2255760"/>
                <a:ext cx="66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ead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2332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0264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56856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268960" y="5287320"/>
                <a:ext cx="764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75600" y="5395680"/>
                <a:ext cx="654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m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7920" y="2640240"/>
                <a:ext cx="30168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9960" y="3405240"/>
                <a:ext cx="218772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568560" y="1374480"/>
                <a:ext cx="0" cy="27640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719960" y="1951560"/>
                <a:ext cx="0" cy="2142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814560" y="4093920"/>
                <a:ext cx="150480" cy="153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625360" y="3098880"/>
                <a:ext cx="0" cy="30564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00960" y="4170600"/>
                <a:ext cx="120672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70096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30432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0804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07120" y="394092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342680" y="5700600"/>
                <a:ext cx="518400" cy="442440"/>
                <a:chOff x="4342680" y="5700600"/>
                <a:chExt cx="518400" cy="442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42680" y="572616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4449240" y="5700600"/>
                  <a:ext cx="347760" cy="442440"/>
                  <a:chOff x="4449240" y="5700600"/>
                  <a:chExt cx="347760" cy="442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453560" y="5705640"/>
                    <a:ext cx="3434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53560" y="5700600"/>
                    <a:ext cx="34200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455000" y="5711760"/>
                    <a:ext cx="3312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50320" y="571356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449240" y="571644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9680" y="573408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466160" y="572940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464720" y="5746680"/>
                    <a:ext cx="307440" cy="38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470840" y="575136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3" name=""/>
              <p:cNvSpPr/>
              <p:nvPr/>
            </p:nvSpPr>
            <p:spPr>
              <a:xfrm>
                <a:off x="4719960" y="6083640"/>
                <a:ext cx="2867040" cy="0"/>
              </a:xfrm>
              <a:prstGeom prst="line">
                <a:avLst/>
              </a:prstGeom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57520" y="637920"/>
                <a:ext cx="4853880" cy="5521680"/>
              </a:xfrm>
              <a:custGeom>
                <a:avLst/>
                <a:gdLst/>
                <a:ahLst/>
                <a:rect l="l" t="t" r="r" b="b"/>
                <a:pathLst>
                  <a:path w="3088" h="3496">
                    <a:moveTo>
                      <a:pt x="1312" y="3464"/>
                    </a:moveTo>
                    <a:cubicBezTo>
                      <a:pt x="1196" y="3480"/>
                      <a:pt x="1080" y="3496"/>
                      <a:pt x="976" y="3416"/>
                    </a:cubicBezTo>
                    <a:cubicBezTo>
                      <a:pt x="872" y="3336"/>
                      <a:pt x="808" y="3144"/>
                      <a:pt x="688" y="2984"/>
                    </a:cubicBezTo>
                    <a:cubicBezTo>
                      <a:pt x="568" y="2824"/>
                      <a:pt x="368" y="2624"/>
                      <a:pt x="256" y="2456"/>
                    </a:cubicBezTo>
                    <a:cubicBezTo>
                      <a:pt x="144" y="2288"/>
                      <a:pt x="32" y="2200"/>
                      <a:pt x="16" y="1976"/>
                    </a:cubicBezTo>
                    <a:cubicBezTo>
                      <a:pt x="0" y="1752"/>
                      <a:pt x="104" y="1368"/>
                      <a:pt x="160" y="1112"/>
                    </a:cubicBezTo>
                    <a:cubicBezTo>
                      <a:pt x="216" y="856"/>
                      <a:pt x="248" y="592"/>
                      <a:pt x="352" y="440"/>
                    </a:cubicBezTo>
                    <a:cubicBezTo>
                      <a:pt x="456" y="288"/>
                      <a:pt x="600" y="264"/>
                      <a:pt x="784" y="200"/>
                    </a:cubicBezTo>
                    <a:cubicBezTo>
                      <a:pt x="968" y="136"/>
                      <a:pt x="1192" y="88"/>
                      <a:pt x="1456" y="56"/>
                    </a:cubicBezTo>
                    <a:cubicBezTo>
                      <a:pt x="1720" y="24"/>
                      <a:pt x="2096" y="16"/>
                      <a:pt x="2368" y="8"/>
                    </a:cubicBezTo>
                    <a:cubicBezTo>
                      <a:pt x="2640" y="0"/>
                      <a:pt x="2976" y="8"/>
                      <a:pt x="3088" y="8"/>
                    </a:cubicBezTo>
                  </a:path>
                </a:pathLst>
              </a:custGeom>
              <a:noFill/>
              <a:ln w="34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456280" y="3558600"/>
                <a:ext cx="518400" cy="442440"/>
                <a:chOff x="2456280" y="3558600"/>
                <a:chExt cx="518400" cy="442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456280" y="358416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2562840" y="3558600"/>
                  <a:ext cx="347760" cy="442440"/>
                  <a:chOff x="2562840" y="3558600"/>
                  <a:chExt cx="347760" cy="4424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2567160" y="3563280"/>
                    <a:ext cx="343440" cy="43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567160" y="3558600"/>
                    <a:ext cx="342000" cy="43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568600" y="3569760"/>
                    <a:ext cx="33120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563920" y="357120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562840" y="357444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573280" y="359208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579760" y="358704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578320" y="3604680"/>
                    <a:ext cx="3074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584440" y="360936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2597760" y="3737160"/>
                <a:ext cx="255600" cy="389880"/>
                <a:chOff x="2597760" y="3737160"/>
                <a:chExt cx="255600" cy="389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77320" y="3737160"/>
                  <a:ext cx="176040" cy="278640"/>
                </a:xfrm>
                <a:custGeom>
                  <a:avLst/>
                  <a:gdLst/>
                  <a:ahLst/>
                  <a:rect l="l" t="t" r="r" b="b"/>
                  <a:pathLst>
                    <a:path w="561" h="873">
                      <a:moveTo>
                        <a:pt x="0" y="494"/>
                      </a:moveTo>
                      <a:lnTo>
                        <a:pt x="26" y="516"/>
                      </a:lnTo>
                      <a:lnTo>
                        <a:pt x="38" y="539"/>
                      </a:lnTo>
                      <a:lnTo>
                        <a:pt x="50" y="574"/>
                      </a:lnTo>
                      <a:lnTo>
                        <a:pt x="66" y="611"/>
                      </a:lnTo>
                      <a:lnTo>
                        <a:pt x="66" y="637"/>
                      </a:lnTo>
                      <a:lnTo>
                        <a:pt x="65" y="670"/>
                      </a:lnTo>
                      <a:lnTo>
                        <a:pt x="61" y="698"/>
                      </a:lnTo>
                      <a:lnTo>
                        <a:pt x="58" y="726"/>
                      </a:lnTo>
                      <a:lnTo>
                        <a:pt x="58" y="753"/>
                      </a:lnTo>
                      <a:lnTo>
                        <a:pt x="62" y="777"/>
                      </a:lnTo>
                      <a:lnTo>
                        <a:pt x="69" y="803"/>
                      </a:lnTo>
                      <a:lnTo>
                        <a:pt x="82" y="823"/>
                      </a:lnTo>
                      <a:lnTo>
                        <a:pt x="99" y="840"/>
                      </a:lnTo>
                      <a:lnTo>
                        <a:pt x="119" y="853"/>
                      </a:lnTo>
                      <a:lnTo>
                        <a:pt x="139" y="863"/>
                      </a:lnTo>
                      <a:lnTo>
                        <a:pt x="163" y="869"/>
                      </a:lnTo>
                      <a:lnTo>
                        <a:pt x="188" y="873"/>
                      </a:lnTo>
                      <a:lnTo>
                        <a:pt x="215" y="873"/>
                      </a:lnTo>
                      <a:lnTo>
                        <a:pt x="239" y="870"/>
                      </a:lnTo>
                      <a:lnTo>
                        <a:pt x="265" y="865"/>
                      </a:lnTo>
                      <a:lnTo>
                        <a:pt x="292" y="859"/>
                      </a:lnTo>
                      <a:lnTo>
                        <a:pt x="318" y="850"/>
                      </a:lnTo>
                      <a:lnTo>
                        <a:pt x="342" y="838"/>
                      </a:lnTo>
                      <a:lnTo>
                        <a:pt x="360" y="827"/>
                      </a:lnTo>
                      <a:lnTo>
                        <a:pt x="380" y="812"/>
                      </a:lnTo>
                      <a:lnTo>
                        <a:pt x="398" y="797"/>
                      </a:lnTo>
                      <a:lnTo>
                        <a:pt x="410" y="780"/>
                      </a:lnTo>
                      <a:lnTo>
                        <a:pt x="422" y="763"/>
                      </a:lnTo>
                      <a:lnTo>
                        <a:pt x="434" y="740"/>
                      </a:lnTo>
                      <a:lnTo>
                        <a:pt x="441" y="721"/>
                      </a:lnTo>
                      <a:lnTo>
                        <a:pt x="452" y="701"/>
                      </a:lnTo>
                      <a:lnTo>
                        <a:pt x="462" y="685"/>
                      </a:lnTo>
                      <a:lnTo>
                        <a:pt x="484" y="660"/>
                      </a:lnTo>
                      <a:lnTo>
                        <a:pt x="495" y="651"/>
                      </a:lnTo>
                      <a:lnTo>
                        <a:pt x="512" y="636"/>
                      </a:lnTo>
                      <a:lnTo>
                        <a:pt x="561" y="617"/>
                      </a:lnTo>
                      <a:lnTo>
                        <a:pt x="522" y="619"/>
                      </a:lnTo>
                      <a:lnTo>
                        <a:pt x="497" y="625"/>
                      </a:lnTo>
                      <a:lnTo>
                        <a:pt x="479" y="629"/>
                      </a:lnTo>
                      <a:lnTo>
                        <a:pt x="458" y="641"/>
                      </a:lnTo>
                      <a:lnTo>
                        <a:pt x="451" y="648"/>
                      </a:lnTo>
                      <a:lnTo>
                        <a:pt x="435" y="663"/>
                      </a:lnTo>
                      <a:lnTo>
                        <a:pt x="422" y="680"/>
                      </a:lnTo>
                      <a:lnTo>
                        <a:pt x="391" y="729"/>
                      </a:lnTo>
                      <a:lnTo>
                        <a:pt x="370" y="747"/>
                      </a:lnTo>
                      <a:lnTo>
                        <a:pt x="349" y="762"/>
                      </a:lnTo>
                      <a:lnTo>
                        <a:pt x="322" y="778"/>
                      </a:lnTo>
                      <a:lnTo>
                        <a:pt x="295" y="789"/>
                      </a:lnTo>
                      <a:lnTo>
                        <a:pt x="314" y="764"/>
                      </a:lnTo>
                      <a:lnTo>
                        <a:pt x="328" y="743"/>
                      </a:lnTo>
                      <a:lnTo>
                        <a:pt x="346" y="718"/>
                      </a:lnTo>
                      <a:lnTo>
                        <a:pt x="356" y="684"/>
                      </a:lnTo>
                      <a:lnTo>
                        <a:pt x="375" y="629"/>
                      </a:lnTo>
                      <a:lnTo>
                        <a:pt x="420" y="560"/>
                      </a:lnTo>
                      <a:lnTo>
                        <a:pt x="369" y="608"/>
                      </a:lnTo>
                      <a:lnTo>
                        <a:pt x="355" y="624"/>
                      </a:lnTo>
                      <a:lnTo>
                        <a:pt x="325" y="681"/>
                      </a:lnTo>
                      <a:lnTo>
                        <a:pt x="348" y="589"/>
                      </a:lnTo>
                      <a:lnTo>
                        <a:pt x="357" y="536"/>
                      </a:lnTo>
                      <a:lnTo>
                        <a:pt x="358" y="494"/>
                      </a:lnTo>
                      <a:lnTo>
                        <a:pt x="355" y="463"/>
                      </a:lnTo>
                      <a:lnTo>
                        <a:pt x="347" y="436"/>
                      </a:lnTo>
                      <a:lnTo>
                        <a:pt x="336" y="406"/>
                      </a:lnTo>
                      <a:lnTo>
                        <a:pt x="323" y="372"/>
                      </a:lnTo>
                      <a:lnTo>
                        <a:pt x="330" y="438"/>
                      </a:lnTo>
                      <a:lnTo>
                        <a:pt x="327" y="482"/>
                      </a:lnTo>
                      <a:lnTo>
                        <a:pt x="296" y="407"/>
                      </a:lnTo>
                      <a:lnTo>
                        <a:pt x="283" y="373"/>
                      </a:lnTo>
                      <a:lnTo>
                        <a:pt x="280" y="341"/>
                      </a:lnTo>
                      <a:lnTo>
                        <a:pt x="281" y="306"/>
                      </a:lnTo>
                      <a:lnTo>
                        <a:pt x="285" y="275"/>
                      </a:lnTo>
                      <a:lnTo>
                        <a:pt x="292" y="242"/>
                      </a:lnTo>
                      <a:lnTo>
                        <a:pt x="281" y="258"/>
                      </a:lnTo>
                      <a:lnTo>
                        <a:pt x="273" y="278"/>
                      </a:lnTo>
                      <a:lnTo>
                        <a:pt x="264" y="316"/>
                      </a:lnTo>
                      <a:lnTo>
                        <a:pt x="260" y="343"/>
                      </a:lnTo>
                      <a:lnTo>
                        <a:pt x="258" y="373"/>
                      </a:lnTo>
                      <a:lnTo>
                        <a:pt x="265" y="413"/>
                      </a:lnTo>
                      <a:lnTo>
                        <a:pt x="276" y="500"/>
                      </a:lnTo>
                      <a:lnTo>
                        <a:pt x="258" y="579"/>
                      </a:lnTo>
                      <a:lnTo>
                        <a:pt x="211" y="454"/>
                      </a:lnTo>
                      <a:lnTo>
                        <a:pt x="200" y="424"/>
                      </a:lnTo>
                      <a:lnTo>
                        <a:pt x="193" y="387"/>
                      </a:lnTo>
                      <a:lnTo>
                        <a:pt x="190" y="347"/>
                      </a:lnTo>
                      <a:lnTo>
                        <a:pt x="193" y="307"/>
                      </a:lnTo>
                      <a:lnTo>
                        <a:pt x="197" y="275"/>
                      </a:lnTo>
                      <a:lnTo>
                        <a:pt x="206" y="244"/>
                      </a:lnTo>
                      <a:lnTo>
                        <a:pt x="215" y="213"/>
                      </a:lnTo>
                      <a:lnTo>
                        <a:pt x="225" y="184"/>
                      </a:lnTo>
                      <a:lnTo>
                        <a:pt x="228" y="156"/>
                      </a:lnTo>
                      <a:lnTo>
                        <a:pt x="230" y="125"/>
                      </a:lnTo>
                      <a:lnTo>
                        <a:pt x="228" y="90"/>
                      </a:lnTo>
                      <a:lnTo>
                        <a:pt x="222" y="49"/>
                      </a:lnTo>
                      <a:lnTo>
                        <a:pt x="209" y="0"/>
                      </a:lnTo>
                      <a:lnTo>
                        <a:pt x="210" y="48"/>
                      </a:lnTo>
                      <a:lnTo>
                        <a:pt x="213" y="77"/>
                      </a:lnTo>
                      <a:lnTo>
                        <a:pt x="210" y="116"/>
                      </a:lnTo>
                      <a:lnTo>
                        <a:pt x="199" y="151"/>
                      </a:lnTo>
                      <a:lnTo>
                        <a:pt x="187" y="185"/>
                      </a:lnTo>
                      <a:lnTo>
                        <a:pt x="173" y="218"/>
                      </a:lnTo>
                      <a:lnTo>
                        <a:pt x="159" y="248"/>
                      </a:lnTo>
                      <a:lnTo>
                        <a:pt x="141" y="284"/>
                      </a:lnTo>
                      <a:lnTo>
                        <a:pt x="123" y="333"/>
                      </a:lnTo>
                      <a:lnTo>
                        <a:pt x="113" y="374"/>
                      </a:lnTo>
                      <a:lnTo>
                        <a:pt x="101" y="517"/>
                      </a:lnTo>
                      <a:lnTo>
                        <a:pt x="108" y="547"/>
                      </a:lnTo>
                      <a:lnTo>
                        <a:pt x="123" y="599"/>
                      </a:lnTo>
                      <a:lnTo>
                        <a:pt x="65" y="519"/>
                      </a:lnTo>
                      <a:lnTo>
                        <a:pt x="0" y="49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97760" y="3982320"/>
                  <a:ext cx="244800" cy="144720"/>
                </a:xfrm>
                <a:custGeom>
                  <a:avLst/>
                  <a:gdLst/>
                  <a:ahLst/>
                  <a:rect l="l" t="t" r="r" b="b"/>
                  <a:pathLst>
                    <a:path w="781" h="457">
                      <a:moveTo>
                        <a:pt x="388" y="21"/>
                      </a:moveTo>
                      <a:lnTo>
                        <a:pt x="0" y="162"/>
                      </a:lnTo>
                      <a:lnTo>
                        <a:pt x="382" y="0"/>
                      </a:lnTo>
                      <a:lnTo>
                        <a:pt x="472" y="5"/>
                      </a:lnTo>
                      <a:lnTo>
                        <a:pt x="559" y="21"/>
                      </a:lnTo>
                      <a:lnTo>
                        <a:pt x="781" y="213"/>
                      </a:lnTo>
                      <a:lnTo>
                        <a:pt x="521" y="34"/>
                      </a:lnTo>
                      <a:lnTo>
                        <a:pt x="745" y="457"/>
                      </a:lnTo>
                      <a:lnTo>
                        <a:pt x="491" y="34"/>
                      </a:lnTo>
                      <a:lnTo>
                        <a:pt x="470" y="59"/>
                      </a:lnTo>
                      <a:lnTo>
                        <a:pt x="413" y="253"/>
                      </a:lnTo>
                      <a:lnTo>
                        <a:pt x="440" y="49"/>
                      </a:lnTo>
                      <a:lnTo>
                        <a:pt x="161" y="438"/>
                      </a:lnTo>
                      <a:lnTo>
                        <a:pt x="414" y="28"/>
                      </a:lnTo>
                      <a:lnTo>
                        <a:pt x="388" y="2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85240" y="3770280"/>
                  <a:ext cx="147600" cy="231120"/>
                </a:xfrm>
                <a:custGeom>
                  <a:avLst/>
                  <a:gdLst/>
                  <a:ahLst/>
                  <a:rect l="l" t="t" r="r" b="b"/>
                  <a:pathLst>
                    <a:path w="470" h="723">
                      <a:moveTo>
                        <a:pt x="0" y="399"/>
                      </a:moveTo>
                      <a:lnTo>
                        <a:pt x="23" y="419"/>
                      </a:lnTo>
                      <a:lnTo>
                        <a:pt x="32" y="443"/>
                      </a:lnTo>
                      <a:lnTo>
                        <a:pt x="42" y="475"/>
                      </a:lnTo>
                      <a:lnTo>
                        <a:pt x="56" y="510"/>
                      </a:lnTo>
                      <a:lnTo>
                        <a:pt x="56" y="534"/>
                      </a:lnTo>
                      <a:lnTo>
                        <a:pt x="55" y="564"/>
                      </a:lnTo>
                      <a:lnTo>
                        <a:pt x="62" y="597"/>
                      </a:lnTo>
                      <a:lnTo>
                        <a:pt x="66" y="621"/>
                      </a:lnTo>
                      <a:lnTo>
                        <a:pt x="73" y="641"/>
                      </a:lnTo>
                      <a:lnTo>
                        <a:pt x="80" y="661"/>
                      </a:lnTo>
                      <a:lnTo>
                        <a:pt x="93" y="679"/>
                      </a:lnTo>
                      <a:lnTo>
                        <a:pt x="104" y="693"/>
                      </a:lnTo>
                      <a:lnTo>
                        <a:pt x="122" y="705"/>
                      </a:lnTo>
                      <a:lnTo>
                        <a:pt x="142" y="714"/>
                      </a:lnTo>
                      <a:lnTo>
                        <a:pt x="171" y="721"/>
                      </a:lnTo>
                      <a:lnTo>
                        <a:pt x="200" y="723"/>
                      </a:lnTo>
                      <a:lnTo>
                        <a:pt x="227" y="720"/>
                      </a:lnTo>
                      <a:lnTo>
                        <a:pt x="253" y="713"/>
                      </a:lnTo>
                      <a:lnTo>
                        <a:pt x="282" y="704"/>
                      </a:lnTo>
                      <a:lnTo>
                        <a:pt x="309" y="688"/>
                      </a:lnTo>
                      <a:lnTo>
                        <a:pt x="329" y="669"/>
                      </a:lnTo>
                      <a:lnTo>
                        <a:pt x="343" y="649"/>
                      </a:lnTo>
                      <a:lnTo>
                        <a:pt x="355" y="628"/>
                      </a:lnTo>
                      <a:lnTo>
                        <a:pt x="371" y="600"/>
                      </a:lnTo>
                      <a:lnTo>
                        <a:pt x="386" y="574"/>
                      </a:lnTo>
                      <a:lnTo>
                        <a:pt x="405" y="551"/>
                      </a:lnTo>
                      <a:lnTo>
                        <a:pt x="430" y="530"/>
                      </a:lnTo>
                      <a:lnTo>
                        <a:pt x="470" y="515"/>
                      </a:lnTo>
                      <a:lnTo>
                        <a:pt x="437" y="517"/>
                      </a:lnTo>
                      <a:lnTo>
                        <a:pt x="418" y="523"/>
                      </a:lnTo>
                      <a:lnTo>
                        <a:pt x="398" y="535"/>
                      </a:lnTo>
                      <a:lnTo>
                        <a:pt x="384" y="548"/>
                      </a:lnTo>
                      <a:lnTo>
                        <a:pt x="365" y="570"/>
                      </a:lnTo>
                      <a:lnTo>
                        <a:pt x="344" y="599"/>
                      </a:lnTo>
                      <a:lnTo>
                        <a:pt x="328" y="620"/>
                      </a:lnTo>
                      <a:lnTo>
                        <a:pt x="311" y="637"/>
                      </a:lnTo>
                      <a:lnTo>
                        <a:pt x="293" y="652"/>
                      </a:lnTo>
                      <a:lnTo>
                        <a:pt x="270" y="666"/>
                      </a:lnTo>
                      <a:lnTo>
                        <a:pt x="247" y="676"/>
                      </a:lnTo>
                      <a:lnTo>
                        <a:pt x="263" y="653"/>
                      </a:lnTo>
                      <a:lnTo>
                        <a:pt x="275" y="633"/>
                      </a:lnTo>
                      <a:lnTo>
                        <a:pt x="290" y="609"/>
                      </a:lnTo>
                      <a:lnTo>
                        <a:pt x="299" y="578"/>
                      </a:lnTo>
                      <a:lnTo>
                        <a:pt x="314" y="526"/>
                      </a:lnTo>
                      <a:lnTo>
                        <a:pt x="351" y="461"/>
                      </a:lnTo>
                      <a:lnTo>
                        <a:pt x="310" y="507"/>
                      </a:lnTo>
                      <a:lnTo>
                        <a:pt x="298" y="522"/>
                      </a:lnTo>
                      <a:lnTo>
                        <a:pt x="272" y="574"/>
                      </a:lnTo>
                      <a:lnTo>
                        <a:pt x="292" y="488"/>
                      </a:lnTo>
                      <a:lnTo>
                        <a:pt x="299" y="440"/>
                      </a:lnTo>
                      <a:lnTo>
                        <a:pt x="300" y="399"/>
                      </a:lnTo>
                      <a:lnTo>
                        <a:pt x="291" y="345"/>
                      </a:lnTo>
                      <a:lnTo>
                        <a:pt x="282" y="316"/>
                      </a:lnTo>
                      <a:lnTo>
                        <a:pt x="273" y="297"/>
                      </a:lnTo>
                      <a:lnTo>
                        <a:pt x="276" y="346"/>
                      </a:lnTo>
                      <a:lnTo>
                        <a:pt x="274" y="388"/>
                      </a:lnTo>
                      <a:lnTo>
                        <a:pt x="248" y="314"/>
                      </a:lnTo>
                      <a:lnTo>
                        <a:pt x="241" y="286"/>
                      </a:lnTo>
                      <a:lnTo>
                        <a:pt x="238" y="252"/>
                      </a:lnTo>
                      <a:lnTo>
                        <a:pt x="239" y="221"/>
                      </a:lnTo>
                      <a:lnTo>
                        <a:pt x="246" y="162"/>
                      </a:lnTo>
                      <a:lnTo>
                        <a:pt x="227" y="231"/>
                      </a:lnTo>
                      <a:lnTo>
                        <a:pt x="221" y="266"/>
                      </a:lnTo>
                      <a:lnTo>
                        <a:pt x="221" y="297"/>
                      </a:lnTo>
                      <a:lnTo>
                        <a:pt x="225" y="327"/>
                      </a:lnTo>
                      <a:lnTo>
                        <a:pt x="229" y="363"/>
                      </a:lnTo>
                      <a:lnTo>
                        <a:pt x="232" y="406"/>
                      </a:lnTo>
                      <a:lnTo>
                        <a:pt x="216" y="479"/>
                      </a:lnTo>
                      <a:lnTo>
                        <a:pt x="168" y="359"/>
                      </a:lnTo>
                      <a:lnTo>
                        <a:pt x="163" y="334"/>
                      </a:lnTo>
                      <a:lnTo>
                        <a:pt x="160" y="300"/>
                      </a:lnTo>
                      <a:lnTo>
                        <a:pt x="162" y="265"/>
                      </a:lnTo>
                      <a:lnTo>
                        <a:pt x="167" y="232"/>
                      </a:lnTo>
                      <a:lnTo>
                        <a:pt x="176" y="193"/>
                      </a:lnTo>
                      <a:lnTo>
                        <a:pt x="187" y="165"/>
                      </a:lnTo>
                      <a:lnTo>
                        <a:pt x="194" y="133"/>
                      </a:lnTo>
                      <a:lnTo>
                        <a:pt x="198" y="101"/>
                      </a:lnTo>
                      <a:lnTo>
                        <a:pt x="198" y="76"/>
                      </a:lnTo>
                      <a:lnTo>
                        <a:pt x="194" y="42"/>
                      </a:lnTo>
                      <a:lnTo>
                        <a:pt x="180" y="0"/>
                      </a:lnTo>
                      <a:lnTo>
                        <a:pt x="181" y="44"/>
                      </a:lnTo>
                      <a:lnTo>
                        <a:pt x="179" y="81"/>
                      </a:lnTo>
                      <a:lnTo>
                        <a:pt x="172" y="114"/>
                      </a:lnTo>
                      <a:lnTo>
                        <a:pt x="161" y="143"/>
                      </a:lnTo>
                      <a:lnTo>
                        <a:pt x="141" y="184"/>
                      </a:lnTo>
                      <a:lnTo>
                        <a:pt x="118" y="247"/>
                      </a:lnTo>
                      <a:lnTo>
                        <a:pt x="104" y="286"/>
                      </a:lnTo>
                      <a:lnTo>
                        <a:pt x="86" y="420"/>
                      </a:lnTo>
                      <a:lnTo>
                        <a:pt x="90" y="449"/>
                      </a:lnTo>
                      <a:lnTo>
                        <a:pt x="103" y="498"/>
                      </a:lnTo>
                      <a:lnTo>
                        <a:pt x="55" y="422"/>
                      </a:lnTo>
                      <a:lnTo>
                        <a:pt x="0" y="399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3588120" y="95688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437280" y="574560"/>
                <a:ext cx="518400" cy="442440"/>
                <a:chOff x="3437280" y="574560"/>
                <a:chExt cx="518400" cy="442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437280" y="60012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43840" y="574560"/>
                  <a:ext cx="347760" cy="442440"/>
                  <a:chOff x="3543840" y="574560"/>
                  <a:chExt cx="347760" cy="44244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548160" y="579240"/>
                    <a:ext cx="343440" cy="43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48160" y="574560"/>
                    <a:ext cx="342000" cy="43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549600" y="585720"/>
                    <a:ext cx="33120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544920" y="58716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543840" y="59040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554280" y="60804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560760" y="60300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559320" y="620640"/>
                    <a:ext cx="3074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565440" y="62532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3578760" y="753120"/>
                <a:ext cx="255240" cy="389880"/>
                <a:chOff x="3578760" y="753120"/>
                <a:chExt cx="255240" cy="3898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8320" y="753120"/>
                  <a:ext cx="175680" cy="278640"/>
                </a:xfrm>
                <a:custGeom>
                  <a:avLst/>
                  <a:gdLst/>
                  <a:ahLst/>
                  <a:rect l="l" t="t" r="r" b="b"/>
                  <a:pathLst>
                    <a:path w="561" h="873">
                      <a:moveTo>
                        <a:pt x="0" y="494"/>
                      </a:moveTo>
                      <a:lnTo>
                        <a:pt x="26" y="516"/>
                      </a:lnTo>
                      <a:lnTo>
                        <a:pt x="38" y="539"/>
                      </a:lnTo>
                      <a:lnTo>
                        <a:pt x="50" y="574"/>
                      </a:lnTo>
                      <a:lnTo>
                        <a:pt x="66" y="611"/>
                      </a:lnTo>
                      <a:lnTo>
                        <a:pt x="66" y="637"/>
                      </a:lnTo>
                      <a:lnTo>
                        <a:pt x="65" y="670"/>
                      </a:lnTo>
                      <a:lnTo>
                        <a:pt x="61" y="698"/>
                      </a:lnTo>
                      <a:lnTo>
                        <a:pt x="58" y="726"/>
                      </a:lnTo>
                      <a:lnTo>
                        <a:pt x="58" y="753"/>
                      </a:lnTo>
                      <a:lnTo>
                        <a:pt x="62" y="777"/>
                      </a:lnTo>
                      <a:lnTo>
                        <a:pt x="69" y="803"/>
                      </a:lnTo>
                      <a:lnTo>
                        <a:pt x="82" y="823"/>
                      </a:lnTo>
                      <a:lnTo>
                        <a:pt x="99" y="840"/>
                      </a:lnTo>
                      <a:lnTo>
                        <a:pt x="119" y="853"/>
                      </a:lnTo>
                      <a:lnTo>
                        <a:pt x="139" y="863"/>
                      </a:lnTo>
                      <a:lnTo>
                        <a:pt x="163" y="869"/>
                      </a:lnTo>
                      <a:lnTo>
                        <a:pt x="188" y="873"/>
                      </a:lnTo>
                      <a:lnTo>
                        <a:pt x="215" y="873"/>
                      </a:lnTo>
                      <a:lnTo>
                        <a:pt x="239" y="870"/>
                      </a:lnTo>
                      <a:lnTo>
                        <a:pt x="265" y="865"/>
                      </a:lnTo>
                      <a:lnTo>
                        <a:pt x="292" y="859"/>
                      </a:lnTo>
                      <a:lnTo>
                        <a:pt x="318" y="850"/>
                      </a:lnTo>
                      <a:lnTo>
                        <a:pt x="342" y="838"/>
                      </a:lnTo>
                      <a:lnTo>
                        <a:pt x="360" y="827"/>
                      </a:lnTo>
                      <a:lnTo>
                        <a:pt x="380" y="812"/>
                      </a:lnTo>
                      <a:lnTo>
                        <a:pt x="398" y="797"/>
                      </a:lnTo>
                      <a:lnTo>
                        <a:pt x="410" y="780"/>
                      </a:lnTo>
                      <a:lnTo>
                        <a:pt x="422" y="763"/>
                      </a:lnTo>
                      <a:lnTo>
                        <a:pt x="434" y="740"/>
                      </a:lnTo>
                      <a:lnTo>
                        <a:pt x="441" y="721"/>
                      </a:lnTo>
                      <a:lnTo>
                        <a:pt x="452" y="701"/>
                      </a:lnTo>
                      <a:lnTo>
                        <a:pt x="462" y="685"/>
                      </a:lnTo>
                      <a:lnTo>
                        <a:pt x="484" y="660"/>
                      </a:lnTo>
                      <a:lnTo>
                        <a:pt x="495" y="651"/>
                      </a:lnTo>
                      <a:lnTo>
                        <a:pt x="512" y="636"/>
                      </a:lnTo>
                      <a:lnTo>
                        <a:pt x="561" y="617"/>
                      </a:lnTo>
                      <a:lnTo>
                        <a:pt x="522" y="619"/>
                      </a:lnTo>
                      <a:lnTo>
                        <a:pt x="497" y="625"/>
                      </a:lnTo>
                      <a:lnTo>
                        <a:pt x="479" y="629"/>
                      </a:lnTo>
                      <a:lnTo>
                        <a:pt x="458" y="641"/>
                      </a:lnTo>
                      <a:lnTo>
                        <a:pt x="451" y="648"/>
                      </a:lnTo>
                      <a:lnTo>
                        <a:pt x="435" y="663"/>
                      </a:lnTo>
                      <a:lnTo>
                        <a:pt x="422" y="680"/>
                      </a:lnTo>
                      <a:lnTo>
                        <a:pt x="391" y="729"/>
                      </a:lnTo>
                      <a:lnTo>
                        <a:pt x="370" y="747"/>
                      </a:lnTo>
                      <a:lnTo>
                        <a:pt x="349" y="762"/>
                      </a:lnTo>
                      <a:lnTo>
                        <a:pt x="322" y="778"/>
                      </a:lnTo>
                      <a:lnTo>
                        <a:pt x="295" y="789"/>
                      </a:lnTo>
                      <a:lnTo>
                        <a:pt x="314" y="764"/>
                      </a:lnTo>
                      <a:lnTo>
                        <a:pt x="328" y="743"/>
                      </a:lnTo>
                      <a:lnTo>
                        <a:pt x="346" y="718"/>
                      </a:lnTo>
                      <a:lnTo>
                        <a:pt x="356" y="684"/>
                      </a:lnTo>
                      <a:lnTo>
                        <a:pt x="375" y="629"/>
                      </a:lnTo>
                      <a:lnTo>
                        <a:pt x="420" y="560"/>
                      </a:lnTo>
                      <a:lnTo>
                        <a:pt x="369" y="608"/>
                      </a:lnTo>
                      <a:lnTo>
                        <a:pt x="355" y="624"/>
                      </a:lnTo>
                      <a:lnTo>
                        <a:pt x="325" y="681"/>
                      </a:lnTo>
                      <a:lnTo>
                        <a:pt x="348" y="589"/>
                      </a:lnTo>
                      <a:lnTo>
                        <a:pt x="357" y="536"/>
                      </a:lnTo>
                      <a:lnTo>
                        <a:pt x="358" y="494"/>
                      </a:lnTo>
                      <a:lnTo>
                        <a:pt x="355" y="463"/>
                      </a:lnTo>
                      <a:lnTo>
                        <a:pt x="347" y="436"/>
                      </a:lnTo>
                      <a:lnTo>
                        <a:pt x="336" y="406"/>
                      </a:lnTo>
                      <a:lnTo>
                        <a:pt x="323" y="372"/>
                      </a:lnTo>
                      <a:lnTo>
                        <a:pt x="330" y="438"/>
                      </a:lnTo>
                      <a:lnTo>
                        <a:pt x="327" y="482"/>
                      </a:lnTo>
                      <a:lnTo>
                        <a:pt x="296" y="407"/>
                      </a:lnTo>
                      <a:lnTo>
                        <a:pt x="283" y="373"/>
                      </a:lnTo>
                      <a:lnTo>
                        <a:pt x="280" y="341"/>
                      </a:lnTo>
                      <a:lnTo>
                        <a:pt x="281" y="306"/>
                      </a:lnTo>
                      <a:lnTo>
                        <a:pt x="285" y="275"/>
                      </a:lnTo>
                      <a:lnTo>
                        <a:pt x="292" y="242"/>
                      </a:lnTo>
                      <a:lnTo>
                        <a:pt x="281" y="258"/>
                      </a:lnTo>
                      <a:lnTo>
                        <a:pt x="273" y="278"/>
                      </a:lnTo>
                      <a:lnTo>
                        <a:pt x="264" y="316"/>
                      </a:lnTo>
                      <a:lnTo>
                        <a:pt x="260" y="343"/>
                      </a:lnTo>
                      <a:lnTo>
                        <a:pt x="258" y="373"/>
                      </a:lnTo>
                      <a:lnTo>
                        <a:pt x="265" y="413"/>
                      </a:lnTo>
                      <a:lnTo>
                        <a:pt x="276" y="500"/>
                      </a:lnTo>
                      <a:lnTo>
                        <a:pt x="258" y="579"/>
                      </a:lnTo>
                      <a:lnTo>
                        <a:pt x="211" y="454"/>
                      </a:lnTo>
                      <a:lnTo>
                        <a:pt x="200" y="424"/>
                      </a:lnTo>
                      <a:lnTo>
                        <a:pt x="193" y="387"/>
                      </a:lnTo>
                      <a:lnTo>
                        <a:pt x="190" y="347"/>
                      </a:lnTo>
                      <a:lnTo>
                        <a:pt x="193" y="307"/>
                      </a:lnTo>
                      <a:lnTo>
                        <a:pt x="197" y="275"/>
                      </a:lnTo>
                      <a:lnTo>
                        <a:pt x="206" y="244"/>
                      </a:lnTo>
                      <a:lnTo>
                        <a:pt x="215" y="213"/>
                      </a:lnTo>
                      <a:lnTo>
                        <a:pt x="225" y="184"/>
                      </a:lnTo>
                      <a:lnTo>
                        <a:pt x="228" y="156"/>
                      </a:lnTo>
                      <a:lnTo>
                        <a:pt x="230" y="125"/>
                      </a:lnTo>
                      <a:lnTo>
                        <a:pt x="228" y="90"/>
                      </a:lnTo>
                      <a:lnTo>
                        <a:pt x="222" y="49"/>
                      </a:lnTo>
                      <a:lnTo>
                        <a:pt x="209" y="0"/>
                      </a:lnTo>
                      <a:lnTo>
                        <a:pt x="210" y="48"/>
                      </a:lnTo>
                      <a:lnTo>
                        <a:pt x="213" y="77"/>
                      </a:lnTo>
                      <a:lnTo>
                        <a:pt x="210" y="116"/>
                      </a:lnTo>
                      <a:lnTo>
                        <a:pt x="199" y="151"/>
                      </a:lnTo>
                      <a:lnTo>
                        <a:pt x="187" y="185"/>
                      </a:lnTo>
                      <a:lnTo>
                        <a:pt x="173" y="218"/>
                      </a:lnTo>
                      <a:lnTo>
                        <a:pt x="159" y="248"/>
                      </a:lnTo>
                      <a:lnTo>
                        <a:pt x="141" y="284"/>
                      </a:lnTo>
                      <a:lnTo>
                        <a:pt x="123" y="333"/>
                      </a:lnTo>
                      <a:lnTo>
                        <a:pt x="113" y="374"/>
                      </a:lnTo>
                      <a:lnTo>
                        <a:pt x="101" y="517"/>
                      </a:lnTo>
                      <a:lnTo>
                        <a:pt x="108" y="547"/>
                      </a:lnTo>
                      <a:lnTo>
                        <a:pt x="123" y="599"/>
                      </a:lnTo>
                      <a:lnTo>
                        <a:pt x="65" y="519"/>
                      </a:lnTo>
                      <a:lnTo>
                        <a:pt x="0" y="49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78760" y="998280"/>
                  <a:ext cx="244440" cy="144720"/>
                </a:xfrm>
                <a:custGeom>
                  <a:avLst/>
                  <a:gdLst/>
                  <a:ahLst/>
                  <a:rect l="l" t="t" r="r" b="b"/>
                  <a:pathLst>
                    <a:path w="781" h="457">
                      <a:moveTo>
                        <a:pt x="388" y="21"/>
                      </a:moveTo>
                      <a:lnTo>
                        <a:pt x="0" y="162"/>
                      </a:lnTo>
                      <a:lnTo>
                        <a:pt x="382" y="0"/>
                      </a:lnTo>
                      <a:lnTo>
                        <a:pt x="472" y="5"/>
                      </a:lnTo>
                      <a:lnTo>
                        <a:pt x="559" y="21"/>
                      </a:lnTo>
                      <a:lnTo>
                        <a:pt x="781" y="213"/>
                      </a:lnTo>
                      <a:lnTo>
                        <a:pt x="521" y="34"/>
                      </a:lnTo>
                      <a:lnTo>
                        <a:pt x="745" y="457"/>
                      </a:lnTo>
                      <a:lnTo>
                        <a:pt x="491" y="34"/>
                      </a:lnTo>
                      <a:lnTo>
                        <a:pt x="470" y="59"/>
                      </a:lnTo>
                      <a:lnTo>
                        <a:pt x="413" y="253"/>
                      </a:lnTo>
                      <a:lnTo>
                        <a:pt x="440" y="49"/>
                      </a:lnTo>
                      <a:lnTo>
                        <a:pt x="161" y="438"/>
                      </a:lnTo>
                      <a:lnTo>
                        <a:pt x="414" y="28"/>
                      </a:lnTo>
                      <a:lnTo>
                        <a:pt x="388" y="2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66240" y="786240"/>
                  <a:ext cx="147600" cy="231120"/>
                </a:xfrm>
                <a:custGeom>
                  <a:avLst/>
                  <a:gdLst/>
                  <a:ahLst/>
                  <a:rect l="l" t="t" r="r" b="b"/>
                  <a:pathLst>
                    <a:path w="470" h="723">
                      <a:moveTo>
                        <a:pt x="0" y="399"/>
                      </a:moveTo>
                      <a:lnTo>
                        <a:pt x="23" y="419"/>
                      </a:lnTo>
                      <a:lnTo>
                        <a:pt x="32" y="443"/>
                      </a:lnTo>
                      <a:lnTo>
                        <a:pt x="42" y="475"/>
                      </a:lnTo>
                      <a:lnTo>
                        <a:pt x="56" y="510"/>
                      </a:lnTo>
                      <a:lnTo>
                        <a:pt x="56" y="534"/>
                      </a:lnTo>
                      <a:lnTo>
                        <a:pt x="55" y="564"/>
                      </a:lnTo>
                      <a:lnTo>
                        <a:pt x="62" y="597"/>
                      </a:lnTo>
                      <a:lnTo>
                        <a:pt x="66" y="621"/>
                      </a:lnTo>
                      <a:lnTo>
                        <a:pt x="73" y="641"/>
                      </a:lnTo>
                      <a:lnTo>
                        <a:pt x="80" y="661"/>
                      </a:lnTo>
                      <a:lnTo>
                        <a:pt x="93" y="679"/>
                      </a:lnTo>
                      <a:lnTo>
                        <a:pt x="104" y="693"/>
                      </a:lnTo>
                      <a:lnTo>
                        <a:pt x="122" y="705"/>
                      </a:lnTo>
                      <a:lnTo>
                        <a:pt x="142" y="714"/>
                      </a:lnTo>
                      <a:lnTo>
                        <a:pt x="171" y="721"/>
                      </a:lnTo>
                      <a:lnTo>
                        <a:pt x="200" y="723"/>
                      </a:lnTo>
                      <a:lnTo>
                        <a:pt x="227" y="720"/>
                      </a:lnTo>
                      <a:lnTo>
                        <a:pt x="253" y="713"/>
                      </a:lnTo>
                      <a:lnTo>
                        <a:pt x="282" y="704"/>
                      </a:lnTo>
                      <a:lnTo>
                        <a:pt x="309" y="688"/>
                      </a:lnTo>
                      <a:lnTo>
                        <a:pt x="329" y="669"/>
                      </a:lnTo>
                      <a:lnTo>
                        <a:pt x="343" y="649"/>
                      </a:lnTo>
                      <a:lnTo>
                        <a:pt x="355" y="628"/>
                      </a:lnTo>
                      <a:lnTo>
                        <a:pt x="371" y="600"/>
                      </a:lnTo>
                      <a:lnTo>
                        <a:pt x="386" y="574"/>
                      </a:lnTo>
                      <a:lnTo>
                        <a:pt x="405" y="551"/>
                      </a:lnTo>
                      <a:lnTo>
                        <a:pt x="430" y="530"/>
                      </a:lnTo>
                      <a:lnTo>
                        <a:pt x="470" y="515"/>
                      </a:lnTo>
                      <a:lnTo>
                        <a:pt x="437" y="517"/>
                      </a:lnTo>
                      <a:lnTo>
                        <a:pt x="418" y="523"/>
                      </a:lnTo>
                      <a:lnTo>
                        <a:pt x="398" y="535"/>
                      </a:lnTo>
                      <a:lnTo>
                        <a:pt x="384" y="548"/>
                      </a:lnTo>
                      <a:lnTo>
                        <a:pt x="365" y="570"/>
                      </a:lnTo>
                      <a:lnTo>
                        <a:pt x="344" y="599"/>
                      </a:lnTo>
                      <a:lnTo>
                        <a:pt x="328" y="620"/>
                      </a:lnTo>
                      <a:lnTo>
                        <a:pt x="311" y="637"/>
                      </a:lnTo>
                      <a:lnTo>
                        <a:pt x="293" y="652"/>
                      </a:lnTo>
                      <a:lnTo>
                        <a:pt x="270" y="666"/>
                      </a:lnTo>
                      <a:lnTo>
                        <a:pt x="247" y="676"/>
                      </a:lnTo>
                      <a:lnTo>
                        <a:pt x="263" y="653"/>
                      </a:lnTo>
                      <a:lnTo>
                        <a:pt x="275" y="633"/>
                      </a:lnTo>
                      <a:lnTo>
                        <a:pt x="290" y="609"/>
                      </a:lnTo>
                      <a:lnTo>
                        <a:pt x="299" y="578"/>
                      </a:lnTo>
                      <a:lnTo>
                        <a:pt x="314" y="526"/>
                      </a:lnTo>
                      <a:lnTo>
                        <a:pt x="351" y="461"/>
                      </a:lnTo>
                      <a:lnTo>
                        <a:pt x="310" y="507"/>
                      </a:lnTo>
                      <a:lnTo>
                        <a:pt x="298" y="522"/>
                      </a:lnTo>
                      <a:lnTo>
                        <a:pt x="272" y="574"/>
                      </a:lnTo>
                      <a:lnTo>
                        <a:pt x="292" y="488"/>
                      </a:lnTo>
                      <a:lnTo>
                        <a:pt x="299" y="440"/>
                      </a:lnTo>
                      <a:lnTo>
                        <a:pt x="300" y="399"/>
                      </a:lnTo>
                      <a:lnTo>
                        <a:pt x="291" y="345"/>
                      </a:lnTo>
                      <a:lnTo>
                        <a:pt x="282" y="316"/>
                      </a:lnTo>
                      <a:lnTo>
                        <a:pt x="273" y="297"/>
                      </a:lnTo>
                      <a:lnTo>
                        <a:pt x="276" y="346"/>
                      </a:lnTo>
                      <a:lnTo>
                        <a:pt x="274" y="388"/>
                      </a:lnTo>
                      <a:lnTo>
                        <a:pt x="248" y="314"/>
                      </a:lnTo>
                      <a:lnTo>
                        <a:pt x="241" y="286"/>
                      </a:lnTo>
                      <a:lnTo>
                        <a:pt x="238" y="252"/>
                      </a:lnTo>
                      <a:lnTo>
                        <a:pt x="239" y="221"/>
                      </a:lnTo>
                      <a:lnTo>
                        <a:pt x="246" y="162"/>
                      </a:lnTo>
                      <a:lnTo>
                        <a:pt x="227" y="231"/>
                      </a:lnTo>
                      <a:lnTo>
                        <a:pt x="221" y="266"/>
                      </a:lnTo>
                      <a:lnTo>
                        <a:pt x="221" y="297"/>
                      </a:lnTo>
                      <a:lnTo>
                        <a:pt x="225" y="327"/>
                      </a:lnTo>
                      <a:lnTo>
                        <a:pt x="229" y="363"/>
                      </a:lnTo>
                      <a:lnTo>
                        <a:pt x="232" y="406"/>
                      </a:lnTo>
                      <a:lnTo>
                        <a:pt x="216" y="479"/>
                      </a:lnTo>
                      <a:lnTo>
                        <a:pt x="168" y="359"/>
                      </a:lnTo>
                      <a:lnTo>
                        <a:pt x="163" y="334"/>
                      </a:lnTo>
                      <a:lnTo>
                        <a:pt x="160" y="300"/>
                      </a:lnTo>
                      <a:lnTo>
                        <a:pt x="162" y="265"/>
                      </a:lnTo>
                      <a:lnTo>
                        <a:pt x="167" y="232"/>
                      </a:lnTo>
                      <a:lnTo>
                        <a:pt x="176" y="193"/>
                      </a:lnTo>
                      <a:lnTo>
                        <a:pt x="187" y="165"/>
                      </a:lnTo>
                      <a:lnTo>
                        <a:pt x="194" y="133"/>
                      </a:lnTo>
                      <a:lnTo>
                        <a:pt x="198" y="101"/>
                      </a:lnTo>
                      <a:lnTo>
                        <a:pt x="198" y="76"/>
                      </a:lnTo>
                      <a:lnTo>
                        <a:pt x="194" y="42"/>
                      </a:lnTo>
                      <a:lnTo>
                        <a:pt x="180" y="0"/>
                      </a:lnTo>
                      <a:lnTo>
                        <a:pt x="181" y="44"/>
                      </a:lnTo>
                      <a:lnTo>
                        <a:pt x="179" y="81"/>
                      </a:lnTo>
                      <a:lnTo>
                        <a:pt x="172" y="114"/>
                      </a:lnTo>
                      <a:lnTo>
                        <a:pt x="161" y="143"/>
                      </a:lnTo>
                      <a:lnTo>
                        <a:pt x="141" y="184"/>
                      </a:lnTo>
                      <a:lnTo>
                        <a:pt x="118" y="247"/>
                      </a:lnTo>
                      <a:lnTo>
                        <a:pt x="104" y="286"/>
                      </a:lnTo>
                      <a:lnTo>
                        <a:pt x="86" y="420"/>
                      </a:lnTo>
                      <a:lnTo>
                        <a:pt x="90" y="449"/>
                      </a:lnTo>
                      <a:lnTo>
                        <a:pt x="103" y="498"/>
                      </a:lnTo>
                      <a:lnTo>
                        <a:pt x="55" y="422"/>
                      </a:lnTo>
                      <a:lnTo>
                        <a:pt x="0" y="399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116240" y="1951560"/>
                <a:ext cx="60336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80680" y="5624280"/>
                <a:ext cx="93384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flipV="1">
                <a:off x="4116240" y="4170600"/>
                <a:ext cx="0" cy="68832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17920" y="4093920"/>
                <a:ext cx="30168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81160" y="3787560"/>
                <a:ext cx="87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Fax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14200" y="3404520"/>
                <a:ext cx="772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ire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682720" y="4552560"/>
                <a:ext cx="754560" cy="459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7170840" y="1768320"/>
                <a:ext cx="703440" cy="536760"/>
                <a:chOff x="7170840" y="1768320"/>
                <a:chExt cx="703440" cy="5367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192800" y="1768320"/>
                  <a:ext cx="678240" cy="534960"/>
                </a:xfrm>
                <a:prstGeom prst="flowChartPredefined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70840" y="1846080"/>
                  <a:ext cx="703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e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835560" y="1462320"/>
                <a:ext cx="1659600" cy="15300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916800">
                <a:off x="1044360" y="2780280"/>
                <a:ext cx="226080" cy="994680"/>
              </a:xfrm>
              <a:custGeom>
                <a:avLst/>
                <a:gdLst>
                  <a:gd name="textAreaLeft" fmla="*/ 30240 w 226080"/>
                  <a:gd name="textAreaRight" fmla="*/ 195840 w 226080"/>
                  <a:gd name="textAreaTop" fmla="*/ 190080 h 994680"/>
                  <a:gd name="textAreaBottom" fmla="*/ 685080 h 994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10743"/>
                    </a:lnTo>
                    <a:arcTo wR="21600" hR="8259" stAng="10800000" swAng="-3336211"/>
                    <a:lnTo>
                      <a:pt x="16130" y="21331"/>
                    </a:lnTo>
                    <a:lnTo>
                      <a:pt x="21600" y="17760"/>
                    </a:lnTo>
                    <a:lnTo>
                      <a:pt x="16130" y="13651"/>
                    </a:lnTo>
                    <a:lnTo>
                      <a:pt x="16130" y="16249"/>
                    </a:lnTo>
                    <a:arcTo wR="21600" hR="8259" stAng="7463789" swAng="3136491"/>
                    <a:lnTo>
                      <a:pt x="246" y="9501"/>
                    </a:lnTo>
                    <a:arcTo wR="21600" hR="8259" stAng="-10600281" swAng="5200281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8259"/>
                    </a:lnTo>
                    <a:arcTo wR="21600" hR="8259" stAng="10800000" swAng="-199719"/>
                    <a:lnTo>
                      <a:pt x="246" y="9501"/>
                    </a:lnTo>
                    <a:arcTo wR="21600" hR="8259" stAng="-10600281" swAng="5200281"/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50000">
                    <a:srgbClr val="ffffff"/>
                  </a:gs>
                  <a:gs pos="100000">
                    <a:srgbClr val="ff66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1802600">
                <a:off x="1967400" y="2839320"/>
                <a:ext cx="150480" cy="1147680"/>
              </a:xfrm>
              <a:custGeom>
                <a:avLst/>
                <a:gdLst>
                  <a:gd name="textAreaLeft" fmla="*/ 20160 w 150480"/>
                  <a:gd name="textAreaRight" fmla="*/ 130320 w 150480"/>
                  <a:gd name="textAreaTop" fmla="*/ 219240 h 1147680"/>
                  <a:gd name="textAreaBottom" fmla="*/ 790200 h 11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10743"/>
                    </a:lnTo>
                    <a:arcTo wR="21600" hR="8259" stAng="10800000" swAng="-3336211"/>
                    <a:lnTo>
                      <a:pt x="16130" y="21331"/>
                    </a:lnTo>
                    <a:lnTo>
                      <a:pt x="21600" y="17760"/>
                    </a:lnTo>
                    <a:lnTo>
                      <a:pt x="16130" y="13651"/>
                    </a:lnTo>
                    <a:lnTo>
                      <a:pt x="16130" y="16249"/>
                    </a:lnTo>
                    <a:arcTo wR="21600" hR="8259" stAng="7463789" swAng="3136491"/>
                    <a:lnTo>
                      <a:pt x="246" y="9501"/>
                    </a:lnTo>
                    <a:arcTo wR="21600" hR="8259" stAng="-10600281" swAng="5200281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8259"/>
                    </a:lnTo>
                    <a:arcTo wR="21600" hR="8259" stAng="10800000" swAng="-199719"/>
                    <a:lnTo>
                      <a:pt x="246" y="9501"/>
                    </a:lnTo>
                    <a:arcTo wR="21600" hR="8259" stAng="-10600281" swAng="5200281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0320" y="3757680"/>
                <a:ext cx="981000" cy="86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910800" y="1844640"/>
                <a:ext cx="830160" cy="689760"/>
                <a:chOff x="910800" y="1844640"/>
                <a:chExt cx="830160" cy="68976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910800" y="1844640"/>
                  <a:ext cx="830160" cy="58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0800" y="2380320"/>
                  <a:ext cx="617400" cy="15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5" name=""/>
              <p:cNvSpPr/>
              <p:nvPr/>
            </p:nvSpPr>
            <p:spPr>
              <a:xfrm>
                <a:off x="909360" y="1538640"/>
                <a:ext cx="95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Web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816560" y="1920240"/>
                <a:ext cx="761040" cy="536400"/>
                <a:chOff x="1816560" y="1920240"/>
                <a:chExt cx="761040" cy="536400"/>
              </a:xfrm>
            </p:grpSpPr>
            <p:pic>
              <p:nvPicPr>
                <p:cNvPr id="1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42640" y="2073960"/>
                  <a:ext cx="361800" cy="38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1816560" y="1920240"/>
                  <a:ext cx="761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gi/AS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436000" y="925200"/>
                <a:ext cx="785880" cy="689400"/>
                <a:chOff x="5436000" y="925200"/>
                <a:chExt cx="785880" cy="689400"/>
              </a:xfrm>
            </p:grpSpPr>
            <p:pic>
              <p:nvPicPr>
                <p:cNvPr id="20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589000" y="1155960"/>
                  <a:ext cx="4525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5436000" y="925200"/>
                  <a:ext cx="785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ign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6570000" y="2074320"/>
                <a:ext cx="6037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66640" y="1385640"/>
                <a:ext cx="603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35120" y="6492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649908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28720" y="90000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Survey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900000"/>
            <a:ext cx="78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4560" y="314640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2106720"/>
            <a:ext cx="7343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retail sale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monthly - 2 forms for three pages - 2,7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Telecommunication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annual – 3 forms for nine pages – 534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employment, working time and salary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monthly – 2 forms for three pages – 1,5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vacancies and worked hour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quarterly – 1 form for four pages – 8,0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95480" y="584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erception of the statistica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673280"/>
            <a:ext cx="813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Positive perceptions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eduction of time and co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crease in productiv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stant storage and retrieval of data immediately available in the production data 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Negative perceptions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ack of product experts for assistance during the collection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ong response time using the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erifier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fix data coming from paper for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mpossibility for respondents of saving partial versions of PDF for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686720" y="306360"/>
            <a:ext cx="1122480" cy="438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23840" y="613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6354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76320" y="71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6920" y="16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80320" y="172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738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Central IT Directorat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123920" cy="471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92200" y="6492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6642000"/>
            <a:ext cx="772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1673280"/>
            <a:ext cx="7200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is an effective data capture softwar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deal with simple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’s necessary to support costs for installation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maintenance of more adequat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rastructures (100Mbp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’s crucial to get tools for monitoring and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naging service levels of involved server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networ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is not the only possibility: let’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alyze the survey process peculiarities to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hoose the righ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16:03:04Z</dcterms:created>
  <dc:creator>ISTITUTO NAZIONALE STATISTICA</dc:creator>
  <dc:description/>
  <dc:language>en-US</dc:language>
  <cp:lastModifiedBy>larese</cp:lastModifiedBy>
  <cp:lastPrinted>2001-05-30T13:48:40Z</cp:lastPrinted>
  <dcterms:modified xsi:type="dcterms:W3CDTF">2004-05-04T12:42:42Z</dcterms:modified>
  <cp:revision>36</cp:revision>
  <dc:subject/>
  <dc:title>Nessun titolo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84432441</vt:r8>
  </property>
  <property fmtid="{D5CDD505-2E9C-101B-9397-08002B2CF9AE}" pid="3" name="_AuthorEmail">
    <vt:lpwstr>larese@istat.it</vt:lpwstr>
  </property>
  <property fmtid="{D5CDD505-2E9C-101B-9397-08002B2CF9AE}" pid="4" name="_AuthorEmailDisplayName">
    <vt:lpwstr>Patrizia Larese</vt:lpwstr>
  </property>
  <property fmtid="{D5CDD505-2E9C-101B-9397-08002B2CF9AE}" pid="5" name="_EmailSubject">
    <vt:lpwstr>Document for Meeting on Management of Statistical Information Systems (MSIS 2004)</vt:lpwstr>
  </property>
</Properties>
</file>