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7380288"/>
  <p:notesSz cx="986790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DFD-FCD1-453C-BCC4-192B3626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4420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E56-0AE3-4643-BDA3-88CDE0A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AC9-8294-4C28-9C22-9A12CC63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3156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4420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C73-B187-41EA-A890-B94A7C8B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563-ABC8-4443-8F7C-F5B8B72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41F-6ADF-4682-AF8C-917988B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5B7-FCDB-40F5-AB63-E1C7A850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266-1829-43B3-ACB3-F4FBFC6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55560"/>
            <a:ext cx="777240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5FB-D2CF-447B-9184-FFD8A95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E54-1620-47C7-BB16-1E09C95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4420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278-D427-4427-83DB-98D5A83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156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4420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40B-3FC7-4802-8758-5C32653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156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724440"/>
            <a:ext cx="1905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724440"/>
            <a:ext cx="2898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724440"/>
            <a:ext cx="1905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73A-DB8D-4DF5-B1BD-20BD3DAFE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6574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4.png"/><Relationship Id="rId19" Type="http://schemas.openxmlformats.org/officeDocument/2006/relationships/image" Target="../media/image15.wmf"/><Relationship Id="rId20" Type="http://schemas.openxmlformats.org/officeDocument/2006/relationships/image" Target="../media/image16.wmf"/><Relationship Id="rId21" Type="http://schemas.openxmlformats.org/officeDocument/2006/relationships/image" Target="../media/image17.png"/><Relationship Id="rId22" Type="http://schemas.openxmlformats.org/officeDocument/2006/relationships/image" Target="../media/image18.wmf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522360"/>
            <a:ext cx="728496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4560" y="6170760"/>
            <a:ext cx="713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17000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usage of a data capture tool in statistical surveys on enterp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397800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Times New Roman"/>
              </a:rPr>
              <a:t>Rossana Balestrino, Patrizia La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99"/>
                </a:solidFill>
                <a:latin typeface="Times New Roman"/>
              </a:rPr>
              <a:t>Istat - Via C. Balbo 16 - 00184 Roma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649908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760" y="5911920"/>
            <a:ext cx="768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1840" y="744480"/>
            <a:ext cx="579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Classes of respo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4838760"/>
            <a:ext cx="1951200" cy="1363320"/>
            <a:chOff x="914400" y="4838760"/>
            <a:chExt cx="1951200" cy="1363320"/>
          </a:xfrm>
        </p:grpSpPr>
        <p:sp>
          <p:nvSpPr>
            <p:cNvPr id="52" name=""/>
            <p:cNvSpPr/>
            <p:nvPr/>
          </p:nvSpPr>
          <p:spPr>
            <a:xfrm>
              <a:off x="1176120" y="5742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Househo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14400" y="4838760"/>
              <a:ext cx="1912680" cy="86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3581280" y="5002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ampling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Limited coverage of technological equipment and access  to the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Face-to-face and CATI/CAPI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25480" y="706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986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00800" y="3116160"/>
            <a:ext cx="1698120" cy="1504440"/>
            <a:chOff x="6400800" y="3116160"/>
            <a:chExt cx="1698120" cy="1504440"/>
          </a:xfrm>
        </p:grpSpPr>
        <p:sp>
          <p:nvSpPr>
            <p:cNvPr id="58" name=""/>
            <p:cNvSpPr/>
            <p:nvPr/>
          </p:nvSpPr>
          <p:spPr>
            <a:xfrm>
              <a:off x="6400800" y="41608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Enterpr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3116160"/>
              <a:ext cx="1698120" cy="102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273480" y="163980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Total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Web and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Adequate technological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Known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4520" y="3090960"/>
            <a:ext cx="38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ampling 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Heterogeneous technological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Information systems not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Unknown and changeable pro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Self-inter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90720" y="1557360"/>
            <a:ext cx="1827000" cy="8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9800" y="229536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3480" y="6203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5480" y="6348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570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65280"/>
            <a:ext cx="7918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Multi-technique approach  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to data collectio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2131560"/>
            <a:ext cx="8135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lets us introduce innovation in the processes without forcing the respondent environ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overcomes population coverage problems in selecting sample uni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favours the respondent who can select the way he prefers;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provides the advantages of CASIC techniques   (timeliness, cost, quality) but implies a higher management co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51640" y="233280"/>
            <a:ext cx="1209600" cy="4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792920" y="84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8200" y="584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6354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eleform  - (VERITY U.S.A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961640"/>
            <a:ext cx="7991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product is a bridge between paper forms and electronic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turns paper into digital forms treated through OCR engi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can generate electronic forms HTML or PDF, which can be administered by web or by e-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allows the fax-server use for mailing and receiving paper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t ISTAT Teleform was selected in 2000 because of the positive relation between quality and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209600" cy="4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23840" y="613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77240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12720"/>
            <a:ext cx="7010280" cy="428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8160" y="2052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elefor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0320" y="574560"/>
            <a:ext cx="7544880" cy="5739840"/>
            <a:chOff x="760320" y="574560"/>
            <a:chExt cx="7544880" cy="5739840"/>
          </a:xfrm>
        </p:grpSpPr>
        <p:grpSp>
          <p:nvGrpSpPr>
            <p:cNvPr id="83" name=""/>
            <p:cNvGrpSpPr/>
            <p:nvPr/>
          </p:nvGrpSpPr>
          <p:grpSpPr>
            <a:xfrm>
              <a:off x="4484160" y="5879520"/>
              <a:ext cx="255240" cy="390240"/>
              <a:chOff x="4484160" y="5879520"/>
              <a:chExt cx="255240" cy="390240"/>
            </a:xfrm>
          </p:grpSpPr>
          <p:sp>
            <p:nvSpPr>
              <p:cNvPr id="84" name=""/>
              <p:cNvSpPr/>
              <p:nvPr/>
            </p:nvSpPr>
            <p:spPr>
              <a:xfrm>
                <a:off x="4563720" y="5879520"/>
                <a:ext cx="175680" cy="278640"/>
              </a:xfrm>
              <a:custGeom>
                <a:avLst/>
                <a:gdLst/>
                <a:ahLst/>
                <a:rect l="l" t="t" r="r" b="b"/>
                <a:pathLst>
                  <a:path w="561" h="873">
                    <a:moveTo>
                      <a:pt x="0" y="494"/>
                    </a:moveTo>
                    <a:lnTo>
                      <a:pt x="26" y="516"/>
                    </a:lnTo>
                    <a:lnTo>
                      <a:pt x="38" y="539"/>
                    </a:lnTo>
                    <a:lnTo>
                      <a:pt x="50" y="574"/>
                    </a:lnTo>
                    <a:lnTo>
                      <a:pt x="66" y="611"/>
                    </a:lnTo>
                    <a:lnTo>
                      <a:pt x="66" y="637"/>
                    </a:lnTo>
                    <a:lnTo>
                      <a:pt x="65" y="670"/>
                    </a:lnTo>
                    <a:lnTo>
                      <a:pt x="61" y="698"/>
                    </a:lnTo>
                    <a:lnTo>
                      <a:pt x="58" y="726"/>
                    </a:lnTo>
                    <a:lnTo>
                      <a:pt x="58" y="753"/>
                    </a:lnTo>
                    <a:lnTo>
                      <a:pt x="62" y="777"/>
                    </a:lnTo>
                    <a:lnTo>
                      <a:pt x="69" y="803"/>
                    </a:lnTo>
                    <a:lnTo>
                      <a:pt x="82" y="823"/>
                    </a:lnTo>
                    <a:lnTo>
                      <a:pt x="99" y="840"/>
                    </a:lnTo>
                    <a:lnTo>
                      <a:pt x="119" y="853"/>
                    </a:lnTo>
                    <a:lnTo>
                      <a:pt x="139" y="863"/>
                    </a:lnTo>
                    <a:lnTo>
                      <a:pt x="163" y="869"/>
                    </a:lnTo>
                    <a:lnTo>
                      <a:pt x="188" y="873"/>
                    </a:lnTo>
                    <a:lnTo>
                      <a:pt x="215" y="873"/>
                    </a:lnTo>
                    <a:lnTo>
                      <a:pt x="239" y="870"/>
                    </a:lnTo>
                    <a:lnTo>
                      <a:pt x="265" y="865"/>
                    </a:lnTo>
                    <a:lnTo>
                      <a:pt x="292" y="859"/>
                    </a:lnTo>
                    <a:lnTo>
                      <a:pt x="318" y="850"/>
                    </a:lnTo>
                    <a:lnTo>
                      <a:pt x="342" y="838"/>
                    </a:lnTo>
                    <a:lnTo>
                      <a:pt x="360" y="827"/>
                    </a:lnTo>
                    <a:lnTo>
                      <a:pt x="380" y="812"/>
                    </a:lnTo>
                    <a:lnTo>
                      <a:pt x="398" y="797"/>
                    </a:lnTo>
                    <a:lnTo>
                      <a:pt x="410" y="780"/>
                    </a:lnTo>
                    <a:lnTo>
                      <a:pt x="422" y="763"/>
                    </a:lnTo>
                    <a:lnTo>
                      <a:pt x="434" y="740"/>
                    </a:lnTo>
                    <a:lnTo>
                      <a:pt x="441" y="721"/>
                    </a:lnTo>
                    <a:lnTo>
                      <a:pt x="452" y="701"/>
                    </a:lnTo>
                    <a:lnTo>
                      <a:pt x="462" y="685"/>
                    </a:lnTo>
                    <a:lnTo>
                      <a:pt x="484" y="660"/>
                    </a:lnTo>
                    <a:lnTo>
                      <a:pt x="495" y="651"/>
                    </a:lnTo>
                    <a:lnTo>
                      <a:pt x="512" y="636"/>
                    </a:lnTo>
                    <a:lnTo>
                      <a:pt x="561" y="617"/>
                    </a:lnTo>
                    <a:lnTo>
                      <a:pt x="522" y="619"/>
                    </a:lnTo>
                    <a:lnTo>
                      <a:pt x="497" y="625"/>
                    </a:lnTo>
                    <a:lnTo>
                      <a:pt x="479" y="629"/>
                    </a:lnTo>
                    <a:lnTo>
                      <a:pt x="458" y="641"/>
                    </a:lnTo>
                    <a:lnTo>
                      <a:pt x="451" y="648"/>
                    </a:lnTo>
                    <a:lnTo>
                      <a:pt x="435" y="663"/>
                    </a:lnTo>
                    <a:lnTo>
                      <a:pt x="422" y="680"/>
                    </a:lnTo>
                    <a:lnTo>
                      <a:pt x="391" y="729"/>
                    </a:lnTo>
                    <a:lnTo>
                      <a:pt x="370" y="747"/>
                    </a:lnTo>
                    <a:lnTo>
                      <a:pt x="349" y="762"/>
                    </a:lnTo>
                    <a:lnTo>
                      <a:pt x="322" y="778"/>
                    </a:lnTo>
                    <a:lnTo>
                      <a:pt x="295" y="789"/>
                    </a:lnTo>
                    <a:lnTo>
                      <a:pt x="314" y="764"/>
                    </a:lnTo>
                    <a:lnTo>
                      <a:pt x="328" y="743"/>
                    </a:lnTo>
                    <a:lnTo>
                      <a:pt x="346" y="718"/>
                    </a:lnTo>
                    <a:lnTo>
                      <a:pt x="356" y="684"/>
                    </a:lnTo>
                    <a:lnTo>
                      <a:pt x="375" y="629"/>
                    </a:lnTo>
                    <a:lnTo>
                      <a:pt x="420" y="560"/>
                    </a:lnTo>
                    <a:lnTo>
                      <a:pt x="369" y="608"/>
                    </a:lnTo>
                    <a:lnTo>
                      <a:pt x="355" y="624"/>
                    </a:lnTo>
                    <a:lnTo>
                      <a:pt x="325" y="681"/>
                    </a:lnTo>
                    <a:lnTo>
                      <a:pt x="348" y="589"/>
                    </a:lnTo>
                    <a:lnTo>
                      <a:pt x="357" y="536"/>
                    </a:lnTo>
                    <a:lnTo>
                      <a:pt x="358" y="494"/>
                    </a:lnTo>
                    <a:lnTo>
                      <a:pt x="355" y="463"/>
                    </a:lnTo>
                    <a:lnTo>
                      <a:pt x="347" y="436"/>
                    </a:lnTo>
                    <a:lnTo>
                      <a:pt x="336" y="406"/>
                    </a:lnTo>
                    <a:lnTo>
                      <a:pt x="323" y="372"/>
                    </a:lnTo>
                    <a:lnTo>
                      <a:pt x="330" y="438"/>
                    </a:lnTo>
                    <a:lnTo>
                      <a:pt x="327" y="482"/>
                    </a:lnTo>
                    <a:lnTo>
                      <a:pt x="296" y="407"/>
                    </a:lnTo>
                    <a:lnTo>
                      <a:pt x="283" y="373"/>
                    </a:lnTo>
                    <a:lnTo>
                      <a:pt x="280" y="341"/>
                    </a:lnTo>
                    <a:lnTo>
                      <a:pt x="281" y="306"/>
                    </a:lnTo>
                    <a:lnTo>
                      <a:pt x="285" y="275"/>
                    </a:lnTo>
                    <a:lnTo>
                      <a:pt x="292" y="242"/>
                    </a:lnTo>
                    <a:lnTo>
                      <a:pt x="281" y="258"/>
                    </a:lnTo>
                    <a:lnTo>
                      <a:pt x="273" y="278"/>
                    </a:lnTo>
                    <a:lnTo>
                      <a:pt x="264" y="316"/>
                    </a:lnTo>
                    <a:lnTo>
                      <a:pt x="260" y="343"/>
                    </a:lnTo>
                    <a:lnTo>
                      <a:pt x="258" y="373"/>
                    </a:lnTo>
                    <a:lnTo>
                      <a:pt x="265" y="413"/>
                    </a:lnTo>
                    <a:lnTo>
                      <a:pt x="276" y="500"/>
                    </a:lnTo>
                    <a:lnTo>
                      <a:pt x="258" y="579"/>
                    </a:lnTo>
                    <a:lnTo>
                      <a:pt x="211" y="454"/>
                    </a:lnTo>
                    <a:lnTo>
                      <a:pt x="200" y="424"/>
                    </a:lnTo>
                    <a:lnTo>
                      <a:pt x="193" y="387"/>
                    </a:lnTo>
                    <a:lnTo>
                      <a:pt x="190" y="347"/>
                    </a:lnTo>
                    <a:lnTo>
                      <a:pt x="193" y="307"/>
                    </a:lnTo>
                    <a:lnTo>
                      <a:pt x="197" y="275"/>
                    </a:lnTo>
                    <a:lnTo>
                      <a:pt x="206" y="244"/>
                    </a:lnTo>
                    <a:lnTo>
                      <a:pt x="215" y="213"/>
                    </a:lnTo>
                    <a:lnTo>
                      <a:pt x="225" y="184"/>
                    </a:lnTo>
                    <a:lnTo>
                      <a:pt x="228" y="156"/>
                    </a:lnTo>
                    <a:lnTo>
                      <a:pt x="230" y="125"/>
                    </a:lnTo>
                    <a:lnTo>
                      <a:pt x="228" y="90"/>
                    </a:lnTo>
                    <a:lnTo>
                      <a:pt x="222" y="49"/>
                    </a:lnTo>
                    <a:lnTo>
                      <a:pt x="209" y="0"/>
                    </a:lnTo>
                    <a:lnTo>
                      <a:pt x="210" y="48"/>
                    </a:lnTo>
                    <a:lnTo>
                      <a:pt x="213" y="77"/>
                    </a:lnTo>
                    <a:lnTo>
                      <a:pt x="210" y="116"/>
                    </a:lnTo>
                    <a:lnTo>
                      <a:pt x="199" y="151"/>
                    </a:lnTo>
                    <a:lnTo>
                      <a:pt x="187" y="185"/>
                    </a:lnTo>
                    <a:lnTo>
                      <a:pt x="173" y="218"/>
                    </a:lnTo>
                    <a:lnTo>
                      <a:pt x="159" y="248"/>
                    </a:lnTo>
                    <a:lnTo>
                      <a:pt x="141" y="284"/>
                    </a:lnTo>
                    <a:lnTo>
                      <a:pt x="123" y="333"/>
                    </a:lnTo>
                    <a:lnTo>
                      <a:pt x="113" y="374"/>
                    </a:lnTo>
                    <a:lnTo>
                      <a:pt x="101" y="517"/>
                    </a:lnTo>
                    <a:lnTo>
                      <a:pt x="108" y="547"/>
                    </a:lnTo>
                    <a:lnTo>
                      <a:pt x="123" y="599"/>
                    </a:lnTo>
                    <a:lnTo>
                      <a:pt x="65" y="519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84160" y="6124680"/>
                <a:ext cx="244440" cy="145080"/>
              </a:xfrm>
              <a:custGeom>
                <a:avLst/>
                <a:gdLst/>
                <a:ahLst/>
                <a:rect l="l" t="t" r="r" b="b"/>
                <a:pathLst>
                  <a:path w="781" h="457">
                    <a:moveTo>
                      <a:pt x="388" y="21"/>
                    </a:moveTo>
                    <a:lnTo>
                      <a:pt x="0" y="162"/>
                    </a:lnTo>
                    <a:lnTo>
                      <a:pt x="382" y="0"/>
                    </a:lnTo>
                    <a:lnTo>
                      <a:pt x="472" y="5"/>
                    </a:lnTo>
                    <a:lnTo>
                      <a:pt x="559" y="21"/>
                    </a:lnTo>
                    <a:lnTo>
                      <a:pt x="781" y="213"/>
                    </a:lnTo>
                    <a:lnTo>
                      <a:pt x="521" y="34"/>
                    </a:lnTo>
                    <a:lnTo>
                      <a:pt x="745" y="457"/>
                    </a:lnTo>
                    <a:lnTo>
                      <a:pt x="491" y="34"/>
                    </a:lnTo>
                    <a:lnTo>
                      <a:pt x="470" y="59"/>
                    </a:lnTo>
                    <a:lnTo>
                      <a:pt x="413" y="253"/>
                    </a:lnTo>
                    <a:lnTo>
                      <a:pt x="440" y="49"/>
                    </a:lnTo>
                    <a:lnTo>
                      <a:pt x="161" y="438"/>
                    </a:lnTo>
                    <a:lnTo>
                      <a:pt x="414" y="28"/>
                    </a:lnTo>
                    <a:lnTo>
                      <a:pt x="388" y="2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71640" y="5913000"/>
                <a:ext cx="147600" cy="230760"/>
              </a:xfrm>
              <a:custGeom>
                <a:avLst/>
                <a:gdLst/>
                <a:ahLst/>
                <a:rect l="l" t="t" r="r" b="b"/>
                <a:pathLst>
                  <a:path w="470" h="723">
                    <a:moveTo>
                      <a:pt x="0" y="399"/>
                    </a:moveTo>
                    <a:lnTo>
                      <a:pt x="23" y="419"/>
                    </a:lnTo>
                    <a:lnTo>
                      <a:pt x="32" y="443"/>
                    </a:lnTo>
                    <a:lnTo>
                      <a:pt x="42" y="475"/>
                    </a:lnTo>
                    <a:lnTo>
                      <a:pt x="56" y="510"/>
                    </a:lnTo>
                    <a:lnTo>
                      <a:pt x="56" y="534"/>
                    </a:lnTo>
                    <a:lnTo>
                      <a:pt x="55" y="564"/>
                    </a:lnTo>
                    <a:lnTo>
                      <a:pt x="62" y="597"/>
                    </a:lnTo>
                    <a:lnTo>
                      <a:pt x="66" y="621"/>
                    </a:lnTo>
                    <a:lnTo>
                      <a:pt x="73" y="641"/>
                    </a:lnTo>
                    <a:lnTo>
                      <a:pt x="80" y="661"/>
                    </a:lnTo>
                    <a:lnTo>
                      <a:pt x="93" y="679"/>
                    </a:lnTo>
                    <a:lnTo>
                      <a:pt x="104" y="693"/>
                    </a:lnTo>
                    <a:lnTo>
                      <a:pt x="122" y="705"/>
                    </a:lnTo>
                    <a:lnTo>
                      <a:pt x="142" y="714"/>
                    </a:lnTo>
                    <a:lnTo>
                      <a:pt x="171" y="721"/>
                    </a:lnTo>
                    <a:lnTo>
                      <a:pt x="200" y="723"/>
                    </a:lnTo>
                    <a:lnTo>
                      <a:pt x="227" y="720"/>
                    </a:lnTo>
                    <a:lnTo>
                      <a:pt x="253" y="713"/>
                    </a:lnTo>
                    <a:lnTo>
                      <a:pt x="282" y="704"/>
                    </a:lnTo>
                    <a:lnTo>
                      <a:pt x="309" y="688"/>
                    </a:lnTo>
                    <a:lnTo>
                      <a:pt x="329" y="669"/>
                    </a:lnTo>
                    <a:lnTo>
                      <a:pt x="343" y="649"/>
                    </a:lnTo>
                    <a:lnTo>
                      <a:pt x="355" y="628"/>
                    </a:lnTo>
                    <a:lnTo>
                      <a:pt x="371" y="600"/>
                    </a:lnTo>
                    <a:lnTo>
                      <a:pt x="386" y="574"/>
                    </a:lnTo>
                    <a:lnTo>
                      <a:pt x="405" y="551"/>
                    </a:lnTo>
                    <a:lnTo>
                      <a:pt x="430" y="530"/>
                    </a:lnTo>
                    <a:lnTo>
                      <a:pt x="470" y="515"/>
                    </a:lnTo>
                    <a:lnTo>
                      <a:pt x="437" y="517"/>
                    </a:lnTo>
                    <a:lnTo>
                      <a:pt x="418" y="523"/>
                    </a:lnTo>
                    <a:lnTo>
                      <a:pt x="398" y="535"/>
                    </a:lnTo>
                    <a:lnTo>
                      <a:pt x="384" y="548"/>
                    </a:lnTo>
                    <a:lnTo>
                      <a:pt x="365" y="570"/>
                    </a:lnTo>
                    <a:lnTo>
                      <a:pt x="344" y="599"/>
                    </a:lnTo>
                    <a:lnTo>
                      <a:pt x="328" y="620"/>
                    </a:lnTo>
                    <a:lnTo>
                      <a:pt x="311" y="637"/>
                    </a:lnTo>
                    <a:lnTo>
                      <a:pt x="293" y="652"/>
                    </a:lnTo>
                    <a:lnTo>
                      <a:pt x="270" y="666"/>
                    </a:lnTo>
                    <a:lnTo>
                      <a:pt x="247" y="676"/>
                    </a:lnTo>
                    <a:lnTo>
                      <a:pt x="263" y="653"/>
                    </a:lnTo>
                    <a:lnTo>
                      <a:pt x="275" y="633"/>
                    </a:lnTo>
                    <a:lnTo>
                      <a:pt x="290" y="609"/>
                    </a:lnTo>
                    <a:lnTo>
                      <a:pt x="299" y="578"/>
                    </a:lnTo>
                    <a:lnTo>
                      <a:pt x="314" y="526"/>
                    </a:lnTo>
                    <a:lnTo>
                      <a:pt x="351" y="461"/>
                    </a:lnTo>
                    <a:lnTo>
                      <a:pt x="310" y="507"/>
                    </a:lnTo>
                    <a:lnTo>
                      <a:pt x="298" y="522"/>
                    </a:lnTo>
                    <a:lnTo>
                      <a:pt x="272" y="574"/>
                    </a:lnTo>
                    <a:lnTo>
                      <a:pt x="292" y="488"/>
                    </a:lnTo>
                    <a:lnTo>
                      <a:pt x="299" y="440"/>
                    </a:lnTo>
                    <a:lnTo>
                      <a:pt x="300" y="399"/>
                    </a:lnTo>
                    <a:lnTo>
                      <a:pt x="291" y="345"/>
                    </a:lnTo>
                    <a:lnTo>
                      <a:pt x="282" y="316"/>
                    </a:lnTo>
                    <a:lnTo>
                      <a:pt x="273" y="297"/>
                    </a:lnTo>
                    <a:lnTo>
                      <a:pt x="276" y="346"/>
                    </a:lnTo>
                    <a:lnTo>
                      <a:pt x="274" y="388"/>
                    </a:lnTo>
                    <a:lnTo>
                      <a:pt x="248" y="314"/>
                    </a:lnTo>
                    <a:lnTo>
                      <a:pt x="241" y="286"/>
                    </a:lnTo>
                    <a:lnTo>
                      <a:pt x="238" y="252"/>
                    </a:lnTo>
                    <a:lnTo>
                      <a:pt x="239" y="221"/>
                    </a:lnTo>
                    <a:lnTo>
                      <a:pt x="246" y="162"/>
                    </a:lnTo>
                    <a:lnTo>
                      <a:pt x="227" y="231"/>
                    </a:lnTo>
                    <a:lnTo>
                      <a:pt x="221" y="266"/>
                    </a:lnTo>
                    <a:lnTo>
                      <a:pt x="221" y="297"/>
                    </a:lnTo>
                    <a:lnTo>
                      <a:pt x="225" y="327"/>
                    </a:lnTo>
                    <a:lnTo>
                      <a:pt x="229" y="363"/>
                    </a:lnTo>
                    <a:lnTo>
                      <a:pt x="232" y="406"/>
                    </a:lnTo>
                    <a:lnTo>
                      <a:pt x="216" y="479"/>
                    </a:lnTo>
                    <a:lnTo>
                      <a:pt x="168" y="359"/>
                    </a:lnTo>
                    <a:lnTo>
                      <a:pt x="163" y="334"/>
                    </a:lnTo>
                    <a:lnTo>
                      <a:pt x="160" y="300"/>
                    </a:lnTo>
                    <a:lnTo>
                      <a:pt x="162" y="265"/>
                    </a:lnTo>
                    <a:lnTo>
                      <a:pt x="167" y="232"/>
                    </a:lnTo>
                    <a:lnTo>
                      <a:pt x="176" y="193"/>
                    </a:lnTo>
                    <a:lnTo>
                      <a:pt x="187" y="165"/>
                    </a:lnTo>
                    <a:lnTo>
                      <a:pt x="194" y="133"/>
                    </a:lnTo>
                    <a:lnTo>
                      <a:pt x="198" y="101"/>
                    </a:lnTo>
                    <a:lnTo>
                      <a:pt x="198" y="76"/>
                    </a:lnTo>
                    <a:lnTo>
                      <a:pt x="194" y="42"/>
                    </a:lnTo>
                    <a:lnTo>
                      <a:pt x="180" y="0"/>
                    </a:lnTo>
                    <a:lnTo>
                      <a:pt x="181" y="44"/>
                    </a:lnTo>
                    <a:lnTo>
                      <a:pt x="179" y="81"/>
                    </a:lnTo>
                    <a:lnTo>
                      <a:pt x="172" y="114"/>
                    </a:lnTo>
                    <a:lnTo>
                      <a:pt x="161" y="143"/>
                    </a:lnTo>
                    <a:lnTo>
                      <a:pt x="141" y="184"/>
                    </a:lnTo>
                    <a:lnTo>
                      <a:pt x="118" y="247"/>
                    </a:lnTo>
                    <a:lnTo>
                      <a:pt x="104" y="286"/>
                    </a:lnTo>
                    <a:lnTo>
                      <a:pt x="86" y="420"/>
                    </a:lnTo>
                    <a:lnTo>
                      <a:pt x="90" y="449"/>
                    </a:lnTo>
                    <a:lnTo>
                      <a:pt x="103" y="498"/>
                    </a:lnTo>
                    <a:lnTo>
                      <a:pt x="55" y="422"/>
                    </a:lnTo>
                    <a:lnTo>
                      <a:pt x="0" y="399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454480" y="60073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60320" y="574560"/>
              <a:ext cx="7544880" cy="5594760"/>
              <a:chOff x="760320" y="574560"/>
              <a:chExt cx="7544880" cy="5594760"/>
            </a:xfrm>
          </p:grpSpPr>
          <p:sp>
            <p:nvSpPr>
              <p:cNvPr id="89" name=""/>
              <p:cNvSpPr/>
              <p:nvPr/>
            </p:nvSpPr>
            <p:spPr>
              <a:xfrm>
                <a:off x="4493520" y="608364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4240" y="4782600"/>
                <a:ext cx="556200" cy="63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6240" y="4782600"/>
                <a:ext cx="6220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flipV="1">
                <a:off x="3135240" y="5164920"/>
                <a:ext cx="1056240" cy="611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80320" y="516528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F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35240" y="1849680"/>
                <a:ext cx="396000" cy="407520"/>
              </a:xfrm>
              <a:custGeom>
                <a:avLst/>
                <a:gdLst>
                  <a:gd name="textAreaLeft" fmla="*/ 0 w 396000"/>
                  <a:gd name="textAreaRight" fmla="*/ 396360 w 396000"/>
                  <a:gd name="textAreaTop" fmla="*/ 0 h 407520"/>
                  <a:gd name="textAreaBottom" fmla="*/ 407880 h 40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435" stAng="10800000" swAng="5400000"/>
                    <a:lnTo>
                      <a:pt x="15150" y="4725"/>
                    </a:lnTo>
                    <a:lnTo>
                      <a:pt x="15150" y="0"/>
                    </a:lnTo>
                    <a:lnTo>
                      <a:pt x="21600" y="6079"/>
                    </a:lnTo>
                    <a:lnTo>
                      <a:pt x="15150" y="12158"/>
                    </a:lnTo>
                    <a:lnTo>
                      <a:pt x="15150" y="7433"/>
                    </a:lnTo>
                    <a:lnTo>
                      <a:pt x="12427" y="7433"/>
                    </a:lnTo>
                    <a:arcTo wR="9719" hR="4727" stAng="16200000" swAng="-5400000"/>
                    <a:lnTo>
                      <a:pt x="2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135240" y="2256840"/>
                <a:ext cx="396000" cy="407880"/>
              </a:xfrm>
              <a:custGeom>
                <a:avLst/>
                <a:gdLst>
                  <a:gd name="textAreaLeft" fmla="*/ 0 w 396000"/>
                  <a:gd name="textAreaRight" fmla="*/ 396360 w 396000"/>
                  <a:gd name="textAreaTop" fmla="*/ -360 h 407880"/>
                  <a:gd name="textAreaBottom" fmla="*/ 40788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435" stAng="10800000" swAng="5400000"/>
                    <a:lnTo>
                      <a:pt x="15074" y="4725"/>
                    </a:lnTo>
                    <a:lnTo>
                      <a:pt x="15074" y="0"/>
                    </a:lnTo>
                    <a:lnTo>
                      <a:pt x="21600" y="6079"/>
                    </a:lnTo>
                    <a:lnTo>
                      <a:pt x="15074" y="12158"/>
                    </a:lnTo>
                    <a:lnTo>
                      <a:pt x="15074" y="7433"/>
                    </a:lnTo>
                    <a:lnTo>
                      <a:pt x="12427" y="7433"/>
                    </a:lnTo>
                    <a:arcTo wR="9719" hR="4727" stAng="16200000" swAng="-5400000"/>
                    <a:lnTo>
                      <a:pt x="2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44640" y="1645560"/>
                <a:ext cx="509400" cy="4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12520" y="2334240"/>
                <a:ext cx="89604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2344680" y="2151000"/>
                <a:ext cx="847080" cy="20880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73640" y="1386360"/>
                <a:ext cx="89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Mail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35840" y="2711520"/>
                <a:ext cx="77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ire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5400" y="3864240"/>
                <a:ext cx="46368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076280" y="5407920"/>
                <a:ext cx="678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can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6872040" y="2914560"/>
                <a:ext cx="1433160" cy="859680"/>
                <a:chOff x="6872040" y="2914560"/>
                <a:chExt cx="1433160" cy="859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6872040" y="3221640"/>
                  <a:ext cx="1433160" cy="552600"/>
                  <a:chOff x="6872040" y="3221640"/>
                  <a:chExt cx="1433160" cy="552600"/>
                </a:xfrm>
              </p:grpSpPr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95160" y="3221640"/>
                    <a:ext cx="4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4320" y="3221640"/>
                    <a:ext cx="4086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2040" y="3221640"/>
                    <a:ext cx="4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8" name=""/>
                <p:cNvSpPr/>
                <p:nvPr/>
              </p:nvSpPr>
              <p:spPr>
                <a:xfrm>
                  <a:off x="7347240" y="2914560"/>
                  <a:ext cx="671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Ver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86080" y="4017600"/>
                <a:ext cx="509400" cy="559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"/>
              <p:cNvGrpSpPr/>
              <p:nvPr/>
            </p:nvGrpSpPr>
            <p:grpSpPr>
              <a:xfrm>
                <a:off x="5549760" y="2640240"/>
                <a:ext cx="370800" cy="509400"/>
                <a:chOff x="5549760" y="2640240"/>
                <a:chExt cx="370800" cy="509400"/>
              </a:xfrm>
            </p:grpSpPr>
            <p:pic>
              <p:nvPicPr>
                <p:cNvPr id="1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49760" y="2640240"/>
                  <a:ext cx="14472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75840" y="2640240"/>
                  <a:ext cx="144720" cy="509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02640" y="2640240"/>
                <a:ext cx="144720" cy="5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464080" y="2255760"/>
                <a:ext cx="66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ead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2332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0264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568560" y="4629600"/>
                <a:ext cx="67752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268960" y="5287320"/>
                <a:ext cx="764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75600" y="5395680"/>
                <a:ext cx="654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m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7920" y="2640240"/>
                <a:ext cx="30168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9960" y="3405240"/>
                <a:ext cx="218772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568560" y="1374480"/>
                <a:ext cx="0" cy="27640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719960" y="1951560"/>
                <a:ext cx="0" cy="2142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814560" y="4093920"/>
                <a:ext cx="150480" cy="153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625360" y="3098880"/>
                <a:ext cx="0" cy="30564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00960" y="4170600"/>
                <a:ext cx="120672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70096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30432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08040" y="4170240"/>
                <a:ext cx="0" cy="459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07120" y="394092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342680" y="5700600"/>
                <a:ext cx="518400" cy="442440"/>
                <a:chOff x="4342680" y="5700600"/>
                <a:chExt cx="518400" cy="442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42680" y="572616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4449240" y="5700600"/>
                  <a:ext cx="347760" cy="442440"/>
                  <a:chOff x="4449240" y="5700600"/>
                  <a:chExt cx="347760" cy="442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453560" y="5705640"/>
                    <a:ext cx="3434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53560" y="5700600"/>
                    <a:ext cx="34200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455000" y="5711760"/>
                    <a:ext cx="3312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50320" y="571356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449240" y="571644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9680" y="573408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466160" y="572940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464720" y="5746680"/>
                    <a:ext cx="307440" cy="38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470840" y="575136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3" name=""/>
              <p:cNvSpPr/>
              <p:nvPr/>
            </p:nvSpPr>
            <p:spPr>
              <a:xfrm>
                <a:off x="4719960" y="6083640"/>
                <a:ext cx="2867040" cy="0"/>
              </a:xfrm>
              <a:prstGeom prst="line">
                <a:avLst/>
              </a:prstGeom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57520" y="637920"/>
                <a:ext cx="4853880" cy="5521680"/>
              </a:xfrm>
              <a:custGeom>
                <a:avLst/>
                <a:gdLst/>
                <a:ahLst/>
                <a:rect l="l" t="t" r="r" b="b"/>
                <a:pathLst>
                  <a:path w="3088" h="3496">
                    <a:moveTo>
                      <a:pt x="1312" y="3464"/>
                    </a:moveTo>
                    <a:cubicBezTo>
                      <a:pt x="1196" y="3480"/>
                      <a:pt x="1080" y="3496"/>
                      <a:pt x="976" y="3416"/>
                    </a:cubicBezTo>
                    <a:cubicBezTo>
                      <a:pt x="872" y="3336"/>
                      <a:pt x="808" y="3144"/>
                      <a:pt x="688" y="2984"/>
                    </a:cubicBezTo>
                    <a:cubicBezTo>
                      <a:pt x="568" y="2824"/>
                      <a:pt x="368" y="2624"/>
                      <a:pt x="256" y="2456"/>
                    </a:cubicBezTo>
                    <a:cubicBezTo>
                      <a:pt x="144" y="2288"/>
                      <a:pt x="32" y="2200"/>
                      <a:pt x="16" y="1976"/>
                    </a:cubicBezTo>
                    <a:cubicBezTo>
                      <a:pt x="0" y="1752"/>
                      <a:pt x="104" y="1368"/>
                      <a:pt x="160" y="1112"/>
                    </a:cubicBezTo>
                    <a:cubicBezTo>
                      <a:pt x="216" y="856"/>
                      <a:pt x="248" y="592"/>
                      <a:pt x="352" y="440"/>
                    </a:cubicBezTo>
                    <a:cubicBezTo>
                      <a:pt x="456" y="288"/>
                      <a:pt x="600" y="264"/>
                      <a:pt x="784" y="200"/>
                    </a:cubicBezTo>
                    <a:cubicBezTo>
                      <a:pt x="968" y="136"/>
                      <a:pt x="1192" y="88"/>
                      <a:pt x="1456" y="56"/>
                    </a:cubicBezTo>
                    <a:cubicBezTo>
                      <a:pt x="1720" y="24"/>
                      <a:pt x="2096" y="16"/>
                      <a:pt x="2368" y="8"/>
                    </a:cubicBezTo>
                    <a:cubicBezTo>
                      <a:pt x="2640" y="0"/>
                      <a:pt x="2976" y="8"/>
                      <a:pt x="3088" y="8"/>
                    </a:cubicBezTo>
                  </a:path>
                </a:pathLst>
              </a:custGeom>
              <a:noFill/>
              <a:ln w="34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456280" y="3558600"/>
                <a:ext cx="518400" cy="442440"/>
                <a:chOff x="2456280" y="3558600"/>
                <a:chExt cx="518400" cy="442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456280" y="358416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2562840" y="3558600"/>
                  <a:ext cx="347760" cy="442440"/>
                  <a:chOff x="2562840" y="3558600"/>
                  <a:chExt cx="347760" cy="4424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2567160" y="3563280"/>
                    <a:ext cx="343440" cy="43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567160" y="3558600"/>
                    <a:ext cx="342000" cy="43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568600" y="3569760"/>
                    <a:ext cx="33120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563920" y="357120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562840" y="357444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573280" y="359208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579760" y="358704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578320" y="3604680"/>
                    <a:ext cx="3074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584440" y="360936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2597760" y="3737160"/>
                <a:ext cx="255600" cy="389880"/>
                <a:chOff x="2597760" y="3737160"/>
                <a:chExt cx="255600" cy="389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77320" y="3737160"/>
                  <a:ext cx="176040" cy="278640"/>
                </a:xfrm>
                <a:custGeom>
                  <a:avLst/>
                  <a:gdLst/>
                  <a:ahLst/>
                  <a:rect l="l" t="t" r="r" b="b"/>
                  <a:pathLst>
                    <a:path w="561" h="873">
                      <a:moveTo>
                        <a:pt x="0" y="494"/>
                      </a:moveTo>
                      <a:lnTo>
                        <a:pt x="26" y="516"/>
                      </a:lnTo>
                      <a:lnTo>
                        <a:pt x="38" y="539"/>
                      </a:lnTo>
                      <a:lnTo>
                        <a:pt x="50" y="574"/>
                      </a:lnTo>
                      <a:lnTo>
                        <a:pt x="66" y="611"/>
                      </a:lnTo>
                      <a:lnTo>
                        <a:pt x="66" y="637"/>
                      </a:lnTo>
                      <a:lnTo>
                        <a:pt x="65" y="670"/>
                      </a:lnTo>
                      <a:lnTo>
                        <a:pt x="61" y="698"/>
                      </a:lnTo>
                      <a:lnTo>
                        <a:pt x="58" y="726"/>
                      </a:lnTo>
                      <a:lnTo>
                        <a:pt x="58" y="753"/>
                      </a:lnTo>
                      <a:lnTo>
                        <a:pt x="62" y="777"/>
                      </a:lnTo>
                      <a:lnTo>
                        <a:pt x="69" y="803"/>
                      </a:lnTo>
                      <a:lnTo>
                        <a:pt x="82" y="823"/>
                      </a:lnTo>
                      <a:lnTo>
                        <a:pt x="99" y="840"/>
                      </a:lnTo>
                      <a:lnTo>
                        <a:pt x="119" y="853"/>
                      </a:lnTo>
                      <a:lnTo>
                        <a:pt x="139" y="863"/>
                      </a:lnTo>
                      <a:lnTo>
                        <a:pt x="163" y="869"/>
                      </a:lnTo>
                      <a:lnTo>
                        <a:pt x="188" y="873"/>
                      </a:lnTo>
                      <a:lnTo>
                        <a:pt x="215" y="873"/>
                      </a:lnTo>
                      <a:lnTo>
                        <a:pt x="239" y="870"/>
                      </a:lnTo>
                      <a:lnTo>
                        <a:pt x="265" y="865"/>
                      </a:lnTo>
                      <a:lnTo>
                        <a:pt x="292" y="859"/>
                      </a:lnTo>
                      <a:lnTo>
                        <a:pt x="318" y="850"/>
                      </a:lnTo>
                      <a:lnTo>
                        <a:pt x="342" y="838"/>
                      </a:lnTo>
                      <a:lnTo>
                        <a:pt x="360" y="827"/>
                      </a:lnTo>
                      <a:lnTo>
                        <a:pt x="380" y="812"/>
                      </a:lnTo>
                      <a:lnTo>
                        <a:pt x="398" y="797"/>
                      </a:lnTo>
                      <a:lnTo>
                        <a:pt x="410" y="780"/>
                      </a:lnTo>
                      <a:lnTo>
                        <a:pt x="422" y="763"/>
                      </a:lnTo>
                      <a:lnTo>
                        <a:pt x="434" y="740"/>
                      </a:lnTo>
                      <a:lnTo>
                        <a:pt x="441" y="721"/>
                      </a:lnTo>
                      <a:lnTo>
                        <a:pt x="452" y="701"/>
                      </a:lnTo>
                      <a:lnTo>
                        <a:pt x="462" y="685"/>
                      </a:lnTo>
                      <a:lnTo>
                        <a:pt x="484" y="660"/>
                      </a:lnTo>
                      <a:lnTo>
                        <a:pt x="495" y="651"/>
                      </a:lnTo>
                      <a:lnTo>
                        <a:pt x="512" y="636"/>
                      </a:lnTo>
                      <a:lnTo>
                        <a:pt x="561" y="617"/>
                      </a:lnTo>
                      <a:lnTo>
                        <a:pt x="522" y="619"/>
                      </a:lnTo>
                      <a:lnTo>
                        <a:pt x="497" y="625"/>
                      </a:lnTo>
                      <a:lnTo>
                        <a:pt x="479" y="629"/>
                      </a:lnTo>
                      <a:lnTo>
                        <a:pt x="458" y="641"/>
                      </a:lnTo>
                      <a:lnTo>
                        <a:pt x="451" y="648"/>
                      </a:lnTo>
                      <a:lnTo>
                        <a:pt x="435" y="663"/>
                      </a:lnTo>
                      <a:lnTo>
                        <a:pt x="422" y="680"/>
                      </a:lnTo>
                      <a:lnTo>
                        <a:pt x="391" y="729"/>
                      </a:lnTo>
                      <a:lnTo>
                        <a:pt x="370" y="747"/>
                      </a:lnTo>
                      <a:lnTo>
                        <a:pt x="349" y="762"/>
                      </a:lnTo>
                      <a:lnTo>
                        <a:pt x="322" y="778"/>
                      </a:lnTo>
                      <a:lnTo>
                        <a:pt x="295" y="789"/>
                      </a:lnTo>
                      <a:lnTo>
                        <a:pt x="314" y="764"/>
                      </a:lnTo>
                      <a:lnTo>
                        <a:pt x="328" y="743"/>
                      </a:lnTo>
                      <a:lnTo>
                        <a:pt x="346" y="718"/>
                      </a:lnTo>
                      <a:lnTo>
                        <a:pt x="356" y="684"/>
                      </a:lnTo>
                      <a:lnTo>
                        <a:pt x="375" y="629"/>
                      </a:lnTo>
                      <a:lnTo>
                        <a:pt x="420" y="560"/>
                      </a:lnTo>
                      <a:lnTo>
                        <a:pt x="369" y="608"/>
                      </a:lnTo>
                      <a:lnTo>
                        <a:pt x="355" y="624"/>
                      </a:lnTo>
                      <a:lnTo>
                        <a:pt x="325" y="681"/>
                      </a:lnTo>
                      <a:lnTo>
                        <a:pt x="348" y="589"/>
                      </a:lnTo>
                      <a:lnTo>
                        <a:pt x="357" y="536"/>
                      </a:lnTo>
                      <a:lnTo>
                        <a:pt x="358" y="494"/>
                      </a:lnTo>
                      <a:lnTo>
                        <a:pt x="355" y="463"/>
                      </a:lnTo>
                      <a:lnTo>
                        <a:pt x="347" y="436"/>
                      </a:lnTo>
                      <a:lnTo>
                        <a:pt x="336" y="406"/>
                      </a:lnTo>
                      <a:lnTo>
                        <a:pt x="323" y="372"/>
                      </a:lnTo>
                      <a:lnTo>
                        <a:pt x="330" y="438"/>
                      </a:lnTo>
                      <a:lnTo>
                        <a:pt x="327" y="482"/>
                      </a:lnTo>
                      <a:lnTo>
                        <a:pt x="296" y="407"/>
                      </a:lnTo>
                      <a:lnTo>
                        <a:pt x="283" y="373"/>
                      </a:lnTo>
                      <a:lnTo>
                        <a:pt x="280" y="341"/>
                      </a:lnTo>
                      <a:lnTo>
                        <a:pt x="281" y="306"/>
                      </a:lnTo>
                      <a:lnTo>
                        <a:pt x="285" y="275"/>
                      </a:lnTo>
                      <a:lnTo>
                        <a:pt x="292" y="242"/>
                      </a:lnTo>
                      <a:lnTo>
                        <a:pt x="281" y="258"/>
                      </a:lnTo>
                      <a:lnTo>
                        <a:pt x="273" y="278"/>
                      </a:lnTo>
                      <a:lnTo>
                        <a:pt x="264" y="316"/>
                      </a:lnTo>
                      <a:lnTo>
                        <a:pt x="260" y="343"/>
                      </a:lnTo>
                      <a:lnTo>
                        <a:pt x="258" y="373"/>
                      </a:lnTo>
                      <a:lnTo>
                        <a:pt x="265" y="413"/>
                      </a:lnTo>
                      <a:lnTo>
                        <a:pt x="276" y="500"/>
                      </a:lnTo>
                      <a:lnTo>
                        <a:pt x="258" y="579"/>
                      </a:lnTo>
                      <a:lnTo>
                        <a:pt x="211" y="454"/>
                      </a:lnTo>
                      <a:lnTo>
                        <a:pt x="200" y="424"/>
                      </a:lnTo>
                      <a:lnTo>
                        <a:pt x="193" y="387"/>
                      </a:lnTo>
                      <a:lnTo>
                        <a:pt x="190" y="347"/>
                      </a:lnTo>
                      <a:lnTo>
                        <a:pt x="193" y="307"/>
                      </a:lnTo>
                      <a:lnTo>
                        <a:pt x="197" y="275"/>
                      </a:lnTo>
                      <a:lnTo>
                        <a:pt x="206" y="244"/>
                      </a:lnTo>
                      <a:lnTo>
                        <a:pt x="215" y="213"/>
                      </a:lnTo>
                      <a:lnTo>
                        <a:pt x="225" y="184"/>
                      </a:lnTo>
                      <a:lnTo>
                        <a:pt x="228" y="156"/>
                      </a:lnTo>
                      <a:lnTo>
                        <a:pt x="230" y="125"/>
                      </a:lnTo>
                      <a:lnTo>
                        <a:pt x="228" y="90"/>
                      </a:lnTo>
                      <a:lnTo>
                        <a:pt x="222" y="49"/>
                      </a:lnTo>
                      <a:lnTo>
                        <a:pt x="209" y="0"/>
                      </a:lnTo>
                      <a:lnTo>
                        <a:pt x="210" y="48"/>
                      </a:lnTo>
                      <a:lnTo>
                        <a:pt x="213" y="77"/>
                      </a:lnTo>
                      <a:lnTo>
                        <a:pt x="210" y="116"/>
                      </a:lnTo>
                      <a:lnTo>
                        <a:pt x="199" y="151"/>
                      </a:lnTo>
                      <a:lnTo>
                        <a:pt x="187" y="185"/>
                      </a:lnTo>
                      <a:lnTo>
                        <a:pt x="173" y="218"/>
                      </a:lnTo>
                      <a:lnTo>
                        <a:pt x="159" y="248"/>
                      </a:lnTo>
                      <a:lnTo>
                        <a:pt x="141" y="284"/>
                      </a:lnTo>
                      <a:lnTo>
                        <a:pt x="123" y="333"/>
                      </a:lnTo>
                      <a:lnTo>
                        <a:pt x="113" y="374"/>
                      </a:lnTo>
                      <a:lnTo>
                        <a:pt x="101" y="517"/>
                      </a:lnTo>
                      <a:lnTo>
                        <a:pt x="108" y="547"/>
                      </a:lnTo>
                      <a:lnTo>
                        <a:pt x="123" y="599"/>
                      </a:lnTo>
                      <a:lnTo>
                        <a:pt x="65" y="519"/>
                      </a:lnTo>
                      <a:lnTo>
                        <a:pt x="0" y="49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97760" y="3982320"/>
                  <a:ext cx="244800" cy="144720"/>
                </a:xfrm>
                <a:custGeom>
                  <a:avLst/>
                  <a:gdLst/>
                  <a:ahLst/>
                  <a:rect l="l" t="t" r="r" b="b"/>
                  <a:pathLst>
                    <a:path w="781" h="457">
                      <a:moveTo>
                        <a:pt x="388" y="21"/>
                      </a:moveTo>
                      <a:lnTo>
                        <a:pt x="0" y="162"/>
                      </a:lnTo>
                      <a:lnTo>
                        <a:pt x="382" y="0"/>
                      </a:lnTo>
                      <a:lnTo>
                        <a:pt x="472" y="5"/>
                      </a:lnTo>
                      <a:lnTo>
                        <a:pt x="559" y="21"/>
                      </a:lnTo>
                      <a:lnTo>
                        <a:pt x="781" y="213"/>
                      </a:lnTo>
                      <a:lnTo>
                        <a:pt x="521" y="34"/>
                      </a:lnTo>
                      <a:lnTo>
                        <a:pt x="745" y="457"/>
                      </a:lnTo>
                      <a:lnTo>
                        <a:pt x="491" y="34"/>
                      </a:lnTo>
                      <a:lnTo>
                        <a:pt x="470" y="59"/>
                      </a:lnTo>
                      <a:lnTo>
                        <a:pt x="413" y="253"/>
                      </a:lnTo>
                      <a:lnTo>
                        <a:pt x="440" y="49"/>
                      </a:lnTo>
                      <a:lnTo>
                        <a:pt x="161" y="438"/>
                      </a:lnTo>
                      <a:lnTo>
                        <a:pt x="414" y="28"/>
                      </a:lnTo>
                      <a:lnTo>
                        <a:pt x="388" y="2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85240" y="3770280"/>
                  <a:ext cx="147600" cy="231120"/>
                </a:xfrm>
                <a:custGeom>
                  <a:avLst/>
                  <a:gdLst/>
                  <a:ahLst/>
                  <a:rect l="l" t="t" r="r" b="b"/>
                  <a:pathLst>
                    <a:path w="470" h="723">
                      <a:moveTo>
                        <a:pt x="0" y="399"/>
                      </a:moveTo>
                      <a:lnTo>
                        <a:pt x="23" y="419"/>
                      </a:lnTo>
                      <a:lnTo>
                        <a:pt x="32" y="443"/>
                      </a:lnTo>
                      <a:lnTo>
                        <a:pt x="42" y="475"/>
                      </a:lnTo>
                      <a:lnTo>
                        <a:pt x="56" y="510"/>
                      </a:lnTo>
                      <a:lnTo>
                        <a:pt x="56" y="534"/>
                      </a:lnTo>
                      <a:lnTo>
                        <a:pt x="55" y="564"/>
                      </a:lnTo>
                      <a:lnTo>
                        <a:pt x="62" y="597"/>
                      </a:lnTo>
                      <a:lnTo>
                        <a:pt x="66" y="621"/>
                      </a:lnTo>
                      <a:lnTo>
                        <a:pt x="73" y="641"/>
                      </a:lnTo>
                      <a:lnTo>
                        <a:pt x="80" y="661"/>
                      </a:lnTo>
                      <a:lnTo>
                        <a:pt x="93" y="679"/>
                      </a:lnTo>
                      <a:lnTo>
                        <a:pt x="104" y="693"/>
                      </a:lnTo>
                      <a:lnTo>
                        <a:pt x="122" y="705"/>
                      </a:lnTo>
                      <a:lnTo>
                        <a:pt x="142" y="714"/>
                      </a:lnTo>
                      <a:lnTo>
                        <a:pt x="171" y="721"/>
                      </a:lnTo>
                      <a:lnTo>
                        <a:pt x="200" y="723"/>
                      </a:lnTo>
                      <a:lnTo>
                        <a:pt x="227" y="720"/>
                      </a:lnTo>
                      <a:lnTo>
                        <a:pt x="253" y="713"/>
                      </a:lnTo>
                      <a:lnTo>
                        <a:pt x="282" y="704"/>
                      </a:lnTo>
                      <a:lnTo>
                        <a:pt x="309" y="688"/>
                      </a:lnTo>
                      <a:lnTo>
                        <a:pt x="329" y="669"/>
                      </a:lnTo>
                      <a:lnTo>
                        <a:pt x="343" y="649"/>
                      </a:lnTo>
                      <a:lnTo>
                        <a:pt x="355" y="628"/>
                      </a:lnTo>
                      <a:lnTo>
                        <a:pt x="371" y="600"/>
                      </a:lnTo>
                      <a:lnTo>
                        <a:pt x="386" y="574"/>
                      </a:lnTo>
                      <a:lnTo>
                        <a:pt x="405" y="551"/>
                      </a:lnTo>
                      <a:lnTo>
                        <a:pt x="430" y="530"/>
                      </a:lnTo>
                      <a:lnTo>
                        <a:pt x="470" y="515"/>
                      </a:lnTo>
                      <a:lnTo>
                        <a:pt x="437" y="517"/>
                      </a:lnTo>
                      <a:lnTo>
                        <a:pt x="418" y="523"/>
                      </a:lnTo>
                      <a:lnTo>
                        <a:pt x="398" y="535"/>
                      </a:lnTo>
                      <a:lnTo>
                        <a:pt x="384" y="548"/>
                      </a:lnTo>
                      <a:lnTo>
                        <a:pt x="365" y="570"/>
                      </a:lnTo>
                      <a:lnTo>
                        <a:pt x="344" y="599"/>
                      </a:lnTo>
                      <a:lnTo>
                        <a:pt x="328" y="620"/>
                      </a:lnTo>
                      <a:lnTo>
                        <a:pt x="311" y="637"/>
                      </a:lnTo>
                      <a:lnTo>
                        <a:pt x="293" y="652"/>
                      </a:lnTo>
                      <a:lnTo>
                        <a:pt x="270" y="666"/>
                      </a:lnTo>
                      <a:lnTo>
                        <a:pt x="247" y="676"/>
                      </a:lnTo>
                      <a:lnTo>
                        <a:pt x="263" y="653"/>
                      </a:lnTo>
                      <a:lnTo>
                        <a:pt x="275" y="633"/>
                      </a:lnTo>
                      <a:lnTo>
                        <a:pt x="290" y="609"/>
                      </a:lnTo>
                      <a:lnTo>
                        <a:pt x="299" y="578"/>
                      </a:lnTo>
                      <a:lnTo>
                        <a:pt x="314" y="526"/>
                      </a:lnTo>
                      <a:lnTo>
                        <a:pt x="351" y="461"/>
                      </a:lnTo>
                      <a:lnTo>
                        <a:pt x="310" y="507"/>
                      </a:lnTo>
                      <a:lnTo>
                        <a:pt x="298" y="522"/>
                      </a:lnTo>
                      <a:lnTo>
                        <a:pt x="272" y="574"/>
                      </a:lnTo>
                      <a:lnTo>
                        <a:pt x="292" y="488"/>
                      </a:lnTo>
                      <a:lnTo>
                        <a:pt x="299" y="440"/>
                      </a:lnTo>
                      <a:lnTo>
                        <a:pt x="300" y="399"/>
                      </a:lnTo>
                      <a:lnTo>
                        <a:pt x="291" y="345"/>
                      </a:lnTo>
                      <a:lnTo>
                        <a:pt x="282" y="316"/>
                      </a:lnTo>
                      <a:lnTo>
                        <a:pt x="273" y="297"/>
                      </a:lnTo>
                      <a:lnTo>
                        <a:pt x="276" y="346"/>
                      </a:lnTo>
                      <a:lnTo>
                        <a:pt x="274" y="388"/>
                      </a:lnTo>
                      <a:lnTo>
                        <a:pt x="248" y="314"/>
                      </a:lnTo>
                      <a:lnTo>
                        <a:pt x="241" y="286"/>
                      </a:lnTo>
                      <a:lnTo>
                        <a:pt x="238" y="252"/>
                      </a:lnTo>
                      <a:lnTo>
                        <a:pt x="239" y="221"/>
                      </a:lnTo>
                      <a:lnTo>
                        <a:pt x="246" y="162"/>
                      </a:lnTo>
                      <a:lnTo>
                        <a:pt x="227" y="231"/>
                      </a:lnTo>
                      <a:lnTo>
                        <a:pt x="221" y="266"/>
                      </a:lnTo>
                      <a:lnTo>
                        <a:pt x="221" y="297"/>
                      </a:lnTo>
                      <a:lnTo>
                        <a:pt x="225" y="327"/>
                      </a:lnTo>
                      <a:lnTo>
                        <a:pt x="229" y="363"/>
                      </a:lnTo>
                      <a:lnTo>
                        <a:pt x="232" y="406"/>
                      </a:lnTo>
                      <a:lnTo>
                        <a:pt x="216" y="479"/>
                      </a:lnTo>
                      <a:lnTo>
                        <a:pt x="168" y="359"/>
                      </a:lnTo>
                      <a:lnTo>
                        <a:pt x="163" y="334"/>
                      </a:lnTo>
                      <a:lnTo>
                        <a:pt x="160" y="300"/>
                      </a:lnTo>
                      <a:lnTo>
                        <a:pt x="162" y="265"/>
                      </a:lnTo>
                      <a:lnTo>
                        <a:pt x="167" y="232"/>
                      </a:lnTo>
                      <a:lnTo>
                        <a:pt x="176" y="193"/>
                      </a:lnTo>
                      <a:lnTo>
                        <a:pt x="187" y="165"/>
                      </a:lnTo>
                      <a:lnTo>
                        <a:pt x="194" y="133"/>
                      </a:lnTo>
                      <a:lnTo>
                        <a:pt x="198" y="101"/>
                      </a:lnTo>
                      <a:lnTo>
                        <a:pt x="198" y="76"/>
                      </a:lnTo>
                      <a:lnTo>
                        <a:pt x="194" y="42"/>
                      </a:lnTo>
                      <a:lnTo>
                        <a:pt x="180" y="0"/>
                      </a:lnTo>
                      <a:lnTo>
                        <a:pt x="181" y="44"/>
                      </a:lnTo>
                      <a:lnTo>
                        <a:pt x="179" y="81"/>
                      </a:lnTo>
                      <a:lnTo>
                        <a:pt x="172" y="114"/>
                      </a:lnTo>
                      <a:lnTo>
                        <a:pt x="161" y="143"/>
                      </a:lnTo>
                      <a:lnTo>
                        <a:pt x="141" y="184"/>
                      </a:lnTo>
                      <a:lnTo>
                        <a:pt x="118" y="247"/>
                      </a:lnTo>
                      <a:lnTo>
                        <a:pt x="104" y="286"/>
                      </a:lnTo>
                      <a:lnTo>
                        <a:pt x="86" y="420"/>
                      </a:lnTo>
                      <a:lnTo>
                        <a:pt x="90" y="449"/>
                      </a:lnTo>
                      <a:lnTo>
                        <a:pt x="103" y="498"/>
                      </a:lnTo>
                      <a:lnTo>
                        <a:pt x="55" y="422"/>
                      </a:lnTo>
                      <a:lnTo>
                        <a:pt x="0" y="399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3588120" y="956880"/>
                <a:ext cx="286200" cy="77760"/>
              </a:xfrm>
              <a:custGeom>
                <a:avLst/>
                <a:gdLst/>
                <a:ahLst/>
                <a:rect l="l" t="t" r="r" b="b"/>
                <a:pathLst>
                  <a:path w="911" h="249">
                    <a:moveTo>
                      <a:pt x="269" y="196"/>
                    </a:moveTo>
                    <a:lnTo>
                      <a:pt x="279" y="198"/>
                    </a:lnTo>
                    <a:lnTo>
                      <a:pt x="294" y="205"/>
                    </a:lnTo>
                    <a:lnTo>
                      <a:pt x="305" y="209"/>
                    </a:lnTo>
                    <a:lnTo>
                      <a:pt x="315" y="213"/>
                    </a:lnTo>
                    <a:lnTo>
                      <a:pt x="328" y="218"/>
                    </a:lnTo>
                    <a:lnTo>
                      <a:pt x="341" y="221"/>
                    </a:lnTo>
                    <a:lnTo>
                      <a:pt x="356" y="225"/>
                    </a:lnTo>
                    <a:lnTo>
                      <a:pt x="368" y="228"/>
                    </a:lnTo>
                    <a:lnTo>
                      <a:pt x="379" y="230"/>
                    </a:lnTo>
                    <a:lnTo>
                      <a:pt x="390" y="233"/>
                    </a:lnTo>
                    <a:lnTo>
                      <a:pt x="403" y="235"/>
                    </a:lnTo>
                    <a:lnTo>
                      <a:pt x="414" y="237"/>
                    </a:lnTo>
                    <a:lnTo>
                      <a:pt x="427" y="240"/>
                    </a:lnTo>
                    <a:lnTo>
                      <a:pt x="442" y="242"/>
                    </a:lnTo>
                    <a:lnTo>
                      <a:pt x="456" y="244"/>
                    </a:lnTo>
                    <a:lnTo>
                      <a:pt x="472" y="246"/>
                    </a:lnTo>
                    <a:lnTo>
                      <a:pt x="489" y="246"/>
                    </a:lnTo>
                    <a:lnTo>
                      <a:pt x="506" y="247"/>
                    </a:lnTo>
                    <a:lnTo>
                      <a:pt x="520" y="248"/>
                    </a:lnTo>
                    <a:lnTo>
                      <a:pt x="540" y="249"/>
                    </a:lnTo>
                    <a:lnTo>
                      <a:pt x="560" y="249"/>
                    </a:lnTo>
                    <a:lnTo>
                      <a:pt x="581" y="248"/>
                    </a:lnTo>
                    <a:lnTo>
                      <a:pt x="597" y="248"/>
                    </a:lnTo>
                    <a:lnTo>
                      <a:pt x="614" y="247"/>
                    </a:lnTo>
                    <a:lnTo>
                      <a:pt x="631" y="246"/>
                    </a:lnTo>
                    <a:lnTo>
                      <a:pt x="648" y="245"/>
                    </a:lnTo>
                    <a:lnTo>
                      <a:pt x="663" y="243"/>
                    </a:lnTo>
                    <a:lnTo>
                      <a:pt x="680" y="242"/>
                    </a:lnTo>
                    <a:lnTo>
                      <a:pt x="696" y="240"/>
                    </a:lnTo>
                    <a:lnTo>
                      <a:pt x="708" y="237"/>
                    </a:lnTo>
                    <a:lnTo>
                      <a:pt x="725" y="234"/>
                    </a:lnTo>
                    <a:lnTo>
                      <a:pt x="740" y="231"/>
                    </a:lnTo>
                    <a:lnTo>
                      <a:pt x="756" y="228"/>
                    </a:lnTo>
                    <a:lnTo>
                      <a:pt x="771" y="224"/>
                    </a:lnTo>
                    <a:lnTo>
                      <a:pt x="788" y="219"/>
                    </a:lnTo>
                    <a:lnTo>
                      <a:pt x="804" y="214"/>
                    </a:lnTo>
                    <a:lnTo>
                      <a:pt x="818" y="209"/>
                    </a:lnTo>
                    <a:lnTo>
                      <a:pt x="832" y="202"/>
                    </a:lnTo>
                    <a:lnTo>
                      <a:pt x="846" y="196"/>
                    </a:lnTo>
                    <a:lnTo>
                      <a:pt x="859" y="189"/>
                    </a:lnTo>
                    <a:lnTo>
                      <a:pt x="872" y="181"/>
                    </a:lnTo>
                    <a:lnTo>
                      <a:pt x="881" y="175"/>
                    </a:lnTo>
                    <a:lnTo>
                      <a:pt x="889" y="167"/>
                    </a:lnTo>
                    <a:lnTo>
                      <a:pt x="895" y="160"/>
                    </a:lnTo>
                    <a:lnTo>
                      <a:pt x="899" y="155"/>
                    </a:lnTo>
                    <a:lnTo>
                      <a:pt x="902" y="151"/>
                    </a:lnTo>
                    <a:lnTo>
                      <a:pt x="905" y="146"/>
                    </a:lnTo>
                    <a:lnTo>
                      <a:pt x="906" y="142"/>
                    </a:lnTo>
                    <a:lnTo>
                      <a:pt x="909" y="136"/>
                    </a:lnTo>
                    <a:lnTo>
                      <a:pt x="910" y="131"/>
                    </a:lnTo>
                    <a:lnTo>
                      <a:pt x="911" y="123"/>
                    </a:lnTo>
                    <a:lnTo>
                      <a:pt x="910" y="117"/>
                    </a:lnTo>
                    <a:lnTo>
                      <a:pt x="907" y="111"/>
                    </a:lnTo>
                    <a:lnTo>
                      <a:pt x="905" y="105"/>
                    </a:lnTo>
                    <a:lnTo>
                      <a:pt x="902" y="98"/>
                    </a:lnTo>
                    <a:lnTo>
                      <a:pt x="899" y="93"/>
                    </a:lnTo>
                    <a:lnTo>
                      <a:pt x="894" y="87"/>
                    </a:lnTo>
                    <a:lnTo>
                      <a:pt x="889" y="82"/>
                    </a:lnTo>
                    <a:lnTo>
                      <a:pt x="881" y="75"/>
                    </a:lnTo>
                    <a:lnTo>
                      <a:pt x="873" y="69"/>
                    </a:lnTo>
                    <a:lnTo>
                      <a:pt x="864" y="63"/>
                    </a:lnTo>
                    <a:lnTo>
                      <a:pt x="858" y="59"/>
                    </a:lnTo>
                    <a:lnTo>
                      <a:pt x="851" y="55"/>
                    </a:lnTo>
                    <a:lnTo>
                      <a:pt x="845" y="52"/>
                    </a:lnTo>
                    <a:lnTo>
                      <a:pt x="837" y="49"/>
                    </a:lnTo>
                    <a:lnTo>
                      <a:pt x="830" y="46"/>
                    </a:lnTo>
                    <a:lnTo>
                      <a:pt x="823" y="42"/>
                    </a:lnTo>
                    <a:lnTo>
                      <a:pt x="815" y="40"/>
                    </a:lnTo>
                    <a:lnTo>
                      <a:pt x="808" y="37"/>
                    </a:lnTo>
                    <a:lnTo>
                      <a:pt x="799" y="34"/>
                    </a:lnTo>
                    <a:lnTo>
                      <a:pt x="790" y="31"/>
                    </a:lnTo>
                    <a:lnTo>
                      <a:pt x="780" y="27"/>
                    </a:lnTo>
                    <a:lnTo>
                      <a:pt x="768" y="24"/>
                    </a:lnTo>
                    <a:lnTo>
                      <a:pt x="760" y="22"/>
                    </a:lnTo>
                    <a:lnTo>
                      <a:pt x="752" y="20"/>
                    </a:lnTo>
                    <a:lnTo>
                      <a:pt x="744" y="18"/>
                    </a:lnTo>
                    <a:lnTo>
                      <a:pt x="734" y="16"/>
                    </a:lnTo>
                    <a:lnTo>
                      <a:pt x="726" y="14"/>
                    </a:lnTo>
                    <a:lnTo>
                      <a:pt x="719" y="13"/>
                    </a:lnTo>
                    <a:lnTo>
                      <a:pt x="713" y="12"/>
                    </a:lnTo>
                    <a:lnTo>
                      <a:pt x="702" y="11"/>
                    </a:lnTo>
                    <a:lnTo>
                      <a:pt x="692" y="9"/>
                    </a:lnTo>
                    <a:lnTo>
                      <a:pt x="685" y="8"/>
                    </a:lnTo>
                    <a:lnTo>
                      <a:pt x="675" y="7"/>
                    </a:lnTo>
                    <a:lnTo>
                      <a:pt x="665" y="6"/>
                    </a:lnTo>
                    <a:lnTo>
                      <a:pt x="655" y="5"/>
                    </a:lnTo>
                    <a:lnTo>
                      <a:pt x="639" y="3"/>
                    </a:lnTo>
                    <a:lnTo>
                      <a:pt x="613" y="2"/>
                    </a:lnTo>
                    <a:lnTo>
                      <a:pt x="579" y="0"/>
                    </a:lnTo>
                    <a:lnTo>
                      <a:pt x="552" y="0"/>
                    </a:lnTo>
                    <a:lnTo>
                      <a:pt x="523" y="0"/>
                    </a:lnTo>
                    <a:lnTo>
                      <a:pt x="496" y="1"/>
                    </a:lnTo>
                    <a:lnTo>
                      <a:pt x="471" y="3"/>
                    </a:lnTo>
                    <a:lnTo>
                      <a:pt x="446" y="6"/>
                    </a:lnTo>
                    <a:lnTo>
                      <a:pt x="421" y="9"/>
                    </a:lnTo>
                    <a:lnTo>
                      <a:pt x="394" y="14"/>
                    </a:lnTo>
                    <a:lnTo>
                      <a:pt x="369" y="20"/>
                    </a:lnTo>
                    <a:lnTo>
                      <a:pt x="344" y="26"/>
                    </a:lnTo>
                    <a:lnTo>
                      <a:pt x="322" y="34"/>
                    </a:lnTo>
                    <a:lnTo>
                      <a:pt x="264" y="52"/>
                    </a:lnTo>
                    <a:lnTo>
                      <a:pt x="125" y="55"/>
                    </a:lnTo>
                    <a:lnTo>
                      <a:pt x="96" y="63"/>
                    </a:lnTo>
                    <a:lnTo>
                      <a:pt x="147" y="95"/>
                    </a:lnTo>
                    <a:lnTo>
                      <a:pt x="16" y="133"/>
                    </a:lnTo>
                    <a:lnTo>
                      <a:pt x="146" y="149"/>
                    </a:lnTo>
                    <a:lnTo>
                      <a:pt x="0" y="196"/>
                    </a:lnTo>
                    <a:lnTo>
                      <a:pt x="269" y="196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437280" y="574560"/>
                <a:ext cx="518400" cy="442440"/>
                <a:chOff x="3437280" y="574560"/>
                <a:chExt cx="518400" cy="442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437280" y="600120"/>
                  <a:ext cx="518400" cy="404640"/>
                </a:xfrm>
                <a:custGeom>
                  <a:avLst/>
                  <a:gdLst/>
                  <a:ahLst/>
                  <a:rect l="l" t="t" r="r" b="b"/>
                  <a:pathLst>
                    <a:path w="1649" h="1270">
                      <a:moveTo>
                        <a:pt x="908" y="1224"/>
                      </a:moveTo>
                      <a:lnTo>
                        <a:pt x="500" y="1270"/>
                      </a:lnTo>
                      <a:lnTo>
                        <a:pt x="861" y="1214"/>
                      </a:lnTo>
                      <a:lnTo>
                        <a:pt x="861" y="1196"/>
                      </a:lnTo>
                      <a:lnTo>
                        <a:pt x="0" y="1068"/>
                      </a:lnTo>
                      <a:lnTo>
                        <a:pt x="836" y="1165"/>
                      </a:lnTo>
                      <a:lnTo>
                        <a:pt x="871" y="1117"/>
                      </a:lnTo>
                      <a:lnTo>
                        <a:pt x="44" y="0"/>
                      </a:lnTo>
                      <a:lnTo>
                        <a:pt x="828" y="1014"/>
                      </a:lnTo>
                      <a:lnTo>
                        <a:pt x="762" y="838"/>
                      </a:lnTo>
                      <a:lnTo>
                        <a:pt x="907" y="1056"/>
                      </a:lnTo>
                      <a:lnTo>
                        <a:pt x="923" y="1106"/>
                      </a:lnTo>
                      <a:lnTo>
                        <a:pt x="981" y="211"/>
                      </a:lnTo>
                      <a:lnTo>
                        <a:pt x="958" y="1134"/>
                      </a:lnTo>
                      <a:lnTo>
                        <a:pt x="1006" y="652"/>
                      </a:lnTo>
                      <a:lnTo>
                        <a:pt x="1030" y="1053"/>
                      </a:lnTo>
                      <a:lnTo>
                        <a:pt x="1649" y="266"/>
                      </a:lnTo>
                      <a:lnTo>
                        <a:pt x="994" y="1151"/>
                      </a:lnTo>
                      <a:lnTo>
                        <a:pt x="992" y="1180"/>
                      </a:lnTo>
                      <a:lnTo>
                        <a:pt x="1649" y="945"/>
                      </a:lnTo>
                      <a:lnTo>
                        <a:pt x="996" y="1200"/>
                      </a:lnTo>
                      <a:lnTo>
                        <a:pt x="993" y="1216"/>
                      </a:lnTo>
                      <a:lnTo>
                        <a:pt x="920" y="1231"/>
                      </a:lnTo>
                      <a:lnTo>
                        <a:pt x="908" y="122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43840" y="574560"/>
                  <a:ext cx="347760" cy="442440"/>
                  <a:chOff x="3543840" y="574560"/>
                  <a:chExt cx="347760" cy="44244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548160" y="579240"/>
                    <a:ext cx="343440" cy="43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1374">
                        <a:moveTo>
                          <a:pt x="680" y="1363"/>
                        </a:moveTo>
                        <a:lnTo>
                          <a:pt x="727" y="1354"/>
                        </a:lnTo>
                        <a:lnTo>
                          <a:pt x="797" y="1332"/>
                        </a:lnTo>
                        <a:lnTo>
                          <a:pt x="849" y="1301"/>
                        </a:lnTo>
                        <a:lnTo>
                          <a:pt x="880" y="1265"/>
                        </a:lnTo>
                        <a:lnTo>
                          <a:pt x="904" y="1225"/>
                        </a:lnTo>
                        <a:lnTo>
                          <a:pt x="921" y="1189"/>
                        </a:lnTo>
                        <a:lnTo>
                          <a:pt x="937" y="1141"/>
                        </a:lnTo>
                        <a:lnTo>
                          <a:pt x="947" y="1079"/>
                        </a:lnTo>
                        <a:lnTo>
                          <a:pt x="954" y="1011"/>
                        </a:lnTo>
                        <a:lnTo>
                          <a:pt x="955" y="966"/>
                        </a:lnTo>
                        <a:lnTo>
                          <a:pt x="962" y="928"/>
                        </a:lnTo>
                        <a:lnTo>
                          <a:pt x="968" y="905"/>
                        </a:lnTo>
                        <a:lnTo>
                          <a:pt x="982" y="875"/>
                        </a:lnTo>
                        <a:lnTo>
                          <a:pt x="997" y="842"/>
                        </a:lnTo>
                        <a:lnTo>
                          <a:pt x="1012" y="820"/>
                        </a:lnTo>
                        <a:lnTo>
                          <a:pt x="1023" y="799"/>
                        </a:lnTo>
                        <a:lnTo>
                          <a:pt x="1038" y="781"/>
                        </a:lnTo>
                        <a:lnTo>
                          <a:pt x="1059" y="760"/>
                        </a:lnTo>
                        <a:lnTo>
                          <a:pt x="1098" y="728"/>
                        </a:lnTo>
                        <a:lnTo>
                          <a:pt x="1038" y="751"/>
                        </a:lnTo>
                        <a:lnTo>
                          <a:pt x="1009" y="766"/>
                        </a:lnTo>
                        <a:lnTo>
                          <a:pt x="982" y="786"/>
                        </a:lnTo>
                        <a:lnTo>
                          <a:pt x="954" y="806"/>
                        </a:lnTo>
                        <a:lnTo>
                          <a:pt x="927" y="830"/>
                        </a:lnTo>
                        <a:lnTo>
                          <a:pt x="905" y="859"/>
                        </a:lnTo>
                        <a:lnTo>
                          <a:pt x="878" y="897"/>
                        </a:lnTo>
                        <a:lnTo>
                          <a:pt x="856" y="927"/>
                        </a:lnTo>
                        <a:lnTo>
                          <a:pt x="837" y="958"/>
                        </a:lnTo>
                        <a:lnTo>
                          <a:pt x="855" y="912"/>
                        </a:lnTo>
                        <a:lnTo>
                          <a:pt x="867" y="873"/>
                        </a:lnTo>
                        <a:lnTo>
                          <a:pt x="876" y="830"/>
                        </a:lnTo>
                        <a:lnTo>
                          <a:pt x="880" y="775"/>
                        </a:lnTo>
                        <a:lnTo>
                          <a:pt x="879" y="718"/>
                        </a:lnTo>
                        <a:lnTo>
                          <a:pt x="871" y="665"/>
                        </a:lnTo>
                        <a:lnTo>
                          <a:pt x="861" y="614"/>
                        </a:lnTo>
                        <a:lnTo>
                          <a:pt x="850" y="568"/>
                        </a:lnTo>
                        <a:lnTo>
                          <a:pt x="837" y="526"/>
                        </a:lnTo>
                        <a:lnTo>
                          <a:pt x="819" y="482"/>
                        </a:lnTo>
                        <a:lnTo>
                          <a:pt x="788" y="429"/>
                        </a:lnTo>
                        <a:lnTo>
                          <a:pt x="766" y="394"/>
                        </a:lnTo>
                        <a:lnTo>
                          <a:pt x="736" y="341"/>
                        </a:lnTo>
                        <a:lnTo>
                          <a:pt x="708" y="284"/>
                        </a:lnTo>
                        <a:lnTo>
                          <a:pt x="688" y="231"/>
                        </a:lnTo>
                        <a:lnTo>
                          <a:pt x="675" y="194"/>
                        </a:lnTo>
                        <a:lnTo>
                          <a:pt x="668" y="152"/>
                        </a:lnTo>
                        <a:lnTo>
                          <a:pt x="662" y="111"/>
                        </a:lnTo>
                        <a:lnTo>
                          <a:pt x="662" y="76"/>
                        </a:lnTo>
                        <a:lnTo>
                          <a:pt x="665" y="44"/>
                        </a:lnTo>
                        <a:lnTo>
                          <a:pt x="667" y="0"/>
                        </a:lnTo>
                        <a:lnTo>
                          <a:pt x="649" y="59"/>
                        </a:lnTo>
                        <a:lnTo>
                          <a:pt x="638" y="107"/>
                        </a:lnTo>
                        <a:lnTo>
                          <a:pt x="631" y="151"/>
                        </a:lnTo>
                        <a:lnTo>
                          <a:pt x="629" y="194"/>
                        </a:lnTo>
                        <a:lnTo>
                          <a:pt x="636" y="246"/>
                        </a:lnTo>
                        <a:lnTo>
                          <a:pt x="648" y="289"/>
                        </a:lnTo>
                        <a:lnTo>
                          <a:pt x="661" y="329"/>
                        </a:lnTo>
                        <a:lnTo>
                          <a:pt x="678" y="364"/>
                        </a:lnTo>
                        <a:lnTo>
                          <a:pt x="690" y="410"/>
                        </a:lnTo>
                        <a:lnTo>
                          <a:pt x="695" y="455"/>
                        </a:lnTo>
                        <a:lnTo>
                          <a:pt x="699" y="503"/>
                        </a:lnTo>
                        <a:lnTo>
                          <a:pt x="702" y="552"/>
                        </a:lnTo>
                        <a:lnTo>
                          <a:pt x="702" y="597"/>
                        </a:lnTo>
                        <a:lnTo>
                          <a:pt x="694" y="672"/>
                        </a:lnTo>
                        <a:lnTo>
                          <a:pt x="680" y="718"/>
                        </a:lnTo>
                        <a:lnTo>
                          <a:pt x="645" y="783"/>
                        </a:lnTo>
                        <a:lnTo>
                          <a:pt x="615" y="849"/>
                        </a:lnTo>
                        <a:lnTo>
                          <a:pt x="591" y="915"/>
                        </a:lnTo>
                        <a:lnTo>
                          <a:pt x="575" y="877"/>
                        </a:lnTo>
                        <a:lnTo>
                          <a:pt x="563" y="837"/>
                        </a:lnTo>
                        <a:lnTo>
                          <a:pt x="555" y="796"/>
                        </a:lnTo>
                        <a:lnTo>
                          <a:pt x="551" y="731"/>
                        </a:lnTo>
                        <a:lnTo>
                          <a:pt x="566" y="618"/>
                        </a:lnTo>
                        <a:lnTo>
                          <a:pt x="570" y="585"/>
                        </a:lnTo>
                        <a:lnTo>
                          <a:pt x="571" y="546"/>
                        </a:lnTo>
                        <a:lnTo>
                          <a:pt x="571" y="509"/>
                        </a:lnTo>
                        <a:lnTo>
                          <a:pt x="566" y="460"/>
                        </a:lnTo>
                        <a:lnTo>
                          <a:pt x="555" y="411"/>
                        </a:lnTo>
                        <a:lnTo>
                          <a:pt x="538" y="365"/>
                        </a:lnTo>
                        <a:lnTo>
                          <a:pt x="507" y="300"/>
                        </a:lnTo>
                        <a:lnTo>
                          <a:pt x="523" y="377"/>
                        </a:lnTo>
                        <a:lnTo>
                          <a:pt x="534" y="443"/>
                        </a:lnTo>
                        <a:lnTo>
                          <a:pt x="534" y="498"/>
                        </a:lnTo>
                        <a:lnTo>
                          <a:pt x="529" y="543"/>
                        </a:lnTo>
                        <a:lnTo>
                          <a:pt x="517" y="584"/>
                        </a:lnTo>
                        <a:lnTo>
                          <a:pt x="500" y="635"/>
                        </a:lnTo>
                        <a:lnTo>
                          <a:pt x="453" y="744"/>
                        </a:lnTo>
                        <a:lnTo>
                          <a:pt x="450" y="676"/>
                        </a:lnTo>
                        <a:lnTo>
                          <a:pt x="454" y="616"/>
                        </a:lnTo>
                        <a:lnTo>
                          <a:pt x="460" y="562"/>
                        </a:lnTo>
                        <a:lnTo>
                          <a:pt x="431" y="617"/>
                        </a:lnTo>
                        <a:lnTo>
                          <a:pt x="415" y="664"/>
                        </a:lnTo>
                        <a:lnTo>
                          <a:pt x="405" y="716"/>
                        </a:lnTo>
                        <a:lnTo>
                          <a:pt x="396" y="776"/>
                        </a:lnTo>
                        <a:lnTo>
                          <a:pt x="399" y="849"/>
                        </a:lnTo>
                        <a:lnTo>
                          <a:pt x="410" y="922"/>
                        </a:lnTo>
                        <a:lnTo>
                          <a:pt x="429" y="980"/>
                        </a:lnTo>
                        <a:lnTo>
                          <a:pt x="457" y="1055"/>
                        </a:lnTo>
                        <a:lnTo>
                          <a:pt x="502" y="1149"/>
                        </a:lnTo>
                        <a:lnTo>
                          <a:pt x="431" y="1039"/>
                        </a:lnTo>
                        <a:lnTo>
                          <a:pt x="414" y="1010"/>
                        </a:lnTo>
                        <a:lnTo>
                          <a:pt x="383" y="966"/>
                        </a:lnTo>
                        <a:lnTo>
                          <a:pt x="344" y="922"/>
                        </a:lnTo>
                        <a:lnTo>
                          <a:pt x="283" y="868"/>
                        </a:lnTo>
                        <a:lnTo>
                          <a:pt x="320" y="928"/>
                        </a:lnTo>
                        <a:lnTo>
                          <a:pt x="341" y="964"/>
                        </a:lnTo>
                        <a:lnTo>
                          <a:pt x="362" y="1001"/>
                        </a:lnTo>
                        <a:lnTo>
                          <a:pt x="398" y="1079"/>
                        </a:lnTo>
                        <a:lnTo>
                          <a:pt x="426" y="1143"/>
                        </a:lnTo>
                        <a:lnTo>
                          <a:pt x="466" y="1249"/>
                        </a:lnTo>
                        <a:lnTo>
                          <a:pt x="416" y="1232"/>
                        </a:lnTo>
                        <a:lnTo>
                          <a:pt x="372" y="1200"/>
                        </a:lnTo>
                        <a:lnTo>
                          <a:pt x="326" y="1157"/>
                        </a:lnTo>
                        <a:lnTo>
                          <a:pt x="286" y="1117"/>
                        </a:lnTo>
                        <a:lnTo>
                          <a:pt x="234" y="1068"/>
                        </a:lnTo>
                        <a:lnTo>
                          <a:pt x="196" y="1038"/>
                        </a:lnTo>
                        <a:lnTo>
                          <a:pt x="164" y="1015"/>
                        </a:lnTo>
                        <a:lnTo>
                          <a:pt x="131" y="997"/>
                        </a:lnTo>
                        <a:lnTo>
                          <a:pt x="95" y="988"/>
                        </a:lnTo>
                        <a:lnTo>
                          <a:pt x="60" y="980"/>
                        </a:lnTo>
                        <a:lnTo>
                          <a:pt x="0" y="970"/>
                        </a:lnTo>
                        <a:lnTo>
                          <a:pt x="53" y="992"/>
                        </a:lnTo>
                        <a:lnTo>
                          <a:pt x="109" y="1021"/>
                        </a:lnTo>
                        <a:lnTo>
                          <a:pt x="149" y="1049"/>
                        </a:lnTo>
                        <a:lnTo>
                          <a:pt x="174" y="1071"/>
                        </a:lnTo>
                        <a:lnTo>
                          <a:pt x="220" y="1127"/>
                        </a:lnTo>
                        <a:lnTo>
                          <a:pt x="261" y="1187"/>
                        </a:lnTo>
                        <a:lnTo>
                          <a:pt x="314" y="1254"/>
                        </a:lnTo>
                        <a:lnTo>
                          <a:pt x="354" y="1284"/>
                        </a:lnTo>
                        <a:lnTo>
                          <a:pt x="410" y="1316"/>
                        </a:lnTo>
                        <a:lnTo>
                          <a:pt x="504" y="1359"/>
                        </a:lnTo>
                        <a:lnTo>
                          <a:pt x="584" y="1374"/>
                        </a:lnTo>
                        <a:lnTo>
                          <a:pt x="680" y="1363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48160" y="574560"/>
                    <a:ext cx="342000" cy="43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372">
                        <a:moveTo>
                          <a:pt x="667" y="1362"/>
                        </a:moveTo>
                        <a:lnTo>
                          <a:pt x="712" y="1353"/>
                        </a:lnTo>
                        <a:lnTo>
                          <a:pt x="780" y="1331"/>
                        </a:lnTo>
                        <a:lnTo>
                          <a:pt x="830" y="1299"/>
                        </a:lnTo>
                        <a:lnTo>
                          <a:pt x="860" y="1263"/>
                        </a:lnTo>
                        <a:lnTo>
                          <a:pt x="883" y="1224"/>
                        </a:lnTo>
                        <a:lnTo>
                          <a:pt x="901" y="1188"/>
                        </a:lnTo>
                        <a:lnTo>
                          <a:pt x="916" y="1140"/>
                        </a:lnTo>
                        <a:lnTo>
                          <a:pt x="925" y="1078"/>
                        </a:lnTo>
                        <a:lnTo>
                          <a:pt x="932" y="1011"/>
                        </a:lnTo>
                        <a:lnTo>
                          <a:pt x="933" y="965"/>
                        </a:lnTo>
                        <a:lnTo>
                          <a:pt x="940" y="928"/>
                        </a:lnTo>
                        <a:lnTo>
                          <a:pt x="947" y="904"/>
                        </a:lnTo>
                        <a:lnTo>
                          <a:pt x="959" y="874"/>
                        </a:lnTo>
                        <a:lnTo>
                          <a:pt x="975" y="842"/>
                        </a:lnTo>
                        <a:lnTo>
                          <a:pt x="989" y="818"/>
                        </a:lnTo>
                        <a:lnTo>
                          <a:pt x="1007" y="795"/>
                        </a:lnTo>
                        <a:lnTo>
                          <a:pt x="1020" y="779"/>
                        </a:lnTo>
                        <a:lnTo>
                          <a:pt x="1040" y="764"/>
                        </a:lnTo>
                        <a:lnTo>
                          <a:pt x="1089" y="744"/>
                        </a:lnTo>
                        <a:lnTo>
                          <a:pt x="1031" y="755"/>
                        </a:lnTo>
                        <a:lnTo>
                          <a:pt x="995" y="765"/>
                        </a:lnTo>
                        <a:lnTo>
                          <a:pt x="959" y="785"/>
                        </a:lnTo>
                        <a:lnTo>
                          <a:pt x="932" y="805"/>
                        </a:lnTo>
                        <a:lnTo>
                          <a:pt x="907" y="829"/>
                        </a:lnTo>
                        <a:lnTo>
                          <a:pt x="885" y="858"/>
                        </a:lnTo>
                        <a:lnTo>
                          <a:pt x="858" y="896"/>
                        </a:lnTo>
                        <a:lnTo>
                          <a:pt x="837" y="925"/>
                        </a:lnTo>
                        <a:lnTo>
                          <a:pt x="818" y="956"/>
                        </a:lnTo>
                        <a:lnTo>
                          <a:pt x="836" y="911"/>
                        </a:lnTo>
                        <a:lnTo>
                          <a:pt x="848" y="872"/>
                        </a:lnTo>
                        <a:lnTo>
                          <a:pt x="857" y="829"/>
                        </a:lnTo>
                        <a:lnTo>
                          <a:pt x="860" y="773"/>
                        </a:lnTo>
                        <a:lnTo>
                          <a:pt x="859" y="716"/>
                        </a:lnTo>
                        <a:lnTo>
                          <a:pt x="851" y="664"/>
                        </a:lnTo>
                        <a:lnTo>
                          <a:pt x="843" y="613"/>
                        </a:lnTo>
                        <a:lnTo>
                          <a:pt x="831" y="567"/>
                        </a:lnTo>
                        <a:lnTo>
                          <a:pt x="819" y="525"/>
                        </a:lnTo>
                        <a:lnTo>
                          <a:pt x="802" y="481"/>
                        </a:lnTo>
                        <a:lnTo>
                          <a:pt x="772" y="427"/>
                        </a:lnTo>
                        <a:lnTo>
                          <a:pt x="750" y="392"/>
                        </a:lnTo>
                        <a:lnTo>
                          <a:pt x="719" y="340"/>
                        </a:lnTo>
                        <a:lnTo>
                          <a:pt x="693" y="282"/>
                        </a:lnTo>
                        <a:lnTo>
                          <a:pt x="674" y="230"/>
                        </a:lnTo>
                        <a:lnTo>
                          <a:pt x="662" y="193"/>
                        </a:lnTo>
                        <a:lnTo>
                          <a:pt x="654" y="151"/>
                        </a:lnTo>
                        <a:lnTo>
                          <a:pt x="649" y="109"/>
                        </a:lnTo>
                        <a:lnTo>
                          <a:pt x="649" y="74"/>
                        </a:lnTo>
                        <a:lnTo>
                          <a:pt x="650" y="42"/>
                        </a:lnTo>
                        <a:lnTo>
                          <a:pt x="653" y="0"/>
                        </a:lnTo>
                        <a:lnTo>
                          <a:pt x="636" y="58"/>
                        </a:lnTo>
                        <a:lnTo>
                          <a:pt x="624" y="106"/>
                        </a:lnTo>
                        <a:lnTo>
                          <a:pt x="618" y="150"/>
                        </a:lnTo>
                        <a:lnTo>
                          <a:pt x="617" y="193"/>
                        </a:lnTo>
                        <a:lnTo>
                          <a:pt x="622" y="245"/>
                        </a:lnTo>
                        <a:lnTo>
                          <a:pt x="635" y="287"/>
                        </a:lnTo>
                        <a:lnTo>
                          <a:pt x="648" y="327"/>
                        </a:lnTo>
                        <a:lnTo>
                          <a:pt x="664" y="362"/>
                        </a:lnTo>
                        <a:lnTo>
                          <a:pt x="676" y="409"/>
                        </a:lnTo>
                        <a:lnTo>
                          <a:pt x="681" y="455"/>
                        </a:lnTo>
                        <a:lnTo>
                          <a:pt x="684" y="502"/>
                        </a:lnTo>
                        <a:lnTo>
                          <a:pt x="687" y="551"/>
                        </a:lnTo>
                        <a:lnTo>
                          <a:pt x="687" y="597"/>
                        </a:lnTo>
                        <a:lnTo>
                          <a:pt x="680" y="670"/>
                        </a:lnTo>
                        <a:lnTo>
                          <a:pt x="666" y="716"/>
                        </a:lnTo>
                        <a:lnTo>
                          <a:pt x="632" y="781"/>
                        </a:lnTo>
                        <a:lnTo>
                          <a:pt x="603" y="847"/>
                        </a:lnTo>
                        <a:lnTo>
                          <a:pt x="580" y="913"/>
                        </a:lnTo>
                        <a:lnTo>
                          <a:pt x="564" y="876"/>
                        </a:lnTo>
                        <a:lnTo>
                          <a:pt x="552" y="836"/>
                        </a:lnTo>
                        <a:lnTo>
                          <a:pt x="545" y="795"/>
                        </a:lnTo>
                        <a:lnTo>
                          <a:pt x="541" y="730"/>
                        </a:lnTo>
                        <a:lnTo>
                          <a:pt x="554" y="617"/>
                        </a:lnTo>
                        <a:lnTo>
                          <a:pt x="559" y="584"/>
                        </a:lnTo>
                        <a:lnTo>
                          <a:pt x="560" y="545"/>
                        </a:lnTo>
                        <a:lnTo>
                          <a:pt x="560" y="508"/>
                        </a:lnTo>
                        <a:lnTo>
                          <a:pt x="554" y="458"/>
                        </a:lnTo>
                        <a:lnTo>
                          <a:pt x="545" y="410"/>
                        </a:lnTo>
                        <a:lnTo>
                          <a:pt x="528" y="363"/>
                        </a:lnTo>
                        <a:lnTo>
                          <a:pt x="498" y="300"/>
                        </a:lnTo>
                        <a:lnTo>
                          <a:pt x="514" y="377"/>
                        </a:lnTo>
                        <a:lnTo>
                          <a:pt x="523" y="442"/>
                        </a:lnTo>
                        <a:lnTo>
                          <a:pt x="523" y="496"/>
                        </a:lnTo>
                        <a:lnTo>
                          <a:pt x="518" y="541"/>
                        </a:lnTo>
                        <a:lnTo>
                          <a:pt x="507" y="583"/>
                        </a:lnTo>
                        <a:lnTo>
                          <a:pt x="491" y="633"/>
                        </a:lnTo>
                        <a:lnTo>
                          <a:pt x="445" y="742"/>
                        </a:lnTo>
                        <a:lnTo>
                          <a:pt x="442" y="674"/>
                        </a:lnTo>
                        <a:lnTo>
                          <a:pt x="447" y="616"/>
                        </a:lnTo>
                        <a:lnTo>
                          <a:pt x="451" y="561"/>
                        </a:lnTo>
                        <a:lnTo>
                          <a:pt x="424" y="617"/>
                        </a:lnTo>
                        <a:lnTo>
                          <a:pt x="408" y="663"/>
                        </a:lnTo>
                        <a:lnTo>
                          <a:pt x="398" y="714"/>
                        </a:lnTo>
                        <a:lnTo>
                          <a:pt x="390" y="774"/>
                        </a:lnTo>
                        <a:lnTo>
                          <a:pt x="393" y="847"/>
                        </a:lnTo>
                        <a:lnTo>
                          <a:pt x="403" y="920"/>
                        </a:lnTo>
                        <a:lnTo>
                          <a:pt x="422" y="979"/>
                        </a:lnTo>
                        <a:lnTo>
                          <a:pt x="449" y="1054"/>
                        </a:lnTo>
                        <a:lnTo>
                          <a:pt x="493" y="1148"/>
                        </a:lnTo>
                        <a:lnTo>
                          <a:pt x="424" y="1038"/>
                        </a:lnTo>
                        <a:lnTo>
                          <a:pt x="407" y="1009"/>
                        </a:lnTo>
                        <a:lnTo>
                          <a:pt x="378" y="965"/>
                        </a:lnTo>
                        <a:lnTo>
                          <a:pt x="340" y="920"/>
                        </a:lnTo>
                        <a:lnTo>
                          <a:pt x="280" y="867"/>
                        </a:lnTo>
                        <a:lnTo>
                          <a:pt x="315" y="926"/>
                        </a:lnTo>
                        <a:lnTo>
                          <a:pt x="336" y="963"/>
                        </a:lnTo>
                        <a:lnTo>
                          <a:pt x="356" y="1000"/>
                        </a:lnTo>
                        <a:lnTo>
                          <a:pt x="392" y="1078"/>
                        </a:lnTo>
                        <a:lnTo>
                          <a:pt x="418" y="1142"/>
                        </a:lnTo>
                        <a:lnTo>
                          <a:pt x="458" y="1248"/>
                        </a:lnTo>
                        <a:lnTo>
                          <a:pt x="410" y="1230"/>
                        </a:lnTo>
                        <a:lnTo>
                          <a:pt x="367" y="1198"/>
                        </a:lnTo>
                        <a:lnTo>
                          <a:pt x="321" y="1156"/>
                        </a:lnTo>
                        <a:lnTo>
                          <a:pt x="283" y="1116"/>
                        </a:lnTo>
                        <a:lnTo>
                          <a:pt x="232" y="1066"/>
                        </a:lnTo>
                        <a:lnTo>
                          <a:pt x="195" y="1037"/>
                        </a:lnTo>
                        <a:lnTo>
                          <a:pt x="164" y="1014"/>
                        </a:lnTo>
                        <a:lnTo>
                          <a:pt x="132" y="995"/>
                        </a:lnTo>
                        <a:lnTo>
                          <a:pt x="97" y="986"/>
                        </a:lnTo>
                        <a:lnTo>
                          <a:pt x="63" y="979"/>
                        </a:lnTo>
                        <a:lnTo>
                          <a:pt x="0" y="973"/>
                        </a:lnTo>
                        <a:lnTo>
                          <a:pt x="56" y="990"/>
                        </a:lnTo>
                        <a:lnTo>
                          <a:pt x="111" y="1019"/>
                        </a:lnTo>
                        <a:lnTo>
                          <a:pt x="150" y="1048"/>
                        </a:lnTo>
                        <a:lnTo>
                          <a:pt x="174" y="1071"/>
                        </a:lnTo>
                        <a:lnTo>
                          <a:pt x="219" y="1125"/>
                        </a:lnTo>
                        <a:lnTo>
                          <a:pt x="259" y="1186"/>
                        </a:lnTo>
                        <a:lnTo>
                          <a:pt x="310" y="1254"/>
                        </a:lnTo>
                        <a:lnTo>
                          <a:pt x="349" y="1283"/>
                        </a:lnTo>
                        <a:lnTo>
                          <a:pt x="403" y="1316"/>
                        </a:lnTo>
                        <a:lnTo>
                          <a:pt x="495" y="1358"/>
                        </a:lnTo>
                        <a:lnTo>
                          <a:pt x="573" y="1372"/>
                        </a:lnTo>
                        <a:lnTo>
                          <a:pt x="667" y="136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549600" y="585720"/>
                    <a:ext cx="33120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1347">
                        <a:moveTo>
                          <a:pt x="650" y="1336"/>
                        </a:moveTo>
                        <a:lnTo>
                          <a:pt x="695" y="1327"/>
                        </a:lnTo>
                        <a:lnTo>
                          <a:pt x="763" y="1306"/>
                        </a:lnTo>
                        <a:lnTo>
                          <a:pt x="812" y="1276"/>
                        </a:lnTo>
                        <a:lnTo>
                          <a:pt x="841" y="1239"/>
                        </a:lnTo>
                        <a:lnTo>
                          <a:pt x="864" y="1201"/>
                        </a:lnTo>
                        <a:lnTo>
                          <a:pt x="880" y="1165"/>
                        </a:lnTo>
                        <a:lnTo>
                          <a:pt x="895" y="1118"/>
                        </a:lnTo>
                        <a:lnTo>
                          <a:pt x="905" y="1057"/>
                        </a:lnTo>
                        <a:lnTo>
                          <a:pt x="912" y="992"/>
                        </a:lnTo>
                        <a:lnTo>
                          <a:pt x="913" y="947"/>
                        </a:lnTo>
                        <a:lnTo>
                          <a:pt x="919" y="910"/>
                        </a:lnTo>
                        <a:lnTo>
                          <a:pt x="925" y="887"/>
                        </a:lnTo>
                        <a:lnTo>
                          <a:pt x="939" y="858"/>
                        </a:lnTo>
                        <a:lnTo>
                          <a:pt x="953" y="827"/>
                        </a:lnTo>
                        <a:lnTo>
                          <a:pt x="967" y="803"/>
                        </a:lnTo>
                        <a:lnTo>
                          <a:pt x="984" y="779"/>
                        </a:lnTo>
                        <a:lnTo>
                          <a:pt x="996" y="765"/>
                        </a:lnTo>
                        <a:lnTo>
                          <a:pt x="1017" y="749"/>
                        </a:lnTo>
                        <a:lnTo>
                          <a:pt x="1058" y="721"/>
                        </a:lnTo>
                        <a:lnTo>
                          <a:pt x="1009" y="737"/>
                        </a:lnTo>
                        <a:lnTo>
                          <a:pt x="974" y="751"/>
                        </a:lnTo>
                        <a:lnTo>
                          <a:pt x="939" y="770"/>
                        </a:lnTo>
                        <a:lnTo>
                          <a:pt x="912" y="791"/>
                        </a:lnTo>
                        <a:lnTo>
                          <a:pt x="886" y="813"/>
                        </a:lnTo>
                        <a:lnTo>
                          <a:pt x="865" y="841"/>
                        </a:lnTo>
                        <a:lnTo>
                          <a:pt x="839" y="879"/>
                        </a:lnTo>
                        <a:lnTo>
                          <a:pt x="818" y="908"/>
                        </a:lnTo>
                        <a:lnTo>
                          <a:pt x="800" y="939"/>
                        </a:lnTo>
                        <a:lnTo>
                          <a:pt x="817" y="895"/>
                        </a:lnTo>
                        <a:lnTo>
                          <a:pt x="828" y="857"/>
                        </a:lnTo>
                        <a:lnTo>
                          <a:pt x="838" y="813"/>
                        </a:lnTo>
                        <a:lnTo>
                          <a:pt x="841" y="759"/>
                        </a:lnTo>
                        <a:lnTo>
                          <a:pt x="840" y="703"/>
                        </a:lnTo>
                        <a:lnTo>
                          <a:pt x="833" y="653"/>
                        </a:lnTo>
                        <a:lnTo>
                          <a:pt x="823" y="601"/>
                        </a:lnTo>
                        <a:lnTo>
                          <a:pt x="813" y="557"/>
                        </a:lnTo>
                        <a:lnTo>
                          <a:pt x="800" y="516"/>
                        </a:lnTo>
                        <a:lnTo>
                          <a:pt x="783" y="473"/>
                        </a:lnTo>
                        <a:lnTo>
                          <a:pt x="753" y="420"/>
                        </a:lnTo>
                        <a:lnTo>
                          <a:pt x="733" y="385"/>
                        </a:lnTo>
                        <a:lnTo>
                          <a:pt x="703" y="334"/>
                        </a:lnTo>
                        <a:lnTo>
                          <a:pt x="677" y="278"/>
                        </a:lnTo>
                        <a:lnTo>
                          <a:pt x="657" y="227"/>
                        </a:lnTo>
                        <a:lnTo>
                          <a:pt x="646" y="191"/>
                        </a:lnTo>
                        <a:lnTo>
                          <a:pt x="638" y="149"/>
                        </a:lnTo>
                        <a:lnTo>
                          <a:pt x="634" y="108"/>
                        </a:lnTo>
                        <a:lnTo>
                          <a:pt x="634" y="73"/>
                        </a:lnTo>
                        <a:lnTo>
                          <a:pt x="635" y="42"/>
                        </a:lnTo>
                        <a:lnTo>
                          <a:pt x="638" y="0"/>
                        </a:lnTo>
                        <a:lnTo>
                          <a:pt x="620" y="58"/>
                        </a:lnTo>
                        <a:lnTo>
                          <a:pt x="610" y="105"/>
                        </a:lnTo>
                        <a:lnTo>
                          <a:pt x="603" y="148"/>
                        </a:lnTo>
                        <a:lnTo>
                          <a:pt x="602" y="191"/>
                        </a:lnTo>
                        <a:lnTo>
                          <a:pt x="608" y="241"/>
                        </a:lnTo>
                        <a:lnTo>
                          <a:pt x="619" y="283"/>
                        </a:lnTo>
                        <a:lnTo>
                          <a:pt x="633" y="322"/>
                        </a:lnTo>
                        <a:lnTo>
                          <a:pt x="648" y="356"/>
                        </a:lnTo>
                        <a:lnTo>
                          <a:pt x="660" y="402"/>
                        </a:lnTo>
                        <a:lnTo>
                          <a:pt x="665" y="447"/>
                        </a:lnTo>
                        <a:lnTo>
                          <a:pt x="669" y="493"/>
                        </a:lnTo>
                        <a:lnTo>
                          <a:pt x="671" y="542"/>
                        </a:lnTo>
                        <a:lnTo>
                          <a:pt x="671" y="586"/>
                        </a:lnTo>
                        <a:lnTo>
                          <a:pt x="664" y="658"/>
                        </a:lnTo>
                        <a:lnTo>
                          <a:pt x="650" y="703"/>
                        </a:lnTo>
                        <a:lnTo>
                          <a:pt x="616" y="767"/>
                        </a:lnTo>
                        <a:lnTo>
                          <a:pt x="588" y="832"/>
                        </a:lnTo>
                        <a:lnTo>
                          <a:pt x="566" y="897"/>
                        </a:lnTo>
                        <a:lnTo>
                          <a:pt x="550" y="860"/>
                        </a:lnTo>
                        <a:lnTo>
                          <a:pt x="538" y="821"/>
                        </a:lnTo>
                        <a:lnTo>
                          <a:pt x="531" y="780"/>
                        </a:lnTo>
                        <a:lnTo>
                          <a:pt x="528" y="717"/>
                        </a:lnTo>
                        <a:lnTo>
                          <a:pt x="541" y="606"/>
                        </a:lnTo>
                        <a:lnTo>
                          <a:pt x="545" y="573"/>
                        </a:lnTo>
                        <a:lnTo>
                          <a:pt x="546" y="535"/>
                        </a:lnTo>
                        <a:lnTo>
                          <a:pt x="546" y="498"/>
                        </a:lnTo>
                        <a:lnTo>
                          <a:pt x="541" y="450"/>
                        </a:lnTo>
                        <a:lnTo>
                          <a:pt x="531" y="403"/>
                        </a:lnTo>
                        <a:lnTo>
                          <a:pt x="514" y="357"/>
                        </a:lnTo>
                        <a:lnTo>
                          <a:pt x="485" y="294"/>
                        </a:lnTo>
                        <a:lnTo>
                          <a:pt x="501" y="370"/>
                        </a:lnTo>
                        <a:lnTo>
                          <a:pt x="511" y="433"/>
                        </a:lnTo>
                        <a:lnTo>
                          <a:pt x="510" y="487"/>
                        </a:lnTo>
                        <a:lnTo>
                          <a:pt x="506" y="532"/>
                        </a:lnTo>
                        <a:lnTo>
                          <a:pt x="495" y="572"/>
                        </a:lnTo>
                        <a:lnTo>
                          <a:pt x="478" y="622"/>
                        </a:lnTo>
                        <a:lnTo>
                          <a:pt x="434" y="729"/>
                        </a:lnTo>
                        <a:lnTo>
                          <a:pt x="431" y="662"/>
                        </a:lnTo>
                        <a:lnTo>
                          <a:pt x="435" y="604"/>
                        </a:lnTo>
                        <a:lnTo>
                          <a:pt x="439" y="551"/>
                        </a:lnTo>
                        <a:lnTo>
                          <a:pt x="412" y="605"/>
                        </a:lnTo>
                        <a:lnTo>
                          <a:pt x="398" y="652"/>
                        </a:lnTo>
                        <a:lnTo>
                          <a:pt x="388" y="701"/>
                        </a:lnTo>
                        <a:lnTo>
                          <a:pt x="379" y="760"/>
                        </a:lnTo>
                        <a:lnTo>
                          <a:pt x="381" y="832"/>
                        </a:lnTo>
                        <a:lnTo>
                          <a:pt x="393" y="904"/>
                        </a:lnTo>
                        <a:lnTo>
                          <a:pt x="411" y="962"/>
                        </a:lnTo>
                        <a:lnTo>
                          <a:pt x="438" y="1035"/>
                        </a:lnTo>
                        <a:lnTo>
                          <a:pt x="480" y="1126"/>
                        </a:lnTo>
                        <a:lnTo>
                          <a:pt x="412" y="1018"/>
                        </a:lnTo>
                        <a:lnTo>
                          <a:pt x="397" y="990"/>
                        </a:lnTo>
                        <a:lnTo>
                          <a:pt x="368" y="946"/>
                        </a:lnTo>
                        <a:lnTo>
                          <a:pt x="330" y="904"/>
                        </a:lnTo>
                        <a:lnTo>
                          <a:pt x="272" y="851"/>
                        </a:lnTo>
                        <a:lnTo>
                          <a:pt x="307" y="909"/>
                        </a:lnTo>
                        <a:lnTo>
                          <a:pt x="327" y="945"/>
                        </a:lnTo>
                        <a:lnTo>
                          <a:pt x="346" y="981"/>
                        </a:lnTo>
                        <a:lnTo>
                          <a:pt x="381" y="1058"/>
                        </a:lnTo>
                        <a:lnTo>
                          <a:pt x="407" y="1121"/>
                        </a:lnTo>
                        <a:lnTo>
                          <a:pt x="446" y="1224"/>
                        </a:lnTo>
                        <a:lnTo>
                          <a:pt x="399" y="1207"/>
                        </a:lnTo>
                        <a:lnTo>
                          <a:pt x="357" y="1176"/>
                        </a:lnTo>
                        <a:lnTo>
                          <a:pt x="311" y="1134"/>
                        </a:lnTo>
                        <a:lnTo>
                          <a:pt x="274" y="1095"/>
                        </a:lnTo>
                        <a:lnTo>
                          <a:pt x="225" y="1047"/>
                        </a:lnTo>
                        <a:lnTo>
                          <a:pt x="189" y="1018"/>
                        </a:lnTo>
                        <a:lnTo>
                          <a:pt x="158" y="994"/>
                        </a:lnTo>
                        <a:lnTo>
                          <a:pt x="126" y="977"/>
                        </a:lnTo>
                        <a:lnTo>
                          <a:pt x="92" y="969"/>
                        </a:lnTo>
                        <a:lnTo>
                          <a:pt x="59" y="962"/>
                        </a:lnTo>
                        <a:lnTo>
                          <a:pt x="0" y="953"/>
                        </a:lnTo>
                        <a:lnTo>
                          <a:pt x="52" y="972"/>
                        </a:lnTo>
                        <a:lnTo>
                          <a:pt x="106" y="1001"/>
                        </a:lnTo>
                        <a:lnTo>
                          <a:pt x="143" y="1028"/>
                        </a:lnTo>
                        <a:lnTo>
                          <a:pt x="168" y="1050"/>
                        </a:lnTo>
                        <a:lnTo>
                          <a:pt x="211" y="1105"/>
                        </a:lnTo>
                        <a:lnTo>
                          <a:pt x="251" y="1163"/>
                        </a:lnTo>
                        <a:lnTo>
                          <a:pt x="301" y="1230"/>
                        </a:lnTo>
                        <a:lnTo>
                          <a:pt x="339" y="1259"/>
                        </a:lnTo>
                        <a:lnTo>
                          <a:pt x="393" y="1291"/>
                        </a:lnTo>
                        <a:lnTo>
                          <a:pt x="482" y="1332"/>
                        </a:lnTo>
                        <a:lnTo>
                          <a:pt x="559" y="1347"/>
                        </a:lnTo>
                        <a:lnTo>
                          <a:pt x="650" y="13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544920" y="587160"/>
                    <a:ext cx="330840" cy="42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1327">
                        <a:moveTo>
                          <a:pt x="658" y="1317"/>
                        </a:moveTo>
                        <a:lnTo>
                          <a:pt x="701" y="1309"/>
                        </a:lnTo>
                        <a:lnTo>
                          <a:pt x="767" y="1288"/>
                        </a:lnTo>
                        <a:lnTo>
                          <a:pt x="816" y="1257"/>
                        </a:lnTo>
                        <a:lnTo>
                          <a:pt x="843" y="1223"/>
                        </a:lnTo>
                        <a:lnTo>
                          <a:pt x="865" y="1186"/>
                        </a:lnTo>
                        <a:lnTo>
                          <a:pt x="882" y="1151"/>
                        </a:lnTo>
                        <a:lnTo>
                          <a:pt x="897" y="1105"/>
                        </a:lnTo>
                        <a:lnTo>
                          <a:pt x="905" y="1046"/>
                        </a:lnTo>
                        <a:lnTo>
                          <a:pt x="912" y="981"/>
                        </a:lnTo>
                        <a:lnTo>
                          <a:pt x="914" y="938"/>
                        </a:lnTo>
                        <a:lnTo>
                          <a:pt x="920" y="902"/>
                        </a:lnTo>
                        <a:lnTo>
                          <a:pt x="926" y="879"/>
                        </a:lnTo>
                        <a:lnTo>
                          <a:pt x="938" y="852"/>
                        </a:lnTo>
                        <a:lnTo>
                          <a:pt x="953" y="820"/>
                        </a:lnTo>
                        <a:lnTo>
                          <a:pt x="966" y="797"/>
                        </a:lnTo>
                        <a:lnTo>
                          <a:pt x="983" y="775"/>
                        </a:lnTo>
                        <a:lnTo>
                          <a:pt x="995" y="761"/>
                        </a:lnTo>
                        <a:lnTo>
                          <a:pt x="1015" y="745"/>
                        </a:lnTo>
                        <a:lnTo>
                          <a:pt x="1056" y="718"/>
                        </a:lnTo>
                        <a:lnTo>
                          <a:pt x="1007" y="733"/>
                        </a:lnTo>
                        <a:lnTo>
                          <a:pt x="972" y="747"/>
                        </a:lnTo>
                        <a:lnTo>
                          <a:pt x="938" y="766"/>
                        </a:lnTo>
                        <a:lnTo>
                          <a:pt x="912" y="786"/>
                        </a:lnTo>
                        <a:lnTo>
                          <a:pt x="888" y="807"/>
                        </a:lnTo>
                        <a:lnTo>
                          <a:pt x="867" y="835"/>
                        </a:lnTo>
                        <a:lnTo>
                          <a:pt x="841" y="871"/>
                        </a:lnTo>
                        <a:lnTo>
                          <a:pt x="821" y="900"/>
                        </a:lnTo>
                        <a:lnTo>
                          <a:pt x="803" y="930"/>
                        </a:lnTo>
                        <a:lnTo>
                          <a:pt x="820" y="887"/>
                        </a:lnTo>
                        <a:lnTo>
                          <a:pt x="832" y="849"/>
                        </a:lnTo>
                        <a:lnTo>
                          <a:pt x="840" y="807"/>
                        </a:lnTo>
                        <a:lnTo>
                          <a:pt x="843" y="755"/>
                        </a:lnTo>
                        <a:lnTo>
                          <a:pt x="842" y="700"/>
                        </a:lnTo>
                        <a:lnTo>
                          <a:pt x="835" y="651"/>
                        </a:lnTo>
                        <a:lnTo>
                          <a:pt x="826" y="601"/>
                        </a:lnTo>
                        <a:lnTo>
                          <a:pt x="816" y="558"/>
                        </a:lnTo>
                        <a:lnTo>
                          <a:pt x="803" y="517"/>
                        </a:lnTo>
                        <a:lnTo>
                          <a:pt x="787" y="476"/>
                        </a:lnTo>
                        <a:lnTo>
                          <a:pt x="758" y="424"/>
                        </a:lnTo>
                        <a:lnTo>
                          <a:pt x="737" y="390"/>
                        </a:lnTo>
                        <a:lnTo>
                          <a:pt x="710" y="341"/>
                        </a:lnTo>
                        <a:lnTo>
                          <a:pt x="684" y="285"/>
                        </a:lnTo>
                        <a:lnTo>
                          <a:pt x="665" y="235"/>
                        </a:lnTo>
                        <a:lnTo>
                          <a:pt x="653" y="200"/>
                        </a:lnTo>
                        <a:lnTo>
                          <a:pt x="646" y="160"/>
                        </a:lnTo>
                        <a:lnTo>
                          <a:pt x="642" y="121"/>
                        </a:lnTo>
                        <a:lnTo>
                          <a:pt x="642" y="87"/>
                        </a:lnTo>
                        <a:lnTo>
                          <a:pt x="638" y="50"/>
                        </a:lnTo>
                        <a:lnTo>
                          <a:pt x="650" y="0"/>
                        </a:lnTo>
                        <a:lnTo>
                          <a:pt x="625" y="40"/>
                        </a:lnTo>
                        <a:lnTo>
                          <a:pt x="612" y="97"/>
                        </a:lnTo>
                        <a:lnTo>
                          <a:pt x="612" y="159"/>
                        </a:lnTo>
                        <a:lnTo>
                          <a:pt x="611" y="200"/>
                        </a:lnTo>
                        <a:lnTo>
                          <a:pt x="616" y="250"/>
                        </a:lnTo>
                        <a:lnTo>
                          <a:pt x="627" y="290"/>
                        </a:lnTo>
                        <a:lnTo>
                          <a:pt x="641" y="329"/>
                        </a:lnTo>
                        <a:lnTo>
                          <a:pt x="655" y="363"/>
                        </a:lnTo>
                        <a:lnTo>
                          <a:pt x="667" y="406"/>
                        </a:lnTo>
                        <a:lnTo>
                          <a:pt x="671" y="450"/>
                        </a:lnTo>
                        <a:lnTo>
                          <a:pt x="676" y="495"/>
                        </a:lnTo>
                        <a:lnTo>
                          <a:pt x="678" y="543"/>
                        </a:lnTo>
                        <a:lnTo>
                          <a:pt x="678" y="586"/>
                        </a:lnTo>
                        <a:lnTo>
                          <a:pt x="670" y="657"/>
                        </a:lnTo>
                        <a:lnTo>
                          <a:pt x="657" y="700"/>
                        </a:lnTo>
                        <a:lnTo>
                          <a:pt x="624" y="762"/>
                        </a:lnTo>
                        <a:lnTo>
                          <a:pt x="597" y="826"/>
                        </a:lnTo>
                        <a:lnTo>
                          <a:pt x="576" y="889"/>
                        </a:lnTo>
                        <a:lnTo>
                          <a:pt x="560" y="854"/>
                        </a:lnTo>
                        <a:lnTo>
                          <a:pt x="549" y="814"/>
                        </a:lnTo>
                        <a:lnTo>
                          <a:pt x="542" y="775"/>
                        </a:lnTo>
                        <a:lnTo>
                          <a:pt x="538" y="714"/>
                        </a:lnTo>
                        <a:lnTo>
                          <a:pt x="551" y="605"/>
                        </a:lnTo>
                        <a:lnTo>
                          <a:pt x="555" y="574"/>
                        </a:lnTo>
                        <a:lnTo>
                          <a:pt x="556" y="537"/>
                        </a:lnTo>
                        <a:lnTo>
                          <a:pt x="556" y="500"/>
                        </a:lnTo>
                        <a:lnTo>
                          <a:pt x="551" y="453"/>
                        </a:lnTo>
                        <a:lnTo>
                          <a:pt x="542" y="407"/>
                        </a:lnTo>
                        <a:lnTo>
                          <a:pt x="525" y="363"/>
                        </a:lnTo>
                        <a:lnTo>
                          <a:pt x="496" y="302"/>
                        </a:lnTo>
                        <a:lnTo>
                          <a:pt x="513" y="376"/>
                        </a:lnTo>
                        <a:lnTo>
                          <a:pt x="522" y="438"/>
                        </a:lnTo>
                        <a:lnTo>
                          <a:pt x="521" y="489"/>
                        </a:lnTo>
                        <a:lnTo>
                          <a:pt x="517" y="533"/>
                        </a:lnTo>
                        <a:lnTo>
                          <a:pt x="507" y="573"/>
                        </a:lnTo>
                        <a:lnTo>
                          <a:pt x="489" y="621"/>
                        </a:lnTo>
                        <a:lnTo>
                          <a:pt x="447" y="725"/>
                        </a:lnTo>
                        <a:lnTo>
                          <a:pt x="444" y="660"/>
                        </a:lnTo>
                        <a:lnTo>
                          <a:pt x="448" y="603"/>
                        </a:lnTo>
                        <a:lnTo>
                          <a:pt x="452" y="552"/>
                        </a:lnTo>
                        <a:lnTo>
                          <a:pt x="426" y="604"/>
                        </a:lnTo>
                        <a:lnTo>
                          <a:pt x="412" y="650"/>
                        </a:lnTo>
                        <a:lnTo>
                          <a:pt x="402" y="698"/>
                        </a:lnTo>
                        <a:lnTo>
                          <a:pt x="393" y="756"/>
                        </a:lnTo>
                        <a:lnTo>
                          <a:pt x="396" y="826"/>
                        </a:lnTo>
                        <a:lnTo>
                          <a:pt x="407" y="896"/>
                        </a:lnTo>
                        <a:lnTo>
                          <a:pt x="424" y="951"/>
                        </a:lnTo>
                        <a:lnTo>
                          <a:pt x="451" y="1022"/>
                        </a:lnTo>
                        <a:lnTo>
                          <a:pt x="492" y="1113"/>
                        </a:lnTo>
                        <a:lnTo>
                          <a:pt x="426" y="1008"/>
                        </a:lnTo>
                        <a:lnTo>
                          <a:pt x="411" y="980"/>
                        </a:lnTo>
                        <a:lnTo>
                          <a:pt x="382" y="937"/>
                        </a:lnTo>
                        <a:lnTo>
                          <a:pt x="346" y="896"/>
                        </a:lnTo>
                        <a:lnTo>
                          <a:pt x="289" y="844"/>
                        </a:lnTo>
                        <a:lnTo>
                          <a:pt x="323" y="901"/>
                        </a:lnTo>
                        <a:lnTo>
                          <a:pt x="343" y="936"/>
                        </a:lnTo>
                        <a:lnTo>
                          <a:pt x="361" y="971"/>
                        </a:lnTo>
                        <a:lnTo>
                          <a:pt x="395" y="1046"/>
                        </a:lnTo>
                        <a:lnTo>
                          <a:pt x="421" y="1107"/>
                        </a:lnTo>
                        <a:lnTo>
                          <a:pt x="458" y="1208"/>
                        </a:lnTo>
                        <a:lnTo>
                          <a:pt x="413" y="1191"/>
                        </a:lnTo>
                        <a:lnTo>
                          <a:pt x="372" y="1160"/>
                        </a:lnTo>
                        <a:lnTo>
                          <a:pt x="327" y="1120"/>
                        </a:lnTo>
                        <a:lnTo>
                          <a:pt x="291" y="1082"/>
                        </a:lnTo>
                        <a:lnTo>
                          <a:pt x="243" y="1035"/>
                        </a:lnTo>
                        <a:lnTo>
                          <a:pt x="208" y="1007"/>
                        </a:lnTo>
                        <a:lnTo>
                          <a:pt x="178" y="984"/>
                        </a:lnTo>
                        <a:lnTo>
                          <a:pt x="146" y="967"/>
                        </a:lnTo>
                        <a:lnTo>
                          <a:pt x="113" y="959"/>
                        </a:lnTo>
                        <a:lnTo>
                          <a:pt x="81" y="951"/>
                        </a:lnTo>
                        <a:lnTo>
                          <a:pt x="0" y="935"/>
                        </a:lnTo>
                        <a:lnTo>
                          <a:pt x="74" y="963"/>
                        </a:lnTo>
                        <a:lnTo>
                          <a:pt x="128" y="989"/>
                        </a:lnTo>
                        <a:lnTo>
                          <a:pt x="164" y="1017"/>
                        </a:lnTo>
                        <a:lnTo>
                          <a:pt x="188" y="1039"/>
                        </a:lnTo>
                        <a:lnTo>
                          <a:pt x="230" y="1091"/>
                        </a:lnTo>
                        <a:lnTo>
                          <a:pt x="268" y="1149"/>
                        </a:lnTo>
                        <a:lnTo>
                          <a:pt x="317" y="1214"/>
                        </a:lnTo>
                        <a:lnTo>
                          <a:pt x="354" y="1242"/>
                        </a:lnTo>
                        <a:lnTo>
                          <a:pt x="407" y="1273"/>
                        </a:lnTo>
                        <a:lnTo>
                          <a:pt x="493" y="1314"/>
                        </a:lnTo>
                        <a:lnTo>
                          <a:pt x="568" y="1327"/>
                        </a:lnTo>
                        <a:lnTo>
                          <a:pt x="658" y="1317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543840" y="590400"/>
                    <a:ext cx="32616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317">
                        <a:moveTo>
                          <a:pt x="641" y="1307"/>
                        </a:moveTo>
                        <a:lnTo>
                          <a:pt x="686" y="1296"/>
                        </a:lnTo>
                        <a:lnTo>
                          <a:pt x="752" y="1276"/>
                        </a:lnTo>
                        <a:lnTo>
                          <a:pt x="800" y="1244"/>
                        </a:lnTo>
                        <a:lnTo>
                          <a:pt x="829" y="1208"/>
                        </a:lnTo>
                        <a:lnTo>
                          <a:pt x="851" y="1169"/>
                        </a:lnTo>
                        <a:lnTo>
                          <a:pt x="868" y="1133"/>
                        </a:lnTo>
                        <a:lnTo>
                          <a:pt x="882" y="1084"/>
                        </a:lnTo>
                        <a:lnTo>
                          <a:pt x="892" y="1022"/>
                        </a:lnTo>
                        <a:lnTo>
                          <a:pt x="898" y="955"/>
                        </a:lnTo>
                        <a:lnTo>
                          <a:pt x="899" y="909"/>
                        </a:lnTo>
                        <a:lnTo>
                          <a:pt x="905" y="871"/>
                        </a:lnTo>
                        <a:lnTo>
                          <a:pt x="912" y="848"/>
                        </a:lnTo>
                        <a:lnTo>
                          <a:pt x="925" y="819"/>
                        </a:lnTo>
                        <a:lnTo>
                          <a:pt x="939" y="786"/>
                        </a:lnTo>
                        <a:lnTo>
                          <a:pt x="952" y="762"/>
                        </a:lnTo>
                        <a:lnTo>
                          <a:pt x="970" y="738"/>
                        </a:lnTo>
                        <a:lnTo>
                          <a:pt x="984" y="728"/>
                        </a:lnTo>
                        <a:lnTo>
                          <a:pt x="1002" y="714"/>
                        </a:lnTo>
                        <a:lnTo>
                          <a:pt x="1044" y="694"/>
                        </a:lnTo>
                        <a:lnTo>
                          <a:pt x="994" y="705"/>
                        </a:lnTo>
                        <a:lnTo>
                          <a:pt x="960" y="715"/>
                        </a:lnTo>
                        <a:lnTo>
                          <a:pt x="925" y="733"/>
                        </a:lnTo>
                        <a:lnTo>
                          <a:pt x="898" y="752"/>
                        </a:lnTo>
                        <a:lnTo>
                          <a:pt x="873" y="772"/>
                        </a:lnTo>
                        <a:lnTo>
                          <a:pt x="852" y="801"/>
                        </a:lnTo>
                        <a:lnTo>
                          <a:pt x="826" y="839"/>
                        </a:lnTo>
                        <a:lnTo>
                          <a:pt x="806" y="869"/>
                        </a:lnTo>
                        <a:lnTo>
                          <a:pt x="788" y="901"/>
                        </a:lnTo>
                        <a:lnTo>
                          <a:pt x="805" y="856"/>
                        </a:lnTo>
                        <a:lnTo>
                          <a:pt x="817" y="817"/>
                        </a:lnTo>
                        <a:lnTo>
                          <a:pt x="825" y="772"/>
                        </a:lnTo>
                        <a:lnTo>
                          <a:pt x="829" y="717"/>
                        </a:lnTo>
                        <a:lnTo>
                          <a:pt x="828" y="660"/>
                        </a:lnTo>
                        <a:lnTo>
                          <a:pt x="821" y="609"/>
                        </a:lnTo>
                        <a:lnTo>
                          <a:pt x="811" y="556"/>
                        </a:lnTo>
                        <a:lnTo>
                          <a:pt x="801" y="511"/>
                        </a:lnTo>
                        <a:lnTo>
                          <a:pt x="789" y="469"/>
                        </a:lnTo>
                        <a:lnTo>
                          <a:pt x="772" y="425"/>
                        </a:lnTo>
                        <a:lnTo>
                          <a:pt x="742" y="372"/>
                        </a:lnTo>
                        <a:lnTo>
                          <a:pt x="722" y="337"/>
                        </a:lnTo>
                        <a:lnTo>
                          <a:pt x="693" y="283"/>
                        </a:lnTo>
                        <a:lnTo>
                          <a:pt x="667" y="227"/>
                        </a:lnTo>
                        <a:lnTo>
                          <a:pt x="649" y="174"/>
                        </a:lnTo>
                        <a:lnTo>
                          <a:pt x="637" y="137"/>
                        </a:lnTo>
                        <a:lnTo>
                          <a:pt x="629" y="95"/>
                        </a:lnTo>
                        <a:lnTo>
                          <a:pt x="631" y="57"/>
                        </a:lnTo>
                        <a:lnTo>
                          <a:pt x="636" y="34"/>
                        </a:lnTo>
                        <a:lnTo>
                          <a:pt x="651" y="0"/>
                        </a:lnTo>
                        <a:lnTo>
                          <a:pt x="624" y="38"/>
                        </a:lnTo>
                        <a:lnTo>
                          <a:pt x="612" y="64"/>
                        </a:lnTo>
                        <a:lnTo>
                          <a:pt x="603" y="86"/>
                        </a:lnTo>
                        <a:lnTo>
                          <a:pt x="598" y="110"/>
                        </a:lnTo>
                        <a:lnTo>
                          <a:pt x="597" y="141"/>
                        </a:lnTo>
                        <a:lnTo>
                          <a:pt x="599" y="190"/>
                        </a:lnTo>
                        <a:lnTo>
                          <a:pt x="611" y="232"/>
                        </a:lnTo>
                        <a:lnTo>
                          <a:pt x="624" y="272"/>
                        </a:lnTo>
                        <a:lnTo>
                          <a:pt x="639" y="307"/>
                        </a:lnTo>
                        <a:lnTo>
                          <a:pt x="651" y="353"/>
                        </a:lnTo>
                        <a:lnTo>
                          <a:pt x="656" y="399"/>
                        </a:lnTo>
                        <a:lnTo>
                          <a:pt x="659" y="446"/>
                        </a:lnTo>
                        <a:lnTo>
                          <a:pt x="662" y="496"/>
                        </a:lnTo>
                        <a:lnTo>
                          <a:pt x="662" y="541"/>
                        </a:lnTo>
                        <a:lnTo>
                          <a:pt x="655" y="615"/>
                        </a:lnTo>
                        <a:lnTo>
                          <a:pt x="641" y="660"/>
                        </a:lnTo>
                        <a:lnTo>
                          <a:pt x="607" y="725"/>
                        </a:lnTo>
                        <a:lnTo>
                          <a:pt x="581" y="792"/>
                        </a:lnTo>
                        <a:lnTo>
                          <a:pt x="558" y="857"/>
                        </a:lnTo>
                        <a:lnTo>
                          <a:pt x="543" y="820"/>
                        </a:lnTo>
                        <a:lnTo>
                          <a:pt x="531" y="781"/>
                        </a:lnTo>
                        <a:lnTo>
                          <a:pt x="524" y="740"/>
                        </a:lnTo>
                        <a:lnTo>
                          <a:pt x="520" y="675"/>
                        </a:lnTo>
                        <a:lnTo>
                          <a:pt x="533" y="561"/>
                        </a:lnTo>
                        <a:lnTo>
                          <a:pt x="537" y="528"/>
                        </a:lnTo>
                        <a:lnTo>
                          <a:pt x="538" y="489"/>
                        </a:lnTo>
                        <a:lnTo>
                          <a:pt x="538" y="451"/>
                        </a:lnTo>
                        <a:lnTo>
                          <a:pt x="533" y="403"/>
                        </a:lnTo>
                        <a:lnTo>
                          <a:pt x="524" y="355"/>
                        </a:lnTo>
                        <a:lnTo>
                          <a:pt x="507" y="308"/>
                        </a:lnTo>
                        <a:lnTo>
                          <a:pt x="479" y="243"/>
                        </a:lnTo>
                        <a:lnTo>
                          <a:pt x="494" y="321"/>
                        </a:lnTo>
                        <a:lnTo>
                          <a:pt x="503" y="385"/>
                        </a:lnTo>
                        <a:lnTo>
                          <a:pt x="503" y="440"/>
                        </a:lnTo>
                        <a:lnTo>
                          <a:pt x="499" y="486"/>
                        </a:lnTo>
                        <a:lnTo>
                          <a:pt x="488" y="527"/>
                        </a:lnTo>
                        <a:lnTo>
                          <a:pt x="471" y="577"/>
                        </a:lnTo>
                        <a:lnTo>
                          <a:pt x="428" y="686"/>
                        </a:lnTo>
                        <a:lnTo>
                          <a:pt x="431" y="619"/>
                        </a:lnTo>
                        <a:lnTo>
                          <a:pt x="443" y="563"/>
                        </a:lnTo>
                        <a:lnTo>
                          <a:pt x="452" y="523"/>
                        </a:lnTo>
                        <a:lnTo>
                          <a:pt x="420" y="570"/>
                        </a:lnTo>
                        <a:lnTo>
                          <a:pt x="401" y="608"/>
                        </a:lnTo>
                        <a:lnTo>
                          <a:pt x="386" y="659"/>
                        </a:lnTo>
                        <a:lnTo>
                          <a:pt x="376" y="718"/>
                        </a:lnTo>
                        <a:lnTo>
                          <a:pt x="377" y="792"/>
                        </a:lnTo>
                        <a:lnTo>
                          <a:pt x="388" y="865"/>
                        </a:lnTo>
                        <a:lnTo>
                          <a:pt x="406" y="924"/>
                        </a:lnTo>
                        <a:lnTo>
                          <a:pt x="433" y="998"/>
                        </a:lnTo>
                        <a:lnTo>
                          <a:pt x="475" y="1093"/>
                        </a:lnTo>
                        <a:lnTo>
                          <a:pt x="408" y="982"/>
                        </a:lnTo>
                        <a:lnTo>
                          <a:pt x="392" y="954"/>
                        </a:lnTo>
                        <a:lnTo>
                          <a:pt x="363" y="908"/>
                        </a:lnTo>
                        <a:lnTo>
                          <a:pt x="326" y="865"/>
                        </a:lnTo>
                        <a:lnTo>
                          <a:pt x="270" y="812"/>
                        </a:lnTo>
                        <a:lnTo>
                          <a:pt x="304" y="871"/>
                        </a:lnTo>
                        <a:lnTo>
                          <a:pt x="323" y="907"/>
                        </a:lnTo>
                        <a:lnTo>
                          <a:pt x="342" y="944"/>
                        </a:lnTo>
                        <a:lnTo>
                          <a:pt x="377" y="1023"/>
                        </a:lnTo>
                        <a:lnTo>
                          <a:pt x="402" y="1086"/>
                        </a:lnTo>
                        <a:lnTo>
                          <a:pt x="441" y="1192"/>
                        </a:lnTo>
                        <a:lnTo>
                          <a:pt x="394" y="1174"/>
                        </a:lnTo>
                        <a:lnTo>
                          <a:pt x="353" y="1142"/>
                        </a:lnTo>
                        <a:lnTo>
                          <a:pt x="309" y="1100"/>
                        </a:lnTo>
                        <a:lnTo>
                          <a:pt x="272" y="1060"/>
                        </a:lnTo>
                        <a:lnTo>
                          <a:pt x="223" y="1011"/>
                        </a:lnTo>
                        <a:lnTo>
                          <a:pt x="187" y="981"/>
                        </a:lnTo>
                        <a:lnTo>
                          <a:pt x="157" y="958"/>
                        </a:lnTo>
                        <a:lnTo>
                          <a:pt x="125" y="939"/>
                        </a:lnTo>
                        <a:lnTo>
                          <a:pt x="92" y="931"/>
                        </a:lnTo>
                        <a:lnTo>
                          <a:pt x="59" y="927"/>
                        </a:lnTo>
                        <a:lnTo>
                          <a:pt x="0" y="928"/>
                        </a:lnTo>
                        <a:lnTo>
                          <a:pt x="50" y="938"/>
                        </a:lnTo>
                        <a:lnTo>
                          <a:pt x="76" y="946"/>
                        </a:lnTo>
                        <a:lnTo>
                          <a:pt x="107" y="964"/>
                        </a:lnTo>
                        <a:lnTo>
                          <a:pt x="143" y="992"/>
                        </a:lnTo>
                        <a:lnTo>
                          <a:pt x="168" y="1014"/>
                        </a:lnTo>
                        <a:lnTo>
                          <a:pt x="209" y="1069"/>
                        </a:lnTo>
                        <a:lnTo>
                          <a:pt x="248" y="1130"/>
                        </a:lnTo>
                        <a:lnTo>
                          <a:pt x="298" y="1198"/>
                        </a:lnTo>
                        <a:lnTo>
                          <a:pt x="335" y="1227"/>
                        </a:lnTo>
                        <a:lnTo>
                          <a:pt x="388" y="1259"/>
                        </a:lnTo>
                        <a:lnTo>
                          <a:pt x="477" y="1303"/>
                        </a:lnTo>
                        <a:lnTo>
                          <a:pt x="551" y="1317"/>
                        </a:lnTo>
                        <a:lnTo>
                          <a:pt x="641" y="1307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554280" y="608040"/>
                    <a:ext cx="309240" cy="39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6" h="1252">
                        <a:moveTo>
                          <a:pt x="613" y="1241"/>
                        </a:moveTo>
                        <a:lnTo>
                          <a:pt x="653" y="1233"/>
                        </a:lnTo>
                        <a:lnTo>
                          <a:pt x="715" y="1214"/>
                        </a:lnTo>
                        <a:lnTo>
                          <a:pt x="760" y="1185"/>
                        </a:lnTo>
                        <a:lnTo>
                          <a:pt x="787" y="1152"/>
                        </a:lnTo>
                        <a:lnTo>
                          <a:pt x="807" y="1117"/>
                        </a:lnTo>
                        <a:lnTo>
                          <a:pt x="823" y="1084"/>
                        </a:lnTo>
                        <a:lnTo>
                          <a:pt x="836" y="1040"/>
                        </a:lnTo>
                        <a:lnTo>
                          <a:pt x="844" y="983"/>
                        </a:lnTo>
                        <a:lnTo>
                          <a:pt x="851" y="922"/>
                        </a:lnTo>
                        <a:lnTo>
                          <a:pt x="852" y="880"/>
                        </a:lnTo>
                        <a:lnTo>
                          <a:pt x="858" y="846"/>
                        </a:lnTo>
                        <a:lnTo>
                          <a:pt x="864" y="825"/>
                        </a:lnTo>
                        <a:lnTo>
                          <a:pt x="875" y="798"/>
                        </a:lnTo>
                        <a:lnTo>
                          <a:pt x="889" y="768"/>
                        </a:lnTo>
                        <a:lnTo>
                          <a:pt x="902" y="746"/>
                        </a:lnTo>
                        <a:lnTo>
                          <a:pt x="918" y="725"/>
                        </a:lnTo>
                        <a:lnTo>
                          <a:pt x="929" y="711"/>
                        </a:lnTo>
                        <a:lnTo>
                          <a:pt x="947" y="697"/>
                        </a:lnTo>
                        <a:lnTo>
                          <a:pt x="986" y="670"/>
                        </a:lnTo>
                        <a:lnTo>
                          <a:pt x="939" y="685"/>
                        </a:lnTo>
                        <a:lnTo>
                          <a:pt x="907" y="698"/>
                        </a:lnTo>
                        <a:lnTo>
                          <a:pt x="875" y="716"/>
                        </a:lnTo>
                        <a:lnTo>
                          <a:pt x="852" y="735"/>
                        </a:lnTo>
                        <a:lnTo>
                          <a:pt x="828" y="756"/>
                        </a:lnTo>
                        <a:lnTo>
                          <a:pt x="808" y="782"/>
                        </a:lnTo>
                        <a:lnTo>
                          <a:pt x="784" y="817"/>
                        </a:lnTo>
                        <a:lnTo>
                          <a:pt x="765" y="844"/>
                        </a:lnTo>
                        <a:lnTo>
                          <a:pt x="749" y="872"/>
                        </a:lnTo>
                        <a:lnTo>
                          <a:pt x="765" y="832"/>
                        </a:lnTo>
                        <a:lnTo>
                          <a:pt x="775" y="796"/>
                        </a:lnTo>
                        <a:lnTo>
                          <a:pt x="783" y="756"/>
                        </a:lnTo>
                        <a:lnTo>
                          <a:pt x="787" y="705"/>
                        </a:lnTo>
                        <a:lnTo>
                          <a:pt x="786" y="654"/>
                        </a:lnTo>
                        <a:lnTo>
                          <a:pt x="779" y="606"/>
                        </a:lnTo>
                        <a:lnTo>
                          <a:pt x="770" y="559"/>
                        </a:lnTo>
                        <a:lnTo>
                          <a:pt x="761" y="518"/>
                        </a:lnTo>
                        <a:lnTo>
                          <a:pt x="749" y="479"/>
                        </a:lnTo>
                        <a:lnTo>
                          <a:pt x="733" y="440"/>
                        </a:lnTo>
                        <a:lnTo>
                          <a:pt x="706" y="390"/>
                        </a:lnTo>
                        <a:lnTo>
                          <a:pt x="687" y="358"/>
                        </a:lnTo>
                        <a:lnTo>
                          <a:pt x="660" y="311"/>
                        </a:lnTo>
                        <a:lnTo>
                          <a:pt x="636" y="258"/>
                        </a:lnTo>
                        <a:lnTo>
                          <a:pt x="619" y="210"/>
                        </a:lnTo>
                        <a:lnTo>
                          <a:pt x="609" y="177"/>
                        </a:lnTo>
                        <a:lnTo>
                          <a:pt x="601" y="139"/>
                        </a:lnTo>
                        <a:lnTo>
                          <a:pt x="597" y="101"/>
                        </a:lnTo>
                        <a:lnTo>
                          <a:pt x="597" y="69"/>
                        </a:lnTo>
                        <a:lnTo>
                          <a:pt x="598" y="40"/>
                        </a:lnTo>
                        <a:lnTo>
                          <a:pt x="600" y="0"/>
                        </a:lnTo>
                        <a:lnTo>
                          <a:pt x="585" y="54"/>
                        </a:lnTo>
                        <a:lnTo>
                          <a:pt x="575" y="98"/>
                        </a:lnTo>
                        <a:lnTo>
                          <a:pt x="569" y="138"/>
                        </a:lnTo>
                        <a:lnTo>
                          <a:pt x="568" y="177"/>
                        </a:lnTo>
                        <a:lnTo>
                          <a:pt x="574" y="224"/>
                        </a:lnTo>
                        <a:lnTo>
                          <a:pt x="584" y="264"/>
                        </a:lnTo>
                        <a:lnTo>
                          <a:pt x="596" y="300"/>
                        </a:lnTo>
                        <a:lnTo>
                          <a:pt x="610" y="331"/>
                        </a:lnTo>
                        <a:lnTo>
                          <a:pt x="621" y="373"/>
                        </a:lnTo>
                        <a:lnTo>
                          <a:pt x="625" y="416"/>
                        </a:lnTo>
                        <a:lnTo>
                          <a:pt x="628" y="459"/>
                        </a:lnTo>
                        <a:lnTo>
                          <a:pt x="631" y="503"/>
                        </a:lnTo>
                        <a:lnTo>
                          <a:pt x="631" y="546"/>
                        </a:lnTo>
                        <a:lnTo>
                          <a:pt x="624" y="611"/>
                        </a:lnTo>
                        <a:lnTo>
                          <a:pt x="612" y="654"/>
                        </a:lnTo>
                        <a:lnTo>
                          <a:pt x="581" y="713"/>
                        </a:lnTo>
                        <a:lnTo>
                          <a:pt x="556" y="773"/>
                        </a:lnTo>
                        <a:lnTo>
                          <a:pt x="534" y="833"/>
                        </a:lnTo>
                        <a:lnTo>
                          <a:pt x="521" y="800"/>
                        </a:lnTo>
                        <a:lnTo>
                          <a:pt x="510" y="763"/>
                        </a:lnTo>
                        <a:lnTo>
                          <a:pt x="503" y="726"/>
                        </a:lnTo>
                        <a:lnTo>
                          <a:pt x="499" y="666"/>
                        </a:lnTo>
                        <a:lnTo>
                          <a:pt x="512" y="563"/>
                        </a:lnTo>
                        <a:lnTo>
                          <a:pt x="516" y="533"/>
                        </a:lnTo>
                        <a:lnTo>
                          <a:pt x="517" y="497"/>
                        </a:lnTo>
                        <a:lnTo>
                          <a:pt x="517" y="463"/>
                        </a:lnTo>
                        <a:lnTo>
                          <a:pt x="512" y="418"/>
                        </a:lnTo>
                        <a:lnTo>
                          <a:pt x="503" y="374"/>
                        </a:lnTo>
                        <a:lnTo>
                          <a:pt x="488" y="333"/>
                        </a:lnTo>
                        <a:lnTo>
                          <a:pt x="461" y="274"/>
                        </a:lnTo>
                        <a:lnTo>
                          <a:pt x="476" y="344"/>
                        </a:lnTo>
                        <a:lnTo>
                          <a:pt x="485" y="404"/>
                        </a:lnTo>
                        <a:lnTo>
                          <a:pt x="484" y="453"/>
                        </a:lnTo>
                        <a:lnTo>
                          <a:pt x="480" y="494"/>
                        </a:lnTo>
                        <a:lnTo>
                          <a:pt x="469" y="532"/>
                        </a:lnTo>
                        <a:lnTo>
                          <a:pt x="454" y="579"/>
                        </a:lnTo>
                        <a:lnTo>
                          <a:pt x="415" y="677"/>
                        </a:lnTo>
                        <a:lnTo>
                          <a:pt x="414" y="616"/>
                        </a:lnTo>
                        <a:lnTo>
                          <a:pt x="416" y="562"/>
                        </a:lnTo>
                        <a:lnTo>
                          <a:pt x="414" y="480"/>
                        </a:lnTo>
                        <a:lnTo>
                          <a:pt x="390" y="560"/>
                        </a:lnTo>
                        <a:lnTo>
                          <a:pt x="379" y="605"/>
                        </a:lnTo>
                        <a:lnTo>
                          <a:pt x="371" y="653"/>
                        </a:lnTo>
                        <a:lnTo>
                          <a:pt x="364" y="706"/>
                        </a:lnTo>
                        <a:lnTo>
                          <a:pt x="366" y="774"/>
                        </a:lnTo>
                        <a:lnTo>
                          <a:pt x="377" y="840"/>
                        </a:lnTo>
                        <a:lnTo>
                          <a:pt x="393" y="894"/>
                        </a:lnTo>
                        <a:lnTo>
                          <a:pt x="418" y="961"/>
                        </a:lnTo>
                        <a:lnTo>
                          <a:pt x="456" y="1047"/>
                        </a:lnTo>
                        <a:lnTo>
                          <a:pt x="395" y="947"/>
                        </a:lnTo>
                        <a:lnTo>
                          <a:pt x="381" y="920"/>
                        </a:lnTo>
                        <a:lnTo>
                          <a:pt x="353" y="880"/>
                        </a:lnTo>
                        <a:lnTo>
                          <a:pt x="319" y="840"/>
                        </a:lnTo>
                        <a:lnTo>
                          <a:pt x="247" y="768"/>
                        </a:lnTo>
                        <a:lnTo>
                          <a:pt x="298" y="846"/>
                        </a:lnTo>
                        <a:lnTo>
                          <a:pt x="316" y="879"/>
                        </a:lnTo>
                        <a:lnTo>
                          <a:pt x="334" y="912"/>
                        </a:lnTo>
                        <a:lnTo>
                          <a:pt x="365" y="984"/>
                        </a:lnTo>
                        <a:lnTo>
                          <a:pt x="390" y="1042"/>
                        </a:lnTo>
                        <a:lnTo>
                          <a:pt x="425" y="1138"/>
                        </a:lnTo>
                        <a:lnTo>
                          <a:pt x="382" y="1122"/>
                        </a:lnTo>
                        <a:lnTo>
                          <a:pt x="344" y="1092"/>
                        </a:lnTo>
                        <a:lnTo>
                          <a:pt x="303" y="1054"/>
                        </a:lnTo>
                        <a:lnTo>
                          <a:pt x="269" y="1018"/>
                        </a:lnTo>
                        <a:lnTo>
                          <a:pt x="223" y="973"/>
                        </a:lnTo>
                        <a:lnTo>
                          <a:pt x="190" y="946"/>
                        </a:lnTo>
                        <a:lnTo>
                          <a:pt x="161" y="924"/>
                        </a:lnTo>
                        <a:lnTo>
                          <a:pt x="133" y="908"/>
                        </a:lnTo>
                        <a:lnTo>
                          <a:pt x="106" y="899"/>
                        </a:lnTo>
                        <a:lnTo>
                          <a:pt x="73" y="891"/>
                        </a:lnTo>
                        <a:lnTo>
                          <a:pt x="34" y="886"/>
                        </a:lnTo>
                        <a:lnTo>
                          <a:pt x="0" y="882"/>
                        </a:lnTo>
                        <a:lnTo>
                          <a:pt x="65" y="904"/>
                        </a:lnTo>
                        <a:lnTo>
                          <a:pt x="115" y="930"/>
                        </a:lnTo>
                        <a:lnTo>
                          <a:pt x="149" y="955"/>
                        </a:lnTo>
                        <a:lnTo>
                          <a:pt x="172" y="976"/>
                        </a:lnTo>
                        <a:lnTo>
                          <a:pt x="211" y="1026"/>
                        </a:lnTo>
                        <a:lnTo>
                          <a:pt x="247" y="1081"/>
                        </a:lnTo>
                        <a:lnTo>
                          <a:pt x="293" y="1144"/>
                        </a:lnTo>
                        <a:lnTo>
                          <a:pt x="328" y="1170"/>
                        </a:lnTo>
                        <a:lnTo>
                          <a:pt x="377" y="1199"/>
                        </a:lnTo>
                        <a:lnTo>
                          <a:pt x="458" y="1238"/>
                        </a:lnTo>
                        <a:lnTo>
                          <a:pt x="528" y="1252"/>
                        </a:lnTo>
                        <a:lnTo>
                          <a:pt x="613" y="124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560760" y="603000"/>
                    <a:ext cx="30744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2" h="1277">
                        <a:moveTo>
                          <a:pt x="581" y="1267"/>
                        </a:moveTo>
                        <a:lnTo>
                          <a:pt x="620" y="1259"/>
                        </a:lnTo>
                        <a:lnTo>
                          <a:pt x="681" y="1239"/>
                        </a:lnTo>
                        <a:lnTo>
                          <a:pt x="725" y="1209"/>
                        </a:lnTo>
                        <a:lnTo>
                          <a:pt x="751" y="1175"/>
                        </a:lnTo>
                        <a:lnTo>
                          <a:pt x="771" y="1139"/>
                        </a:lnTo>
                        <a:lnTo>
                          <a:pt x="786" y="1105"/>
                        </a:lnTo>
                        <a:lnTo>
                          <a:pt x="799" y="1061"/>
                        </a:lnTo>
                        <a:lnTo>
                          <a:pt x="808" y="1003"/>
                        </a:lnTo>
                        <a:lnTo>
                          <a:pt x="813" y="940"/>
                        </a:lnTo>
                        <a:lnTo>
                          <a:pt x="815" y="898"/>
                        </a:lnTo>
                        <a:lnTo>
                          <a:pt x="820" y="863"/>
                        </a:lnTo>
                        <a:lnTo>
                          <a:pt x="826" y="841"/>
                        </a:lnTo>
                        <a:lnTo>
                          <a:pt x="838" y="814"/>
                        </a:lnTo>
                        <a:lnTo>
                          <a:pt x="851" y="783"/>
                        </a:lnTo>
                        <a:lnTo>
                          <a:pt x="864" y="761"/>
                        </a:lnTo>
                        <a:lnTo>
                          <a:pt x="878" y="739"/>
                        </a:lnTo>
                        <a:lnTo>
                          <a:pt x="889" y="725"/>
                        </a:lnTo>
                        <a:lnTo>
                          <a:pt x="908" y="711"/>
                        </a:lnTo>
                        <a:lnTo>
                          <a:pt x="982" y="664"/>
                        </a:lnTo>
                        <a:lnTo>
                          <a:pt x="939" y="677"/>
                        </a:lnTo>
                        <a:lnTo>
                          <a:pt x="899" y="694"/>
                        </a:lnTo>
                        <a:lnTo>
                          <a:pt x="869" y="712"/>
                        </a:lnTo>
                        <a:lnTo>
                          <a:pt x="838" y="730"/>
                        </a:lnTo>
                        <a:lnTo>
                          <a:pt x="814" y="749"/>
                        </a:lnTo>
                        <a:lnTo>
                          <a:pt x="791" y="771"/>
                        </a:lnTo>
                        <a:lnTo>
                          <a:pt x="772" y="797"/>
                        </a:lnTo>
                        <a:lnTo>
                          <a:pt x="748" y="833"/>
                        </a:lnTo>
                        <a:lnTo>
                          <a:pt x="731" y="861"/>
                        </a:lnTo>
                        <a:lnTo>
                          <a:pt x="714" y="890"/>
                        </a:lnTo>
                        <a:lnTo>
                          <a:pt x="730" y="848"/>
                        </a:lnTo>
                        <a:lnTo>
                          <a:pt x="740" y="812"/>
                        </a:lnTo>
                        <a:lnTo>
                          <a:pt x="747" y="771"/>
                        </a:lnTo>
                        <a:lnTo>
                          <a:pt x="751" y="719"/>
                        </a:lnTo>
                        <a:lnTo>
                          <a:pt x="750" y="667"/>
                        </a:lnTo>
                        <a:lnTo>
                          <a:pt x="743" y="618"/>
                        </a:lnTo>
                        <a:lnTo>
                          <a:pt x="735" y="570"/>
                        </a:lnTo>
                        <a:lnTo>
                          <a:pt x="725" y="528"/>
                        </a:lnTo>
                        <a:lnTo>
                          <a:pt x="714" y="489"/>
                        </a:lnTo>
                        <a:lnTo>
                          <a:pt x="699" y="447"/>
                        </a:lnTo>
                        <a:lnTo>
                          <a:pt x="673" y="398"/>
                        </a:lnTo>
                        <a:lnTo>
                          <a:pt x="654" y="365"/>
                        </a:lnTo>
                        <a:lnTo>
                          <a:pt x="629" y="317"/>
                        </a:lnTo>
                        <a:lnTo>
                          <a:pt x="605" y="263"/>
                        </a:lnTo>
                        <a:lnTo>
                          <a:pt x="587" y="214"/>
                        </a:lnTo>
                        <a:lnTo>
                          <a:pt x="577" y="180"/>
                        </a:lnTo>
                        <a:lnTo>
                          <a:pt x="571" y="141"/>
                        </a:lnTo>
                        <a:lnTo>
                          <a:pt x="567" y="102"/>
                        </a:lnTo>
                        <a:lnTo>
                          <a:pt x="567" y="70"/>
                        </a:lnTo>
                        <a:lnTo>
                          <a:pt x="568" y="40"/>
                        </a:lnTo>
                        <a:lnTo>
                          <a:pt x="570" y="0"/>
                        </a:lnTo>
                        <a:lnTo>
                          <a:pt x="555" y="53"/>
                        </a:lnTo>
                        <a:lnTo>
                          <a:pt x="545" y="99"/>
                        </a:lnTo>
                        <a:lnTo>
                          <a:pt x="539" y="140"/>
                        </a:lnTo>
                        <a:lnTo>
                          <a:pt x="539" y="180"/>
                        </a:lnTo>
                        <a:lnTo>
                          <a:pt x="543" y="228"/>
                        </a:lnTo>
                        <a:lnTo>
                          <a:pt x="553" y="268"/>
                        </a:lnTo>
                        <a:lnTo>
                          <a:pt x="566" y="304"/>
                        </a:lnTo>
                        <a:lnTo>
                          <a:pt x="579" y="337"/>
                        </a:lnTo>
                        <a:lnTo>
                          <a:pt x="590" y="380"/>
                        </a:lnTo>
                        <a:lnTo>
                          <a:pt x="595" y="424"/>
                        </a:lnTo>
                        <a:lnTo>
                          <a:pt x="597" y="467"/>
                        </a:lnTo>
                        <a:lnTo>
                          <a:pt x="600" y="512"/>
                        </a:lnTo>
                        <a:lnTo>
                          <a:pt x="600" y="555"/>
                        </a:lnTo>
                        <a:lnTo>
                          <a:pt x="594" y="624"/>
                        </a:lnTo>
                        <a:lnTo>
                          <a:pt x="581" y="667"/>
                        </a:lnTo>
                        <a:lnTo>
                          <a:pt x="551" y="727"/>
                        </a:lnTo>
                        <a:lnTo>
                          <a:pt x="527" y="789"/>
                        </a:lnTo>
                        <a:lnTo>
                          <a:pt x="506" y="850"/>
                        </a:lnTo>
                        <a:lnTo>
                          <a:pt x="493" y="816"/>
                        </a:lnTo>
                        <a:lnTo>
                          <a:pt x="482" y="778"/>
                        </a:lnTo>
                        <a:lnTo>
                          <a:pt x="475" y="740"/>
                        </a:lnTo>
                        <a:lnTo>
                          <a:pt x="472" y="679"/>
                        </a:lnTo>
                        <a:lnTo>
                          <a:pt x="483" y="574"/>
                        </a:lnTo>
                        <a:lnTo>
                          <a:pt x="488" y="543"/>
                        </a:lnTo>
                        <a:lnTo>
                          <a:pt x="489" y="507"/>
                        </a:lnTo>
                        <a:lnTo>
                          <a:pt x="489" y="472"/>
                        </a:lnTo>
                        <a:lnTo>
                          <a:pt x="483" y="426"/>
                        </a:lnTo>
                        <a:lnTo>
                          <a:pt x="475" y="382"/>
                        </a:lnTo>
                        <a:lnTo>
                          <a:pt x="461" y="338"/>
                        </a:lnTo>
                        <a:lnTo>
                          <a:pt x="434" y="279"/>
                        </a:lnTo>
                        <a:lnTo>
                          <a:pt x="449" y="351"/>
                        </a:lnTo>
                        <a:lnTo>
                          <a:pt x="458" y="411"/>
                        </a:lnTo>
                        <a:lnTo>
                          <a:pt x="457" y="461"/>
                        </a:lnTo>
                        <a:lnTo>
                          <a:pt x="453" y="504"/>
                        </a:lnTo>
                        <a:lnTo>
                          <a:pt x="443" y="543"/>
                        </a:lnTo>
                        <a:lnTo>
                          <a:pt x="428" y="589"/>
                        </a:lnTo>
                        <a:lnTo>
                          <a:pt x="390" y="690"/>
                        </a:lnTo>
                        <a:lnTo>
                          <a:pt x="387" y="628"/>
                        </a:lnTo>
                        <a:lnTo>
                          <a:pt x="390" y="573"/>
                        </a:lnTo>
                        <a:lnTo>
                          <a:pt x="394" y="522"/>
                        </a:lnTo>
                        <a:lnTo>
                          <a:pt x="370" y="573"/>
                        </a:lnTo>
                        <a:lnTo>
                          <a:pt x="357" y="617"/>
                        </a:lnTo>
                        <a:lnTo>
                          <a:pt x="347" y="665"/>
                        </a:lnTo>
                        <a:lnTo>
                          <a:pt x="340" y="720"/>
                        </a:lnTo>
                        <a:lnTo>
                          <a:pt x="342" y="789"/>
                        </a:lnTo>
                        <a:lnTo>
                          <a:pt x="353" y="857"/>
                        </a:lnTo>
                        <a:lnTo>
                          <a:pt x="368" y="912"/>
                        </a:lnTo>
                        <a:lnTo>
                          <a:pt x="393" y="981"/>
                        </a:lnTo>
                        <a:lnTo>
                          <a:pt x="430" y="1068"/>
                        </a:lnTo>
                        <a:lnTo>
                          <a:pt x="370" y="966"/>
                        </a:lnTo>
                        <a:lnTo>
                          <a:pt x="356" y="938"/>
                        </a:lnTo>
                        <a:lnTo>
                          <a:pt x="330" y="897"/>
                        </a:lnTo>
                        <a:lnTo>
                          <a:pt x="297" y="857"/>
                        </a:lnTo>
                        <a:lnTo>
                          <a:pt x="245" y="807"/>
                        </a:lnTo>
                        <a:lnTo>
                          <a:pt x="276" y="862"/>
                        </a:lnTo>
                        <a:lnTo>
                          <a:pt x="294" y="896"/>
                        </a:lnTo>
                        <a:lnTo>
                          <a:pt x="311" y="930"/>
                        </a:lnTo>
                        <a:lnTo>
                          <a:pt x="342" y="1003"/>
                        </a:lnTo>
                        <a:lnTo>
                          <a:pt x="366" y="1063"/>
                        </a:lnTo>
                        <a:lnTo>
                          <a:pt x="400" y="1161"/>
                        </a:lnTo>
                        <a:lnTo>
                          <a:pt x="358" y="1144"/>
                        </a:lnTo>
                        <a:lnTo>
                          <a:pt x="321" y="1114"/>
                        </a:lnTo>
                        <a:lnTo>
                          <a:pt x="280" y="1076"/>
                        </a:lnTo>
                        <a:lnTo>
                          <a:pt x="248" y="1038"/>
                        </a:lnTo>
                        <a:lnTo>
                          <a:pt x="203" y="993"/>
                        </a:lnTo>
                        <a:lnTo>
                          <a:pt x="170" y="965"/>
                        </a:lnTo>
                        <a:lnTo>
                          <a:pt x="143" y="944"/>
                        </a:lnTo>
                        <a:lnTo>
                          <a:pt x="115" y="926"/>
                        </a:lnTo>
                        <a:lnTo>
                          <a:pt x="85" y="918"/>
                        </a:lnTo>
                        <a:lnTo>
                          <a:pt x="56" y="912"/>
                        </a:lnTo>
                        <a:lnTo>
                          <a:pt x="0" y="905"/>
                        </a:lnTo>
                        <a:lnTo>
                          <a:pt x="49" y="922"/>
                        </a:lnTo>
                        <a:lnTo>
                          <a:pt x="98" y="948"/>
                        </a:lnTo>
                        <a:lnTo>
                          <a:pt x="131" y="974"/>
                        </a:lnTo>
                        <a:lnTo>
                          <a:pt x="153" y="996"/>
                        </a:lnTo>
                        <a:lnTo>
                          <a:pt x="191" y="1047"/>
                        </a:lnTo>
                        <a:lnTo>
                          <a:pt x="226" y="1103"/>
                        </a:lnTo>
                        <a:lnTo>
                          <a:pt x="271" y="1167"/>
                        </a:lnTo>
                        <a:lnTo>
                          <a:pt x="305" y="1195"/>
                        </a:lnTo>
                        <a:lnTo>
                          <a:pt x="353" y="1224"/>
                        </a:lnTo>
                        <a:lnTo>
                          <a:pt x="432" y="1264"/>
                        </a:lnTo>
                        <a:lnTo>
                          <a:pt x="500" y="1277"/>
                        </a:lnTo>
                        <a:lnTo>
                          <a:pt x="581" y="12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559320" y="620640"/>
                    <a:ext cx="30744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218">
                        <a:moveTo>
                          <a:pt x="604" y="1208"/>
                        </a:moveTo>
                        <a:lnTo>
                          <a:pt x="644" y="1199"/>
                        </a:lnTo>
                        <a:lnTo>
                          <a:pt x="706" y="1181"/>
                        </a:lnTo>
                        <a:lnTo>
                          <a:pt x="751" y="1152"/>
                        </a:lnTo>
                        <a:lnTo>
                          <a:pt x="779" y="1120"/>
                        </a:lnTo>
                        <a:lnTo>
                          <a:pt x="799" y="1086"/>
                        </a:lnTo>
                        <a:lnTo>
                          <a:pt x="814" y="1053"/>
                        </a:lnTo>
                        <a:lnTo>
                          <a:pt x="828" y="1011"/>
                        </a:lnTo>
                        <a:lnTo>
                          <a:pt x="837" y="956"/>
                        </a:lnTo>
                        <a:lnTo>
                          <a:pt x="843" y="897"/>
                        </a:lnTo>
                        <a:lnTo>
                          <a:pt x="844" y="856"/>
                        </a:lnTo>
                        <a:lnTo>
                          <a:pt x="850" y="823"/>
                        </a:lnTo>
                        <a:lnTo>
                          <a:pt x="855" y="801"/>
                        </a:lnTo>
                        <a:lnTo>
                          <a:pt x="868" y="776"/>
                        </a:lnTo>
                        <a:lnTo>
                          <a:pt x="881" y="746"/>
                        </a:lnTo>
                        <a:lnTo>
                          <a:pt x="893" y="726"/>
                        </a:lnTo>
                        <a:lnTo>
                          <a:pt x="910" y="705"/>
                        </a:lnTo>
                        <a:lnTo>
                          <a:pt x="921" y="692"/>
                        </a:lnTo>
                        <a:lnTo>
                          <a:pt x="940" y="677"/>
                        </a:lnTo>
                        <a:lnTo>
                          <a:pt x="978" y="652"/>
                        </a:lnTo>
                        <a:lnTo>
                          <a:pt x="931" y="666"/>
                        </a:lnTo>
                        <a:lnTo>
                          <a:pt x="899" y="678"/>
                        </a:lnTo>
                        <a:lnTo>
                          <a:pt x="868" y="696"/>
                        </a:lnTo>
                        <a:lnTo>
                          <a:pt x="843" y="715"/>
                        </a:lnTo>
                        <a:lnTo>
                          <a:pt x="819" y="735"/>
                        </a:lnTo>
                        <a:lnTo>
                          <a:pt x="800" y="761"/>
                        </a:lnTo>
                        <a:lnTo>
                          <a:pt x="776" y="795"/>
                        </a:lnTo>
                        <a:lnTo>
                          <a:pt x="757" y="821"/>
                        </a:lnTo>
                        <a:lnTo>
                          <a:pt x="740" y="848"/>
                        </a:lnTo>
                        <a:lnTo>
                          <a:pt x="756" y="809"/>
                        </a:lnTo>
                        <a:lnTo>
                          <a:pt x="767" y="774"/>
                        </a:lnTo>
                        <a:lnTo>
                          <a:pt x="775" y="735"/>
                        </a:lnTo>
                        <a:lnTo>
                          <a:pt x="779" y="686"/>
                        </a:lnTo>
                        <a:lnTo>
                          <a:pt x="778" y="636"/>
                        </a:lnTo>
                        <a:lnTo>
                          <a:pt x="770" y="590"/>
                        </a:lnTo>
                        <a:lnTo>
                          <a:pt x="761" y="543"/>
                        </a:lnTo>
                        <a:lnTo>
                          <a:pt x="752" y="503"/>
                        </a:lnTo>
                        <a:lnTo>
                          <a:pt x="741" y="465"/>
                        </a:lnTo>
                        <a:lnTo>
                          <a:pt x="724" y="427"/>
                        </a:lnTo>
                        <a:lnTo>
                          <a:pt x="698" y="380"/>
                        </a:lnTo>
                        <a:lnTo>
                          <a:pt x="678" y="348"/>
                        </a:lnTo>
                        <a:lnTo>
                          <a:pt x="651" y="303"/>
                        </a:lnTo>
                        <a:lnTo>
                          <a:pt x="628" y="251"/>
                        </a:lnTo>
                        <a:lnTo>
                          <a:pt x="610" y="204"/>
                        </a:lnTo>
                        <a:lnTo>
                          <a:pt x="599" y="172"/>
                        </a:lnTo>
                        <a:lnTo>
                          <a:pt x="591" y="135"/>
                        </a:lnTo>
                        <a:lnTo>
                          <a:pt x="588" y="98"/>
                        </a:lnTo>
                        <a:lnTo>
                          <a:pt x="588" y="67"/>
                        </a:lnTo>
                        <a:lnTo>
                          <a:pt x="588" y="38"/>
                        </a:lnTo>
                        <a:lnTo>
                          <a:pt x="590" y="0"/>
                        </a:lnTo>
                        <a:lnTo>
                          <a:pt x="576" y="52"/>
                        </a:lnTo>
                        <a:lnTo>
                          <a:pt x="566" y="96"/>
                        </a:lnTo>
                        <a:lnTo>
                          <a:pt x="560" y="134"/>
                        </a:lnTo>
                        <a:lnTo>
                          <a:pt x="559" y="172"/>
                        </a:lnTo>
                        <a:lnTo>
                          <a:pt x="564" y="218"/>
                        </a:lnTo>
                        <a:lnTo>
                          <a:pt x="575" y="256"/>
                        </a:lnTo>
                        <a:lnTo>
                          <a:pt x="587" y="290"/>
                        </a:lnTo>
                        <a:lnTo>
                          <a:pt x="601" y="322"/>
                        </a:lnTo>
                        <a:lnTo>
                          <a:pt x="611" y="362"/>
                        </a:lnTo>
                        <a:lnTo>
                          <a:pt x="616" y="405"/>
                        </a:lnTo>
                        <a:lnTo>
                          <a:pt x="619" y="446"/>
                        </a:lnTo>
                        <a:lnTo>
                          <a:pt x="622" y="489"/>
                        </a:lnTo>
                        <a:lnTo>
                          <a:pt x="622" y="530"/>
                        </a:lnTo>
                        <a:lnTo>
                          <a:pt x="615" y="595"/>
                        </a:lnTo>
                        <a:lnTo>
                          <a:pt x="603" y="636"/>
                        </a:lnTo>
                        <a:lnTo>
                          <a:pt x="571" y="694"/>
                        </a:lnTo>
                        <a:lnTo>
                          <a:pt x="546" y="752"/>
                        </a:lnTo>
                        <a:lnTo>
                          <a:pt x="526" y="810"/>
                        </a:lnTo>
                        <a:lnTo>
                          <a:pt x="511" y="777"/>
                        </a:lnTo>
                        <a:lnTo>
                          <a:pt x="500" y="742"/>
                        </a:lnTo>
                        <a:lnTo>
                          <a:pt x="494" y="706"/>
                        </a:lnTo>
                        <a:lnTo>
                          <a:pt x="490" y="648"/>
                        </a:lnTo>
                        <a:lnTo>
                          <a:pt x="502" y="548"/>
                        </a:lnTo>
                        <a:lnTo>
                          <a:pt x="506" y="519"/>
                        </a:lnTo>
                        <a:lnTo>
                          <a:pt x="507" y="484"/>
                        </a:lnTo>
                        <a:lnTo>
                          <a:pt x="507" y="451"/>
                        </a:lnTo>
                        <a:lnTo>
                          <a:pt x="502" y="406"/>
                        </a:lnTo>
                        <a:lnTo>
                          <a:pt x="494" y="363"/>
                        </a:lnTo>
                        <a:lnTo>
                          <a:pt x="478" y="322"/>
                        </a:lnTo>
                        <a:lnTo>
                          <a:pt x="451" y="266"/>
                        </a:lnTo>
                        <a:lnTo>
                          <a:pt x="466" y="335"/>
                        </a:lnTo>
                        <a:lnTo>
                          <a:pt x="475" y="392"/>
                        </a:lnTo>
                        <a:lnTo>
                          <a:pt x="475" y="440"/>
                        </a:lnTo>
                        <a:lnTo>
                          <a:pt x="470" y="481"/>
                        </a:lnTo>
                        <a:lnTo>
                          <a:pt x="461" y="518"/>
                        </a:lnTo>
                        <a:lnTo>
                          <a:pt x="445" y="562"/>
                        </a:lnTo>
                        <a:lnTo>
                          <a:pt x="405" y="659"/>
                        </a:lnTo>
                        <a:lnTo>
                          <a:pt x="402" y="598"/>
                        </a:lnTo>
                        <a:lnTo>
                          <a:pt x="406" y="546"/>
                        </a:lnTo>
                        <a:lnTo>
                          <a:pt x="410" y="498"/>
                        </a:lnTo>
                        <a:lnTo>
                          <a:pt x="385" y="547"/>
                        </a:lnTo>
                        <a:lnTo>
                          <a:pt x="371" y="589"/>
                        </a:lnTo>
                        <a:lnTo>
                          <a:pt x="362" y="634"/>
                        </a:lnTo>
                        <a:lnTo>
                          <a:pt x="354" y="687"/>
                        </a:lnTo>
                        <a:lnTo>
                          <a:pt x="357" y="753"/>
                        </a:lnTo>
                        <a:lnTo>
                          <a:pt x="367" y="816"/>
                        </a:lnTo>
                        <a:lnTo>
                          <a:pt x="383" y="869"/>
                        </a:lnTo>
                        <a:lnTo>
                          <a:pt x="408" y="935"/>
                        </a:lnTo>
                        <a:lnTo>
                          <a:pt x="446" y="1018"/>
                        </a:lnTo>
                        <a:lnTo>
                          <a:pt x="385" y="920"/>
                        </a:lnTo>
                        <a:lnTo>
                          <a:pt x="371" y="895"/>
                        </a:lnTo>
                        <a:lnTo>
                          <a:pt x="343" y="856"/>
                        </a:lnTo>
                        <a:lnTo>
                          <a:pt x="309" y="816"/>
                        </a:lnTo>
                        <a:lnTo>
                          <a:pt x="256" y="769"/>
                        </a:lnTo>
                        <a:lnTo>
                          <a:pt x="288" y="823"/>
                        </a:lnTo>
                        <a:lnTo>
                          <a:pt x="306" y="855"/>
                        </a:lnTo>
                        <a:lnTo>
                          <a:pt x="324" y="886"/>
                        </a:lnTo>
                        <a:lnTo>
                          <a:pt x="356" y="956"/>
                        </a:lnTo>
                        <a:lnTo>
                          <a:pt x="380" y="1013"/>
                        </a:lnTo>
                        <a:lnTo>
                          <a:pt x="415" y="1107"/>
                        </a:lnTo>
                        <a:lnTo>
                          <a:pt x="372" y="1090"/>
                        </a:lnTo>
                        <a:lnTo>
                          <a:pt x="333" y="1062"/>
                        </a:lnTo>
                        <a:lnTo>
                          <a:pt x="293" y="1025"/>
                        </a:lnTo>
                        <a:lnTo>
                          <a:pt x="259" y="989"/>
                        </a:lnTo>
                        <a:lnTo>
                          <a:pt x="212" y="946"/>
                        </a:lnTo>
                        <a:lnTo>
                          <a:pt x="179" y="919"/>
                        </a:lnTo>
                        <a:lnTo>
                          <a:pt x="151" y="899"/>
                        </a:lnTo>
                        <a:lnTo>
                          <a:pt x="122" y="882"/>
                        </a:lnTo>
                        <a:lnTo>
                          <a:pt x="91" y="875"/>
                        </a:lnTo>
                        <a:lnTo>
                          <a:pt x="60" y="869"/>
                        </a:lnTo>
                        <a:lnTo>
                          <a:pt x="0" y="860"/>
                        </a:lnTo>
                        <a:lnTo>
                          <a:pt x="54" y="879"/>
                        </a:lnTo>
                        <a:lnTo>
                          <a:pt x="104" y="904"/>
                        </a:lnTo>
                        <a:lnTo>
                          <a:pt x="138" y="930"/>
                        </a:lnTo>
                        <a:lnTo>
                          <a:pt x="161" y="949"/>
                        </a:lnTo>
                        <a:lnTo>
                          <a:pt x="200" y="999"/>
                        </a:lnTo>
                        <a:lnTo>
                          <a:pt x="236" y="1051"/>
                        </a:lnTo>
                        <a:lnTo>
                          <a:pt x="282" y="1112"/>
                        </a:lnTo>
                        <a:lnTo>
                          <a:pt x="319" y="1138"/>
                        </a:lnTo>
                        <a:lnTo>
                          <a:pt x="367" y="1166"/>
                        </a:lnTo>
                        <a:lnTo>
                          <a:pt x="448" y="1205"/>
                        </a:lnTo>
                        <a:lnTo>
                          <a:pt x="519" y="1218"/>
                        </a:lnTo>
                        <a:lnTo>
                          <a:pt x="604" y="1208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565440" y="625320"/>
                    <a:ext cx="2948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3" h="1229">
                        <a:moveTo>
                          <a:pt x="588" y="1218"/>
                        </a:moveTo>
                        <a:lnTo>
                          <a:pt x="627" y="1210"/>
                        </a:lnTo>
                        <a:lnTo>
                          <a:pt x="689" y="1192"/>
                        </a:lnTo>
                        <a:lnTo>
                          <a:pt x="732" y="1163"/>
                        </a:lnTo>
                        <a:lnTo>
                          <a:pt x="759" y="1130"/>
                        </a:lnTo>
                        <a:lnTo>
                          <a:pt x="780" y="1096"/>
                        </a:lnTo>
                        <a:lnTo>
                          <a:pt x="794" y="1063"/>
                        </a:lnTo>
                        <a:lnTo>
                          <a:pt x="807" y="1020"/>
                        </a:lnTo>
                        <a:lnTo>
                          <a:pt x="817" y="965"/>
                        </a:lnTo>
                        <a:lnTo>
                          <a:pt x="822" y="904"/>
                        </a:lnTo>
                        <a:lnTo>
                          <a:pt x="823" y="863"/>
                        </a:lnTo>
                        <a:lnTo>
                          <a:pt x="829" y="830"/>
                        </a:lnTo>
                        <a:lnTo>
                          <a:pt x="835" y="809"/>
                        </a:lnTo>
                        <a:lnTo>
                          <a:pt x="846" y="783"/>
                        </a:lnTo>
                        <a:lnTo>
                          <a:pt x="860" y="753"/>
                        </a:lnTo>
                        <a:lnTo>
                          <a:pt x="872" y="731"/>
                        </a:lnTo>
                        <a:lnTo>
                          <a:pt x="888" y="711"/>
                        </a:lnTo>
                        <a:lnTo>
                          <a:pt x="899" y="697"/>
                        </a:lnTo>
                        <a:lnTo>
                          <a:pt x="911" y="683"/>
                        </a:lnTo>
                        <a:lnTo>
                          <a:pt x="943" y="655"/>
                        </a:lnTo>
                        <a:lnTo>
                          <a:pt x="908" y="669"/>
                        </a:lnTo>
                        <a:lnTo>
                          <a:pt x="877" y="684"/>
                        </a:lnTo>
                        <a:lnTo>
                          <a:pt x="846" y="703"/>
                        </a:lnTo>
                        <a:lnTo>
                          <a:pt x="823" y="720"/>
                        </a:lnTo>
                        <a:lnTo>
                          <a:pt x="799" y="742"/>
                        </a:lnTo>
                        <a:lnTo>
                          <a:pt x="781" y="767"/>
                        </a:lnTo>
                        <a:lnTo>
                          <a:pt x="757" y="801"/>
                        </a:lnTo>
                        <a:lnTo>
                          <a:pt x="738" y="828"/>
                        </a:lnTo>
                        <a:lnTo>
                          <a:pt x="722" y="856"/>
                        </a:lnTo>
                        <a:lnTo>
                          <a:pt x="737" y="816"/>
                        </a:lnTo>
                        <a:lnTo>
                          <a:pt x="748" y="781"/>
                        </a:lnTo>
                        <a:lnTo>
                          <a:pt x="756" y="742"/>
                        </a:lnTo>
                        <a:lnTo>
                          <a:pt x="759" y="692"/>
                        </a:lnTo>
                        <a:lnTo>
                          <a:pt x="758" y="641"/>
                        </a:lnTo>
                        <a:lnTo>
                          <a:pt x="751" y="595"/>
                        </a:lnTo>
                        <a:lnTo>
                          <a:pt x="743" y="548"/>
                        </a:lnTo>
                        <a:lnTo>
                          <a:pt x="733" y="508"/>
                        </a:lnTo>
                        <a:lnTo>
                          <a:pt x="722" y="470"/>
                        </a:lnTo>
                        <a:lnTo>
                          <a:pt x="706" y="431"/>
                        </a:lnTo>
                        <a:lnTo>
                          <a:pt x="680" y="382"/>
                        </a:lnTo>
                        <a:lnTo>
                          <a:pt x="661" y="352"/>
                        </a:lnTo>
                        <a:lnTo>
                          <a:pt x="635" y="304"/>
                        </a:lnTo>
                        <a:lnTo>
                          <a:pt x="612" y="253"/>
                        </a:lnTo>
                        <a:lnTo>
                          <a:pt x="594" y="205"/>
                        </a:lnTo>
                        <a:lnTo>
                          <a:pt x="584" y="172"/>
                        </a:lnTo>
                        <a:lnTo>
                          <a:pt x="577" y="135"/>
                        </a:lnTo>
                        <a:lnTo>
                          <a:pt x="573" y="98"/>
                        </a:lnTo>
                        <a:lnTo>
                          <a:pt x="573" y="66"/>
                        </a:lnTo>
                        <a:lnTo>
                          <a:pt x="575" y="39"/>
                        </a:lnTo>
                        <a:lnTo>
                          <a:pt x="576" y="0"/>
                        </a:lnTo>
                        <a:lnTo>
                          <a:pt x="561" y="52"/>
                        </a:lnTo>
                        <a:lnTo>
                          <a:pt x="551" y="95"/>
                        </a:lnTo>
                        <a:lnTo>
                          <a:pt x="546" y="134"/>
                        </a:lnTo>
                        <a:lnTo>
                          <a:pt x="545" y="172"/>
                        </a:lnTo>
                        <a:lnTo>
                          <a:pt x="549" y="220"/>
                        </a:lnTo>
                        <a:lnTo>
                          <a:pt x="560" y="258"/>
                        </a:lnTo>
                        <a:lnTo>
                          <a:pt x="572" y="293"/>
                        </a:lnTo>
                        <a:lnTo>
                          <a:pt x="586" y="325"/>
                        </a:lnTo>
                        <a:lnTo>
                          <a:pt x="596" y="366"/>
                        </a:lnTo>
                        <a:lnTo>
                          <a:pt x="601" y="407"/>
                        </a:lnTo>
                        <a:lnTo>
                          <a:pt x="603" y="449"/>
                        </a:lnTo>
                        <a:lnTo>
                          <a:pt x="606" y="494"/>
                        </a:lnTo>
                        <a:lnTo>
                          <a:pt x="606" y="535"/>
                        </a:lnTo>
                        <a:lnTo>
                          <a:pt x="599" y="600"/>
                        </a:lnTo>
                        <a:lnTo>
                          <a:pt x="588" y="641"/>
                        </a:lnTo>
                        <a:lnTo>
                          <a:pt x="557" y="700"/>
                        </a:lnTo>
                        <a:lnTo>
                          <a:pt x="532" y="758"/>
                        </a:lnTo>
                        <a:lnTo>
                          <a:pt x="512" y="818"/>
                        </a:lnTo>
                        <a:lnTo>
                          <a:pt x="497" y="784"/>
                        </a:lnTo>
                        <a:lnTo>
                          <a:pt x="487" y="748"/>
                        </a:lnTo>
                        <a:lnTo>
                          <a:pt x="481" y="712"/>
                        </a:lnTo>
                        <a:lnTo>
                          <a:pt x="478" y="653"/>
                        </a:lnTo>
                        <a:lnTo>
                          <a:pt x="489" y="552"/>
                        </a:lnTo>
                        <a:lnTo>
                          <a:pt x="493" y="522"/>
                        </a:lnTo>
                        <a:lnTo>
                          <a:pt x="494" y="487"/>
                        </a:lnTo>
                        <a:lnTo>
                          <a:pt x="494" y="455"/>
                        </a:lnTo>
                        <a:lnTo>
                          <a:pt x="489" y="409"/>
                        </a:lnTo>
                        <a:lnTo>
                          <a:pt x="481" y="366"/>
                        </a:lnTo>
                        <a:lnTo>
                          <a:pt x="466" y="325"/>
                        </a:lnTo>
                        <a:lnTo>
                          <a:pt x="440" y="268"/>
                        </a:lnTo>
                        <a:lnTo>
                          <a:pt x="454" y="337"/>
                        </a:lnTo>
                        <a:lnTo>
                          <a:pt x="462" y="395"/>
                        </a:lnTo>
                        <a:lnTo>
                          <a:pt x="462" y="443"/>
                        </a:lnTo>
                        <a:lnTo>
                          <a:pt x="457" y="484"/>
                        </a:lnTo>
                        <a:lnTo>
                          <a:pt x="448" y="522"/>
                        </a:lnTo>
                        <a:lnTo>
                          <a:pt x="432" y="567"/>
                        </a:lnTo>
                        <a:lnTo>
                          <a:pt x="393" y="665"/>
                        </a:lnTo>
                        <a:lnTo>
                          <a:pt x="391" y="603"/>
                        </a:lnTo>
                        <a:lnTo>
                          <a:pt x="394" y="550"/>
                        </a:lnTo>
                        <a:lnTo>
                          <a:pt x="398" y="502"/>
                        </a:lnTo>
                        <a:lnTo>
                          <a:pt x="375" y="551"/>
                        </a:lnTo>
                        <a:lnTo>
                          <a:pt x="361" y="594"/>
                        </a:lnTo>
                        <a:lnTo>
                          <a:pt x="352" y="640"/>
                        </a:lnTo>
                        <a:lnTo>
                          <a:pt x="344" y="692"/>
                        </a:lnTo>
                        <a:lnTo>
                          <a:pt x="347" y="759"/>
                        </a:lnTo>
                        <a:lnTo>
                          <a:pt x="356" y="824"/>
                        </a:lnTo>
                        <a:lnTo>
                          <a:pt x="373" y="877"/>
                        </a:lnTo>
                        <a:lnTo>
                          <a:pt x="397" y="944"/>
                        </a:lnTo>
                        <a:lnTo>
                          <a:pt x="434" y="1027"/>
                        </a:lnTo>
                        <a:lnTo>
                          <a:pt x="375" y="929"/>
                        </a:lnTo>
                        <a:lnTo>
                          <a:pt x="360" y="903"/>
                        </a:lnTo>
                        <a:lnTo>
                          <a:pt x="333" y="863"/>
                        </a:lnTo>
                        <a:lnTo>
                          <a:pt x="301" y="824"/>
                        </a:lnTo>
                        <a:lnTo>
                          <a:pt x="275" y="793"/>
                        </a:lnTo>
                        <a:lnTo>
                          <a:pt x="234" y="755"/>
                        </a:lnTo>
                        <a:lnTo>
                          <a:pt x="279" y="829"/>
                        </a:lnTo>
                        <a:lnTo>
                          <a:pt x="297" y="862"/>
                        </a:lnTo>
                        <a:lnTo>
                          <a:pt x="314" y="894"/>
                        </a:lnTo>
                        <a:lnTo>
                          <a:pt x="346" y="965"/>
                        </a:lnTo>
                        <a:lnTo>
                          <a:pt x="370" y="1022"/>
                        </a:lnTo>
                        <a:lnTo>
                          <a:pt x="405" y="1116"/>
                        </a:lnTo>
                        <a:lnTo>
                          <a:pt x="362" y="1100"/>
                        </a:lnTo>
                        <a:lnTo>
                          <a:pt x="324" y="1072"/>
                        </a:lnTo>
                        <a:lnTo>
                          <a:pt x="284" y="1035"/>
                        </a:lnTo>
                        <a:lnTo>
                          <a:pt x="250" y="998"/>
                        </a:lnTo>
                        <a:lnTo>
                          <a:pt x="206" y="955"/>
                        </a:lnTo>
                        <a:lnTo>
                          <a:pt x="173" y="928"/>
                        </a:lnTo>
                        <a:lnTo>
                          <a:pt x="146" y="904"/>
                        </a:lnTo>
                        <a:lnTo>
                          <a:pt x="118" y="885"/>
                        </a:lnTo>
                        <a:lnTo>
                          <a:pt x="94" y="875"/>
                        </a:lnTo>
                        <a:lnTo>
                          <a:pt x="58" y="864"/>
                        </a:lnTo>
                        <a:lnTo>
                          <a:pt x="0" y="852"/>
                        </a:lnTo>
                        <a:lnTo>
                          <a:pt x="57" y="882"/>
                        </a:lnTo>
                        <a:lnTo>
                          <a:pt x="100" y="907"/>
                        </a:lnTo>
                        <a:lnTo>
                          <a:pt x="133" y="937"/>
                        </a:lnTo>
                        <a:lnTo>
                          <a:pt x="155" y="957"/>
                        </a:lnTo>
                        <a:lnTo>
                          <a:pt x="193" y="1007"/>
                        </a:lnTo>
                        <a:lnTo>
                          <a:pt x="228" y="1061"/>
                        </a:lnTo>
                        <a:lnTo>
                          <a:pt x="275" y="1122"/>
                        </a:lnTo>
                        <a:lnTo>
                          <a:pt x="309" y="1148"/>
                        </a:lnTo>
                        <a:lnTo>
                          <a:pt x="356" y="1177"/>
                        </a:lnTo>
                        <a:lnTo>
                          <a:pt x="436" y="1215"/>
                        </a:lnTo>
                        <a:lnTo>
                          <a:pt x="506" y="1229"/>
                        </a:lnTo>
                        <a:lnTo>
                          <a:pt x="588" y="121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3578760" y="753120"/>
                <a:ext cx="255240" cy="389880"/>
                <a:chOff x="3578760" y="753120"/>
                <a:chExt cx="255240" cy="3898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8320" y="753120"/>
                  <a:ext cx="175680" cy="278640"/>
                </a:xfrm>
                <a:custGeom>
                  <a:avLst/>
                  <a:gdLst/>
                  <a:ahLst/>
                  <a:rect l="l" t="t" r="r" b="b"/>
                  <a:pathLst>
                    <a:path w="561" h="873">
                      <a:moveTo>
                        <a:pt x="0" y="494"/>
                      </a:moveTo>
                      <a:lnTo>
                        <a:pt x="26" y="516"/>
                      </a:lnTo>
                      <a:lnTo>
                        <a:pt x="38" y="539"/>
                      </a:lnTo>
                      <a:lnTo>
                        <a:pt x="50" y="574"/>
                      </a:lnTo>
                      <a:lnTo>
                        <a:pt x="66" y="611"/>
                      </a:lnTo>
                      <a:lnTo>
                        <a:pt x="66" y="637"/>
                      </a:lnTo>
                      <a:lnTo>
                        <a:pt x="65" y="670"/>
                      </a:lnTo>
                      <a:lnTo>
                        <a:pt x="61" y="698"/>
                      </a:lnTo>
                      <a:lnTo>
                        <a:pt x="58" y="726"/>
                      </a:lnTo>
                      <a:lnTo>
                        <a:pt x="58" y="753"/>
                      </a:lnTo>
                      <a:lnTo>
                        <a:pt x="62" y="777"/>
                      </a:lnTo>
                      <a:lnTo>
                        <a:pt x="69" y="803"/>
                      </a:lnTo>
                      <a:lnTo>
                        <a:pt x="82" y="823"/>
                      </a:lnTo>
                      <a:lnTo>
                        <a:pt x="99" y="840"/>
                      </a:lnTo>
                      <a:lnTo>
                        <a:pt x="119" y="853"/>
                      </a:lnTo>
                      <a:lnTo>
                        <a:pt x="139" y="863"/>
                      </a:lnTo>
                      <a:lnTo>
                        <a:pt x="163" y="869"/>
                      </a:lnTo>
                      <a:lnTo>
                        <a:pt x="188" y="873"/>
                      </a:lnTo>
                      <a:lnTo>
                        <a:pt x="215" y="873"/>
                      </a:lnTo>
                      <a:lnTo>
                        <a:pt x="239" y="870"/>
                      </a:lnTo>
                      <a:lnTo>
                        <a:pt x="265" y="865"/>
                      </a:lnTo>
                      <a:lnTo>
                        <a:pt x="292" y="859"/>
                      </a:lnTo>
                      <a:lnTo>
                        <a:pt x="318" y="850"/>
                      </a:lnTo>
                      <a:lnTo>
                        <a:pt x="342" y="838"/>
                      </a:lnTo>
                      <a:lnTo>
                        <a:pt x="360" y="827"/>
                      </a:lnTo>
                      <a:lnTo>
                        <a:pt x="380" y="812"/>
                      </a:lnTo>
                      <a:lnTo>
                        <a:pt x="398" y="797"/>
                      </a:lnTo>
                      <a:lnTo>
                        <a:pt x="410" y="780"/>
                      </a:lnTo>
                      <a:lnTo>
                        <a:pt x="422" y="763"/>
                      </a:lnTo>
                      <a:lnTo>
                        <a:pt x="434" y="740"/>
                      </a:lnTo>
                      <a:lnTo>
                        <a:pt x="441" y="721"/>
                      </a:lnTo>
                      <a:lnTo>
                        <a:pt x="452" y="701"/>
                      </a:lnTo>
                      <a:lnTo>
                        <a:pt x="462" y="685"/>
                      </a:lnTo>
                      <a:lnTo>
                        <a:pt x="484" y="660"/>
                      </a:lnTo>
                      <a:lnTo>
                        <a:pt x="495" y="651"/>
                      </a:lnTo>
                      <a:lnTo>
                        <a:pt x="512" y="636"/>
                      </a:lnTo>
                      <a:lnTo>
                        <a:pt x="561" y="617"/>
                      </a:lnTo>
                      <a:lnTo>
                        <a:pt x="522" y="619"/>
                      </a:lnTo>
                      <a:lnTo>
                        <a:pt x="497" y="625"/>
                      </a:lnTo>
                      <a:lnTo>
                        <a:pt x="479" y="629"/>
                      </a:lnTo>
                      <a:lnTo>
                        <a:pt x="458" y="641"/>
                      </a:lnTo>
                      <a:lnTo>
                        <a:pt x="451" y="648"/>
                      </a:lnTo>
                      <a:lnTo>
                        <a:pt x="435" y="663"/>
                      </a:lnTo>
                      <a:lnTo>
                        <a:pt x="422" y="680"/>
                      </a:lnTo>
                      <a:lnTo>
                        <a:pt x="391" y="729"/>
                      </a:lnTo>
                      <a:lnTo>
                        <a:pt x="370" y="747"/>
                      </a:lnTo>
                      <a:lnTo>
                        <a:pt x="349" y="762"/>
                      </a:lnTo>
                      <a:lnTo>
                        <a:pt x="322" y="778"/>
                      </a:lnTo>
                      <a:lnTo>
                        <a:pt x="295" y="789"/>
                      </a:lnTo>
                      <a:lnTo>
                        <a:pt x="314" y="764"/>
                      </a:lnTo>
                      <a:lnTo>
                        <a:pt x="328" y="743"/>
                      </a:lnTo>
                      <a:lnTo>
                        <a:pt x="346" y="718"/>
                      </a:lnTo>
                      <a:lnTo>
                        <a:pt x="356" y="684"/>
                      </a:lnTo>
                      <a:lnTo>
                        <a:pt x="375" y="629"/>
                      </a:lnTo>
                      <a:lnTo>
                        <a:pt x="420" y="560"/>
                      </a:lnTo>
                      <a:lnTo>
                        <a:pt x="369" y="608"/>
                      </a:lnTo>
                      <a:lnTo>
                        <a:pt x="355" y="624"/>
                      </a:lnTo>
                      <a:lnTo>
                        <a:pt x="325" y="681"/>
                      </a:lnTo>
                      <a:lnTo>
                        <a:pt x="348" y="589"/>
                      </a:lnTo>
                      <a:lnTo>
                        <a:pt x="357" y="536"/>
                      </a:lnTo>
                      <a:lnTo>
                        <a:pt x="358" y="494"/>
                      </a:lnTo>
                      <a:lnTo>
                        <a:pt x="355" y="463"/>
                      </a:lnTo>
                      <a:lnTo>
                        <a:pt x="347" y="436"/>
                      </a:lnTo>
                      <a:lnTo>
                        <a:pt x="336" y="406"/>
                      </a:lnTo>
                      <a:lnTo>
                        <a:pt x="323" y="372"/>
                      </a:lnTo>
                      <a:lnTo>
                        <a:pt x="330" y="438"/>
                      </a:lnTo>
                      <a:lnTo>
                        <a:pt x="327" y="482"/>
                      </a:lnTo>
                      <a:lnTo>
                        <a:pt x="296" y="407"/>
                      </a:lnTo>
                      <a:lnTo>
                        <a:pt x="283" y="373"/>
                      </a:lnTo>
                      <a:lnTo>
                        <a:pt x="280" y="341"/>
                      </a:lnTo>
                      <a:lnTo>
                        <a:pt x="281" y="306"/>
                      </a:lnTo>
                      <a:lnTo>
                        <a:pt x="285" y="275"/>
                      </a:lnTo>
                      <a:lnTo>
                        <a:pt x="292" y="242"/>
                      </a:lnTo>
                      <a:lnTo>
                        <a:pt x="281" y="258"/>
                      </a:lnTo>
                      <a:lnTo>
                        <a:pt x="273" y="278"/>
                      </a:lnTo>
                      <a:lnTo>
                        <a:pt x="264" y="316"/>
                      </a:lnTo>
                      <a:lnTo>
                        <a:pt x="260" y="343"/>
                      </a:lnTo>
                      <a:lnTo>
                        <a:pt x="258" y="373"/>
                      </a:lnTo>
                      <a:lnTo>
                        <a:pt x="265" y="413"/>
                      </a:lnTo>
                      <a:lnTo>
                        <a:pt x="276" y="500"/>
                      </a:lnTo>
                      <a:lnTo>
                        <a:pt x="258" y="579"/>
                      </a:lnTo>
                      <a:lnTo>
                        <a:pt x="211" y="454"/>
                      </a:lnTo>
                      <a:lnTo>
                        <a:pt x="200" y="424"/>
                      </a:lnTo>
                      <a:lnTo>
                        <a:pt x="193" y="387"/>
                      </a:lnTo>
                      <a:lnTo>
                        <a:pt x="190" y="347"/>
                      </a:lnTo>
                      <a:lnTo>
                        <a:pt x="193" y="307"/>
                      </a:lnTo>
                      <a:lnTo>
                        <a:pt x="197" y="275"/>
                      </a:lnTo>
                      <a:lnTo>
                        <a:pt x="206" y="244"/>
                      </a:lnTo>
                      <a:lnTo>
                        <a:pt x="215" y="213"/>
                      </a:lnTo>
                      <a:lnTo>
                        <a:pt x="225" y="184"/>
                      </a:lnTo>
                      <a:lnTo>
                        <a:pt x="228" y="156"/>
                      </a:lnTo>
                      <a:lnTo>
                        <a:pt x="230" y="125"/>
                      </a:lnTo>
                      <a:lnTo>
                        <a:pt x="228" y="90"/>
                      </a:lnTo>
                      <a:lnTo>
                        <a:pt x="222" y="49"/>
                      </a:lnTo>
                      <a:lnTo>
                        <a:pt x="209" y="0"/>
                      </a:lnTo>
                      <a:lnTo>
                        <a:pt x="210" y="48"/>
                      </a:lnTo>
                      <a:lnTo>
                        <a:pt x="213" y="77"/>
                      </a:lnTo>
                      <a:lnTo>
                        <a:pt x="210" y="116"/>
                      </a:lnTo>
                      <a:lnTo>
                        <a:pt x="199" y="151"/>
                      </a:lnTo>
                      <a:lnTo>
                        <a:pt x="187" y="185"/>
                      </a:lnTo>
                      <a:lnTo>
                        <a:pt x="173" y="218"/>
                      </a:lnTo>
                      <a:lnTo>
                        <a:pt x="159" y="248"/>
                      </a:lnTo>
                      <a:lnTo>
                        <a:pt x="141" y="284"/>
                      </a:lnTo>
                      <a:lnTo>
                        <a:pt x="123" y="333"/>
                      </a:lnTo>
                      <a:lnTo>
                        <a:pt x="113" y="374"/>
                      </a:lnTo>
                      <a:lnTo>
                        <a:pt x="101" y="517"/>
                      </a:lnTo>
                      <a:lnTo>
                        <a:pt x="108" y="547"/>
                      </a:lnTo>
                      <a:lnTo>
                        <a:pt x="123" y="599"/>
                      </a:lnTo>
                      <a:lnTo>
                        <a:pt x="65" y="519"/>
                      </a:lnTo>
                      <a:lnTo>
                        <a:pt x="0" y="49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78760" y="998280"/>
                  <a:ext cx="244440" cy="144720"/>
                </a:xfrm>
                <a:custGeom>
                  <a:avLst/>
                  <a:gdLst/>
                  <a:ahLst/>
                  <a:rect l="l" t="t" r="r" b="b"/>
                  <a:pathLst>
                    <a:path w="781" h="457">
                      <a:moveTo>
                        <a:pt x="388" y="21"/>
                      </a:moveTo>
                      <a:lnTo>
                        <a:pt x="0" y="162"/>
                      </a:lnTo>
                      <a:lnTo>
                        <a:pt x="382" y="0"/>
                      </a:lnTo>
                      <a:lnTo>
                        <a:pt x="472" y="5"/>
                      </a:lnTo>
                      <a:lnTo>
                        <a:pt x="559" y="21"/>
                      </a:lnTo>
                      <a:lnTo>
                        <a:pt x="781" y="213"/>
                      </a:lnTo>
                      <a:lnTo>
                        <a:pt x="521" y="34"/>
                      </a:lnTo>
                      <a:lnTo>
                        <a:pt x="745" y="457"/>
                      </a:lnTo>
                      <a:lnTo>
                        <a:pt x="491" y="34"/>
                      </a:lnTo>
                      <a:lnTo>
                        <a:pt x="470" y="59"/>
                      </a:lnTo>
                      <a:lnTo>
                        <a:pt x="413" y="253"/>
                      </a:lnTo>
                      <a:lnTo>
                        <a:pt x="440" y="49"/>
                      </a:lnTo>
                      <a:lnTo>
                        <a:pt x="161" y="438"/>
                      </a:lnTo>
                      <a:lnTo>
                        <a:pt x="414" y="28"/>
                      </a:lnTo>
                      <a:lnTo>
                        <a:pt x="388" y="2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66240" y="786240"/>
                  <a:ext cx="147600" cy="231120"/>
                </a:xfrm>
                <a:custGeom>
                  <a:avLst/>
                  <a:gdLst/>
                  <a:ahLst/>
                  <a:rect l="l" t="t" r="r" b="b"/>
                  <a:pathLst>
                    <a:path w="470" h="723">
                      <a:moveTo>
                        <a:pt x="0" y="399"/>
                      </a:moveTo>
                      <a:lnTo>
                        <a:pt x="23" y="419"/>
                      </a:lnTo>
                      <a:lnTo>
                        <a:pt x="32" y="443"/>
                      </a:lnTo>
                      <a:lnTo>
                        <a:pt x="42" y="475"/>
                      </a:lnTo>
                      <a:lnTo>
                        <a:pt x="56" y="510"/>
                      </a:lnTo>
                      <a:lnTo>
                        <a:pt x="56" y="534"/>
                      </a:lnTo>
                      <a:lnTo>
                        <a:pt x="55" y="564"/>
                      </a:lnTo>
                      <a:lnTo>
                        <a:pt x="62" y="597"/>
                      </a:lnTo>
                      <a:lnTo>
                        <a:pt x="66" y="621"/>
                      </a:lnTo>
                      <a:lnTo>
                        <a:pt x="73" y="641"/>
                      </a:lnTo>
                      <a:lnTo>
                        <a:pt x="80" y="661"/>
                      </a:lnTo>
                      <a:lnTo>
                        <a:pt x="93" y="679"/>
                      </a:lnTo>
                      <a:lnTo>
                        <a:pt x="104" y="693"/>
                      </a:lnTo>
                      <a:lnTo>
                        <a:pt x="122" y="705"/>
                      </a:lnTo>
                      <a:lnTo>
                        <a:pt x="142" y="714"/>
                      </a:lnTo>
                      <a:lnTo>
                        <a:pt x="171" y="721"/>
                      </a:lnTo>
                      <a:lnTo>
                        <a:pt x="200" y="723"/>
                      </a:lnTo>
                      <a:lnTo>
                        <a:pt x="227" y="720"/>
                      </a:lnTo>
                      <a:lnTo>
                        <a:pt x="253" y="713"/>
                      </a:lnTo>
                      <a:lnTo>
                        <a:pt x="282" y="704"/>
                      </a:lnTo>
                      <a:lnTo>
                        <a:pt x="309" y="688"/>
                      </a:lnTo>
                      <a:lnTo>
                        <a:pt x="329" y="669"/>
                      </a:lnTo>
                      <a:lnTo>
                        <a:pt x="343" y="649"/>
                      </a:lnTo>
                      <a:lnTo>
                        <a:pt x="355" y="628"/>
                      </a:lnTo>
                      <a:lnTo>
                        <a:pt x="371" y="600"/>
                      </a:lnTo>
                      <a:lnTo>
                        <a:pt x="386" y="574"/>
                      </a:lnTo>
                      <a:lnTo>
                        <a:pt x="405" y="551"/>
                      </a:lnTo>
                      <a:lnTo>
                        <a:pt x="430" y="530"/>
                      </a:lnTo>
                      <a:lnTo>
                        <a:pt x="470" y="515"/>
                      </a:lnTo>
                      <a:lnTo>
                        <a:pt x="437" y="517"/>
                      </a:lnTo>
                      <a:lnTo>
                        <a:pt x="418" y="523"/>
                      </a:lnTo>
                      <a:lnTo>
                        <a:pt x="398" y="535"/>
                      </a:lnTo>
                      <a:lnTo>
                        <a:pt x="384" y="548"/>
                      </a:lnTo>
                      <a:lnTo>
                        <a:pt x="365" y="570"/>
                      </a:lnTo>
                      <a:lnTo>
                        <a:pt x="344" y="599"/>
                      </a:lnTo>
                      <a:lnTo>
                        <a:pt x="328" y="620"/>
                      </a:lnTo>
                      <a:lnTo>
                        <a:pt x="311" y="637"/>
                      </a:lnTo>
                      <a:lnTo>
                        <a:pt x="293" y="652"/>
                      </a:lnTo>
                      <a:lnTo>
                        <a:pt x="270" y="666"/>
                      </a:lnTo>
                      <a:lnTo>
                        <a:pt x="247" y="676"/>
                      </a:lnTo>
                      <a:lnTo>
                        <a:pt x="263" y="653"/>
                      </a:lnTo>
                      <a:lnTo>
                        <a:pt x="275" y="633"/>
                      </a:lnTo>
                      <a:lnTo>
                        <a:pt x="290" y="609"/>
                      </a:lnTo>
                      <a:lnTo>
                        <a:pt x="299" y="578"/>
                      </a:lnTo>
                      <a:lnTo>
                        <a:pt x="314" y="526"/>
                      </a:lnTo>
                      <a:lnTo>
                        <a:pt x="351" y="461"/>
                      </a:lnTo>
                      <a:lnTo>
                        <a:pt x="310" y="507"/>
                      </a:lnTo>
                      <a:lnTo>
                        <a:pt x="298" y="522"/>
                      </a:lnTo>
                      <a:lnTo>
                        <a:pt x="272" y="574"/>
                      </a:lnTo>
                      <a:lnTo>
                        <a:pt x="292" y="488"/>
                      </a:lnTo>
                      <a:lnTo>
                        <a:pt x="299" y="440"/>
                      </a:lnTo>
                      <a:lnTo>
                        <a:pt x="300" y="399"/>
                      </a:lnTo>
                      <a:lnTo>
                        <a:pt x="291" y="345"/>
                      </a:lnTo>
                      <a:lnTo>
                        <a:pt x="282" y="316"/>
                      </a:lnTo>
                      <a:lnTo>
                        <a:pt x="273" y="297"/>
                      </a:lnTo>
                      <a:lnTo>
                        <a:pt x="276" y="346"/>
                      </a:lnTo>
                      <a:lnTo>
                        <a:pt x="274" y="388"/>
                      </a:lnTo>
                      <a:lnTo>
                        <a:pt x="248" y="314"/>
                      </a:lnTo>
                      <a:lnTo>
                        <a:pt x="241" y="286"/>
                      </a:lnTo>
                      <a:lnTo>
                        <a:pt x="238" y="252"/>
                      </a:lnTo>
                      <a:lnTo>
                        <a:pt x="239" y="221"/>
                      </a:lnTo>
                      <a:lnTo>
                        <a:pt x="246" y="162"/>
                      </a:lnTo>
                      <a:lnTo>
                        <a:pt x="227" y="231"/>
                      </a:lnTo>
                      <a:lnTo>
                        <a:pt x="221" y="266"/>
                      </a:lnTo>
                      <a:lnTo>
                        <a:pt x="221" y="297"/>
                      </a:lnTo>
                      <a:lnTo>
                        <a:pt x="225" y="327"/>
                      </a:lnTo>
                      <a:lnTo>
                        <a:pt x="229" y="363"/>
                      </a:lnTo>
                      <a:lnTo>
                        <a:pt x="232" y="406"/>
                      </a:lnTo>
                      <a:lnTo>
                        <a:pt x="216" y="479"/>
                      </a:lnTo>
                      <a:lnTo>
                        <a:pt x="168" y="359"/>
                      </a:lnTo>
                      <a:lnTo>
                        <a:pt x="163" y="334"/>
                      </a:lnTo>
                      <a:lnTo>
                        <a:pt x="160" y="300"/>
                      </a:lnTo>
                      <a:lnTo>
                        <a:pt x="162" y="265"/>
                      </a:lnTo>
                      <a:lnTo>
                        <a:pt x="167" y="232"/>
                      </a:lnTo>
                      <a:lnTo>
                        <a:pt x="176" y="193"/>
                      </a:lnTo>
                      <a:lnTo>
                        <a:pt x="187" y="165"/>
                      </a:lnTo>
                      <a:lnTo>
                        <a:pt x="194" y="133"/>
                      </a:lnTo>
                      <a:lnTo>
                        <a:pt x="198" y="101"/>
                      </a:lnTo>
                      <a:lnTo>
                        <a:pt x="198" y="76"/>
                      </a:lnTo>
                      <a:lnTo>
                        <a:pt x="194" y="42"/>
                      </a:lnTo>
                      <a:lnTo>
                        <a:pt x="180" y="0"/>
                      </a:lnTo>
                      <a:lnTo>
                        <a:pt x="181" y="44"/>
                      </a:lnTo>
                      <a:lnTo>
                        <a:pt x="179" y="81"/>
                      </a:lnTo>
                      <a:lnTo>
                        <a:pt x="172" y="114"/>
                      </a:lnTo>
                      <a:lnTo>
                        <a:pt x="161" y="143"/>
                      </a:lnTo>
                      <a:lnTo>
                        <a:pt x="141" y="184"/>
                      </a:lnTo>
                      <a:lnTo>
                        <a:pt x="118" y="247"/>
                      </a:lnTo>
                      <a:lnTo>
                        <a:pt x="104" y="286"/>
                      </a:lnTo>
                      <a:lnTo>
                        <a:pt x="86" y="420"/>
                      </a:lnTo>
                      <a:lnTo>
                        <a:pt x="90" y="449"/>
                      </a:lnTo>
                      <a:lnTo>
                        <a:pt x="103" y="498"/>
                      </a:lnTo>
                      <a:lnTo>
                        <a:pt x="55" y="422"/>
                      </a:lnTo>
                      <a:lnTo>
                        <a:pt x="0" y="399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116240" y="1951560"/>
                <a:ext cx="60336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80680" y="5624280"/>
                <a:ext cx="93384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flipV="1">
                <a:off x="4116240" y="4170600"/>
                <a:ext cx="0" cy="68832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17920" y="4093920"/>
                <a:ext cx="301680" cy="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81160" y="3787560"/>
                <a:ext cx="87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Fax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14200" y="3404520"/>
                <a:ext cx="772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ire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682720" y="4552560"/>
                <a:ext cx="754560" cy="459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7170840" y="1768320"/>
                <a:ext cx="703440" cy="536760"/>
                <a:chOff x="7170840" y="1768320"/>
                <a:chExt cx="703440" cy="5367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192800" y="1768320"/>
                  <a:ext cx="678240" cy="534960"/>
                </a:xfrm>
                <a:prstGeom prst="flowChartPredefined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70840" y="1846080"/>
                  <a:ext cx="703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e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835560" y="1462320"/>
                <a:ext cx="1659600" cy="15300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916800">
                <a:off x="1044360" y="2780280"/>
                <a:ext cx="226080" cy="994680"/>
              </a:xfrm>
              <a:custGeom>
                <a:avLst/>
                <a:gdLst>
                  <a:gd name="textAreaLeft" fmla="*/ 30240 w 226080"/>
                  <a:gd name="textAreaRight" fmla="*/ 195840 w 226080"/>
                  <a:gd name="textAreaTop" fmla="*/ 190080 h 994680"/>
                  <a:gd name="textAreaBottom" fmla="*/ 685080 h 994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10743"/>
                    </a:lnTo>
                    <a:arcTo wR="21600" hR="8259" stAng="10800000" swAng="-3336211"/>
                    <a:lnTo>
                      <a:pt x="16130" y="21331"/>
                    </a:lnTo>
                    <a:lnTo>
                      <a:pt x="21600" y="17760"/>
                    </a:lnTo>
                    <a:lnTo>
                      <a:pt x="16130" y="13651"/>
                    </a:lnTo>
                    <a:lnTo>
                      <a:pt x="16130" y="16249"/>
                    </a:lnTo>
                    <a:arcTo wR="21600" hR="8259" stAng="7463789" swAng="3136491"/>
                    <a:lnTo>
                      <a:pt x="246" y="9501"/>
                    </a:lnTo>
                    <a:arcTo wR="21600" hR="8259" stAng="-10600281" swAng="5200281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8259"/>
                    </a:lnTo>
                    <a:arcTo wR="21600" hR="8259" stAng="10800000" swAng="-199719"/>
                    <a:lnTo>
                      <a:pt x="246" y="9501"/>
                    </a:lnTo>
                    <a:arcTo wR="21600" hR="8259" stAng="-10600281" swAng="5200281"/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50000">
                    <a:srgbClr val="ffffff"/>
                  </a:gs>
                  <a:gs pos="100000">
                    <a:srgbClr val="ff66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1802600">
                <a:off x="1967400" y="2839320"/>
                <a:ext cx="150480" cy="1147680"/>
              </a:xfrm>
              <a:custGeom>
                <a:avLst/>
                <a:gdLst>
                  <a:gd name="textAreaLeft" fmla="*/ 20160 w 150480"/>
                  <a:gd name="textAreaRight" fmla="*/ 130320 w 150480"/>
                  <a:gd name="textAreaTop" fmla="*/ 219240 h 1147680"/>
                  <a:gd name="textAreaBottom" fmla="*/ 790200 h 11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10743"/>
                    </a:lnTo>
                    <a:arcTo wR="21600" hR="8259" stAng="10800000" swAng="-3336211"/>
                    <a:lnTo>
                      <a:pt x="16130" y="21331"/>
                    </a:lnTo>
                    <a:lnTo>
                      <a:pt x="21600" y="17760"/>
                    </a:lnTo>
                    <a:lnTo>
                      <a:pt x="16130" y="13651"/>
                    </a:lnTo>
                    <a:lnTo>
                      <a:pt x="16130" y="16249"/>
                    </a:lnTo>
                    <a:arcTo wR="21600" hR="8259" stAng="7463789" swAng="3136491"/>
                    <a:lnTo>
                      <a:pt x="246" y="9501"/>
                    </a:lnTo>
                    <a:arcTo wR="21600" hR="8259" stAng="-10600281" swAng="5200281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259" stAng="-5400000" swAng="-5400000"/>
                    <a:lnTo>
                      <a:pt x="0" y="8259"/>
                    </a:lnTo>
                    <a:arcTo wR="21600" hR="8259" stAng="10800000" swAng="-199719"/>
                    <a:lnTo>
                      <a:pt x="246" y="9501"/>
                    </a:lnTo>
                    <a:arcTo wR="21600" hR="8259" stAng="-10600281" swAng="5200281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0320" y="3757680"/>
                <a:ext cx="981000" cy="86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910800" y="1844640"/>
                <a:ext cx="830160" cy="689760"/>
                <a:chOff x="910800" y="1844640"/>
                <a:chExt cx="830160" cy="68976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910800" y="1844640"/>
                  <a:ext cx="830160" cy="58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0800" y="2380320"/>
                  <a:ext cx="617400" cy="15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5" name=""/>
              <p:cNvSpPr/>
              <p:nvPr/>
            </p:nvSpPr>
            <p:spPr>
              <a:xfrm>
                <a:off x="909360" y="1538640"/>
                <a:ext cx="95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Web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816560" y="1920240"/>
                <a:ext cx="761040" cy="536400"/>
                <a:chOff x="1816560" y="1920240"/>
                <a:chExt cx="761040" cy="536400"/>
              </a:xfrm>
            </p:grpSpPr>
            <p:pic>
              <p:nvPicPr>
                <p:cNvPr id="1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42640" y="2073960"/>
                  <a:ext cx="361800" cy="38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1816560" y="1920240"/>
                  <a:ext cx="761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gi/AS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436000" y="925200"/>
                <a:ext cx="785880" cy="689400"/>
                <a:chOff x="5436000" y="925200"/>
                <a:chExt cx="785880" cy="689400"/>
              </a:xfrm>
            </p:grpSpPr>
            <p:pic>
              <p:nvPicPr>
                <p:cNvPr id="20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589000" y="1155960"/>
                  <a:ext cx="45252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5436000" y="925200"/>
                  <a:ext cx="785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ign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6570000" y="2074320"/>
                <a:ext cx="60372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66640" y="1385640"/>
                <a:ext cx="603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35120" y="6492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649908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696080" y="246240"/>
            <a:ext cx="1123920" cy="471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28720" y="90000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Survey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900000"/>
            <a:ext cx="78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4560" y="3146400"/>
            <a:ext cx="72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2106720"/>
            <a:ext cx="7343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retail sale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monthly - 2 forms for three pages - 2,7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Telecommunication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annual – 3 forms for nine pages – 534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employment, working time and salary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monthly – 2 forms for three pages – 1,5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rvey on vacancies and worked hours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quarterly – 1 form for four pages – 8,000 responde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95480" y="584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6138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erception of the statistica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673280"/>
            <a:ext cx="813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Positive perceptions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eduction of time and co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crease in productiv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stant storage and retrieval of data immediately available in the production data 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Negative perceptions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ack of product experts for assistance during the collection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ong response time using the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erifier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fix data coming from paper for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mpossibility for respondents of saving partial versions of PDF for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686720" y="306360"/>
            <a:ext cx="1122480" cy="438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23840" y="613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6354720"/>
            <a:ext cx="77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76320" y="71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6920" y="16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80320" y="172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738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Central IT Directorat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123920" cy="471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92200" y="6492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6642000"/>
            <a:ext cx="772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UNECE/Eurostat OECD meeting on Management of Statistical Information Systems (MSIS) Geneva 17-19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1673280"/>
            <a:ext cx="7200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is an effective data capture softwar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deal with simple for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’s necessary to support costs for installation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maintenance of more adequat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rastructures (100Mbp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’s crucial to get tools for monitoring and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naging service levels of involved server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networ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eform is not the only possibility: let’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alyze the survey process peculiarities to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hoose the righ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16:03:04Z</dcterms:created>
  <dc:creator>ISTITUTO NAZIONALE STATISTICA</dc:creator>
  <dc:description/>
  <dc:language>en-US</dc:language>
  <cp:lastModifiedBy>larese</cp:lastModifiedBy>
  <cp:lastPrinted>2001-05-30T13:48:40Z</cp:lastPrinted>
  <dcterms:modified xsi:type="dcterms:W3CDTF">2004-05-04T12:42:42Z</dcterms:modified>
  <cp:revision>36</cp:revision>
  <dc:subject/>
  <dc:title>Nessun titolo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84432441</vt:r8>
  </property>
  <property fmtid="{D5CDD505-2E9C-101B-9397-08002B2CF9AE}" pid="3" name="_AuthorEmail">
    <vt:lpwstr>larese@istat.it</vt:lpwstr>
  </property>
  <property fmtid="{D5CDD505-2E9C-101B-9397-08002B2CF9AE}" pid="4" name="_AuthorEmailDisplayName">
    <vt:lpwstr>Patrizia Larese</vt:lpwstr>
  </property>
  <property fmtid="{D5CDD505-2E9C-101B-9397-08002B2CF9AE}" pid="5" name="_EmailSubject">
    <vt:lpwstr>Document for Meeting on Management of Statistical Information Systems (MSIS 2004)</vt:lpwstr>
  </property>
</Properties>
</file>