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92900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924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move the slide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C1A-C782-40CC-9EDC-5276CA55C24F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0C33-364D-4FAA-86DF-CD22A1B0E231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EAE-5737-4357-95F3-65AF4A1A238E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746-3377-41AE-988E-5FDAC21D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DA2-790A-4152-A78D-616CB33F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282-BD7B-455E-A01B-8F7DC92C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174-02D5-42F1-A822-90988E7A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A26-CC05-423D-A69E-50496E48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E17-DFF3-485E-957F-5FA238AC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D83-0DFF-4DA5-AAEC-AB7033A3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2FD-AE84-4AC8-824B-D164533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5F9-25E4-497B-BD0E-350F3A7E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8C3-64A9-4642-B0E9-41EAF85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650-CFB8-4415-BDDA-7046E098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6EA-4E97-47E6-B5A5-F1C3A71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83D-F7CC-4308-9A58-B7632C8D0785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D0830046-B65C-4C89-B79D-2F85ABD96F6E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914400" indent="130320" algn="ctr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371600" indent="921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1828800" indent="54000" algn="ctr">
              <a:spcBef>
                <a:spcPts val="349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Web-based data dissemination services of the statistical information system GENESIS  </a:t>
            </a:r>
            <a:br>
              <a:rPr sz="4400"/>
            </a:br>
            <a:endParaRPr b="0" lang="en-US" sz="44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rnst Schrey   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Head of Division IT-Userservice, 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Statistical and Geografical-Information Systems-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-Mail: ernst.schrey@destatis.de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0200" y="4723200"/>
            <a:ext cx="209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Meeting on M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17. -19.5.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Table download (.CSV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364400"/>
            <a:ext cx="807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NESIS-Tabelle: Temporä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dizes der tariflichen Stundenlöhne, Wochenlöhne, Wochen-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rbeitszeit: Früheres Bundesgebiet/Neue Länder, Jahr,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Monate, Gewerbliche Wirtschaft und Gebietskörperschaften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Monatl.Indizes d.tarifl.Wochenarbeitszeiten, Löhne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;;;Gewerbliche Wirtschaft und Gebietskörperschaften;Gewerbliche Wirtschaft und Gebietskörperschafte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werbliche Wirtschaft und Gebietskörperschaften;Gewerbliche Wirtschaft u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Januar;98,6;98,6;100,0;98,5;98,5;100,0;98,4;98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Februar;98,6;98,6;100,0;98,5;98,5;100,0;98,4;98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März;98,6;98,6;100,0;98,5;98,5;100,0;98,4;98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April;99,1;99,1;100,0;99,1;99,1;100,0;99,4;99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055-9F31-44C0-A921-B75E58C296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F5DBE-A1F3-4127-A864-496BBBCDB5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Table download (.CSV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714680"/>
            <a:ext cx="80773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Januar;99,1;99,2;100,0;99,1;99,1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Februar;99,2;99,2;100,0;99,2;99,2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März;99,2;99,2;100,0;99,2;99,2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April;99,2;99,2;100,0;99,2;99,2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Mai;99,8;99,8;100,0;100,0;100,0;100,0;99,3;99,5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Juni;100,0;100,0;100,0;100,2;100,2;100,0;99,8;100,1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C)opyright Statistisches Bundesamt, Wiesbade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and: 29.04.2004 / 16:26:56 / Format CSV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FA3-FE2E-439D-B184-E1C01D4CF4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702DE-2DF3-4124-B030-74A96B3418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Cube-export  download (.CSV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549080"/>
            <a:ext cx="8077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* Der Benutzer GP100103 der Benutzergruppe GP1001 hat am 30.04.2004 um 17:26:14 diesen Export angesto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;FACH-SCHL;GHH-ART;GHM-WERTE-JN;REGIOSTAT;EU-VBD;GENESIS-VBD;"mit Wert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62231BM003;;N;N;N;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-ERH;FACH-SC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622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A;NAME;RHF-BSR;RHF-ACH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INSGF;3;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MONAT;2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WIRBR7;1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Z;NAME;ZI-RHF-BSR;ZI-RHF-ACH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JAHR;4;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I;NAME;ME-NAME;DST;TYP;NKM-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VST016;2000=100;FEST;PROZEN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VST017;2000=100;FEST;PROZEN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VST018;2000=100;FEST;PROZEN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QEI;FACH-SCHL;FACH-SCHL;FACH-SCHL;ZI-WERT;WERT;QUALITAET;GESPERRT;WERT-VERFAELS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002;2000;98.6;p;;0.0;98.6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2;2000;98.5;p;;0.0;98.5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33;2000;98.4;p;;0.0;98.4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51;2000;99.2;p;;0.0;99.2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002;2000;98.6;p;;0.0;98.6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2;2000;98.5;p;;0.0;98.5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33;2000;98.4;p;;0.0;98.4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51;2000;99.2;p;;0.0;99.2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3;WIRTBER002;2000;98.6;p;;0.0;98.6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B80-3204-4621-9419-CCA40C08DE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20F02-6CF7-4FEE-904A-FB3C4E102E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60" y="914400"/>
            <a:ext cx="91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Data objects and formats the user gets by differen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06360" y="1943280"/>
          <a:ext cx="7683480" cy="971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1943280"/>
                    <a:ext cx="7683480" cy="971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1CD-5D60-48EE-85FC-3E9F7B75AE5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61DB3-BBBA-4D5E-A92C-C7D73C2304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GENESIS ...</a:t>
            </a:r>
            <a:br>
              <a:rPr sz="2800"/>
            </a:b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... a data cube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3880" y="3581280"/>
            <a:ext cx="3019320" cy="1904400"/>
            <a:chOff x="1523880" y="3581280"/>
            <a:chExt cx="3019320" cy="1904400"/>
          </a:xfrm>
        </p:grpSpPr>
        <p:grpSp>
          <p:nvGrpSpPr>
            <p:cNvPr id="97" name=""/>
            <p:cNvGrpSpPr/>
            <p:nvPr/>
          </p:nvGrpSpPr>
          <p:grpSpPr>
            <a:xfrm>
              <a:off x="1786320" y="3581280"/>
              <a:ext cx="2756880" cy="1642320"/>
              <a:chOff x="1786320" y="3581280"/>
              <a:chExt cx="2756880" cy="1642320"/>
            </a:xfrm>
          </p:grpSpPr>
          <p:sp>
            <p:nvSpPr>
              <p:cNvPr id="98" name=""/>
              <p:cNvSpPr/>
              <p:nvPr/>
            </p:nvSpPr>
            <p:spPr>
              <a:xfrm>
                <a:off x="178632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60360" y="470952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3620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10240" y="4709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8284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55440" y="470952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3272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8632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60360" y="4331520"/>
                <a:ext cx="5133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3620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10240" y="4331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284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55440" y="4331520"/>
                <a:ext cx="51444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272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8632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60360" y="395604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3620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10240" y="39560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8284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55440" y="395604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3272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8632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0360" y="3581280"/>
                <a:ext cx="5133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3620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10240" y="35812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284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55440" y="3581280"/>
                <a:ext cx="51444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3272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654920" y="3710520"/>
              <a:ext cx="2756880" cy="1645560"/>
              <a:chOff x="1654920" y="3710520"/>
              <a:chExt cx="2756880" cy="1645560"/>
            </a:xfrm>
          </p:grpSpPr>
          <p:sp>
            <p:nvSpPr>
              <p:cNvPr id="127" name=""/>
              <p:cNvSpPr/>
              <p:nvPr/>
            </p:nvSpPr>
            <p:spPr>
              <a:xfrm>
                <a:off x="16549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32200" y="484200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0444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7848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51440" y="484200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2836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013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549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32200" y="446364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0444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7848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51440" y="446364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2836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013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549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32200" y="4088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0444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7848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51440" y="408852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2836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013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549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32200" y="3710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0444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7848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51440" y="3710520"/>
                <a:ext cx="51480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2836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013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523880" y="3840120"/>
              <a:ext cx="2756160" cy="1645560"/>
              <a:chOff x="1523880" y="3840120"/>
              <a:chExt cx="2756160" cy="1645560"/>
            </a:xfrm>
          </p:grpSpPr>
          <p:sp>
            <p:nvSpPr>
              <p:cNvPr id="156" name=""/>
              <p:cNvSpPr/>
              <p:nvPr/>
            </p:nvSpPr>
            <p:spPr>
              <a:xfrm>
                <a:off x="152388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0080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7340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4744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0040" y="497196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9732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6992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2388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0080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7340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4744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20040" y="459324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9732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6992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388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0080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340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4744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20040" y="421848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9732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6992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2388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0080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340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4744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20040" y="3840120"/>
                <a:ext cx="51480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9732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6992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4876920" y="1066680"/>
            <a:ext cx="407016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wages per hour and per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3400" indent="-17136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2000 till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33840" y="4224240"/>
            <a:ext cx="2271600" cy="1347480"/>
            <a:chOff x="4533840" y="4224240"/>
            <a:chExt cx="2271600" cy="1347480"/>
          </a:xfrm>
        </p:grpSpPr>
        <p:sp>
          <p:nvSpPr>
            <p:cNvPr id="186" name=""/>
            <p:cNvSpPr/>
            <p:nvPr/>
          </p:nvSpPr>
          <p:spPr>
            <a:xfrm>
              <a:off x="5881680" y="4224240"/>
              <a:ext cx="923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de3ba"/>
              </a:solidFill>
              <a:miter/>
            </a:ln>
            <a:effectLst>
              <a:outerShdw dist="107932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533840" y="4572000"/>
              <a:ext cx="1144800" cy="820800"/>
              <a:chOff x="4533840" y="4572000"/>
              <a:chExt cx="1144800" cy="820800"/>
            </a:xfrm>
          </p:grpSpPr>
          <p:sp>
            <p:nvSpPr>
              <p:cNvPr id="188" name=""/>
              <p:cNvSpPr/>
              <p:nvPr/>
            </p:nvSpPr>
            <p:spPr>
              <a:xfrm>
                <a:off x="4533840" y="4572000"/>
                <a:ext cx="1144800" cy="820800"/>
              </a:xfrm>
              <a:custGeom>
                <a:avLst/>
                <a:gdLst/>
                <a:ahLst/>
                <a:rect l="l" t="t" r="r" b="b"/>
                <a:pathLst>
                  <a:path w="721" h="517">
                    <a:moveTo>
                      <a:pt x="84" y="516"/>
                    </a:moveTo>
                    <a:lnTo>
                      <a:pt x="336" y="516"/>
                    </a:lnTo>
                    <a:lnTo>
                      <a:pt x="648" y="211"/>
                    </a:lnTo>
                    <a:lnTo>
                      <a:pt x="720" y="211"/>
                    </a:lnTo>
                    <a:lnTo>
                      <a:pt x="636" y="0"/>
                    </a:lnTo>
                    <a:lnTo>
                      <a:pt x="216" y="199"/>
                    </a:lnTo>
                    <a:lnTo>
                      <a:pt x="324" y="199"/>
                    </a:lnTo>
                    <a:lnTo>
                      <a:pt x="0" y="516"/>
                    </a:lnTo>
                    <a:lnTo>
                      <a:pt x="84" y="516"/>
                    </a:lnTo>
                  </a:path>
                </a:pathLst>
              </a:cu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768920" y="4940280"/>
                <a:ext cx="615960" cy="349200"/>
                <a:chOff x="4768920" y="4940280"/>
                <a:chExt cx="615960" cy="34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111640" y="4940280"/>
                  <a:ext cx="273240" cy="63360"/>
                </a:xfrm>
                <a:prstGeom prst="parallelogram">
                  <a:avLst>
                    <a:gd name="adj" fmla="val 10779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40280" y="5092560"/>
                  <a:ext cx="273240" cy="63720"/>
                </a:xfrm>
                <a:prstGeom prst="parallelogram">
                  <a:avLst>
                    <a:gd name="adj" fmla="val 10718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768920" y="5226120"/>
                  <a:ext cx="272880" cy="63360"/>
                </a:xfrm>
                <a:prstGeom prst="parallelogram">
                  <a:avLst>
                    <a:gd name="adj" fmla="val 107650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5180040" y="4890960"/>
              <a:ext cx="879480" cy="680760"/>
              <a:chOff x="5180040" y="4890960"/>
              <a:chExt cx="879480" cy="680760"/>
            </a:xfrm>
          </p:grpSpPr>
          <p:sp>
            <p:nvSpPr>
              <p:cNvPr id="194" name=""/>
              <p:cNvSpPr/>
              <p:nvPr/>
            </p:nvSpPr>
            <p:spPr>
              <a:xfrm>
                <a:off x="5180040" y="5291280"/>
                <a:ext cx="5173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790015"/>
                    </a:solidFill>
                    <a:latin typeface="Arial Narrow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5313240" y="4890960"/>
                <a:ext cx="746280" cy="471240"/>
                <a:chOff x="5313240" y="4890960"/>
                <a:chExt cx="746280" cy="471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313240" y="50817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541840" y="48909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8" name=""/>
          <p:cNvGrpSpPr/>
          <p:nvPr/>
        </p:nvGrpSpPr>
        <p:grpSpPr>
          <a:xfrm>
            <a:off x="1274760" y="5457960"/>
            <a:ext cx="4592520" cy="1065960"/>
            <a:chOff x="1274760" y="5457960"/>
            <a:chExt cx="4592520" cy="1065960"/>
          </a:xfrm>
        </p:grpSpPr>
        <p:grpSp>
          <p:nvGrpSpPr>
            <p:cNvPr id="199" name=""/>
            <p:cNvGrpSpPr/>
            <p:nvPr/>
          </p:nvGrpSpPr>
          <p:grpSpPr>
            <a:xfrm>
              <a:off x="1274760" y="5457960"/>
              <a:ext cx="4592520" cy="1065960"/>
              <a:chOff x="1274760" y="5457960"/>
              <a:chExt cx="4592520" cy="1065960"/>
            </a:xfrm>
          </p:grpSpPr>
          <p:sp>
            <p:nvSpPr>
              <p:cNvPr id="200" name=""/>
              <p:cNvSpPr/>
              <p:nvPr/>
            </p:nvSpPr>
            <p:spPr>
              <a:xfrm>
                <a:off x="4724280" y="5867280"/>
                <a:ext cx="1143000" cy="36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de3ba"/>
                </a:solidFill>
                <a:miter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„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Land“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400040" y="5457960"/>
                <a:ext cx="3124440" cy="971280"/>
              </a:xfrm>
              <a:prstGeom prst="rightArrow">
                <a:avLst>
                  <a:gd name="adj1" fmla="val 50000"/>
                  <a:gd name="adj2" fmla="val 45050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274760" y="6243480"/>
                <a:ext cx="2616120" cy="280440"/>
                <a:chOff x="1274760" y="6243480"/>
                <a:chExt cx="2616120" cy="2804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67472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H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74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SH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417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055960" y="6243480"/>
                  <a:ext cx="5173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B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17720" y="6243480"/>
                  <a:ext cx="10731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RW   . . .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1546200" y="5818320"/>
              <a:ext cx="2335320" cy="272880"/>
              <a:chOff x="1546200" y="5818320"/>
              <a:chExt cx="2335320" cy="27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227016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51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80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462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94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3224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7008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0" y="3124080"/>
            <a:ext cx="1599480" cy="2970720"/>
            <a:chOff x="0" y="3124080"/>
            <a:chExt cx="1599480" cy="2970720"/>
          </a:xfrm>
        </p:grpSpPr>
        <p:grpSp>
          <p:nvGrpSpPr>
            <p:cNvPr id="217" name=""/>
            <p:cNvGrpSpPr/>
            <p:nvPr/>
          </p:nvGrpSpPr>
          <p:grpSpPr>
            <a:xfrm>
              <a:off x="0" y="3124080"/>
              <a:ext cx="1599480" cy="2970720"/>
              <a:chOff x="0" y="3124080"/>
              <a:chExt cx="1599480" cy="2970720"/>
            </a:xfrm>
          </p:grpSpPr>
          <p:sp>
            <p:nvSpPr>
              <p:cNvPr id="218" name=""/>
              <p:cNvSpPr/>
              <p:nvPr/>
            </p:nvSpPr>
            <p:spPr>
              <a:xfrm>
                <a:off x="594360" y="3124080"/>
                <a:ext cx="88236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e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200000">
                <a:off x="-114480" y="4380480"/>
                <a:ext cx="2325240" cy="1103400"/>
              </a:xfrm>
              <a:prstGeom prst="rightArrow">
                <a:avLst>
                  <a:gd name="adj1" fmla="val 50000"/>
                  <a:gd name="adj2" fmla="val 50742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0" y="4453560"/>
                <a:ext cx="820440" cy="1507680"/>
                <a:chOff x="0" y="4453560"/>
                <a:chExt cx="820440" cy="15076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0" y="5680080"/>
                  <a:ext cx="66528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0" y="5292720"/>
                  <a:ext cx="820440" cy="2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490680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fe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445356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897120" y="4509000"/>
              <a:ext cx="350640" cy="1347120"/>
              <a:chOff x="897120" y="4509000"/>
              <a:chExt cx="350640" cy="1347120"/>
            </a:xfrm>
          </p:grpSpPr>
          <p:sp>
            <p:nvSpPr>
              <p:cNvPr id="226" name=""/>
              <p:cNvSpPr/>
              <p:nvPr/>
            </p:nvSpPr>
            <p:spPr>
              <a:xfrm>
                <a:off x="897120" y="4939560"/>
                <a:ext cx="350640" cy="9828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97120" y="450900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97120" y="534852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7120" y="575748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30" name=""/>
          <p:cNvGraphicFramePr/>
          <p:nvPr/>
        </p:nvGraphicFramePr>
        <p:xfrm>
          <a:off x="203040" y="6603840"/>
          <a:ext cx="132084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6603840"/>
                    <a:ext cx="13208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523880" y="47242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419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3962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76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38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57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19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200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81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62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148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3809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36576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9625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657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952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5812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148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114800" y="5105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4864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7BC-CE64-4280-B7E0-5C37000C5B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FCE91-7908-4E5E-87B4-5F40AD4AA20B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Data cell</a:t>
            </a:r>
            <a:r>
              <a:rPr b="0" lang="de-DE" sz="30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de-DE" sz="3000" spc="-1" strike="noStrike">
                <a:solidFill>
                  <a:srgbClr val="cc0033"/>
                </a:solidFill>
                <a:latin typeface="MetaMediumLF-Roman"/>
              </a:rPr>
              <a:t>and c</a:t>
            </a: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ontent(s) (value, flags) 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514600" y="2616120"/>
            <a:ext cx="6451560" cy="3487680"/>
            <a:chOff x="2514600" y="2616120"/>
            <a:chExt cx="6451560" cy="3487680"/>
          </a:xfrm>
        </p:grpSpPr>
        <p:sp>
          <p:nvSpPr>
            <p:cNvPr id="263" name=""/>
            <p:cNvSpPr/>
            <p:nvPr/>
          </p:nvSpPr>
          <p:spPr>
            <a:xfrm>
              <a:off x="3911760" y="2616120"/>
              <a:ext cx="5054400" cy="299736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59120" y="2997360"/>
              <a:ext cx="4997520" cy="299700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2: wages per hour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400" y="3411360"/>
              <a:ext cx="4949640" cy="269244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1: wages per month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quality                e = estim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isclo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efaul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5200560"/>
              <a:ext cx="857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58760" y="1968480"/>
            <a:ext cx="288288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30120" y="2103120"/>
            <a:ext cx="2643120" cy="1681560"/>
            <a:chOff x="330120" y="2103120"/>
            <a:chExt cx="2643120" cy="1681560"/>
          </a:xfrm>
        </p:grpSpPr>
        <p:grpSp>
          <p:nvGrpSpPr>
            <p:cNvPr id="269" name=""/>
            <p:cNvGrpSpPr/>
            <p:nvPr/>
          </p:nvGrpSpPr>
          <p:grpSpPr>
            <a:xfrm>
              <a:off x="816120" y="2152800"/>
              <a:ext cx="1525320" cy="1054080"/>
              <a:chOff x="816120" y="2152800"/>
              <a:chExt cx="1525320" cy="10540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947880" y="2152800"/>
                <a:ext cx="1393560" cy="904680"/>
                <a:chOff x="947880" y="2152800"/>
                <a:chExt cx="1393560" cy="904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4788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136520" y="27781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32876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519200" y="27781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70820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897200" y="27781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90880" y="27781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94788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36520" y="2568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32876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519200" y="2568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70820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97200" y="2568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090880" y="25686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4788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6520" y="23623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32876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19200" y="23623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0820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97200" y="23623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090880" y="23623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4788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136520" y="21528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32876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19200" y="21528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70820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897200" y="21528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90880" y="21528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880920" y="2217600"/>
                <a:ext cx="1401840" cy="916200"/>
                <a:chOff x="880920" y="2217600"/>
                <a:chExt cx="1401840" cy="9162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880920" y="284940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07460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26540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455840" y="284940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44480" y="284940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83816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02896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80920" y="2638440"/>
                  <a:ext cx="2556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7460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26540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55840" y="2638440"/>
                  <a:ext cx="2523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644480" y="2638440"/>
                  <a:ext cx="2574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83816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02896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80920" y="242712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07460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26540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55840" y="242712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44480" y="242712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816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2896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80920" y="2217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07460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26540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455840" y="2217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44480" y="2217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83816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2896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816120" y="2281320"/>
                <a:ext cx="1409400" cy="925560"/>
                <a:chOff x="816120" y="2281320"/>
                <a:chExt cx="1409400" cy="9255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81612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00980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200240" y="292104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39068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8436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76240" y="292104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968480" y="292104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1612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0980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200240" y="2706840"/>
                  <a:ext cx="2556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9068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58436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76240" y="2706840"/>
                  <a:ext cx="2574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968480" y="2706840"/>
                  <a:ext cx="2570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1612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00980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00240" y="249552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39068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58436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76240" y="249552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968480" y="249552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1612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00980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200240" y="2281320"/>
                  <a:ext cx="2556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9068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8436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76240" y="2281320"/>
                  <a:ext cx="2574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960560" y="2290680"/>
              <a:ext cx="254160" cy="282600"/>
            </a:xfrm>
            <a:prstGeom prst="cube">
              <a:avLst>
                <a:gd name="adj" fmla="val 24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30120" y="2103120"/>
              <a:ext cx="419040" cy="1104840"/>
              <a:chOff x="330120" y="2103120"/>
              <a:chExt cx="419040" cy="110484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-12600" y="2445840"/>
                <a:ext cx="1104840" cy="419040"/>
              </a:xfrm>
              <a:prstGeom prst="rightArrow">
                <a:avLst>
                  <a:gd name="adj1" fmla="val 50000"/>
                  <a:gd name="adj2" fmla="val 6348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484200" y="2454120"/>
                <a:ext cx="130320" cy="644760"/>
                <a:chOff x="484200" y="2454120"/>
                <a:chExt cx="130320" cy="6447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84200" y="266220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84200" y="245412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84200" y="285912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84200" y="305604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816120" y="3268800"/>
              <a:ext cx="1560240" cy="515880"/>
              <a:chOff x="816120" y="3268800"/>
              <a:chExt cx="1560240" cy="515880"/>
            </a:xfrm>
          </p:grpSpPr>
          <p:sp>
            <p:nvSpPr>
              <p:cNvPr id="365" name=""/>
              <p:cNvSpPr/>
              <p:nvPr/>
            </p:nvSpPr>
            <p:spPr>
              <a:xfrm>
                <a:off x="816120" y="3268800"/>
                <a:ext cx="1560240" cy="515880"/>
              </a:xfrm>
              <a:prstGeom prst="rightArrow">
                <a:avLst>
                  <a:gd name="adj1" fmla="val 50000"/>
                  <a:gd name="adj2" fmla="val 4235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884160" y="3460680"/>
                <a:ext cx="1170000" cy="144360"/>
                <a:chOff x="884160" y="3460680"/>
                <a:chExt cx="1170000" cy="1443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24920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44144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06848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8416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1780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6720" y="3460680"/>
                  <a:ext cx="3492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652760" y="3460680"/>
                  <a:ext cx="3780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2395440" y="2779560"/>
              <a:ext cx="577800" cy="447840"/>
              <a:chOff x="2395440" y="2779560"/>
              <a:chExt cx="577800" cy="447840"/>
            </a:xfrm>
          </p:grpSpPr>
          <p:sp>
            <p:nvSpPr>
              <p:cNvPr id="375" name=""/>
              <p:cNvSpPr/>
              <p:nvPr/>
            </p:nvSpPr>
            <p:spPr>
              <a:xfrm>
                <a:off x="2395440" y="2779560"/>
                <a:ext cx="577800" cy="447840"/>
              </a:xfrm>
              <a:custGeom>
                <a:avLst/>
                <a:gdLst/>
                <a:ahLst/>
                <a:rect l="l" t="t" r="r" b="b"/>
                <a:pathLst>
                  <a:path w="364" h="282">
                    <a:moveTo>
                      <a:pt x="42" y="281"/>
                    </a:moveTo>
                    <a:lnTo>
                      <a:pt x="169" y="281"/>
                    </a:lnTo>
                    <a:lnTo>
                      <a:pt x="327" y="115"/>
                    </a:lnTo>
                    <a:lnTo>
                      <a:pt x="363" y="115"/>
                    </a:lnTo>
                    <a:lnTo>
                      <a:pt x="321" y="0"/>
                    </a:lnTo>
                    <a:lnTo>
                      <a:pt x="109" y="109"/>
                    </a:lnTo>
                    <a:lnTo>
                      <a:pt x="163" y="109"/>
                    </a:lnTo>
                    <a:lnTo>
                      <a:pt x="0" y="281"/>
                    </a:lnTo>
                    <a:lnTo>
                      <a:pt x="42" y="281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2517840" y="2982960"/>
                <a:ext cx="303120" cy="185760"/>
                <a:chOff x="2517840" y="2982960"/>
                <a:chExt cx="303120" cy="185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90640" y="2982960"/>
                  <a:ext cx="130320" cy="28440"/>
                </a:xfrm>
                <a:prstGeom prst="parallelogram">
                  <a:avLst>
                    <a:gd name="adj" fmla="val 114536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03520" y="3065400"/>
                  <a:ext cx="131760" cy="28800"/>
                </a:xfrm>
                <a:prstGeom prst="parallelogram">
                  <a:avLst>
                    <a:gd name="adj" fmla="val 114354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517840" y="3138480"/>
                  <a:ext cx="131760" cy="30240"/>
                </a:xfrm>
                <a:prstGeom prst="parallelogram">
                  <a:avLst>
                    <a:gd name="adj" fmla="val 108908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-119520" y="2666880"/>
            <a:ext cx="6959880" cy="3566520"/>
            <a:chOff x="-119520" y="2666880"/>
            <a:chExt cx="6959880" cy="3566520"/>
          </a:xfrm>
        </p:grpSpPr>
        <p:grpSp>
          <p:nvGrpSpPr>
            <p:cNvPr id="381" name=""/>
            <p:cNvGrpSpPr/>
            <p:nvPr/>
          </p:nvGrpSpPr>
          <p:grpSpPr>
            <a:xfrm>
              <a:off x="-119520" y="2666880"/>
              <a:ext cx="2640240" cy="3566520"/>
              <a:chOff x="-119520" y="2666880"/>
              <a:chExt cx="2640240" cy="3566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152280" y="2666880"/>
                <a:ext cx="1924200" cy="3508560"/>
                <a:chOff x="152280" y="2666880"/>
                <a:chExt cx="1924200" cy="35085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52280" y="4186080"/>
                  <a:ext cx="1924200" cy="198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1499760" y="2666880"/>
                  <a:ext cx="567360" cy="1409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180000" y="4456080"/>
                <a:ext cx="23407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mon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5000" y="4265640"/>
                <a:ext cx="22021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hou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70120" y="4108320"/>
                <a:ext cx="17640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0120" y="5619600"/>
                <a:ext cx="176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47760" y="599580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-119520" y="595296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14.50 ; e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3920" y="4182840"/>
              <a:ext cx="6796440" cy="1982880"/>
              <a:chOff x="43920" y="4182840"/>
              <a:chExt cx="6796440" cy="1982880"/>
            </a:xfrm>
          </p:grpSpPr>
          <p:sp>
            <p:nvSpPr>
              <p:cNvPr id="392" name=""/>
              <p:cNvSpPr/>
              <p:nvPr/>
            </p:nvSpPr>
            <p:spPr>
              <a:xfrm>
                <a:off x="328680" y="450036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6080" y="432900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6508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32480" y="4344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920" y="579600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2391 ; e 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220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9960" y="432576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9000" y="4182840"/>
                <a:ext cx="0" cy="149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4800" y="582444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3480" y="567216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53000" y="5683320"/>
                <a:ext cx="49644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97160" y="5248080"/>
                <a:ext cx="94320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80880" indent="-380880">
                  <a:lnSpc>
                    <a:spcPct val="90000"/>
                  </a:lnSpc>
                  <a:spcBef>
                    <a:spcPts val="337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D85-FA67-4BB8-8127-AC6A9AFB2BE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47FD2-9768-4A64-8C79-A802B3857840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GENESIS data from the user’s point of view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06" name="bild5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467480" cy="461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64A-5476-4CF5-B49F-9DD7BAC733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CEC51-4CEF-41B7-9F84-97C0540916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GENESIS-Online homepage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09" name="bild1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705360" cy="479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A67-C8DF-42E0-8680-933279AAC0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94AEE-3F52-4235-894A-180F0A05C7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Retrieval / navigation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12" name="bild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D2E-904C-4C3E-95EE-7E7C51857A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329B1-037B-4108-BA94-8F4C517F99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List of objects (cubes, tables, items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15" name="bild6" descr=""/>
          <p:cNvPicPr/>
          <p:nvPr/>
        </p:nvPicPr>
        <p:blipFill>
          <a:blip r:embed="rId1"/>
          <a:stretch/>
        </p:blipFill>
        <p:spPr>
          <a:xfrm>
            <a:off x="914400" y="1555920"/>
            <a:ext cx="7772400" cy="46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93A-22B7-41B5-BE12-092350CA55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62AC2-E7B1-4849-8925-F2115AFC97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List of tables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18" name="bild3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553080" cy="477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3E3-FF20-49A6-88EE-91A4CDD9F3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1AE1C-B671-43D5-AB77-9D1803952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Design of a table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21" name="bild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62E-9472-4CD8-9C18-6788CF5FB5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A171D-7ECB-4EA0-B182-E0B68D4A6C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1:48:16Z</dcterms:created>
  <dc:creator>Schrey-E</dc:creator>
  <dc:description/>
  <dc:language>en-US</dc:language>
  <cp:lastModifiedBy>Schrey-E</cp:lastModifiedBy>
  <cp:lastPrinted>2003-10-28T16:32:09Z</cp:lastPrinted>
  <dcterms:modified xsi:type="dcterms:W3CDTF">2004-04-30T15:46:02Z</dcterms:modified>
  <cp:revision>75</cp:revision>
  <dc:subject/>
  <dc:title>Umsetzung des Betriebs -und Nutzungskonzepts von GENESIS in Verbindung mit der Einführung neuer Auswertungs- und Analysewerkzeuge</dc:title>
</cp:coreProperties>
</file>