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92900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92400" cy="10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35200" y="754200"/>
            <a:ext cx="50227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move the slide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91720" y="4771800"/>
            <a:ext cx="490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7D71-BE78-4B0D-9DE2-B4AAC023B91A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49B2-D900-468B-9AEC-2BDB6CBB7E3A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893880" y="4775040"/>
            <a:ext cx="49053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917640" y="885960"/>
            <a:ext cx="4771800" cy="3579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792600" y="954540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C440-D519-4726-9055-341FFD64A08D}" type="slidenum"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954540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-360"/>
            <a:ext cx="29005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792600" y="-360"/>
            <a:ext cx="29001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893880" y="4775040"/>
            <a:ext cx="49053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ldImg"/>
          </p:nvPr>
        </p:nvSpPr>
        <p:spPr>
          <a:xfrm>
            <a:off x="917640" y="885960"/>
            <a:ext cx="4771800" cy="3579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99C-55E6-4E31-960E-192D077F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B38-EBE4-412C-B02F-52DA89DC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BAC-DB6A-4892-981E-72A91F3F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39C-DABF-4CA5-BDAD-B0EAD381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4BB-DF8D-46FD-9C27-B8DF9E1E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792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6560" y="170784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792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6560" y="4057920"/>
            <a:ext cx="26650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4EC-01CD-4EA6-A10B-B9459ADF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D6D-69EA-4D99-B77B-1AC56734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A35-24CC-4423-9ACA-6FDAD280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1133640"/>
            <a:ext cx="82774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1E0-BE7F-41D7-8938-0D2B9FDC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E90-7762-411C-8782-7176F3A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800" y="405792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31C-5259-4579-9936-FC6BEDE2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800" y="1707840"/>
            <a:ext cx="403920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57920"/>
            <a:ext cx="8277480" cy="21459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157-E8B3-443E-B1C2-4B1D1E31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66"/>
                </a:solidFill>
                <a:latin typeface="MetaMediumLF-Roman"/>
              </a:rPr>
              <a:t>Click to edit the title text format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707840"/>
            <a:ext cx="8277480" cy="4498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853920" indent="-28548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1273320" indent="-2286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692360" indent="-2286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2111400" indent="-228600">
              <a:spcBef>
                <a:spcPts val="550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2111400" indent="-228600">
              <a:spcBef>
                <a:spcPts val="550"/>
              </a:spcBef>
              <a:buClr>
                <a:srgbClr val="000000"/>
              </a:buClr>
              <a:buFont typeface="MetaMediumLF-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6400" y="6351480"/>
            <a:ext cx="107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877F-2180-4675-8522-AC5ED6C33A9B}" type="datetime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txBody>
          <a:bodyPr lIns="558000" rIns="0" tIns="0" bIns="108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MediumLF-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04040" y="6351480"/>
            <a:ext cx="70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MetaMedium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MediumLF-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Folie </a:t>
            </a:r>
            <a:fld id="{9A32E287-4FC2-4F3F-A32E-CD1379BE62E9}" type="slidenum"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477120"/>
            <a:ext cx="6118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 Federal Statistical Office Germany, I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" y="0"/>
            <a:ext cx="91407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1402920"/>
            <a:ext cx="827748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0" lang="en-US" sz="48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6" name=""/>
          <p:cNvSpPr/>
          <p:nvPr/>
        </p:nvSpPr>
        <p:spPr>
          <a:xfrm>
            <a:off x="557280" y="6351480"/>
            <a:ext cx="575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MediumLF-Roman"/>
              </a:rPr>
              <a:t>©Federal Statistical Office Get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0052" r="7674" b="10052"/>
          <a:stretch/>
        </p:blipFill>
        <p:spPr>
          <a:xfrm>
            <a:off x="7085160" y="82440"/>
            <a:ext cx="1976400" cy="65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etaMediumLF-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MetaMediumLF-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2" marL="914400" indent="130320" algn="ctr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3" marL="1371600" indent="92160" algn="ctr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taMediumLF-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MetaMediumLF-Roman"/>
            </a:endParaRPr>
          </a:p>
          <a:p>
            <a:pPr lvl="4" marL="1828800" indent="54000" algn="ctr">
              <a:spcBef>
                <a:spcPts val="349"/>
              </a:spcBef>
              <a:buClr>
                <a:srgbClr val="990033"/>
              </a:buClr>
              <a:buFont typeface="MetaMediumLF-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5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  <a:p>
            <a:pPr lvl="6" marL="1828800" indent="54000">
              <a:spcBef>
                <a:spcPts val="349"/>
              </a:spcBef>
              <a:buClr>
                <a:srgbClr val="000000"/>
              </a:buClr>
              <a:buFont typeface="MetaMedium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LF-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MetaMedium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666666"/>
                </a:solidFill>
                <a:latin typeface="Times New Roman"/>
              </a:rPr>
              <a:t>Web-based data dissemination services of the statistical information system GENESIS  </a:t>
            </a:r>
            <a:br>
              <a:rPr sz="4400"/>
            </a:br>
            <a:endParaRPr b="0" lang="en-US" sz="44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Ernst Schrey   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Head of Division IT-Userservice, 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Statistical and Geografical-Information Systems-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E-Mail: ernst.schrey@destatis.de</a:t>
            </a:r>
            <a:endParaRPr b="0" lang="en-US" sz="20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0200" y="4723200"/>
            <a:ext cx="209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Meeting on M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Gene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9999"/>
                </a:solidFill>
                <a:latin typeface="Times New Roman"/>
              </a:rPr>
              <a:t>17. -19.5.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Table download (.CSV)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1364400"/>
            <a:ext cx="807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GENESIS-Tabelle: Temporä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ndizes der tariflichen Stundenlöhne, Wochenlöhne, Wochen-;;;;;;;;;;;;;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arbeitszeit: Früheres Bundesgebiet/Neue Länder, Jahr,;;;;;;;;;;;;;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Monate, Gewerbliche Wirtschaft und Gebietskörperschaften;;;;;;;;;;;;;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Monatl.Indizes d.tarifl.Wochenarbeitszeiten, Löhne;;;;;;;;;;;;;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;;;Gewerbliche Wirtschaft und Gebietskörperschaften;Gewerbliche Wirtschaft und Gebietskörperschafte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Gewerbliche Wirtschaft und Gebietskörperschaften;Gewerbliche Wirtschaft u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Früheres Bundesgebiet;2000;Januar;98,6;98,6;100,0;98,5;98,5;100,0;98,4;98,4;100,0;99,2;99,2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Früheres Bundesgebiet;2000;Februar;98,6;98,6;100,0;98,5;98,5;100,0;98,4;98,4;100,0;99,2;99,2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Früheres Bundesgebiet;2000;März;98,6;98,6;100,0;98,5;98,5;100,0;98,4;98,4;100,0;99,2;99,2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Früheres Bundesgebiet;2000;April;99,1;99,1;100,0;99,1;99,1;100,0;99,4;99,4;100,0;99,2;99,2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087-266F-4951-A69E-B338FC228C6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56622-6DD5-4189-881D-C2A6EC9578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Table download (.CSV)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1714680"/>
            <a:ext cx="80773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Januar;99,1;99,2;100,0;99,1;99,1;100,0;99,0;99,3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Februar;99,2;99,2;100,0;99,2;99,2;100,0;99,0;99,3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März;99,2;99,2;100,0;99,2;99,2;100,0;99,0;99,3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April;99,2;99,2;100,0;99,2;99,2;100,0;99,0;99,3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Mai;99,8;99,8;100,0;100,0;100,0;100,0;99,3;99,5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Neue Länder;2000;Juni;100,0;100,0;100,0;100,2;100,2;100,0;99,8;100,1;100,3;98,9;98,9;10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(C)opyright Statistisches Bundesamt, Wiesbade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and: 29.04.2004 / 16:26:56 / Format CSV-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921-546E-44EA-93FD-C9B0D189559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77090-62CC-4F7E-86FC-9D3743A29A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Cube-export  download (.CSV)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549080"/>
            <a:ext cx="80773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* Der Benutzer GP100103 der Benutzergruppe GP1001 hat am 30.04.2004 um 17:26:14 diesen Export angestos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DQ;FACH-SCHL;GHH-ART;GHM-WERTE-JN;REGIOSTAT;EU-VBD;GENESIS-VBD;"mit Werte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62231BM003;;N;N;N;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DQ-ERH;FACH-SC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622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DQA;NAME;RHF-BSR;RHF-ACH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INSGF;3;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MONAT;2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WIRBR7;1;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DQZ;NAME;ZI-RHF-BSR;ZI-RHF-ACH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JAHR;4;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DQI;NAME;ME-NAME;DST;TYP;NKM-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VST016;2000=100;FEST;PROZENT;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VST017;2000=100;FEST;PROZENT;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VST018;2000=100;FEST;PROZENT;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K;QEI;FACH-SCHL;FACH-SCHL;FACH-SCHL;ZI-WERT;WERT;QUALITAET;GESPERRT;WERT-VERFAELS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1;WIRTBER002;2000;98.6;p;;0.0;98.6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1;WIRTBER2;2000;98.5;p;;0.0;98.5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1;WIRTBER33;2000;98.4;p;;0.0;98.4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1;WIRTBER51;2000;99.2;p;;0.0;99.2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2;WIRTBER002;2000;98.6;p;;0.0;98.6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2;WIRTBER2;2000;98.5;p;;0.0;98.5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2;WIRTBER33;2000;98.4;p;;0.0;98.4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2;WIRTBER51;2000;99.2;p;;0.0;99.2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D;DF;MONAT03;WIRTBER002;2000;98.6;p;;0.0;98.6;p;;0.0;100.0;p;;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CFB-D271-46CD-974C-19A34B074E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7564C-BD3F-4F52-BA5B-F9D799AC31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60" y="914400"/>
            <a:ext cx="91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Data objects and formats the user gets by different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206360" y="1943280"/>
          <a:ext cx="7683480" cy="971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360" y="1943280"/>
                    <a:ext cx="7683480" cy="971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84E-6134-45D3-A79E-FBA9E4217E1F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17747-8690-43A7-96B9-F9A8863825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GENESIS ...</a:t>
            </a:r>
            <a:br>
              <a:rPr sz="2800"/>
            </a:b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... a data cube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23880" y="3581280"/>
            <a:ext cx="3019320" cy="1904400"/>
            <a:chOff x="1523880" y="3581280"/>
            <a:chExt cx="3019320" cy="1904400"/>
          </a:xfrm>
        </p:grpSpPr>
        <p:grpSp>
          <p:nvGrpSpPr>
            <p:cNvPr id="97" name=""/>
            <p:cNvGrpSpPr/>
            <p:nvPr/>
          </p:nvGrpSpPr>
          <p:grpSpPr>
            <a:xfrm>
              <a:off x="1786320" y="3581280"/>
              <a:ext cx="2756880" cy="1642320"/>
              <a:chOff x="1786320" y="3581280"/>
              <a:chExt cx="2756880" cy="1642320"/>
            </a:xfrm>
          </p:grpSpPr>
          <p:sp>
            <p:nvSpPr>
              <p:cNvPr id="98" name=""/>
              <p:cNvSpPr/>
              <p:nvPr/>
            </p:nvSpPr>
            <p:spPr>
              <a:xfrm>
                <a:off x="1786320" y="470952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60360" y="4709520"/>
                <a:ext cx="5133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36200" y="470952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10240" y="470952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282840" y="4709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55440" y="4709520"/>
                <a:ext cx="51444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32720" y="4709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86320" y="4331520"/>
                <a:ext cx="5115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160360" y="4331520"/>
                <a:ext cx="5133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36200" y="4331520"/>
                <a:ext cx="51156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10240" y="4331520"/>
                <a:ext cx="51012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2840" y="4331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55440" y="4331520"/>
                <a:ext cx="51444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2720" y="4331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86320" y="395604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60360" y="3956040"/>
                <a:ext cx="5133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36200" y="3956040"/>
                <a:ext cx="51156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10240" y="39560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82840" y="39560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55440" y="3956040"/>
                <a:ext cx="51444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32720" y="39560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86320" y="3581280"/>
                <a:ext cx="5115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60360" y="3581280"/>
                <a:ext cx="5133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36200" y="3581280"/>
                <a:ext cx="51156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910240" y="35812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2840" y="35812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55440" y="3581280"/>
                <a:ext cx="51444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032720" y="35812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1654920" y="3710520"/>
              <a:ext cx="2756880" cy="1645560"/>
              <a:chOff x="1654920" y="3710520"/>
              <a:chExt cx="2756880" cy="1645560"/>
            </a:xfrm>
          </p:grpSpPr>
          <p:sp>
            <p:nvSpPr>
              <p:cNvPr id="127" name=""/>
              <p:cNvSpPr/>
              <p:nvPr/>
            </p:nvSpPr>
            <p:spPr>
              <a:xfrm>
                <a:off x="165492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32200" y="484200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0444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7848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51440" y="484200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2836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01320" y="484200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5492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32200" y="446364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0444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7848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51440" y="446364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2836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01320" y="446364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65492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32200" y="408852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0444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7848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51440" y="408852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2836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01320" y="408852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5492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32200" y="3710520"/>
                <a:ext cx="51012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40444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7848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51440" y="3710520"/>
                <a:ext cx="51480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2836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01320" y="3710520"/>
                <a:ext cx="510480" cy="51696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523880" y="3840120"/>
              <a:ext cx="2756160" cy="1645560"/>
              <a:chOff x="1523880" y="3840120"/>
              <a:chExt cx="2756160" cy="1645560"/>
            </a:xfrm>
          </p:grpSpPr>
          <p:sp>
            <p:nvSpPr>
              <p:cNvPr id="156" name=""/>
              <p:cNvSpPr/>
              <p:nvPr/>
            </p:nvSpPr>
            <p:spPr>
              <a:xfrm>
                <a:off x="152388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00800" y="497196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7340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4744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20040" y="497196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97320" y="497196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69920" y="497196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2388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00800" y="45932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7340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4744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20040" y="4593240"/>
                <a:ext cx="51480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97320" y="4593240"/>
                <a:ext cx="51048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69920" y="4593240"/>
                <a:ext cx="510120" cy="51408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2388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900800" y="42184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340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4744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20040" y="4218480"/>
                <a:ext cx="51480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97320" y="4218480"/>
                <a:ext cx="51048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69920" y="4218480"/>
                <a:ext cx="510120" cy="5137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2388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00800" y="3840120"/>
                <a:ext cx="51048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340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64744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20040" y="3840120"/>
                <a:ext cx="51480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97320" y="3840120"/>
                <a:ext cx="51048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69920" y="3840120"/>
                <a:ext cx="510120" cy="517320"/>
              </a:xfrm>
              <a:prstGeom prst="cube">
                <a:avLst>
                  <a:gd name="adj" fmla="val 24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4876920" y="1066680"/>
            <a:ext cx="407016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wages per hour and per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860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3400" indent="-171360">
              <a:lnSpc>
                <a:spcPct val="100000"/>
              </a:lnSpc>
              <a:spcBef>
                <a:spcPts val="1500"/>
              </a:spcBef>
              <a:buClr>
                <a:srgbClr val="666666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Times New Roman"/>
              </a:rPr>
              <a:t>2000 till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33840" y="4224240"/>
            <a:ext cx="2271600" cy="1347480"/>
            <a:chOff x="4533840" y="4224240"/>
            <a:chExt cx="2271600" cy="1347480"/>
          </a:xfrm>
        </p:grpSpPr>
        <p:sp>
          <p:nvSpPr>
            <p:cNvPr id="186" name=""/>
            <p:cNvSpPr/>
            <p:nvPr/>
          </p:nvSpPr>
          <p:spPr>
            <a:xfrm>
              <a:off x="5881680" y="4224240"/>
              <a:ext cx="923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de3ba"/>
              </a:solidFill>
              <a:miter/>
            </a:ln>
            <a:effectLst>
              <a:outerShdw dist="107932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533840" y="4572000"/>
              <a:ext cx="1144800" cy="820800"/>
              <a:chOff x="4533840" y="4572000"/>
              <a:chExt cx="1144800" cy="820800"/>
            </a:xfrm>
          </p:grpSpPr>
          <p:sp>
            <p:nvSpPr>
              <p:cNvPr id="188" name=""/>
              <p:cNvSpPr/>
              <p:nvPr/>
            </p:nvSpPr>
            <p:spPr>
              <a:xfrm>
                <a:off x="4533840" y="4572000"/>
                <a:ext cx="1144800" cy="820800"/>
              </a:xfrm>
              <a:custGeom>
                <a:avLst/>
                <a:gdLst/>
                <a:ahLst/>
                <a:rect l="l" t="t" r="r" b="b"/>
                <a:pathLst>
                  <a:path w="721" h="517">
                    <a:moveTo>
                      <a:pt x="84" y="516"/>
                    </a:moveTo>
                    <a:lnTo>
                      <a:pt x="336" y="516"/>
                    </a:lnTo>
                    <a:lnTo>
                      <a:pt x="648" y="211"/>
                    </a:lnTo>
                    <a:lnTo>
                      <a:pt x="720" y="211"/>
                    </a:lnTo>
                    <a:lnTo>
                      <a:pt x="636" y="0"/>
                    </a:lnTo>
                    <a:lnTo>
                      <a:pt x="216" y="199"/>
                    </a:lnTo>
                    <a:lnTo>
                      <a:pt x="324" y="199"/>
                    </a:lnTo>
                    <a:lnTo>
                      <a:pt x="0" y="516"/>
                    </a:lnTo>
                    <a:lnTo>
                      <a:pt x="84" y="516"/>
                    </a:lnTo>
                  </a:path>
                </a:pathLst>
              </a:cu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768920" y="4940280"/>
                <a:ext cx="615960" cy="349200"/>
                <a:chOff x="4768920" y="4940280"/>
                <a:chExt cx="615960" cy="349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111640" y="4940280"/>
                  <a:ext cx="273240" cy="63360"/>
                </a:xfrm>
                <a:prstGeom prst="parallelogram">
                  <a:avLst>
                    <a:gd name="adj" fmla="val 107793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40280" y="5092560"/>
                  <a:ext cx="273240" cy="63720"/>
                </a:xfrm>
                <a:prstGeom prst="parallelogram">
                  <a:avLst>
                    <a:gd name="adj" fmla="val 107183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768920" y="5226120"/>
                  <a:ext cx="272880" cy="63360"/>
                </a:xfrm>
                <a:prstGeom prst="parallelogram">
                  <a:avLst>
                    <a:gd name="adj" fmla="val 107650"/>
                  </a:avLst>
                </a:prstGeom>
                <a:solidFill>
                  <a:srgbClr val="cc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" name=""/>
            <p:cNvGrpSpPr/>
            <p:nvPr/>
          </p:nvGrpSpPr>
          <p:grpSpPr>
            <a:xfrm>
              <a:off x="5180040" y="4890960"/>
              <a:ext cx="879480" cy="680760"/>
              <a:chOff x="5180040" y="4890960"/>
              <a:chExt cx="879480" cy="680760"/>
            </a:xfrm>
          </p:grpSpPr>
          <p:sp>
            <p:nvSpPr>
              <p:cNvPr id="194" name=""/>
              <p:cNvSpPr/>
              <p:nvPr/>
            </p:nvSpPr>
            <p:spPr>
              <a:xfrm>
                <a:off x="5180040" y="5291280"/>
                <a:ext cx="51732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790015"/>
                    </a:solidFill>
                    <a:latin typeface="Arial Narrow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5313240" y="4890960"/>
                <a:ext cx="746280" cy="471240"/>
                <a:chOff x="5313240" y="4890960"/>
                <a:chExt cx="746280" cy="471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313240" y="508176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2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541840" y="489096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200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8" name=""/>
          <p:cNvGrpSpPr/>
          <p:nvPr/>
        </p:nvGrpSpPr>
        <p:grpSpPr>
          <a:xfrm>
            <a:off x="1274760" y="5457960"/>
            <a:ext cx="4592520" cy="1065960"/>
            <a:chOff x="1274760" y="5457960"/>
            <a:chExt cx="4592520" cy="1065960"/>
          </a:xfrm>
        </p:grpSpPr>
        <p:grpSp>
          <p:nvGrpSpPr>
            <p:cNvPr id="199" name=""/>
            <p:cNvGrpSpPr/>
            <p:nvPr/>
          </p:nvGrpSpPr>
          <p:grpSpPr>
            <a:xfrm>
              <a:off x="1274760" y="5457960"/>
              <a:ext cx="4592520" cy="1065960"/>
              <a:chOff x="1274760" y="5457960"/>
              <a:chExt cx="4592520" cy="1065960"/>
            </a:xfrm>
          </p:grpSpPr>
          <p:sp>
            <p:nvSpPr>
              <p:cNvPr id="200" name=""/>
              <p:cNvSpPr/>
              <p:nvPr/>
            </p:nvSpPr>
            <p:spPr>
              <a:xfrm>
                <a:off x="4724280" y="5867280"/>
                <a:ext cx="1143000" cy="36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de3ba"/>
                </a:solidFill>
                <a:miter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„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Land“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400040" y="5457960"/>
                <a:ext cx="3124440" cy="971280"/>
              </a:xfrm>
              <a:prstGeom prst="rightArrow">
                <a:avLst>
                  <a:gd name="adj1" fmla="val 50000"/>
                  <a:gd name="adj2" fmla="val 45050"/>
                </a:avLst>
              </a:pr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274760" y="6243480"/>
                <a:ext cx="2616120" cy="280440"/>
                <a:chOff x="1274760" y="6243480"/>
                <a:chExt cx="2616120" cy="2804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67472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H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7476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SH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417760" y="6243480"/>
                  <a:ext cx="517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055960" y="6243480"/>
                  <a:ext cx="5173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B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817720" y="6243480"/>
                  <a:ext cx="10731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NRW   . . .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1546200" y="5818320"/>
              <a:ext cx="2335320" cy="272880"/>
              <a:chOff x="1546200" y="5818320"/>
              <a:chExt cx="2335320" cy="27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2270160" y="5818320"/>
                <a:ext cx="8712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5104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0800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4620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9404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32240" y="5818320"/>
                <a:ext cx="8712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70080" y="5818320"/>
                <a:ext cx="87480" cy="272880"/>
              </a:xfrm>
              <a:prstGeom prst="rect">
                <a:avLst/>
              </a:prstGeom>
              <a:solidFill>
                <a:srgbClr val="99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0" y="3124080"/>
            <a:ext cx="1599480" cy="2970720"/>
            <a:chOff x="0" y="3124080"/>
            <a:chExt cx="1599480" cy="2970720"/>
          </a:xfrm>
        </p:grpSpPr>
        <p:grpSp>
          <p:nvGrpSpPr>
            <p:cNvPr id="217" name=""/>
            <p:cNvGrpSpPr/>
            <p:nvPr/>
          </p:nvGrpSpPr>
          <p:grpSpPr>
            <a:xfrm>
              <a:off x="0" y="3124080"/>
              <a:ext cx="1599480" cy="2970720"/>
              <a:chOff x="0" y="3124080"/>
              <a:chExt cx="1599480" cy="2970720"/>
            </a:xfrm>
          </p:grpSpPr>
          <p:sp>
            <p:nvSpPr>
              <p:cNvPr id="218" name=""/>
              <p:cNvSpPr/>
              <p:nvPr/>
            </p:nvSpPr>
            <p:spPr>
              <a:xfrm>
                <a:off x="594360" y="3124080"/>
                <a:ext cx="882360" cy="3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Se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6200000">
                <a:off x="-114480" y="4380480"/>
                <a:ext cx="2325240" cy="1103400"/>
              </a:xfrm>
              <a:prstGeom prst="rightArrow">
                <a:avLst>
                  <a:gd name="adj1" fmla="val 50000"/>
                  <a:gd name="adj2" fmla="val 50742"/>
                </a:avLst>
              </a:prstGeom>
              <a:solidFill>
                <a:srgbClr val="cc0033"/>
              </a:solidFill>
              <a:ln w="0">
                <a:noFill/>
              </a:ln>
              <a:effectLst>
                <a:outerShdw dist="107932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0" y="4453560"/>
                <a:ext cx="820440" cy="1507680"/>
                <a:chOff x="0" y="4453560"/>
                <a:chExt cx="820440" cy="15076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0" y="5680080"/>
                  <a:ext cx="66528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0" y="5292720"/>
                  <a:ext cx="820440" cy="28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4906800"/>
                  <a:ext cx="82044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fema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0" y="4453560"/>
                  <a:ext cx="82044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380880" indent="-38088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400" spc="-1" strike="noStrike">
                      <a:solidFill>
                        <a:srgbClr val="790015"/>
                      </a:solidFill>
                      <a:latin typeface="Arial Narrow"/>
                    </a:rPr>
                    <a:t>ma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" name=""/>
            <p:cNvGrpSpPr/>
            <p:nvPr/>
          </p:nvGrpSpPr>
          <p:grpSpPr>
            <a:xfrm>
              <a:off x="897120" y="4509000"/>
              <a:ext cx="350640" cy="1347120"/>
              <a:chOff x="897120" y="4509000"/>
              <a:chExt cx="350640" cy="1347120"/>
            </a:xfrm>
          </p:grpSpPr>
          <p:sp>
            <p:nvSpPr>
              <p:cNvPr id="226" name=""/>
              <p:cNvSpPr/>
              <p:nvPr/>
            </p:nvSpPr>
            <p:spPr>
              <a:xfrm>
                <a:off x="897120" y="4939560"/>
                <a:ext cx="350640" cy="9828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97120" y="450900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97120" y="534852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7120" y="5757480"/>
                <a:ext cx="350640" cy="98640"/>
              </a:xfrm>
              <a:prstGeom prst="rect">
                <a:avLst/>
              </a:pr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30" name=""/>
          <p:cNvGraphicFramePr/>
          <p:nvPr/>
        </p:nvGraphicFramePr>
        <p:xfrm>
          <a:off x="203040" y="6603840"/>
          <a:ext cx="132084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6603840"/>
                    <a:ext cx="13208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523880" y="47242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4197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3962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676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438280" y="358092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574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819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2004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581280" y="358092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96252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1148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38098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36576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9625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3962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3809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657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4952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5812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114800" y="35809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114800" y="5105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54864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3BF-3824-451B-BA48-D2A618DD93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30AEE-8479-473F-868A-22B51D4ABEF8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Data cell</a:t>
            </a:r>
            <a:r>
              <a:rPr b="0" lang="de-DE" sz="3000" spc="-1" strike="noStrike">
                <a:solidFill>
                  <a:srgbClr val="666666"/>
                </a:solidFill>
                <a:latin typeface="MetaMediumLF-Roman"/>
              </a:rPr>
              <a:t> </a:t>
            </a:r>
            <a:r>
              <a:rPr b="0" lang="de-DE" sz="3000" spc="-1" strike="noStrike">
                <a:solidFill>
                  <a:srgbClr val="cc0033"/>
                </a:solidFill>
                <a:latin typeface="MetaMediumLF-Roman"/>
              </a:rPr>
              <a:t>and c</a:t>
            </a:r>
            <a:r>
              <a:rPr b="1" lang="de-DE" sz="2800" spc="-1" strike="noStrike">
                <a:solidFill>
                  <a:srgbClr val="cc0033"/>
                </a:solidFill>
                <a:latin typeface="Times New Roman"/>
              </a:rPr>
              <a:t>ontent(s) (value, flags) </a:t>
            </a:r>
            <a:endParaRPr b="0" lang="en-US" sz="2800" spc="-1" strike="noStrike">
              <a:solidFill>
                <a:srgbClr val="666666"/>
              </a:solidFill>
              <a:latin typeface="MetaMediumLF-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514600" y="2616120"/>
            <a:ext cx="6451560" cy="3487680"/>
            <a:chOff x="2514600" y="2616120"/>
            <a:chExt cx="6451560" cy="3487680"/>
          </a:xfrm>
        </p:grpSpPr>
        <p:sp>
          <p:nvSpPr>
            <p:cNvPr id="263" name=""/>
            <p:cNvSpPr/>
            <p:nvPr/>
          </p:nvSpPr>
          <p:spPr>
            <a:xfrm>
              <a:off x="3911760" y="2616120"/>
              <a:ext cx="5054400" cy="299736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59120" y="2997360"/>
              <a:ext cx="4997520" cy="299700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ent 2: wages per hour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8400" y="3411360"/>
              <a:ext cx="4949640" cy="2692440"/>
            </a:xfrm>
            <a:prstGeom prst="rect">
              <a:avLst/>
            </a:prstGeom>
            <a:solidFill>
              <a:srgbClr val="fde3ba"/>
            </a:solidFill>
            <a:ln w="507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ent 1: wages per month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790015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790015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quality                e = estim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disclos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- default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5200560"/>
              <a:ext cx="857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58760" y="1968480"/>
            <a:ext cx="2882880" cy="189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30120" y="2103120"/>
            <a:ext cx="2643120" cy="1681560"/>
            <a:chOff x="330120" y="2103120"/>
            <a:chExt cx="2643120" cy="1681560"/>
          </a:xfrm>
        </p:grpSpPr>
        <p:grpSp>
          <p:nvGrpSpPr>
            <p:cNvPr id="269" name=""/>
            <p:cNvGrpSpPr/>
            <p:nvPr/>
          </p:nvGrpSpPr>
          <p:grpSpPr>
            <a:xfrm>
              <a:off x="816120" y="2152800"/>
              <a:ext cx="1525320" cy="1054080"/>
              <a:chOff x="816120" y="2152800"/>
              <a:chExt cx="1525320" cy="10540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947880" y="2152800"/>
                <a:ext cx="1393560" cy="904680"/>
                <a:chOff x="947880" y="2152800"/>
                <a:chExt cx="1393560" cy="9046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4788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136520" y="2778120"/>
                  <a:ext cx="2574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32876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519200" y="2778120"/>
                  <a:ext cx="2523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708200" y="27781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897200" y="2778120"/>
                  <a:ext cx="2556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90880" y="2778120"/>
                  <a:ext cx="2505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94788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36520" y="25686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32876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519200" y="25686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708200" y="2568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97200" y="25686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090880" y="2568600"/>
                  <a:ext cx="2505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94788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6520" y="2362320"/>
                  <a:ext cx="2574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32876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519200" y="2362320"/>
                  <a:ext cx="2523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708200" y="2362320"/>
                  <a:ext cx="2538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897200" y="2362320"/>
                  <a:ext cx="25560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090880" y="2362320"/>
                  <a:ext cx="250560" cy="27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94788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136520" y="21528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32876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519200" y="21528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708200" y="21528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897200" y="21528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90880" y="2152800"/>
                  <a:ext cx="2505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880920" y="2217600"/>
                <a:ext cx="1401840" cy="916200"/>
                <a:chOff x="880920" y="2217600"/>
                <a:chExt cx="1401840" cy="9162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880920" y="2849400"/>
                  <a:ext cx="2556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074600" y="284940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265400" y="284940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455840" y="2849400"/>
                  <a:ext cx="2523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644480" y="2849400"/>
                  <a:ext cx="2574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838160" y="284940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028960" y="284940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80920" y="2638440"/>
                  <a:ext cx="2556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074600" y="2638440"/>
                  <a:ext cx="2541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265400" y="2638440"/>
                  <a:ext cx="2538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455840" y="2638440"/>
                  <a:ext cx="2523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644480" y="2638440"/>
                  <a:ext cx="2574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838160" y="2638440"/>
                  <a:ext cx="25416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028960" y="2638440"/>
                  <a:ext cx="253800" cy="28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880920" y="2427120"/>
                  <a:ext cx="2556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074600" y="242712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265400" y="242712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455840" y="2427120"/>
                  <a:ext cx="2523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44480" y="2427120"/>
                  <a:ext cx="2574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8160" y="2427120"/>
                  <a:ext cx="25416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028960" y="2427120"/>
                  <a:ext cx="253800" cy="2844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80920" y="2217600"/>
                  <a:ext cx="2556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074600" y="2217600"/>
                  <a:ext cx="2541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265400" y="2217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455840" y="2217600"/>
                  <a:ext cx="2523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44480" y="2217600"/>
                  <a:ext cx="2574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838160" y="2217600"/>
                  <a:ext cx="25416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028960" y="2217600"/>
                  <a:ext cx="253800" cy="2826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816120" y="2281320"/>
                <a:ext cx="1409400" cy="925560"/>
                <a:chOff x="816120" y="2281320"/>
                <a:chExt cx="1409400" cy="9255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816120" y="292104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009800" y="292104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200240" y="2921040"/>
                  <a:ext cx="2556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390680" y="292104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584360" y="292104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76240" y="2921040"/>
                  <a:ext cx="2574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968480" y="2921040"/>
                  <a:ext cx="2570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16120" y="2706840"/>
                  <a:ext cx="2538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009800" y="2706840"/>
                  <a:ext cx="2538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200240" y="2706840"/>
                  <a:ext cx="2556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390680" y="2706840"/>
                  <a:ext cx="2588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584360" y="2706840"/>
                  <a:ext cx="2588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76240" y="2706840"/>
                  <a:ext cx="25740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968480" y="2706840"/>
                  <a:ext cx="257040" cy="2854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816120" y="249552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009800" y="2495520"/>
                  <a:ext cx="2538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00240" y="2495520"/>
                  <a:ext cx="2556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390680" y="249552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584360" y="2495520"/>
                  <a:ext cx="2588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76240" y="2495520"/>
                  <a:ext cx="25740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968480" y="2495520"/>
                  <a:ext cx="257040" cy="285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16120" y="2281320"/>
                  <a:ext cx="2538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009800" y="2281320"/>
                  <a:ext cx="2538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200240" y="2281320"/>
                  <a:ext cx="2556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390680" y="2281320"/>
                  <a:ext cx="25884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84360" y="2281320"/>
                  <a:ext cx="25884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776240" y="2281320"/>
                  <a:ext cx="257400" cy="28728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1960560" y="2290680"/>
              <a:ext cx="254160" cy="282600"/>
            </a:xfrm>
            <a:prstGeom prst="cube">
              <a:avLst>
                <a:gd name="adj" fmla="val 24995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30120" y="2103120"/>
              <a:ext cx="419040" cy="1104840"/>
              <a:chOff x="330120" y="2103120"/>
              <a:chExt cx="419040" cy="110484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-12600" y="2445840"/>
                <a:ext cx="1104840" cy="419040"/>
              </a:xfrm>
              <a:prstGeom prst="rightArrow">
                <a:avLst>
                  <a:gd name="adj1" fmla="val 50000"/>
                  <a:gd name="adj2" fmla="val 63486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484200" y="2454120"/>
                <a:ext cx="130320" cy="644760"/>
                <a:chOff x="484200" y="2454120"/>
                <a:chExt cx="130320" cy="6447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84200" y="2662200"/>
                  <a:ext cx="130320" cy="414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84200" y="2454120"/>
                  <a:ext cx="130320" cy="428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84200" y="2859120"/>
                  <a:ext cx="130320" cy="414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84200" y="3056040"/>
                  <a:ext cx="130320" cy="428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816120" y="3268800"/>
              <a:ext cx="1560240" cy="515880"/>
              <a:chOff x="816120" y="3268800"/>
              <a:chExt cx="1560240" cy="515880"/>
            </a:xfrm>
          </p:grpSpPr>
          <p:sp>
            <p:nvSpPr>
              <p:cNvPr id="365" name=""/>
              <p:cNvSpPr/>
              <p:nvPr/>
            </p:nvSpPr>
            <p:spPr>
              <a:xfrm>
                <a:off x="816120" y="3268800"/>
                <a:ext cx="1560240" cy="515880"/>
              </a:xfrm>
              <a:prstGeom prst="rightArrow">
                <a:avLst>
                  <a:gd name="adj1" fmla="val 50000"/>
                  <a:gd name="adj2" fmla="val 42356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884160" y="3460680"/>
                <a:ext cx="1170000" cy="144360"/>
                <a:chOff x="884160" y="3460680"/>
                <a:chExt cx="1170000" cy="1443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24920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44144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068480" y="3460680"/>
                  <a:ext cx="363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84160" y="3460680"/>
                  <a:ext cx="381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17800" y="3460680"/>
                  <a:ext cx="3636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36720" y="3460680"/>
                  <a:ext cx="3492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652760" y="3460680"/>
                  <a:ext cx="37800" cy="144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2395440" y="2779560"/>
              <a:ext cx="577800" cy="447840"/>
              <a:chOff x="2395440" y="2779560"/>
              <a:chExt cx="577800" cy="447840"/>
            </a:xfrm>
          </p:grpSpPr>
          <p:sp>
            <p:nvSpPr>
              <p:cNvPr id="375" name=""/>
              <p:cNvSpPr/>
              <p:nvPr/>
            </p:nvSpPr>
            <p:spPr>
              <a:xfrm>
                <a:off x="2395440" y="2779560"/>
                <a:ext cx="577800" cy="447840"/>
              </a:xfrm>
              <a:custGeom>
                <a:avLst/>
                <a:gdLst/>
                <a:ahLst/>
                <a:rect l="l" t="t" r="r" b="b"/>
                <a:pathLst>
                  <a:path w="364" h="282">
                    <a:moveTo>
                      <a:pt x="42" y="281"/>
                    </a:moveTo>
                    <a:lnTo>
                      <a:pt x="169" y="281"/>
                    </a:lnTo>
                    <a:lnTo>
                      <a:pt x="327" y="115"/>
                    </a:lnTo>
                    <a:lnTo>
                      <a:pt x="363" y="115"/>
                    </a:lnTo>
                    <a:lnTo>
                      <a:pt x="321" y="0"/>
                    </a:lnTo>
                    <a:lnTo>
                      <a:pt x="109" y="109"/>
                    </a:lnTo>
                    <a:lnTo>
                      <a:pt x="163" y="109"/>
                    </a:lnTo>
                    <a:lnTo>
                      <a:pt x="0" y="281"/>
                    </a:lnTo>
                    <a:lnTo>
                      <a:pt x="42" y="281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2517840" y="2982960"/>
                <a:ext cx="303120" cy="185760"/>
                <a:chOff x="2517840" y="2982960"/>
                <a:chExt cx="303120" cy="1857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690640" y="2982960"/>
                  <a:ext cx="130320" cy="28440"/>
                </a:xfrm>
                <a:prstGeom prst="parallelogram">
                  <a:avLst>
                    <a:gd name="adj" fmla="val 114536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603520" y="3065400"/>
                  <a:ext cx="131760" cy="28800"/>
                </a:xfrm>
                <a:prstGeom prst="parallelogram">
                  <a:avLst>
                    <a:gd name="adj" fmla="val 114354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517840" y="3138480"/>
                  <a:ext cx="131760" cy="30240"/>
                </a:xfrm>
                <a:prstGeom prst="parallelogram">
                  <a:avLst>
                    <a:gd name="adj" fmla="val 108908"/>
                  </a:avLst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0" name=""/>
          <p:cNvGrpSpPr/>
          <p:nvPr/>
        </p:nvGrpSpPr>
        <p:grpSpPr>
          <a:xfrm>
            <a:off x="-119520" y="2666880"/>
            <a:ext cx="6959880" cy="3566520"/>
            <a:chOff x="-119520" y="2666880"/>
            <a:chExt cx="6959880" cy="3566520"/>
          </a:xfrm>
        </p:grpSpPr>
        <p:grpSp>
          <p:nvGrpSpPr>
            <p:cNvPr id="381" name=""/>
            <p:cNvGrpSpPr/>
            <p:nvPr/>
          </p:nvGrpSpPr>
          <p:grpSpPr>
            <a:xfrm>
              <a:off x="-119520" y="2666880"/>
              <a:ext cx="2640240" cy="3566520"/>
              <a:chOff x="-119520" y="2666880"/>
              <a:chExt cx="2640240" cy="35665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152280" y="2666880"/>
                <a:ext cx="1924200" cy="3508560"/>
                <a:chOff x="152280" y="2666880"/>
                <a:chExt cx="1924200" cy="35085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152280" y="4186080"/>
                  <a:ext cx="1924200" cy="198936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>
                  <a:off x="1499760" y="2666880"/>
                  <a:ext cx="567360" cy="1409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180000" y="4456080"/>
                <a:ext cx="23407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 Narrow"/>
                  </a:rPr>
                  <a:t>Wages per mon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5000" y="4265640"/>
                <a:ext cx="22021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 Narrow"/>
                  </a:rPr>
                  <a:t>Wages per hou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70120" y="4108320"/>
                <a:ext cx="17640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0120" y="5619600"/>
                <a:ext cx="176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47760" y="5995800"/>
                <a:ext cx="142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-119520" y="5952960"/>
                <a:ext cx="190044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ffffff"/>
                    </a:solidFill>
                    <a:latin typeface="Arial Narrow"/>
                  </a:rPr>
                  <a:t>14.50 ; e;;0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43920" y="4182840"/>
              <a:ext cx="6796440" cy="1982880"/>
              <a:chOff x="43920" y="4182840"/>
              <a:chExt cx="6796440" cy="1982880"/>
            </a:xfrm>
          </p:grpSpPr>
          <p:sp>
            <p:nvSpPr>
              <p:cNvPr id="392" name=""/>
              <p:cNvSpPr/>
              <p:nvPr/>
            </p:nvSpPr>
            <p:spPr>
              <a:xfrm>
                <a:off x="328680" y="4500360"/>
                <a:ext cx="142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6080" y="432900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65080" y="4506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32480" y="4344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920" y="5796000"/>
                <a:ext cx="190044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ffffff"/>
                    </a:solidFill>
                    <a:latin typeface="Arial Narrow"/>
                  </a:rPr>
                  <a:t>2391 ; e ;;0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2200" y="450684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9960" y="4325760"/>
                <a:ext cx="0" cy="149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39000" y="4182840"/>
                <a:ext cx="0" cy="149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4800" y="582444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63480" y="5672160"/>
                <a:ext cx="142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53000" y="5683320"/>
                <a:ext cx="49644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97160" y="5248080"/>
                <a:ext cx="94320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380880" indent="-380880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80880" indent="-380880">
                  <a:lnSpc>
                    <a:spcPct val="90000"/>
                  </a:lnSpc>
                  <a:spcBef>
                    <a:spcPts val="337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br>
                  <a:rPr sz="900"/>
                </a:b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F8C-A4E6-4D93-B439-34203469D90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17D90-B0DC-41B4-B1B3-209948015EA4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GENESIS data from the user’s point of view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06" name="bild5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467480" cy="461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810-4602-4561-8D43-A8711955FC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03BF9-CF54-4CAC-AEE6-444480C2F2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GENESIS-Online homepage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09" name="bild1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705360" cy="479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737-7E7A-40C2-B22E-AAF627447F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9A5C7-1966-44F5-8ABA-64B0D7B3C2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Retrieval / navigation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12" name="bild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D93-8D71-4398-8D8A-20D5A6A08B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A1CCF-A410-4163-857E-82052C468B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List of objects (cubes, tables, items)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15" name="bild6" descr=""/>
          <p:cNvPicPr/>
          <p:nvPr/>
        </p:nvPicPr>
        <p:blipFill>
          <a:blip r:embed="rId1"/>
          <a:stretch/>
        </p:blipFill>
        <p:spPr>
          <a:xfrm>
            <a:off x="914400" y="1555920"/>
            <a:ext cx="7772400" cy="46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D19-F19C-4542-B254-3E26579E4E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9FF5C-9002-4E4A-8C79-625E8AAACF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List of tables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18" name="bild3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553080" cy="477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197-0B52-42B6-9038-2E4BCD3D90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85730-4CD2-4F62-BD01-FAC6C660F1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280" y="91440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cc0033"/>
                </a:solidFill>
                <a:latin typeface="Times New Roman"/>
              </a:rPr>
              <a:t>Design of a table</a:t>
            </a:r>
            <a:endParaRPr b="0" lang="en-US" sz="3400" spc="-1" strike="noStrike">
              <a:solidFill>
                <a:srgbClr val="666666"/>
              </a:solidFill>
              <a:latin typeface="MetaMediumLF-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MediumLF-Roman"/>
            </a:endParaRPr>
          </a:p>
        </p:txBody>
      </p:sp>
      <p:pic>
        <p:nvPicPr>
          <p:cNvPr id="421" name="bild4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534-5613-4CAD-BE1F-09CF4A7890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1A5DF-BD7F-42DA-A2EA-6FEE01A0C5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1:48:16Z</dcterms:created>
  <dc:creator>Schrey-E</dc:creator>
  <dc:description/>
  <dc:language>en-US</dc:language>
  <cp:lastModifiedBy>Schrey-E</cp:lastModifiedBy>
  <cp:lastPrinted>2003-10-28T16:32:09Z</cp:lastPrinted>
  <dcterms:modified xsi:type="dcterms:W3CDTF">2004-04-30T15:46:02Z</dcterms:modified>
  <cp:revision>75</cp:revision>
  <dc:subject/>
  <dc:title>Umsetzung des Betriebs -und Nutzungskonzepts von GENESIS in Verbindung mit der Einführung neuer Auswertungs- und Analysewerkzeuge</dc:title>
</cp:coreProperties>
</file>