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A2FC-A90F-4A08-AE21-4EE2D14E8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97D-8416-425F-8E96-7B51E66D6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23840" y="107640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2320" y="4744800"/>
            <a:ext cx="49672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B2E9-63B2-4457-AC60-8A3CA6B14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B9E5-2C95-464A-BBD9-AE9529E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BA6E-746E-44D0-8BD5-A72DD1B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DF1F-DF96-435D-876B-BBD1C862E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E05E-23E5-42DA-8B04-43CA93D2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156D-BAB8-4204-A9D8-DB7AF5B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2408-C11C-42FB-8606-C1104C4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EBED-AA5F-471C-BC6C-05E8D2CB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C791-54A4-4BE9-A2C4-6D97154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47F2-012E-4EEE-BEEC-1575187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1759-67A5-45A8-A45D-7617A21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DAFA-1733-45FE-9CB2-A0F68A20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9A1-2DC0-47F4-8B3B-71E4CFC1A2A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369040" cy="9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dmx.org/Data/SDMX_MCV_release1_200404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stats.oecd.org/nawwe/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dmx.org/news/news.aspx?id=3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000000"/>
                </a:solidFill>
                <a:latin typeface="Arial"/>
              </a:rPr>
              <a:t>Practical Experience Towards SDMX at the OEC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589720"/>
            <a:ext cx="9685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8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at is SDMX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486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atistical 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a and 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tadata e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www.sd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S, ECB, EUROSTAT, IMF, OECD, UN, and the World B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employ more efficient business processes for exchange and sharing of statistical information and meta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ing emerging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E4AD-21E7-4428-9015-E8F372EF5B3C}" type="slidenum">
              <a:t>2</a:t>
            </a:fld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d why is OECD interested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Questionnair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vy reporting burd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milar questionnaires for other I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meli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rror pr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vy burden on OEC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7D95-4230-4136-AE90-4F7749D1438E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nvisaged benefi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re efficient reporting, i.e. less burden on countries as well as on OEC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mated procedures which are less error pr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re timely reporting and, consequently,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hanced coordination with other international organis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C692-A358-4AB2-AF1E-0843D1627993}" type="slidenum">
              <a:t>4</a:t>
            </a:fld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ntributions to four projec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ndards for time series data ex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GESMES/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se study on standards for statistical data and metadata ex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vocabulary for statistical metadata (</a:t>
            </a:r>
            <a:r>
              <a:rPr b="0" lang="en-GB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MCV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ment of a model for metadata reposi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EB28-680B-4155-83D3-51A1C239BCA7}" type="slidenum">
              <a:t>5</a:t>
            </a:fld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ligned Projec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change of national accounts data between the OECD and Member countries (NAWW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oint UN/OECD Foreign Trade Statistics project (Comtra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upling of elements of OECD’s Statistical Inform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der use of 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1710-2375-43A1-A238-8D07FEB10EA1}" type="slidenum">
              <a:t>6</a:t>
            </a:fld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623840" y="5589720"/>
            <a:ext cx="1389600" cy="792000"/>
            <a:chOff x="4623840" y="5589720"/>
            <a:chExt cx="1389600" cy="792000"/>
          </a:xfrm>
        </p:grpSpPr>
        <p:sp>
          <p:nvSpPr>
            <p:cNvPr id="102" name=""/>
            <p:cNvSpPr/>
            <p:nvPr/>
          </p:nvSpPr>
          <p:spPr>
            <a:xfrm>
              <a:off x="4716360" y="5661000"/>
              <a:ext cx="129708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23840" y="5589720"/>
              <a:ext cx="1329840" cy="723600"/>
              <a:chOff x="4623840" y="5589720"/>
              <a:chExt cx="1329840" cy="723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5080" y="5589720"/>
                <a:ext cx="1297080" cy="71928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23840" y="5640840"/>
                <a:ext cx="132984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?xml version="1.0"?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OECD.STAT xmlns:xsd=...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Value&gt;</a:t>
                </a:r>
                <a:r>
                  <a:rPr b="0" lang="en-US" sz="1000" spc="-1" strike="noStrike">
                    <a:solidFill>
                      <a:srgbClr val="990033"/>
                    </a:solidFill>
                    <a:latin typeface="Arial Narrow"/>
                  </a:rPr>
                  <a:t>AUSTRALIA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Valu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Data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……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79280" y="476280"/>
            <a:ext cx="8785440" cy="6192720"/>
          </a:xfrm>
          <a:prstGeom prst="flowChartAlternateProcess">
            <a:avLst/>
          </a:prstGeom>
          <a:noFill/>
          <a:ln w="3816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15920"/>
            <a:ext cx="8316720" cy="936720"/>
            <a:chOff x="0" y="115920"/>
            <a:chExt cx="8316720" cy="936720"/>
          </a:xfrm>
        </p:grpSpPr>
        <p:sp>
          <p:nvSpPr>
            <p:cNvPr id="108" name=""/>
            <p:cNvSpPr/>
            <p:nvPr/>
          </p:nvSpPr>
          <p:spPr>
            <a:xfrm>
              <a:off x="7292160" y="115920"/>
              <a:ext cx="1024560" cy="936720"/>
            </a:xfrm>
            <a:prstGeom prst="ellipse">
              <a:avLst/>
            </a:prstGeom>
            <a:gradFill rotWithShape="0">
              <a:gsLst>
                <a:gs pos="0">
                  <a:srgbClr val="d4d4e2"/>
                </a:gs>
                <a:gs pos="100000">
                  <a:srgbClr val="444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15920"/>
              <a:ext cx="7804440" cy="936720"/>
            </a:xfrm>
            <a:prstGeom prst="rect">
              <a:avLst/>
            </a:prstGeom>
            <a:gradFill rotWithShape="0">
              <a:gsLst>
                <a:gs pos="0">
                  <a:srgbClr val="d4d4e2"/>
                </a:gs>
                <a:gs pos="100000">
                  <a:srgbClr val="444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1052640"/>
              <a:ext cx="8025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15920"/>
              <a:ext cx="8025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6280" y="260280"/>
            <a:ext cx="35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NAWW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7440" y="3888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Data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087560"/>
            <a:ext cx="2017800" cy="169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5019840"/>
            <a:ext cx="1655640" cy="150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63640" y="6021360"/>
            <a:ext cx="720720" cy="3650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577880" y="2852640"/>
            <a:ext cx="1368360" cy="792360"/>
            <a:chOff x="1577880" y="2852640"/>
            <a:chExt cx="1368360" cy="792360"/>
          </a:xfrm>
        </p:grpSpPr>
        <p:sp>
          <p:nvSpPr>
            <p:cNvPr id="119" name=""/>
            <p:cNvSpPr/>
            <p:nvPr/>
          </p:nvSpPr>
          <p:spPr>
            <a:xfrm>
              <a:off x="1649520" y="2924280"/>
              <a:ext cx="129672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7880" y="2852640"/>
              <a:ext cx="1297080" cy="71928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56640" y="2871720"/>
            <a:ext cx="11851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?xml version="1.0"?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OECD.STAT xmlns:xsd=...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Value&gt;</a:t>
            </a:r>
            <a:r>
              <a:rPr b="0" lang="en-US" sz="1000" spc="-1" strike="noStrike">
                <a:solidFill>
                  <a:srgbClr val="990033"/>
                </a:solidFill>
                <a:latin typeface="Arial Narrow"/>
              </a:rPr>
              <a:t>CANADA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Valu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Data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…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77880" y="4365720"/>
            <a:ext cx="1368360" cy="792000"/>
            <a:chOff x="1577880" y="4365720"/>
            <a:chExt cx="1368360" cy="792000"/>
          </a:xfrm>
        </p:grpSpPr>
        <p:sp>
          <p:nvSpPr>
            <p:cNvPr id="123" name=""/>
            <p:cNvSpPr/>
            <p:nvPr/>
          </p:nvSpPr>
          <p:spPr>
            <a:xfrm>
              <a:off x="1649520" y="4437000"/>
              <a:ext cx="129672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7880" y="4365720"/>
              <a:ext cx="1297080" cy="7189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56640" y="4416480"/>
            <a:ext cx="13298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?xml version="1.0"?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OECD.STAT xmlns:xsd=...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Value&gt;</a:t>
            </a:r>
            <a:r>
              <a:rPr b="0" lang="en-US" sz="1000" spc="-1" strike="noStrike">
                <a:solidFill>
                  <a:srgbClr val="990033"/>
                </a:solidFill>
                <a:latin typeface="Arial Narrow"/>
              </a:rPr>
              <a:t>AUSTRALIA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Valu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Data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…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9672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401760" cy="884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4000" y="256536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Data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4000" y="508464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Data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68360" y="314172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468360" y="45086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3284640"/>
            <a:ext cx="215640" cy="215640"/>
          </a:xfrm>
          <a:prstGeom prst="flowChartSummingJunction">
            <a:avLst/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4653000"/>
            <a:ext cx="215640" cy="216000"/>
          </a:xfrm>
          <a:prstGeom prst="flowChartSummingJunction">
            <a:avLst/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852640"/>
            <a:ext cx="0" cy="28908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3357720"/>
            <a:ext cx="64764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11280" y="4797360"/>
            <a:ext cx="0" cy="28728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797360"/>
            <a:ext cx="64764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66760" y="3428640"/>
            <a:ext cx="669960" cy="1079640"/>
            <a:chOff x="266760" y="3428640"/>
            <a:chExt cx="669960" cy="1079640"/>
          </a:xfrm>
        </p:grpSpPr>
        <p:sp>
          <p:nvSpPr>
            <p:cNvPr id="139" name=""/>
            <p:cNvSpPr/>
            <p:nvPr/>
          </p:nvSpPr>
          <p:spPr>
            <a:xfrm>
              <a:off x="266760" y="3763800"/>
              <a:ext cx="6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8080"/>
                  </a:solidFill>
                  <a:latin typeface="Verdana"/>
                </a:rPr>
                <a:t>Exc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8080"/>
                  </a:solidFill>
                  <a:latin typeface="Verdana"/>
                </a:rPr>
                <a:t>T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11280" y="3428640"/>
              <a:ext cx="0" cy="4316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11280" y="4149360"/>
              <a:ext cx="0" cy="35892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211640" y="1484280"/>
            <a:ext cx="2160720" cy="5040360"/>
          </a:xfrm>
          <a:custGeom>
            <a:avLst/>
            <a:gdLst>
              <a:gd name="textAreaLeft" fmla="*/ 86400 w 2160720"/>
              <a:gd name="textAreaRight" fmla="*/ 2074320 w 2160720"/>
              <a:gd name="textAreaTop" fmla="*/ 86400 h 5040360"/>
              <a:gd name="textAreaBottom" fmla="*/ 4953960 h 5040360"/>
            </a:gdLst>
            <a:ahLst/>
            <a:rect l="textAreaLeft" t="textAreaTop" r="textAreaRight" b="textAreaBottom"/>
            <a:pathLst>
              <a:path w="21600" h="50382">
                <a:moveTo>
                  <a:pt x="2954" y="0"/>
                </a:moveTo>
                <a:arcTo wR="2954" hR="2954" stAng="16200000" swAng="-5400000"/>
                <a:lnTo>
                  <a:pt x="0" y="47428"/>
                </a:lnTo>
                <a:arcTo wR="2954" hR="2954" stAng="10800000" swAng="-5400000"/>
                <a:lnTo>
                  <a:pt x="18646" y="50382"/>
                </a:lnTo>
                <a:arcTo wR="2954" hR="2954" stAng="5400000" swAng="-5400000"/>
                <a:lnTo>
                  <a:pt x="21600" y="2954"/>
                </a:lnTo>
                <a:arcTo wR="2954" hR="2954" stAng="0" swAng="-5400000"/>
                <a:close/>
              </a:path>
            </a:pathLst>
          </a:custGeom>
          <a:noFill/>
          <a:ln w="25560">
            <a:solidFill>
              <a:srgbClr val="75ba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427640" y="1989000"/>
            <a:ext cx="1728720" cy="733320"/>
            <a:chOff x="4427640" y="1989000"/>
            <a:chExt cx="1728720" cy="733320"/>
          </a:xfrm>
        </p:grpSpPr>
        <p:grpSp>
          <p:nvGrpSpPr>
            <p:cNvPr id="144" name=""/>
            <p:cNvGrpSpPr/>
            <p:nvPr/>
          </p:nvGrpSpPr>
          <p:grpSpPr>
            <a:xfrm>
              <a:off x="4483080" y="2060640"/>
              <a:ext cx="1673280" cy="649080"/>
              <a:chOff x="4483080" y="2060640"/>
              <a:chExt cx="1673280" cy="649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483080" y="2060640"/>
                <a:ext cx="1673280" cy="649080"/>
              </a:xfrm>
              <a:prstGeom prst="foldedCorner">
                <a:avLst>
                  <a:gd name="adj" fmla="val 12500"/>
                </a:avLst>
              </a:prstGeom>
              <a:solidFill>
                <a:srgbClr val="f8f8f8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6400" y="2060640"/>
                <a:ext cx="1789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27640" y="1989000"/>
              <a:ext cx="1657080" cy="733320"/>
              <a:chOff x="4427640" y="1989000"/>
              <a:chExt cx="1657080" cy="733320"/>
            </a:xfrm>
          </p:grpSpPr>
          <p:sp>
            <p:nvSpPr>
              <p:cNvPr id="148" name=""/>
              <p:cNvSpPr/>
              <p:nvPr/>
            </p:nvSpPr>
            <p:spPr>
              <a:xfrm>
                <a:off x="4427640" y="1989000"/>
                <a:ext cx="1657080" cy="639360"/>
              </a:xfrm>
              <a:prstGeom prst="foldedCorner">
                <a:avLst>
                  <a:gd name="adj" fmla="val 12500"/>
                </a:avLst>
              </a:prstGeom>
              <a:solidFill>
                <a:srgbClr val="f8f8f8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5360" y="1989000"/>
                <a:ext cx="162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?xml version="1.0" encoding="UTF-8"?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schema xmlns:xs="http:..XML"...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element name="Code"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complexType/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xs:element&gt;……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4638240" y="1557360"/>
            <a:ext cx="122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DMX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3560" y="364500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Defines Dimen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and Data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9720" y="486900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Copied XML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09720" y="5157720"/>
            <a:ext cx="1389600" cy="792360"/>
            <a:chOff x="4509720" y="5157720"/>
            <a:chExt cx="1389600" cy="792360"/>
          </a:xfrm>
        </p:grpSpPr>
        <p:grpSp>
          <p:nvGrpSpPr>
            <p:cNvPr id="154" name=""/>
            <p:cNvGrpSpPr/>
            <p:nvPr/>
          </p:nvGrpSpPr>
          <p:grpSpPr>
            <a:xfrm>
              <a:off x="4530960" y="5157720"/>
              <a:ext cx="1368360" cy="792360"/>
              <a:chOff x="4530960" y="5157720"/>
              <a:chExt cx="1368360" cy="792360"/>
            </a:xfrm>
          </p:grpSpPr>
          <p:sp>
            <p:nvSpPr>
              <p:cNvPr id="155" name=""/>
              <p:cNvSpPr/>
              <p:nvPr/>
            </p:nvSpPr>
            <p:spPr>
              <a:xfrm>
                <a:off x="4602600" y="5229360"/>
                <a:ext cx="1296720" cy="72072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0960" y="5157720"/>
                <a:ext cx="1297080" cy="71928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09720" y="5176800"/>
              <a:ext cx="11851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?xml version="1.0"?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OECD.STAT xmlns:xsd=...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Value&gt;</a:t>
              </a:r>
              <a:r>
                <a:rPr b="0" lang="en-US" sz="1000" spc="-1" strike="noStrike">
                  <a:solidFill>
                    <a:srgbClr val="990033"/>
                  </a:solidFill>
                  <a:latin typeface="Arial Narrow"/>
                </a:rPr>
                <a:t>CANADA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Value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Data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……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28800" y="11970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5baff"/>
                </a:solidFill>
                <a:latin typeface="Verdana"/>
              </a:rPr>
              <a:t>OECD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203280" y="2421000"/>
            <a:ext cx="115236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349360"/>
            <a:ext cx="144360" cy="3167280"/>
          </a:xfrm>
          <a:custGeom>
            <a:avLst/>
            <a:gdLst>
              <a:gd name="textAreaLeft" fmla="*/ 0 w 144360"/>
              <a:gd name="textAreaRight" fmla="*/ 101160 w 144360"/>
              <a:gd name="textAreaTop" fmla="*/ 49680 h 3167280"/>
              <a:gd name="textAreaBottom" fmla="*/ 311760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1"/>
                  <a:pt x="21600" y="681"/>
                </a:cubicBezTo>
                <a:lnTo>
                  <a:pt x="21600" y="20919"/>
                </a:lnTo>
                <a:cubicBezTo>
                  <a:pt x="21600" y="212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2565360"/>
            <a:ext cx="115416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03280" y="5013360"/>
            <a:ext cx="129708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18716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XML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Valid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By Sc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9680" y="501336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XML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Copied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5400" y="1557360"/>
            <a:ext cx="1758960" cy="1320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32240" y="128268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2000" y="1989000"/>
            <a:ext cx="865080" cy="1224000"/>
            <a:chOff x="6012000" y="1989000"/>
            <a:chExt cx="865080" cy="1224000"/>
          </a:xfrm>
        </p:grpSpPr>
        <p:sp>
          <p:nvSpPr>
            <p:cNvPr id="168" name=""/>
            <p:cNvSpPr/>
            <p:nvPr/>
          </p:nvSpPr>
          <p:spPr>
            <a:xfrm flipH="1">
              <a:off x="6012000" y="3213000"/>
              <a:ext cx="5760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88000" y="1989000"/>
              <a:ext cx="0" cy="122400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589800" y="1989000"/>
              <a:ext cx="287280" cy="180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84720" y="2349360"/>
            <a:ext cx="1366920" cy="3959280"/>
            <a:chOff x="6084720" y="2349360"/>
            <a:chExt cx="1366920" cy="3959280"/>
          </a:xfrm>
        </p:grpSpPr>
        <p:grpSp>
          <p:nvGrpSpPr>
            <p:cNvPr id="172" name=""/>
            <p:cNvGrpSpPr/>
            <p:nvPr/>
          </p:nvGrpSpPr>
          <p:grpSpPr>
            <a:xfrm>
              <a:off x="6156000" y="2349360"/>
              <a:ext cx="1295640" cy="3240360"/>
              <a:chOff x="6156000" y="2349360"/>
              <a:chExt cx="1295640" cy="324036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6156000" y="5589720"/>
                <a:ext cx="5763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2720" y="2349360"/>
                <a:ext cx="0" cy="3240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6730920" y="2349360"/>
                <a:ext cx="720720" cy="18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084720" y="4941720"/>
              <a:ext cx="71640" cy="136692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21240 h 1366920"/>
                <a:gd name="textAreaBottom" fmla="*/ 13456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41"/>
                    <a:pt x="21600" y="681"/>
                  </a:cubicBezTo>
                  <a:lnTo>
                    <a:pt x="21600" y="20919"/>
                  </a:lnTo>
                  <a:cubicBezTo>
                    <a:pt x="21600" y="2126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16200000">
            <a:off x="6055200" y="262908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Nav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6294240" y="5117040"/>
            <a:ext cx="6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8172360" y="3213000"/>
            <a:ext cx="452520" cy="100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9440" y="3357720"/>
            <a:ext cx="124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Uploa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NA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or Outpu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Other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451640" y="2781360"/>
            <a:ext cx="720720" cy="576360"/>
            <a:chOff x="7451640" y="2781360"/>
            <a:chExt cx="720720" cy="576360"/>
          </a:xfrm>
        </p:grpSpPr>
        <p:sp>
          <p:nvSpPr>
            <p:cNvPr id="182" name=""/>
            <p:cNvSpPr/>
            <p:nvPr/>
          </p:nvSpPr>
          <p:spPr>
            <a:xfrm flipH="1">
              <a:off x="7451640" y="3357720"/>
              <a:ext cx="72072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1640" y="2781360"/>
              <a:ext cx="0" cy="57636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643280" y="27939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tructural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0" y="2707920"/>
            <a:ext cx="216000" cy="576720"/>
            <a:chOff x="4572000" y="2707920"/>
            <a:chExt cx="216000" cy="576720"/>
          </a:xfrm>
        </p:grpSpPr>
        <p:sp>
          <p:nvSpPr>
            <p:cNvPr id="186" name=""/>
            <p:cNvSpPr/>
            <p:nvPr/>
          </p:nvSpPr>
          <p:spPr>
            <a:xfrm flipV="1">
              <a:off x="4572000" y="2707920"/>
              <a:ext cx="0" cy="576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572000" y="3284640"/>
              <a:ext cx="2160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22840" y="3068640"/>
            <a:ext cx="1393920" cy="672480"/>
            <a:chOff x="4722840" y="3068640"/>
            <a:chExt cx="1393920" cy="672480"/>
          </a:xfrm>
        </p:grpSpPr>
        <p:sp>
          <p:nvSpPr>
            <p:cNvPr id="189" name=""/>
            <p:cNvSpPr/>
            <p:nvPr/>
          </p:nvSpPr>
          <p:spPr>
            <a:xfrm>
              <a:off x="4755960" y="3068640"/>
              <a:ext cx="1297080" cy="64764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22840" y="3068640"/>
              <a:ext cx="13939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?xml version="1.0"?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OECD.STAT xmlns:xsd=...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Value&gt;</a:t>
              </a:r>
              <a:r>
                <a:rPr b="0" lang="en-US" sz="1000" spc="-1" strike="noStrike">
                  <a:solidFill>
                    <a:srgbClr val="990033"/>
                  </a:solidFill>
                  <a:latin typeface="Arial Narrow"/>
                </a:rPr>
                <a:t>STRUCTURE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Value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Data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……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1027-13C0-4EEB-BDCE-EC231D96AD6F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nclusions from the Expert Group Meeting 1-2 April 2004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3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ML and web services very important in standardising exchan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group of countries and OECD to specify and implement a Web Service for exchange between OECD and NS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 hopes in SDMX initi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oup to engage itself in the review of the coming SDMX standar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 for future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E5A4-5BDD-4488-A319-70E50FE76243}" type="slidenum">
              <a:t>8</a:t>
            </a:fld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DMX Launches New Web Si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view of Draft SDMX standards v/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BC16-9478-40B3-8603-24755446EA4C}" type="slidenum">
              <a:t>9</a:t>
            </a:fld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4-05-11T09:36:24Z</dcterms:modified>
  <cp:revision>185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793820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Information for Participants to MSIS 2004</vt:lpwstr>
  </property>
</Properties>
</file>