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5196-17D9-4B9B-AA11-28038EF93D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D8E2-E50B-4D7C-9695-801AE04CF7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23840" y="107640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2320" y="4744800"/>
            <a:ext cx="49672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C790-F0F6-4B56-8360-6D39593CD2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D972-AD3F-4D55-933D-1E3A028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4625-577A-4028-81F0-9914F04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741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3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349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741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3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317D-AA70-401C-BA3C-A7C449D1B5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6B63-8624-43C0-B61B-2C932399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41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3320" y="175212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49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41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3320" y="4100760"/>
            <a:ext cx="2132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205A-09DC-464B-9C06-52C9433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21E2-7A50-4524-A31F-5195CB29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F545-06D7-441D-B885-DEA84416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4920" y="456840"/>
            <a:ext cx="669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0584-F317-4037-B17C-B6F83656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0E47-E381-4A68-9F49-ADD3B81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8640" y="410076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30DD-D2D8-4513-9873-5EE0A103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8640" y="1752120"/>
            <a:ext cx="32317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34920" y="4100760"/>
            <a:ext cx="6622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28E6-B366-49AC-8801-72F69C9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646200" cy="1306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476000" y="6400800"/>
            <a:ext cx="64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E592-3A82-489D-9E49-AAE17573F10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369040" cy="99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dmx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dmx.org/Data/SDMX_MCV_release1_200404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stats.oecd.org/nawwe/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dmx.org/news/news.aspx?id=33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566064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s Thyg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000000"/>
                </a:solidFill>
                <a:latin typeface="Arial"/>
              </a:rPr>
              <a:t>Practical Experience Towards SDMX at the OEC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281160" y="-304920"/>
            <a:ext cx="9777600" cy="7315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5589720"/>
            <a:ext cx="96854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8000" spc="-1" strike="noStrike">
                <a:solidFill>
                  <a:srgbClr val="00ff00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hat is SDMX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486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atistical </a:t>
            </a:r>
            <a:r>
              <a:rPr b="1" lang="en-GB" sz="3000" spc="-1" strike="noStrike">
                <a:solidFill>
                  <a:srgbClr val="3366cc"/>
                </a:solidFill>
                <a:latin typeface="Arial"/>
              </a:rPr>
              <a:t>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ta and </a:t>
            </a:r>
            <a:r>
              <a:rPr b="1" lang="en-GB" sz="3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tadata e</a:t>
            </a:r>
            <a:r>
              <a:rPr b="1" lang="en-GB" sz="3000" spc="-1" strike="noStrike">
                <a:solidFill>
                  <a:srgbClr val="3366cc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www.sdmx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S, ECB, EUROSTAT, IMF, OECD, UN, and the World Ba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employ more efficient business processes for exchange and sharing of statistical information and metada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sing emerging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9F6A-E5C4-4AC6-9238-9B02363DC975}" type="slidenum">
              <a:t>2</a:t>
            </a:fld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nd why is OECD interested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Questionnair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avy reporting burd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milar questionnaires for other I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imelin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rror pr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avy burden on OEC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3302-28DB-469C-84FB-362DC9FBABAB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nvisaged benefi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re efficient reporting, i.e. less burden on countries as well as on OEC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omated procedures which are less error pr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re timely reporting and, consequently, disse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hanced coordination with other international organis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0605-9D8A-4A3B-98DD-97F75CBDE22E}" type="slidenum">
              <a:t>4</a:t>
            </a:fld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ntributions to four projec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ndards for time series data ex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GESMES/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se study on standards for statistical data and metadata ex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on vocabulary for statistical metadata (</a:t>
            </a:r>
            <a:r>
              <a:rPr b="0" lang="en-GB" sz="30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MCV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ment of a model for metadata reposit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3737-3A7D-4FD1-9661-5D4D67F5C298}" type="slidenum">
              <a:t>5</a:t>
            </a:fld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ligned Projec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change of national accounts data between the OECD and Member countries (NAWW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oint UN/OECD Foreign Trade Statistics project (Comtra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upling of elements of OECD’s Statistical Inform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der use of Web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F1A1-D51F-4B67-BEB9-6C9EBA609917}" type="slidenum">
              <a:t>6</a:t>
            </a:fld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4623840" y="5589720"/>
            <a:ext cx="1389600" cy="792000"/>
            <a:chOff x="4623840" y="5589720"/>
            <a:chExt cx="1389600" cy="792000"/>
          </a:xfrm>
        </p:grpSpPr>
        <p:sp>
          <p:nvSpPr>
            <p:cNvPr id="102" name=""/>
            <p:cNvSpPr/>
            <p:nvPr/>
          </p:nvSpPr>
          <p:spPr>
            <a:xfrm>
              <a:off x="4716360" y="5661000"/>
              <a:ext cx="1297080" cy="72072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623840" y="5589720"/>
              <a:ext cx="1329840" cy="723600"/>
              <a:chOff x="4623840" y="5589720"/>
              <a:chExt cx="1329840" cy="723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645080" y="5589720"/>
                <a:ext cx="1297080" cy="719280"/>
              </a:xfrm>
              <a:prstGeom prst="flowChartDocument">
                <a:avLst/>
              </a:prstGeom>
              <a:solidFill>
                <a:srgbClr val="ffffff"/>
              </a:solidFill>
              <a:ln w="64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23840" y="5640840"/>
                <a:ext cx="1329840" cy="6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?xml version="1.0"?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OECD.STAT xmlns:xsd=...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Value&gt;</a:t>
                </a:r>
                <a:r>
                  <a:rPr b="0" lang="en-US" sz="1000" spc="-1" strike="noStrike">
                    <a:solidFill>
                      <a:srgbClr val="990033"/>
                    </a:solidFill>
                    <a:latin typeface="Arial Narrow"/>
                  </a:rPr>
                  <a:t>AUSTRALIA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/Valu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  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/Data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  ……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179280" y="476280"/>
            <a:ext cx="8785440" cy="6192720"/>
          </a:xfrm>
          <a:prstGeom prst="flowChartAlternateProcess">
            <a:avLst/>
          </a:prstGeom>
          <a:noFill/>
          <a:ln w="3816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15920"/>
            <a:ext cx="8316720" cy="936720"/>
            <a:chOff x="0" y="115920"/>
            <a:chExt cx="8316720" cy="936720"/>
          </a:xfrm>
        </p:grpSpPr>
        <p:sp>
          <p:nvSpPr>
            <p:cNvPr id="108" name=""/>
            <p:cNvSpPr/>
            <p:nvPr/>
          </p:nvSpPr>
          <p:spPr>
            <a:xfrm>
              <a:off x="7292160" y="115920"/>
              <a:ext cx="1024560" cy="936720"/>
            </a:xfrm>
            <a:prstGeom prst="ellipse">
              <a:avLst/>
            </a:prstGeom>
            <a:gradFill rotWithShape="0">
              <a:gsLst>
                <a:gs pos="0">
                  <a:srgbClr val="d4d4e2"/>
                </a:gs>
                <a:gs pos="100000">
                  <a:srgbClr val="4445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115920"/>
              <a:ext cx="7804440" cy="936720"/>
            </a:xfrm>
            <a:prstGeom prst="rect">
              <a:avLst/>
            </a:prstGeom>
            <a:gradFill rotWithShape="0">
              <a:gsLst>
                <a:gs pos="0">
                  <a:srgbClr val="d4d4e2"/>
                </a:gs>
                <a:gs pos="100000">
                  <a:srgbClr val="4445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1052640"/>
              <a:ext cx="8025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115920"/>
              <a:ext cx="8025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76280" y="260280"/>
            <a:ext cx="35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NAWW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7440" y="3888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Data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087560"/>
            <a:ext cx="2017800" cy="1693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360" y="5019840"/>
            <a:ext cx="1655640" cy="1506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63640" y="6021360"/>
            <a:ext cx="720720" cy="3650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577880" y="2852640"/>
            <a:ext cx="1368360" cy="792360"/>
            <a:chOff x="1577880" y="2852640"/>
            <a:chExt cx="1368360" cy="792360"/>
          </a:xfrm>
        </p:grpSpPr>
        <p:sp>
          <p:nvSpPr>
            <p:cNvPr id="119" name=""/>
            <p:cNvSpPr/>
            <p:nvPr/>
          </p:nvSpPr>
          <p:spPr>
            <a:xfrm>
              <a:off x="1649520" y="2924280"/>
              <a:ext cx="1296720" cy="72072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7880" y="2852640"/>
              <a:ext cx="1297080" cy="71928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56640" y="2871720"/>
            <a:ext cx="11851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?xml version="1.0"?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OECD.STAT xmlns:xsd=...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Value&gt;</a:t>
            </a:r>
            <a:r>
              <a:rPr b="0" lang="en-US" sz="1000" spc="-1" strike="noStrike">
                <a:solidFill>
                  <a:srgbClr val="990033"/>
                </a:solidFill>
                <a:latin typeface="Arial Narrow"/>
              </a:rPr>
              <a:t>CANADA</a:t>
            </a: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/Valu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    </a:t>
            </a: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/Data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    …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77880" y="4365720"/>
            <a:ext cx="1368360" cy="792000"/>
            <a:chOff x="1577880" y="4365720"/>
            <a:chExt cx="1368360" cy="792000"/>
          </a:xfrm>
        </p:grpSpPr>
        <p:sp>
          <p:nvSpPr>
            <p:cNvPr id="123" name=""/>
            <p:cNvSpPr/>
            <p:nvPr/>
          </p:nvSpPr>
          <p:spPr>
            <a:xfrm>
              <a:off x="1649520" y="4437000"/>
              <a:ext cx="1296720" cy="72072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77880" y="4365720"/>
              <a:ext cx="1297080" cy="71892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56640" y="4416480"/>
            <a:ext cx="13298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?xml version="1.0"?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OECD.STAT xmlns:xsd=...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Value&gt;</a:t>
            </a:r>
            <a:r>
              <a:rPr b="0" lang="en-US" sz="1000" spc="-1" strike="noStrike">
                <a:solidFill>
                  <a:srgbClr val="990033"/>
                </a:solidFill>
                <a:latin typeface="Arial Narrow"/>
              </a:rPr>
              <a:t>AUSTRALIA</a:t>
            </a: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/Valu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    </a:t>
            </a: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&lt;/Data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990033"/>
                </a:solidFill>
                <a:latin typeface="Arial Narrow"/>
              </a:rPr>
              <a:t>    …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396720" cy="88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401760" cy="884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64000" y="2565360"/>
            <a:ext cx="12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XML Data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64000" y="5084640"/>
            <a:ext cx="12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XML Data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68360" y="314172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468360" y="45086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3284640"/>
            <a:ext cx="215640" cy="215640"/>
          </a:xfrm>
          <a:prstGeom prst="flowChartSummingJunction">
            <a:avLst/>
          </a:prstGeom>
          <a:solidFill>
            <a:srgbClr val="ccffcc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4653000"/>
            <a:ext cx="215640" cy="216000"/>
          </a:xfrm>
          <a:prstGeom prst="flowChartSummingJunction">
            <a:avLst/>
          </a:prstGeom>
          <a:solidFill>
            <a:srgbClr val="ccffcc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852640"/>
            <a:ext cx="0" cy="28908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3357720"/>
            <a:ext cx="64764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11280" y="4797360"/>
            <a:ext cx="0" cy="28728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797360"/>
            <a:ext cx="64764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66760" y="3428640"/>
            <a:ext cx="669960" cy="1079640"/>
            <a:chOff x="266760" y="3428640"/>
            <a:chExt cx="669960" cy="1079640"/>
          </a:xfrm>
        </p:grpSpPr>
        <p:sp>
          <p:nvSpPr>
            <p:cNvPr id="139" name=""/>
            <p:cNvSpPr/>
            <p:nvPr/>
          </p:nvSpPr>
          <p:spPr>
            <a:xfrm>
              <a:off x="266760" y="3763800"/>
              <a:ext cx="66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8080"/>
                  </a:solidFill>
                  <a:latin typeface="Verdana"/>
                </a:rPr>
                <a:t>Exc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8080"/>
                  </a:solidFill>
                  <a:latin typeface="Verdana"/>
                </a:rPr>
                <a:t>T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11280" y="3428640"/>
              <a:ext cx="0" cy="4316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11280" y="4149360"/>
              <a:ext cx="0" cy="35892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211640" y="1484280"/>
            <a:ext cx="2160720" cy="5040360"/>
          </a:xfrm>
          <a:custGeom>
            <a:avLst/>
            <a:gdLst>
              <a:gd name="textAreaLeft" fmla="*/ 86400 w 2160720"/>
              <a:gd name="textAreaRight" fmla="*/ 2074320 w 2160720"/>
              <a:gd name="textAreaTop" fmla="*/ 86400 h 5040360"/>
              <a:gd name="textAreaBottom" fmla="*/ 4953960 h 5040360"/>
            </a:gdLst>
            <a:ahLst/>
            <a:rect l="textAreaLeft" t="textAreaTop" r="textAreaRight" b="textAreaBottom"/>
            <a:pathLst>
              <a:path w="21600" h="50382">
                <a:moveTo>
                  <a:pt x="2954" y="0"/>
                </a:moveTo>
                <a:arcTo wR="2954" hR="2954" stAng="16200000" swAng="-5400000"/>
                <a:lnTo>
                  <a:pt x="0" y="47428"/>
                </a:lnTo>
                <a:arcTo wR="2954" hR="2954" stAng="10800000" swAng="-5400000"/>
                <a:lnTo>
                  <a:pt x="18646" y="50382"/>
                </a:lnTo>
                <a:arcTo wR="2954" hR="2954" stAng="5400000" swAng="-5400000"/>
                <a:lnTo>
                  <a:pt x="21600" y="2954"/>
                </a:lnTo>
                <a:arcTo wR="2954" hR="2954" stAng="0" swAng="-5400000"/>
                <a:close/>
              </a:path>
            </a:pathLst>
          </a:custGeom>
          <a:noFill/>
          <a:ln w="25560">
            <a:solidFill>
              <a:srgbClr val="75ba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427640" y="1989000"/>
            <a:ext cx="1728720" cy="733320"/>
            <a:chOff x="4427640" y="1989000"/>
            <a:chExt cx="1728720" cy="733320"/>
          </a:xfrm>
        </p:grpSpPr>
        <p:grpSp>
          <p:nvGrpSpPr>
            <p:cNvPr id="144" name=""/>
            <p:cNvGrpSpPr/>
            <p:nvPr/>
          </p:nvGrpSpPr>
          <p:grpSpPr>
            <a:xfrm>
              <a:off x="4483080" y="2060640"/>
              <a:ext cx="1673280" cy="649080"/>
              <a:chOff x="4483080" y="2060640"/>
              <a:chExt cx="1673280" cy="649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483080" y="2060640"/>
                <a:ext cx="1673280" cy="649080"/>
              </a:xfrm>
              <a:prstGeom prst="foldedCorner">
                <a:avLst>
                  <a:gd name="adj" fmla="val 12500"/>
                </a:avLst>
              </a:prstGeom>
              <a:solidFill>
                <a:srgbClr val="f8f8f8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6400" y="2060640"/>
                <a:ext cx="1789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427640" y="1989000"/>
              <a:ext cx="1657080" cy="733320"/>
              <a:chOff x="4427640" y="1989000"/>
              <a:chExt cx="1657080" cy="733320"/>
            </a:xfrm>
          </p:grpSpPr>
          <p:sp>
            <p:nvSpPr>
              <p:cNvPr id="148" name=""/>
              <p:cNvSpPr/>
              <p:nvPr/>
            </p:nvSpPr>
            <p:spPr>
              <a:xfrm>
                <a:off x="4427640" y="1989000"/>
                <a:ext cx="1657080" cy="639360"/>
              </a:xfrm>
              <a:prstGeom prst="foldedCorner">
                <a:avLst>
                  <a:gd name="adj" fmla="val 12500"/>
                </a:avLst>
              </a:prstGeom>
              <a:solidFill>
                <a:srgbClr val="f8f8f8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5360" y="1989000"/>
                <a:ext cx="16210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?xml version="1.0" encoding="UTF-8"?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xs:schema xmlns:xs="http:..XML"...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xs:element name="Code"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  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xs:complexType/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</a:t>
                </a: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&lt;/xs:element&gt;……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0033"/>
                    </a:solidFill>
                    <a:latin typeface="Arial Narrow"/>
                  </a:rPr>
                  <a:t>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4638240" y="1557360"/>
            <a:ext cx="122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SDMX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XML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3560" y="364500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Defines Dimen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and Data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9720" y="486900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Copied XML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09720" y="5157720"/>
            <a:ext cx="1389600" cy="792360"/>
            <a:chOff x="4509720" y="5157720"/>
            <a:chExt cx="1389600" cy="792360"/>
          </a:xfrm>
        </p:grpSpPr>
        <p:grpSp>
          <p:nvGrpSpPr>
            <p:cNvPr id="154" name=""/>
            <p:cNvGrpSpPr/>
            <p:nvPr/>
          </p:nvGrpSpPr>
          <p:grpSpPr>
            <a:xfrm>
              <a:off x="4530960" y="5157720"/>
              <a:ext cx="1368360" cy="792360"/>
              <a:chOff x="4530960" y="5157720"/>
              <a:chExt cx="1368360" cy="792360"/>
            </a:xfrm>
          </p:grpSpPr>
          <p:sp>
            <p:nvSpPr>
              <p:cNvPr id="155" name=""/>
              <p:cNvSpPr/>
              <p:nvPr/>
            </p:nvSpPr>
            <p:spPr>
              <a:xfrm>
                <a:off x="4602600" y="5229360"/>
                <a:ext cx="1296720" cy="720720"/>
              </a:xfrm>
              <a:prstGeom prst="flowChartDocument">
                <a:avLst/>
              </a:prstGeom>
              <a:solidFill>
                <a:srgbClr val="ffffff"/>
              </a:solidFill>
              <a:ln w="64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30960" y="5157720"/>
                <a:ext cx="1297080" cy="719280"/>
              </a:xfrm>
              <a:prstGeom prst="flowChartDocument">
                <a:avLst/>
              </a:prstGeom>
              <a:solidFill>
                <a:srgbClr val="ffffff"/>
              </a:solidFill>
              <a:ln w="64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09720" y="5176800"/>
              <a:ext cx="118512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?xml version="1.0"?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OECD.STAT xmlns:xsd=...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Value&gt;</a:t>
              </a:r>
              <a:r>
                <a:rPr b="0" lang="en-US" sz="1000" spc="-1" strike="noStrike">
                  <a:solidFill>
                    <a:srgbClr val="990033"/>
                  </a:solidFill>
                  <a:latin typeface="Arial Narrow"/>
                </a:rPr>
                <a:t>CANADA</a:t>
              </a: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/Value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    </a:t>
              </a: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/Data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    ……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28800" y="11970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5baff"/>
                </a:solidFill>
                <a:latin typeface="Verdana"/>
              </a:rPr>
              <a:t>OECD 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203280" y="2421000"/>
            <a:ext cx="1152360" cy="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349360"/>
            <a:ext cx="144360" cy="3167280"/>
          </a:xfrm>
          <a:custGeom>
            <a:avLst/>
            <a:gdLst>
              <a:gd name="textAreaLeft" fmla="*/ 0 w 144360"/>
              <a:gd name="textAreaRight" fmla="*/ 101160 w 144360"/>
              <a:gd name="textAreaTop" fmla="*/ 49680 h 3167280"/>
              <a:gd name="textAreaBottom" fmla="*/ 311760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1"/>
                  <a:pt x="21600" y="681"/>
                </a:cubicBezTo>
                <a:lnTo>
                  <a:pt x="21600" y="20919"/>
                </a:lnTo>
                <a:cubicBezTo>
                  <a:pt x="21600" y="212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2565360"/>
            <a:ext cx="1154160" cy="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03280" y="5013360"/>
            <a:ext cx="1297080" cy="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5800" y="18716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XML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Valid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By Sc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89680" y="501336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XML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Copied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45400" y="1557360"/>
            <a:ext cx="1758960" cy="1320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32240" y="128268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Web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12000" y="1989000"/>
            <a:ext cx="865080" cy="1224000"/>
            <a:chOff x="6012000" y="1989000"/>
            <a:chExt cx="865080" cy="1224000"/>
          </a:xfrm>
        </p:grpSpPr>
        <p:sp>
          <p:nvSpPr>
            <p:cNvPr id="168" name=""/>
            <p:cNvSpPr/>
            <p:nvPr/>
          </p:nvSpPr>
          <p:spPr>
            <a:xfrm flipH="1">
              <a:off x="6012000" y="3213000"/>
              <a:ext cx="57600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88000" y="1989000"/>
              <a:ext cx="0" cy="122400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589800" y="1989000"/>
              <a:ext cx="287280" cy="180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84720" y="2349360"/>
            <a:ext cx="1366920" cy="3959280"/>
            <a:chOff x="6084720" y="2349360"/>
            <a:chExt cx="1366920" cy="3959280"/>
          </a:xfrm>
        </p:grpSpPr>
        <p:grpSp>
          <p:nvGrpSpPr>
            <p:cNvPr id="172" name=""/>
            <p:cNvGrpSpPr/>
            <p:nvPr/>
          </p:nvGrpSpPr>
          <p:grpSpPr>
            <a:xfrm>
              <a:off x="6156000" y="2349360"/>
              <a:ext cx="1295640" cy="3240360"/>
              <a:chOff x="6156000" y="2349360"/>
              <a:chExt cx="1295640" cy="3240360"/>
            </a:xfrm>
          </p:grpSpPr>
          <p:sp>
            <p:nvSpPr>
              <p:cNvPr id="173" name=""/>
              <p:cNvSpPr/>
              <p:nvPr/>
            </p:nvSpPr>
            <p:spPr>
              <a:xfrm flipH="1">
                <a:off x="6156000" y="5589720"/>
                <a:ext cx="5763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2720" y="2349360"/>
                <a:ext cx="0" cy="3240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6730920" y="2349360"/>
                <a:ext cx="720720" cy="18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6084720" y="4941720"/>
              <a:ext cx="71640" cy="1366920"/>
            </a:xfrm>
            <a:custGeom>
              <a:avLst/>
              <a:gdLst>
                <a:gd name="textAreaLeft" fmla="*/ 0 w 71640"/>
                <a:gd name="textAreaRight" fmla="*/ 50400 w 71640"/>
                <a:gd name="textAreaTop" fmla="*/ 21240 h 1366920"/>
                <a:gd name="textAreaBottom" fmla="*/ 13456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341"/>
                    <a:pt x="21600" y="681"/>
                  </a:cubicBezTo>
                  <a:lnTo>
                    <a:pt x="21600" y="20919"/>
                  </a:lnTo>
                  <a:cubicBezTo>
                    <a:pt x="21600" y="2126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rot="16200000">
            <a:off x="6055200" y="2629080"/>
            <a:ext cx="88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Nav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6294240" y="5117040"/>
            <a:ext cx="6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69696"/>
                </a:solidFill>
                <a:latin typeface="Verdan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8172360" y="3213000"/>
            <a:ext cx="452520" cy="100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949440" y="3357720"/>
            <a:ext cx="124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Uploa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SNA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or Outpu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Other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451640" y="2781360"/>
            <a:ext cx="720720" cy="576360"/>
            <a:chOff x="7451640" y="2781360"/>
            <a:chExt cx="720720" cy="576360"/>
          </a:xfrm>
        </p:grpSpPr>
        <p:sp>
          <p:nvSpPr>
            <p:cNvPr id="182" name=""/>
            <p:cNvSpPr/>
            <p:nvPr/>
          </p:nvSpPr>
          <p:spPr>
            <a:xfrm flipH="1">
              <a:off x="7451640" y="3357720"/>
              <a:ext cx="72072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51640" y="2781360"/>
              <a:ext cx="0" cy="57636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643280" y="27939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Verdana"/>
              </a:rPr>
              <a:t>Structural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72000" y="2707920"/>
            <a:ext cx="216000" cy="576720"/>
            <a:chOff x="4572000" y="2707920"/>
            <a:chExt cx="216000" cy="576720"/>
          </a:xfrm>
        </p:grpSpPr>
        <p:sp>
          <p:nvSpPr>
            <p:cNvPr id="186" name=""/>
            <p:cNvSpPr/>
            <p:nvPr/>
          </p:nvSpPr>
          <p:spPr>
            <a:xfrm flipV="1">
              <a:off x="4572000" y="2707920"/>
              <a:ext cx="0" cy="5763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572000" y="3284640"/>
              <a:ext cx="2160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722840" y="3068640"/>
            <a:ext cx="1393920" cy="672480"/>
            <a:chOff x="4722840" y="3068640"/>
            <a:chExt cx="1393920" cy="672480"/>
          </a:xfrm>
        </p:grpSpPr>
        <p:sp>
          <p:nvSpPr>
            <p:cNvPr id="189" name=""/>
            <p:cNvSpPr/>
            <p:nvPr/>
          </p:nvSpPr>
          <p:spPr>
            <a:xfrm>
              <a:off x="4755960" y="3068640"/>
              <a:ext cx="1297080" cy="647640"/>
            </a:xfrm>
            <a:prstGeom prst="flowChartDocument">
              <a:avLst/>
            </a:prstGeom>
            <a:solidFill>
              <a:srgbClr val="ffffff"/>
            </a:solidFill>
            <a:ln w="6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22840" y="3068640"/>
              <a:ext cx="139392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?xml version="1.0"?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OECD.STAT xmlns:xsd=...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Value&gt;</a:t>
              </a:r>
              <a:r>
                <a:rPr b="0" lang="en-US" sz="1000" spc="-1" strike="noStrike">
                  <a:solidFill>
                    <a:srgbClr val="990033"/>
                  </a:solidFill>
                  <a:latin typeface="Arial Narrow"/>
                </a:rPr>
                <a:t>STRUCTURE</a:t>
              </a: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/Value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    </a:t>
              </a: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&lt;/Data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990033"/>
                  </a:solidFill>
                  <a:latin typeface="Arial Narrow"/>
                </a:rPr>
                <a:t>    ……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740F-9C85-4323-B95D-DF3E14736BFC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nclusions from the Expert Group Meeting 1-2 April 2004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3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ML and web services very important in standardising exchan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group of countries and OECD to specify and implement a Web Service for exchange between OECD and NS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 hopes in SDMX initia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oup to engage itself in the review of the coming SDMX standar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ed for future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7986-D462-44F3-931E-0CF08B7A8BFF}" type="slidenum">
              <a:t>8</a:t>
            </a:fld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4920" y="456840"/>
            <a:ext cx="669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34920" y="1752120"/>
            <a:ext cx="662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SDMX Launches New Web Si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f7ebd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view of Draft SDMX standards v/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03BE-50B4-45D8-9D56-DA6A3CF4D530}" type="slidenum">
              <a:t>9</a:t>
            </a:fld>
          </a:p>
        </p:txBody>
      </p:sp>
    </p:spTree>
  </p:cSld>
  <p:transition>
    <p:split dir="in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9:48:40Z</dcterms:created>
  <dc:creator>Peter Lübkert</dc:creator>
  <dc:description/>
  <dc:language>en-US</dc:language>
  <cp:lastModifiedBy>Thygesen_L</cp:lastModifiedBy>
  <cp:lastPrinted>2001-10-12T08:11:06Z</cp:lastPrinted>
  <dcterms:modified xsi:type="dcterms:W3CDTF">2004-05-11T09:36:24Z</dcterms:modified>
  <cp:revision>185</cp:revision>
  <dc:subject/>
  <dc:title>2000 SDS Object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7793820</vt:r8>
  </property>
  <property fmtid="{D5CDD505-2E9C-101B-9397-08002B2CF9AE}" pid="3" name="_AuthorEmail">
    <vt:lpwstr>Lars.THYGESEN@oecd.org</vt:lpwstr>
  </property>
  <property fmtid="{D5CDD505-2E9C-101B-9397-08002B2CF9AE}" pid="4" name="_AuthorEmailDisplayName">
    <vt:lpwstr>THYGESEN Lars, STD/SIMS</vt:lpwstr>
  </property>
  <property fmtid="{D5CDD505-2E9C-101B-9397-08002B2CF9AE}" pid="5" name="_EmailSubject">
    <vt:lpwstr>Information for Participants to MSIS 2004</vt:lpwstr>
  </property>
</Properties>
</file>