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8DBA-2833-45FC-AAD5-10A189DCA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7096-E05C-4D91-921A-E34533218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A644-0C27-46B8-B746-B02F54028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BB2B-047E-428B-B380-90F4EA9BB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6EC-ABFE-40A7-9848-6C10D51D65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CCB-BADF-4F9C-A6F7-ED2EE3B3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6FB-6CC5-4726-8766-C8552419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91F-B730-4F29-8A89-9EFA7CA2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79D-3BF8-4511-BA8C-ECF43973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79640" y="3805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647-6483-4CD1-AA60-AF8E8DB6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6E4-1629-474E-8E84-75A5367E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745F-0DAF-4921-8767-51875638A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9FF-3883-4CEA-85B7-802DB015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00D-A958-4A0A-AF7F-EC3339AF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958-27AD-41BB-92CD-B0218C41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FC8-969F-4864-9168-1B3C9013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F71-B96A-4FFF-B093-4A9650BA8A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EB82-47BD-410C-92E2-9E15E5024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56EF-333D-44CE-AAE9-E05A97929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28EB-FC34-49F0-A6C0-2D841841D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640" y="3805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630D-C3D2-444F-907B-46B7FE520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C297-EA9D-4967-8F3A-D5CC8CDEC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0C4B-CEB4-4255-8D02-807413C05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86A8-FE44-4BFE-84E2-8D1047642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4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19D2-2D60-4447-9639-F6E4E37E76E0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81920" y="6464160"/>
            <a:ext cx="971640" cy="2667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48199" t="0" r="0" b="0"/>
          <a:stretch/>
        </p:blipFill>
        <p:spPr>
          <a:xfrm>
            <a:off x="142920" y="6093000"/>
            <a:ext cx="735120" cy="704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95280" y="333360"/>
            <a:ext cx="1536840" cy="1158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85800" y="1557360"/>
            <a:ext cx="7918560" cy="1522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99ccff"/>
              </a:gs>
              <a:gs pos="100000">
                <a:srgbClr val="00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03920" y="6595920"/>
            <a:ext cx="74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AE18-B541-4371-8AD0-CC4E4B4C8026}" type="slidenum">
              <a:rPr b="0" lang="en-US" sz="900" spc="-1" strike="noStrike">
                <a:solidFill>
                  <a:srgbClr val="acd1a1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69800" y="163800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3581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3950-71A4-4E95-AFFE-03BB58596C31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93080" y="6459480"/>
            <a:ext cx="971640" cy="26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48199" t="0" r="0" b="0"/>
          <a:stretch/>
        </p:blipFill>
        <p:spPr>
          <a:xfrm>
            <a:off x="1244520" y="3789360"/>
            <a:ext cx="735120" cy="70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3132000"/>
            <a:ext cx="7918560" cy="1526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99ccff"/>
              </a:gs>
              <a:gs pos="100000">
                <a:srgbClr val="00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55640" y="1628640"/>
            <a:ext cx="153684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03920" y="6595920"/>
            <a:ext cx="74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0923-241F-459A-8DAE-3A6B2FB6C9C0}" type="slidenum">
              <a:rPr b="0" lang="en-US" sz="900" spc="-1" strike="noStrike">
                <a:solidFill>
                  <a:srgbClr val="acd1a1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9800" y="163800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Utilisation d’ICP pour le recensement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33cc"/>
                </a:solidFill>
                <a:latin typeface="Arial"/>
              </a:rPr>
              <a:t>GSIS 2004, Genève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33cc"/>
                </a:solidFill>
                <a:latin typeface="Arial"/>
              </a:rPr>
              <a:t>Mel Turner, Lise Duquet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33cc"/>
                </a:solidFill>
                <a:latin typeface="Arial"/>
              </a:rPr>
              <a:t>Statistique Canada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Programme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63520" y="2033640"/>
            <a:ext cx="7359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L’infrastructure commune du gouvernement du Canada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Recensement de la population, recensement de l’agricultur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Exigences opérationnelle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Exigences en matière de sécurité et de confidentialité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Un nouveau service commun -  SCEAU (S</a:t>
            </a:r>
            <a:r>
              <a:rPr b="0" i="1" lang="fr-CA" sz="2000" spc="-1" strike="noStrike">
                <a:solidFill>
                  <a:srgbClr val="0033cc"/>
                </a:solidFill>
                <a:latin typeface="Arial"/>
              </a:rPr>
              <a:t>ession avec chiffrement et enregistrement automatique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Caractéristique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Élément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Déroulement des opération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Pourquoi la SCEAU est-elle adéquate pour la collecte de données statistiques?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E2AC-DAC0-4CE5-A165-6860E343557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960" y="816120"/>
            <a:ext cx="8739000" cy="7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Objectifs opérationnels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722240"/>
            <a:ext cx="83883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Offrir à tous les Canadiens la possibilité de remplir le formulaire de recensement par Interne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Le recensement de la population et le recensement de l’agriculture ont lieu à tous les cinq an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13,5 millions de ménages et 300 000 exploitations agricoles en mai 2006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Faire une répétition générale du recensement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300 000 ménages et 20 000 exploitations agricoles en mai 2004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Viser un taux de participation par Internet entre 20 % et 25 %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Période de pointe : À l’approche ou le jour même du recensemen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Offrir aux canadiens la façon la plus sécuritaire de se brancher afin de protéger la confidentialité des donné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2BC4-9A1F-4B73-9BF2-3170D22C6FB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3840" y="1136520"/>
            <a:ext cx="838980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Exigences opérationnelles</a:t>
            </a:r>
            <a:r>
              <a:rPr b="0" i="1" lang="fr-CA" sz="4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i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4360" y="1716120"/>
            <a:ext cx="7937640" cy="41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4182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Accès simple et en une seule étap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Authentification d’un formulaire, non pas d’une personn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Aucune préinscription requis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4182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Commodité et facilité d’utilisa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Accessible à tout moment et de partou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Navigateurs Web pris en charg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Possibilité de suspendre et de reprendre une session pour les longs formulaire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Aucune trace sur le poste de travail de l’utilisateur après la sessio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Capacité de traiter un grand volume d’information de façon sécuritair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Application très visibl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Fenêtre de réponse axée sur le «jour du recensement»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9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cc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164B-193D-4E90-8EB0-0B59D329F7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4520" y="925200"/>
            <a:ext cx="834372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Exigences en matière de confidentialité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1761840"/>
            <a:ext cx="8474040" cy="44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Protection de la confidentialité des données transmises en direc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L’ICP assure la confidentialité et offre un service de signature électronique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La SCEAU utilise seulement l’ICP à des fins de protection de la confidentialité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Solide chiffrement au moyen d’un certificat d’ICP anonym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Chiffrement bidirectionnel et de bout en bout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Il faut pouvoir retourner de façon sécuritaire à l’utilisateur les instructions, les mises à jour en temps réel et les données confidentielles saisies lors d’une session précédente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Interface de sécurité transparente pour l’utilisateu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Les mesures prises par la SCEAU afin de veiller à ce que la session demeure protégée ne peuvent être perçues par l’utilisateur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125F-ED65-423A-B5BE-42A7EF804E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Caractéristiques de la SCEAU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4720" y="1768320"/>
            <a:ext cx="8369280" cy="477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Répertoire de certificats d’ICP anonym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Les certificats d’ICP sont générés à l’avance.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Les certificats d’ICP sont recyclés à la fin de chaque session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Aucune gestion des profils d’utilisateurs n’est nécessair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Codes d’utilisateur anonymes de l’ICP, mots de passe et noms distinctif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L’ouverture et la fermeture de la SCEAU sont automatiques et ne peuvent être perçues par l’utilisateur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Autorité de certification réservé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cc"/>
                </a:solidFill>
                <a:latin typeface="Arial"/>
              </a:rPr>
              <a:t>Il n’y a pas de certification croisée avec d’autres autorité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Chiffrement bidirectionnel de bout en bout au moyen d’Entrust 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®</a:t>
            </a:r>
            <a:r>
              <a:rPr b="0" lang="fr-CA" sz="2400" spc="-1" strike="noStrike">
                <a:solidFill>
                  <a:srgbClr val="0033cc"/>
                </a:solidFill>
                <a:latin typeface="Arial"/>
              </a:rPr>
              <a:t> TruePass 7.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3E02-A945-43A9-A1BD-3913BC6808A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Ouverture de session du recensement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95360" y="1816200"/>
            <a:ext cx="8303400" cy="4117320"/>
            <a:chOff x="495360" y="1816200"/>
            <a:chExt cx="8303400" cy="4117320"/>
          </a:xfrm>
        </p:grpSpPr>
        <p:sp>
          <p:nvSpPr>
            <p:cNvPr id="104" name=""/>
            <p:cNvSpPr/>
            <p:nvPr/>
          </p:nvSpPr>
          <p:spPr>
            <a:xfrm>
              <a:off x="644040" y="1829520"/>
              <a:ext cx="1370880" cy="777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Tentative d’accès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u site du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recens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4040" y="3438360"/>
              <a:ext cx="1370880" cy="7776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Établissement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u cad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TruePass</a:t>
              </a:r>
              <a:r>
                <a:rPr b="1" lang="fr-CA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360" y="5152680"/>
              <a:ext cx="1668960" cy="77760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Invite l’utilisateur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à entrer le cod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(indiqué sur le form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27920" y="1816200"/>
              <a:ext cx="1370880" cy="7779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’utilisateur entr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e code d’accè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29360" y="5152680"/>
              <a:ext cx="1371240" cy="77760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Obtenir le cod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’accès chiffré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et valid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38640" y="5152680"/>
              <a:ext cx="1371240" cy="77760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indirect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inversé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54240" y="3863520"/>
              <a:ext cx="1940400" cy="777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Extraire un id. d’utilisateur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u hasard et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ouverture de session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utomatiq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000" y="2778840"/>
              <a:ext cx="956880" cy="79092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ertificats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nony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>
              <a:stCxn id="111" idx="3"/>
              <a:endCxn id="110" idx="0"/>
            </p:cNvCxnSpPr>
            <p:nvPr/>
          </p:nvCxnSpPr>
          <p:spPr>
            <a:xfrm>
              <a:off x="4924080" y="3569760"/>
              <a:ext cx="1080" cy="2941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13" name=""/>
            <p:cNvSpPr/>
            <p:nvPr/>
          </p:nvSpPr>
          <p:spPr>
            <a:xfrm>
              <a:off x="5937120" y="5152680"/>
              <a:ext cx="1370880" cy="77760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réer une session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’utilisat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42720" y="1855800"/>
              <a:ext cx="1759320" cy="7779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’utilisateur remplit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e formulaire 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recens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>
              <a:stCxn id="108" idx="3"/>
              <a:endCxn id="109" idx="1"/>
            </p:cNvCxnSpPr>
            <p:nvPr/>
          </p:nvCxnSpPr>
          <p:spPr>
            <a:xfrm>
              <a:off x="3900960" y="5541120"/>
              <a:ext cx="33840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16" name=""/>
            <p:cNvCxnSpPr>
              <a:stCxn id="109" idx="0"/>
              <a:endCxn id="110" idx="2"/>
            </p:cNvCxnSpPr>
            <p:nvPr/>
          </p:nvCxnSpPr>
          <p:spPr>
            <a:xfrm flipV="1">
              <a:off x="4924080" y="4641120"/>
              <a:ext cx="1080" cy="51156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7" name=""/>
            <p:cNvCxnSpPr>
              <a:stCxn id="109" idx="3"/>
              <a:endCxn id="113" idx="1"/>
            </p:cNvCxnSpPr>
            <p:nvPr/>
          </p:nvCxnSpPr>
          <p:spPr>
            <a:xfrm>
              <a:off x="5609880" y="5541120"/>
              <a:ext cx="32724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18" name=""/>
            <p:cNvCxnSpPr>
              <a:stCxn id="104" idx="2"/>
              <a:endCxn id="105" idx="0"/>
            </p:cNvCxnSpPr>
            <p:nvPr/>
          </p:nvCxnSpPr>
          <p:spPr>
            <a:xfrm>
              <a:off x="1329120" y="2607480"/>
              <a:ext cx="1080" cy="83160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9" name=""/>
            <p:cNvCxnSpPr>
              <a:stCxn id="105" idx="2"/>
              <a:endCxn id="106" idx="0"/>
            </p:cNvCxnSpPr>
            <p:nvPr/>
          </p:nvCxnSpPr>
          <p:spPr>
            <a:xfrm>
              <a:off x="1329120" y="4215960"/>
              <a:ext cx="1080" cy="937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20" name=""/>
            <p:cNvCxnSpPr>
              <a:stCxn id="107" idx="2"/>
              <a:endCxn id="108" idx="0"/>
            </p:cNvCxnSpPr>
            <p:nvPr/>
          </p:nvCxnSpPr>
          <p:spPr>
            <a:xfrm>
              <a:off x="3213720" y="2594160"/>
              <a:ext cx="2160" cy="25585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21" name=""/>
            <p:cNvCxnSpPr>
              <a:stCxn id="106" idx="3"/>
              <a:endCxn id="107" idx="1"/>
            </p:cNvCxnSpPr>
            <p:nvPr/>
          </p:nvCxnSpPr>
          <p:spPr>
            <a:xfrm flipV="1">
              <a:off x="2164320" y="2204280"/>
              <a:ext cx="364320" cy="3336840"/>
            </a:xfrm>
            <a:prstGeom prst="bentConnector3">
              <a:avLst>
                <a:gd name="adj1" fmla="val 49752"/>
              </a:avLst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22" name=""/>
            <p:cNvCxnSpPr>
              <a:stCxn id="113" idx="0"/>
              <a:endCxn id="114" idx="2"/>
            </p:cNvCxnSpPr>
            <p:nvPr/>
          </p:nvCxnSpPr>
          <p:spPr>
            <a:xfrm flipV="1">
              <a:off x="6622200" y="2634120"/>
              <a:ext cx="1080" cy="25189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23" name=""/>
            <p:cNvGrpSpPr/>
            <p:nvPr/>
          </p:nvGrpSpPr>
          <p:grpSpPr>
            <a:xfrm>
              <a:off x="7570080" y="1877040"/>
              <a:ext cx="1228680" cy="4056480"/>
              <a:chOff x="7570080" y="1877040"/>
              <a:chExt cx="1228680" cy="4056480"/>
            </a:xfrm>
          </p:grpSpPr>
          <p:sp>
            <p:nvSpPr>
              <p:cNvPr id="124" name=""/>
              <p:cNvSpPr/>
              <p:nvPr/>
            </p:nvSpPr>
            <p:spPr>
              <a:xfrm>
                <a:off x="7570080" y="1877040"/>
                <a:ext cx="1228680" cy="7462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Navigateur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de l’utilisa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70080" y="3459240"/>
                <a:ext cx="1228680" cy="746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ICP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commu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70080" y="5187240"/>
                <a:ext cx="1228680" cy="7462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Logiciel du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recens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E4DC-EAB7-4907-8EFF-17863F9C403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9640" y="3805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0033cc"/>
                </a:solidFill>
                <a:latin typeface="Times New Roman"/>
              </a:rPr>
              <a:t>L’utilisateur soumet des données</a:t>
            </a:r>
            <a:endParaRPr b="0" i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80880" y="1815120"/>
            <a:ext cx="8265960" cy="4152240"/>
            <a:chOff x="380880" y="1815120"/>
            <a:chExt cx="8265960" cy="4152240"/>
          </a:xfrm>
        </p:grpSpPr>
        <p:cxnSp>
          <p:nvCxnSpPr>
            <p:cNvPr id="129" name=""/>
            <p:cNvCxnSpPr>
              <a:stCxn id="130" idx="0"/>
              <a:endCxn id="131" idx="0"/>
            </p:cNvCxnSpPr>
            <p:nvPr/>
          </p:nvCxnSpPr>
          <p:spPr>
            <a:xfrm rot="5400000">
              <a:off x="2912400" y="565560"/>
              <a:ext cx="479880" cy="3436200"/>
            </a:xfrm>
            <a:prstGeom prst="bentConnector3">
              <a:avLst>
                <a:gd name="adj1" fmla="val -47672"/>
              </a:avLst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31" name=""/>
            <p:cNvSpPr/>
            <p:nvPr/>
          </p:nvSpPr>
          <p:spPr>
            <a:xfrm>
              <a:off x="584280" y="2523960"/>
              <a:ext cx="1701720" cy="749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’applet TruePass</a:t>
              </a:r>
              <a:r>
                <a:rPr b="1" lang="fr-CA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hiffre les donné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e l’utilisat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4280" y="3568680"/>
              <a:ext cx="1701720" cy="749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les données demeurent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iffrées jusqu’à L’arrivé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 logiciel du recenseme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80" y="5218200"/>
              <a:ext cx="165096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onnées déchiffrées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à l’aide de la clé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privée de S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41520" y="5218200"/>
              <a:ext cx="134640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Réponse traité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(vérifications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e contrôl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81600" y="2044800"/>
              <a:ext cx="1777680" cy="263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’utilisateur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4" idx="3"/>
              <a:endCxn id="136" idx="1"/>
            </p:cNvCxnSpPr>
            <p:nvPr/>
          </p:nvCxnSpPr>
          <p:spPr>
            <a:xfrm>
              <a:off x="3787920" y="5592240"/>
              <a:ext cx="18144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37" name=""/>
            <p:cNvCxnSpPr>
              <a:stCxn id="136" idx="0"/>
              <a:endCxn id="138" idx="2"/>
            </p:cNvCxnSpPr>
            <p:nvPr/>
          </p:nvCxnSpPr>
          <p:spPr>
            <a:xfrm flipV="1">
              <a:off x="4870080" y="4374720"/>
              <a:ext cx="1080" cy="8438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9" name=""/>
            <p:cNvCxnSpPr>
              <a:stCxn id="138" idx="0"/>
              <a:endCxn id="140" idx="2"/>
            </p:cNvCxnSpPr>
            <p:nvPr/>
          </p:nvCxnSpPr>
          <p:spPr>
            <a:xfrm flipV="1">
              <a:off x="4870080" y="3320280"/>
              <a:ext cx="1080" cy="3056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41" name=""/>
            <p:cNvCxnSpPr>
              <a:stCxn id="131" idx="2"/>
              <a:endCxn id="132" idx="0"/>
            </p:cNvCxnSpPr>
            <p:nvPr/>
          </p:nvCxnSpPr>
          <p:spPr>
            <a:xfrm>
              <a:off x="1434600" y="3273480"/>
              <a:ext cx="1080" cy="29556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42" name=""/>
            <p:cNvCxnSpPr>
              <a:stCxn id="132" idx="2"/>
              <a:endCxn id="133" idx="0"/>
            </p:cNvCxnSpPr>
            <p:nvPr/>
          </p:nvCxnSpPr>
          <p:spPr>
            <a:xfrm>
              <a:off x="1434600" y="4317480"/>
              <a:ext cx="1080" cy="90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cxnSp>
          <p:nvCxnSpPr>
            <p:cNvPr id="143" name=""/>
            <p:cNvCxnSpPr>
              <a:stCxn id="133" idx="3"/>
              <a:endCxn id="134" idx="1"/>
            </p:cNvCxnSpPr>
            <p:nvPr/>
          </p:nvCxnSpPr>
          <p:spPr>
            <a:xfrm>
              <a:off x="2260080" y="5592240"/>
              <a:ext cx="181800" cy="1080"/>
            </a:xfrm>
            <a:prstGeom prst="bentConnector2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36" name=""/>
            <p:cNvSpPr/>
            <p:nvPr/>
          </p:nvSpPr>
          <p:spPr>
            <a:xfrm>
              <a:off x="3968640" y="5218200"/>
              <a:ext cx="180360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hiffrement de la répons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à l’aide de la clé publiqu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u répond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97240" y="3625920"/>
              <a:ext cx="1346400" cy="749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rsé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44960" y="2571840"/>
              <a:ext cx="1650960" cy="749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’applet TruePass</a:t>
              </a:r>
              <a:r>
                <a:rPr b="1" lang="fr-CA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™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échiffre les données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ec transpa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0"/>
              <a:endCxn id="130" idx="2"/>
            </p:cNvCxnSpPr>
            <p:nvPr/>
          </p:nvCxnSpPr>
          <p:spPr>
            <a:xfrm flipV="1">
              <a:off x="4870080" y="2307960"/>
              <a:ext cx="1080" cy="26424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45" name=""/>
            <p:cNvSpPr/>
            <p:nvPr/>
          </p:nvSpPr>
          <p:spPr>
            <a:xfrm>
              <a:off x="758880" y="2006640"/>
              <a:ext cx="1346040" cy="263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Envo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52960" y="5218200"/>
              <a:ext cx="1346400" cy="7491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À la fermetur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e session ou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près déla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56200" y="3616200"/>
              <a:ext cx="1346400" cy="7495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’id. d’utilisateur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et le certificat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sont recycl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" name=""/>
            <p:cNvCxnSpPr>
              <a:stCxn id="146" idx="0"/>
              <a:endCxn id="147" idx="2"/>
            </p:cNvCxnSpPr>
            <p:nvPr/>
          </p:nvCxnSpPr>
          <p:spPr>
            <a:xfrm flipV="1">
              <a:off x="6625800" y="4365360"/>
              <a:ext cx="3960" cy="85320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9" name=""/>
            <p:cNvCxnSpPr>
              <a:stCxn id="136" idx="3"/>
              <a:endCxn id="146" idx="1"/>
            </p:cNvCxnSpPr>
            <p:nvPr/>
          </p:nvCxnSpPr>
          <p:spPr>
            <a:xfrm>
              <a:off x="5772240" y="5592240"/>
              <a:ext cx="181440" cy="108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tailEnd len="sm" type="triangle" w="sm"/>
            </a:ln>
          </p:spPr>
        </p:cxnSp>
        <p:sp>
          <p:nvSpPr>
            <p:cNvPr id="150" name=""/>
            <p:cNvSpPr/>
            <p:nvPr/>
          </p:nvSpPr>
          <p:spPr>
            <a:xfrm>
              <a:off x="6151680" y="2571840"/>
              <a:ext cx="939600" cy="76176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ertificats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nony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50" idx="3"/>
              <a:endCxn id="147" idx="0"/>
            </p:cNvCxnSpPr>
            <p:nvPr/>
          </p:nvCxnSpPr>
          <p:spPr>
            <a:xfrm>
              <a:off x="6621480" y="3333240"/>
              <a:ext cx="8640" cy="283320"/>
            </a:xfrm>
            <a:prstGeom prst="straightConnector1">
              <a:avLst/>
            </a:prstGeom>
            <a:ln w="57240">
              <a:solidFill>
                <a:srgbClr val="0066ff"/>
              </a:solidFill>
              <a:miter/>
              <a:headEnd len="med" type="triangle" w="med"/>
            </a:ln>
          </p:spPr>
        </p:cxnSp>
        <p:grpSp>
          <p:nvGrpSpPr>
            <p:cNvPr id="152" name=""/>
            <p:cNvGrpSpPr/>
            <p:nvPr/>
          </p:nvGrpSpPr>
          <p:grpSpPr>
            <a:xfrm>
              <a:off x="7440480" y="2039760"/>
              <a:ext cx="1206360" cy="3906720"/>
              <a:chOff x="7440480" y="2039760"/>
              <a:chExt cx="1206360" cy="3906720"/>
            </a:xfrm>
          </p:grpSpPr>
          <p:sp>
            <p:nvSpPr>
              <p:cNvPr id="153" name=""/>
              <p:cNvSpPr/>
              <p:nvPr/>
            </p:nvSpPr>
            <p:spPr>
              <a:xfrm>
                <a:off x="7440480" y="2039760"/>
                <a:ext cx="1206360" cy="7189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Navigateur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de l’utilisa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40480" y="3563640"/>
                <a:ext cx="1206360" cy="719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ICP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commu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0480" y="5227560"/>
                <a:ext cx="1206360" cy="7189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Logiciel du</a:t>
                </a:r>
                <a:br>
                  <a:rPr sz="1200"/>
                </a:b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recens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380880" y="3568680"/>
              <a:ext cx="2108160" cy="749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L</a:t>
              </a: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es données demeurent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hiffrées jusqu’à leur arrivée</a:t>
              </a:r>
              <a:br>
                <a:rPr sz="1200"/>
              </a:b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u logiciel du recensemen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3B19-DC45-4B0C-8894-7028976BCA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01840" y="816120"/>
            <a:ext cx="7223040" cy="7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000" spc="-1" strike="noStrike">
                <a:solidFill>
                  <a:srgbClr val="0033cc"/>
                </a:solidFill>
                <a:latin typeface="Times New Roman"/>
              </a:rPr>
              <a:t>Réutilisation de la SCEAU?</a:t>
            </a:r>
            <a:endParaRPr b="0" i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2680" y="1714680"/>
            <a:ext cx="8142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Conçue comme un « service » plutôt qu’une application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Chiffrement bidirectionnel au moyen de certificats d’ICP anonyme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Échange sécuritaire de renseignements confidentiels ou délicats en direct où il n’est pas nécessaire de connaître l’identité de la personne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Échange sécuritaire de données selon un code d’accès (p. ex. fichier électronique)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Transactions sécuritaires électroniques ou de formulaires en direct pour les cas où il est nécessaire de retourner des mises à jour en temps réel, des approbations ou des instructions à l’utilisateur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Courriel confidentiel (mais ne portant pas de signature électronique)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cc"/>
                </a:solidFill>
                <a:latin typeface="Arial"/>
              </a:rPr>
              <a:t>Gestion de certificat transparente pour le ministè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Aucune donnée personnelle n’est observée ou retenue par la SCEAU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Aucune préinscription; invisible et non invasive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cc"/>
                </a:solidFill>
                <a:latin typeface="Arial"/>
              </a:rPr>
              <a:t>Facile à déployer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1340-1003-421D-8629-CCCF9CE113E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9:53:07Z</dcterms:created>
  <dc:creator>Don</dc:creator>
  <dc:description/>
  <dc:language>en-US</dc:language>
  <cp:lastModifiedBy>Margo Meyers</cp:lastModifiedBy>
  <cp:lastPrinted>2003-11-07T16:09:42Z</cp:lastPrinted>
  <dcterms:modified xsi:type="dcterms:W3CDTF">2004-05-04T15:10:23Z</dcterms:modified>
  <cp:revision>4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84689909</vt:r8>
  </property>
  <property fmtid="{D5CDD505-2E9C-101B-9397-08002B2CF9AE}" pid="3" name="_AuthorEmail">
    <vt:lpwstr>Mel.Turner@a.statcan.ca</vt:lpwstr>
  </property>
  <property fmtid="{D5CDD505-2E9C-101B-9397-08002B2CF9AE}" pid="4" name="_AuthorEmailDisplayName">
    <vt:lpwstr>Turner, Mel - IT HQ/BC IT</vt:lpwstr>
  </property>
  <property fmtid="{D5CDD505-2E9C-101B-9397-08002B2CF9AE}" pid="5" name="_EmailSubject">
    <vt:lpwstr>MSIS 2004 - Slides - Using PKI for the Census</vt:lpwstr>
  </property>
  <property fmtid="{D5CDD505-2E9C-101B-9397-08002B2CF9AE}" pid="6" name="_PreviousAdHocReviewCycleID">
    <vt:r8>1348550588</vt:r8>
  </property>
</Properties>
</file>