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3A2A-EDBA-478F-89EA-CF369D70D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0624-46D5-45C8-A22C-0ACEC7508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F361-658F-4311-AA77-BEC135FF6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E418-ED96-442E-A37E-B9EECC670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F50-AA7C-45B4-866F-8FFCB2C71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8D6-9640-4A50-BE1D-AD218165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EAC-35CF-4C27-BBFF-7C9B8AA5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F96-0730-4929-82C3-AB75C5A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9E2-39FE-404F-B06F-BD774BE3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8D1-D577-44D9-945C-5586FA3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D6C-8C35-4D37-888F-D596E463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EAFD-A77F-4E01-AAB4-6F5FD547B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5A1-79AD-44CE-AB94-357D5A7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E85-1C11-44ED-BFA4-84963044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64E-91D6-4F54-80F5-AA15A62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FAB-B521-4875-899F-4C2B02A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44A-BC91-4E54-943A-1B25B33E7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43CC-58E4-48E4-B7EF-680C3204C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48EB-7D5F-49AF-903D-D695CB317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5979-813F-4F34-B7E2-BAD968831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5844-4828-42C9-8B2B-8463251D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BC6C-BBA7-42C0-A269-AA5AEBAAE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54EA-84AE-4E6B-8B7C-959F48F2A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1CF1-890E-4F88-B6EF-7B8D1A50C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CB6-91DB-442D-AD2B-AC65357289D3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1920" y="646416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42920" y="6093000"/>
            <a:ext cx="735120" cy="704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5800" y="155736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FD33-FCBA-4976-9970-584F5ADE9742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ED3-0F59-4DFD-A57B-C89C5C2150A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93080" y="645948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244520" y="3789360"/>
            <a:ext cx="735120" cy="70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13200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066D-C5FB-4ADD-9ACD-482D2535A91B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Utilisation d’ICP pour le recensemen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GSIS 2004, Genève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Mel Turner, Lise Duquet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Statistique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Programme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63520" y="2033640"/>
            <a:ext cx="7359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’infrastructure commune du gouvernement du Canada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Recensement de la population, recensement de l’agricultur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Exigences opérationnell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Exigences en matière de sécurité et de confidentialité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Un nouveau service commun -  SCEAU (S</a:t>
            </a:r>
            <a:r>
              <a:rPr b="0" i="1" lang="fr-CA" sz="2000" spc="-1" strike="noStrike">
                <a:solidFill>
                  <a:srgbClr val="0033cc"/>
                </a:solidFill>
                <a:latin typeface="Arial"/>
              </a:rPr>
              <a:t>ession avec chiffrement et enregistrement automatiqu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aractéristiqu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Élément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Déroulement des opération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ourquoi la SCEAU est-elle adéquate pour la collecte de données statistiques?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926-AD0B-421F-939E-DE03B44599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960" y="816120"/>
            <a:ext cx="873900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Objectifs opérationnel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722240"/>
            <a:ext cx="838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Offrir à tous les Canadiens la possibilité de remplir le formulaire de recensement par Interne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 recensement de la population et le recensement de l’agriculture ont lieu à tous les cinq an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13,5 millions de ménages et 300 000 exploitations agricoles en mai 2006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Faire une répétition générale du recensement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300 000 ménages et 20 000 exploitations agricoles en mai 2004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Viser un taux de participation par Internet entre 20 % et 25 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ériode de pointe : À l’approche ou le jour même du recensemen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Offrir aux canadiens la façon la plus sécuritaire de se brancher afin de protéger la confidentialité des donné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F106-3D7F-4381-BA19-50FBC175E7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3840" y="1136520"/>
            <a:ext cx="83898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Exigences opérationnelles</a:t>
            </a:r>
            <a:r>
              <a:rPr b="0" i="1" lang="fr-CA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716120"/>
            <a:ext cx="7937640" cy="41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4182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Accès simple et en une seule étap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thentification d’un formulaire, non pas d’une personn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préinscription requ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4182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ommodité et facilité d’utilisa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ccessible à tout moment et de partou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Navigateurs Web pris en charg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ossibilité de suspendre et de reprendre une session pour les longs formulair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trace sur le poste de travail de l’utilisateur après la sess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apacité de traiter un grand volume d’information de façon sécuritai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pplication très visi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Fenêtre de réponse axée sur le «jour du recensement»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38C3-CC7C-45AE-AADA-0A589CAE43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4520" y="925200"/>
            <a:ext cx="834372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Exigences en matière de confidentialité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1761840"/>
            <a:ext cx="847404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Protection de la confidentialité des données transmises en direc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’ICP assure la confidentialité et offre un service de signature électronique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a SCEAU utilise seulement l’ICP à des fins de protection de la confidentialité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Solide chiffrement au moyen d’un certificat d’ICP anonym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hiffrement bidirectionnel et de bout en bou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Il faut pouvoir retourner de façon sécuritaire à l’utilisateur les instructions, les mises à jour en temps réel et les données confidentielles saisies lors d’une session précédente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Interface de sécurité transparente pour l’utilisateu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es mesures prises par la SCEAU afin de veiller à ce que la session demeure protégée ne peuvent être perçues par l’utilisateur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A103-F1CF-4552-A731-AF2EAD1E4C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Caractéristiques de la SCEAU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4720" y="1768320"/>
            <a:ext cx="8369280" cy="47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Répertoire de certificats d’ICP anonym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s certificats d’ICP sont générés à l’avance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s certificats d’ICP sont recyclés à la fin de chaque sess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gestion des profils d’utilisateurs n’est nécessair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odes d’utilisateur anonymes de l’ICP, mots de passe et noms distinctif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’ouverture et la fermeture de la SCEAU sont automatiques et ne peuvent être perçues par l’utilisateu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Autorité de certification réservé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Il n’y a pas de certification croisée avec d’autres autorité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hiffrement bidirectionnel de bout en bout au moyen d’Entrust 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®</a:t>
            </a: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 TruePass 7.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95B3-7DA4-46F8-AB13-D8CC972CF8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Ouverture de session du recensemen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95360" y="1816200"/>
            <a:ext cx="8303400" cy="4117320"/>
            <a:chOff x="495360" y="1816200"/>
            <a:chExt cx="8303400" cy="4117320"/>
          </a:xfrm>
        </p:grpSpPr>
        <p:sp>
          <p:nvSpPr>
            <p:cNvPr id="104" name=""/>
            <p:cNvSpPr/>
            <p:nvPr/>
          </p:nvSpPr>
          <p:spPr>
            <a:xfrm>
              <a:off x="644040" y="1829520"/>
              <a:ext cx="1370880" cy="777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Tentative d’accè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site du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cen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4040" y="3438360"/>
              <a:ext cx="1370880" cy="7776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Établissemen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u cad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360" y="5152680"/>
              <a:ext cx="166896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vite l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entrer le cod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(indiqué sur le form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27920" y="1816200"/>
              <a:ext cx="1370880" cy="777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entr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e code d’accè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9360" y="5152680"/>
              <a:ext cx="137124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Obtenir le cod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’accès chiffré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t 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8640" y="5152680"/>
              <a:ext cx="137124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direct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ver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4240" y="3863520"/>
              <a:ext cx="1940400" cy="777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xtraire un id. d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hasard e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ouverture de sess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toma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000" y="2778840"/>
              <a:ext cx="956880" cy="7909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ertificat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on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1" idx="3"/>
              <a:endCxn id="110" idx="0"/>
            </p:cNvCxnSpPr>
            <p:nvPr/>
          </p:nvCxnSpPr>
          <p:spPr>
            <a:xfrm>
              <a:off x="4924080" y="3569760"/>
              <a:ext cx="1080" cy="2941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13" name=""/>
            <p:cNvSpPr/>
            <p:nvPr/>
          </p:nvSpPr>
          <p:spPr>
            <a:xfrm>
              <a:off x="5937120" y="5152680"/>
              <a:ext cx="137088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réer une sess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’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720" y="1855800"/>
              <a:ext cx="1759320" cy="777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rempli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e formulaire 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cen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08" idx="3"/>
              <a:endCxn id="109" idx="1"/>
            </p:cNvCxnSpPr>
            <p:nvPr/>
          </p:nvCxnSpPr>
          <p:spPr>
            <a:xfrm>
              <a:off x="3900960" y="5541120"/>
              <a:ext cx="3384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6" name=""/>
            <p:cNvCxnSpPr>
              <a:stCxn id="109" idx="0"/>
              <a:endCxn id="110" idx="2"/>
            </p:cNvCxnSpPr>
            <p:nvPr/>
          </p:nvCxnSpPr>
          <p:spPr>
            <a:xfrm flipV="1">
              <a:off x="4924080" y="4641120"/>
              <a:ext cx="1080" cy="511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7" name=""/>
            <p:cNvCxnSpPr>
              <a:stCxn id="109" idx="3"/>
              <a:endCxn id="113" idx="1"/>
            </p:cNvCxnSpPr>
            <p:nvPr/>
          </p:nvCxnSpPr>
          <p:spPr>
            <a:xfrm>
              <a:off x="5609880" y="5541120"/>
              <a:ext cx="3272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04" idx="2"/>
              <a:endCxn id="105" idx="0"/>
            </p:cNvCxnSpPr>
            <p:nvPr/>
          </p:nvCxnSpPr>
          <p:spPr>
            <a:xfrm>
              <a:off x="1329120" y="2607480"/>
              <a:ext cx="1080" cy="8316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" name=""/>
            <p:cNvCxnSpPr>
              <a:stCxn id="105" idx="2"/>
              <a:endCxn id="106" idx="0"/>
            </p:cNvCxnSpPr>
            <p:nvPr/>
          </p:nvCxnSpPr>
          <p:spPr>
            <a:xfrm>
              <a:off x="1329120" y="4215960"/>
              <a:ext cx="1080" cy="937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07" idx="2"/>
              <a:endCxn id="108" idx="0"/>
            </p:cNvCxnSpPr>
            <p:nvPr/>
          </p:nvCxnSpPr>
          <p:spPr>
            <a:xfrm>
              <a:off x="3213720" y="2594160"/>
              <a:ext cx="2160" cy="25585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06" idx="3"/>
              <a:endCxn id="107" idx="1"/>
            </p:cNvCxnSpPr>
            <p:nvPr/>
          </p:nvCxnSpPr>
          <p:spPr>
            <a:xfrm flipV="1">
              <a:off x="2164320" y="2204280"/>
              <a:ext cx="364320" cy="3336840"/>
            </a:xfrm>
            <a:prstGeom prst="bentConnector3">
              <a:avLst>
                <a:gd name="adj1" fmla="val 4975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2" name=""/>
            <p:cNvCxnSpPr>
              <a:stCxn id="113" idx="0"/>
              <a:endCxn id="114" idx="2"/>
            </p:cNvCxnSpPr>
            <p:nvPr/>
          </p:nvCxnSpPr>
          <p:spPr>
            <a:xfrm flipV="1">
              <a:off x="6622200" y="2634120"/>
              <a:ext cx="1080" cy="25189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23" name=""/>
            <p:cNvGrpSpPr/>
            <p:nvPr/>
          </p:nvGrpSpPr>
          <p:grpSpPr>
            <a:xfrm>
              <a:off x="7570080" y="1877040"/>
              <a:ext cx="1228680" cy="4056480"/>
              <a:chOff x="7570080" y="1877040"/>
              <a:chExt cx="1228680" cy="4056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570080" y="1877040"/>
                <a:ext cx="1228680" cy="7462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Navigateur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de l’utilis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70080" y="3459240"/>
                <a:ext cx="1228680" cy="746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CP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commu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70080" y="5187240"/>
                <a:ext cx="1228680" cy="7462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Logiciel du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recens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4969-2279-419C-A53C-0E85A10114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L’utilisateur soumet des donné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0880" y="1815120"/>
            <a:ext cx="8265960" cy="4152240"/>
            <a:chOff x="380880" y="1815120"/>
            <a:chExt cx="8265960" cy="4152240"/>
          </a:xfrm>
        </p:grpSpPr>
        <p:cxnSp>
          <p:nvCxnSpPr>
            <p:cNvPr id="129" name=""/>
            <p:cNvCxnSpPr>
              <a:stCxn id="130" idx="0"/>
              <a:endCxn id="131" idx="0"/>
            </p:cNvCxnSpPr>
            <p:nvPr/>
          </p:nvCxnSpPr>
          <p:spPr>
            <a:xfrm rot="5400000">
              <a:off x="2912400" y="565560"/>
              <a:ext cx="479880" cy="3436200"/>
            </a:xfrm>
            <a:prstGeom prst="bentConnector3">
              <a:avLst>
                <a:gd name="adj1" fmla="val -4767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1" name=""/>
            <p:cNvSpPr/>
            <p:nvPr/>
          </p:nvSpPr>
          <p:spPr>
            <a:xfrm>
              <a:off x="584280" y="2523960"/>
              <a:ext cx="1701720" cy="749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applet 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e les donn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l’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4280" y="3568680"/>
              <a:ext cx="170172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es données demeurent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ffrées jusqu’à L’arrivé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 logiciel du recensem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5218200"/>
              <a:ext cx="165096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onnées déchiffrée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’aide de la clé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ivée de S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4152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éponse traité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(vérification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contrôl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1600" y="2044800"/>
              <a:ext cx="177768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3"/>
              <a:endCxn id="136" idx="1"/>
            </p:cNvCxnSpPr>
            <p:nvPr/>
          </p:nvCxnSpPr>
          <p:spPr>
            <a:xfrm>
              <a:off x="3787920" y="5592240"/>
              <a:ext cx="1814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37" name=""/>
            <p:cNvCxnSpPr>
              <a:stCxn id="136" idx="0"/>
              <a:endCxn id="138" idx="2"/>
            </p:cNvCxnSpPr>
            <p:nvPr/>
          </p:nvCxnSpPr>
          <p:spPr>
            <a:xfrm flipV="1">
              <a:off x="4870080" y="4374720"/>
              <a:ext cx="1080" cy="843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8" idx="0"/>
              <a:endCxn id="140" idx="2"/>
            </p:cNvCxnSpPr>
            <p:nvPr/>
          </p:nvCxnSpPr>
          <p:spPr>
            <a:xfrm flipV="1">
              <a:off x="4870080" y="3320280"/>
              <a:ext cx="1080" cy="305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1" name=""/>
            <p:cNvCxnSpPr>
              <a:stCxn id="131" idx="2"/>
              <a:endCxn id="132" idx="0"/>
            </p:cNvCxnSpPr>
            <p:nvPr/>
          </p:nvCxnSpPr>
          <p:spPr>
            <a:xfrm>
              <a:off x="1434600" y="3273480"/>
              <a:ext cx="1080" cy="295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2" name=""/>
            <p:cNvCxnSpPr>
              <a:stCxn id="132" idx="2"/>
              <a:endCxn id="133" idx="0"/>
            </p:cNvCxnSpPr>
            <p:nvPr/>
          </p:nvCxnSpPr>
          <p:spPr>
            <a:xfrm>
              <a:off x="1434600" y="4317480"/>
              <a:ext cx="1080" cy="90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3" name=""/>
            <p:cNvCxnSpPr>
              <a:stCxn id="133" idx="3"/>
              <a:endCxn id="134" idx="1"/>
            </p:cNvCxnSpPr>
            <p:nvPr/>
          </p:nvCxnSpPr>
          <p:spPr>
            <a:xfrm>
              <a:off x="2260080" y="5592240"/>
              <a:ext cx="181800" cy="1080"/>
            </a:xfrm>
            <a:prstGeom prst="bentConnector2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6" name=""/>
            <p:cNvSpPr/>
            <p:nvPr/>
          </p:nvSpPr>
          <p:spPr>
            <a:xfrm>
              <a:off x="3968640" y="5218200"/>
              <a:ext cx="18036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ement de la répons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’aide de la clé publiqu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u répo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7240" y="3625920"/>
              <a:ext cx="134640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44960" y="2571840"/>
              <a:ext cx="165096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applet 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échiffre les donnée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c transpa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0"/>
              <a:endCxn id="130" idx="2"/>
            </p:cNvCxnSpPr>
            <p:nvPr/>
          </p:nvCxnSpPr>
          <p:spPr>
            <a:xfrm flipV="1">
              <a:off x="4870080" y="2307960"/>
              <a:ext cx="1080" cy="2642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45" name=""/>
            <p:cNvSpPr/>
            <p:nvPr/>
          </p:nvSpPr>
          <p:spPr>
            <a:xfrm>
              <a:off x="758880" y="200664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nv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296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a fermetur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session ou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près dél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56200" y="3616200"/>
              <a:ext cx="1346400" cy="749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id. d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t le certifica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sont recyc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6" idx="0"/>
              <a:endCxn id="147" idx="2"/>
            </p:cNvCxnSpPr>
            <p:nvPr/>
          </p:nvCxnSpPr>
          <p:spPr>
            <a:xfrm flipV="1">
              <a:off x="6625800" y="4365360"/>
              <a:ext cx="3960" cy="8532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9" name=""/>
            <p:cNvCxnSpPr>
              <a:stCxn id="136" idx="3"/>
              <a:endCxn id="146" idx="1"/>
            </p:cNvCxnSpPr>
            <p:nvPr/>
          </p:nvCxnSpPr>
          <p:spPr>
            <a:xfrm>
              <a:off x="5772240" y="5592240"/>
              <a:ext cx="1814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50" name=""/>
            <p:cNvSpPr/>
            <p:nvPr/>
          </p:nvSpPr>
          <p:spPr>
            <a:xfrm>
              <a:off x="6151680" y="2571840"/>
              <a:ext cx="939600" cy="7617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ertificat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on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3"/>
              <a:endCxn id="147" idx="0"/>
            </p:cNvCxnSpPr>
            <p:nvPr/>
          </p:nvCxnSpPr>
          <p:spPr>
            <a:xfrm>
              <a:off x="6621480" y="3333240"/>
              <a:ext cx="864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</a:ln>
          </p:spPr>
        </p:cxnSp>
        <p:grpSp>
          <p:nvGrpSpPr>
            <p:cNvPr id="152" name=""/>
            <p:cNvGrpSpPr/>
            <p:nvPr/>
          </p:nvGrpSpPr>
          <p:grpSpPr>
            <a:xfrm>
              <a:off x="7440480" y="2039760"/>
              <a:ext cx="1206360" cy="3906720"/>
              <a:chOff x="7440480" y="2039760"/>
              <a:chExt cx="1206360" cy="3906720"/>
            </a:xfrm>
          </p:grpSpPr>
          <p:sp>
            <p:nvSpPr>
              <p:cNvPr id="153" name=""/>
              <p:cNvSpPr/>
              <p:nvPr/>
            </p:nvSpPr>
            <p:spPr>
              <a:xfrm>
                <a:off x="7440480" y="2039760"/>
                <a:ext cx="120636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Navigateur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de l’utilis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40480" y="3563640"/>
                <a:ext cx="120636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CP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commu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0480" y="5227560"/>
                <a:ext cx="120636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Logiciel du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recens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80880" y="3568680"/>
              <a:ext cx="210816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s données demeuren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ées jusqu’à leur arrivé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logiciel du recensemen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EE71-B40B-4E4F-BE4F-A52CD2B8B3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1840" y="816120"/>
            <a:ext cx="722304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0033cc"/>
                </a:solidFill>
                <a:latin typeface="Times New Roman"/>
              </a:rPr>
              <a:t>Réutilisation de la SCEAU?</a:t>
            </a:r>
            <a:endParaRPr b="0" i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714680"/>
            <a:ext cx="8142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onçue comme un « service » plutôt qu’une application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hiffrement bidirectionnel au moyen de certificats d’ICP anonym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Échange sécuritaire de renseignements confidentiels ou délicats en direct où il n’est pas nécessaire de connaître l’identité de la personne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Échange sécuritaire de données selon un code d’accès (p. ex. fichier électronique)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Transactions sécuritaires électroniques ou de formulaires en direct pour les cas où il est nécessaire de retourner des mises à jour en temps réel, des approbations ou des instructions à l’utilisateur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Courriel confidentiel (mais ne portant pas de signature électronique)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Gestion de certificat transparente pour le ministè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Aucune donnée personnelle n’est observée ou retenue par la SCEAU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Aucune préinscription; invisible et non invasive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Facile à déployer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BB1A-6F89-40CC-A4B2-9330133F05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53:07Z</dcterms:created>
  <dc:creator>Don</dc:creator>
  <dc:description/>
  <dc:language>en-US</dc:language>
  <cp:lastModifiedBy>Margo Meyers</cp:lastModifiedBy>
  <cp:lastPrinted>2003-11-07T16:09:42Z</cp:lastPrinted>
  <dcterms:modified xsi:type="dcterms:W3CDTF">2004-05-04T15:10:23Z</dcterms:modified>
  <cp:revision>4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84689909</vt:r8>
  </property>
  <property fmtid="{D5CDD505-2E9C-101B-9397-08002B2CF9AE}" pid="3" name="_AuthorEmail">
    <vt:lpwstr>Mel.Turner@a.statcan.ca</vt:lpwstr>
  </property>
  <property fmtid="{D5CDD505-2E9C-101B-9397-08002B2CF9AE}" pid="4" name="_AuthorEmailDisplayName">
    <vt:lpwstr>Turner, Mel - IT HQ/BC IT</vt:lpwstr>
  </property>
  <property fmtid="{D5CDD505-2E9C-101B-9397-08002B2CF9AE}" pid="5" name="_EmailSubject">
    <vt:lpwstr>MSIS 2004 - Slides - Using PKI for the Census</vt:lpwstr>
  </property>
  <property fmtid="{D5CDD505-2E9C-101B-9397-08002B2CF9AE}" pid="6" name="_PreviousAdHocReviewCycleID">
    <vt:r8>1348550588</vt:r8>
  </property>
</Properties>
</file>