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67F4-A55B-407F-B2C3-8A87FCB7D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B2E8-07DC-41A1-9EA0-7444E3D96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D04B-1E56-4B5C-A15C-B4EC0A011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8775-E165-40A9-BBED-4B158FB5C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39FB-894A-41E7-B124-323E490C3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4ABD-2435-4E57-9C90-7D5024A90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D71F-EAD9-457B-B4A7-2C78AF40D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E7CF-263E-4685-B937-87B8384CB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F29E-3A70-4018-A567-EED54622D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4BA0-0FAF-4605-8768-8FE501FA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3343-95AC-4F6C-A4B6-A4DAE531F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47D5-1658-434E-841F-F62AF909B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FC8-375D-4501-B832-CAD03453EE2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1920" y="646416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42920" y="6093000"/>
            <a:ext cx="735120" cy="704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5800" y="155736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6E87-4F1A-4BD4-8C5E-A8C0DF6C9776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93080" y="645948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244520" y="3789360"/>
            <a:ext cx="73512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13200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D7C-35C1-4B44-9571-A15A0A8F568E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Using PKI for the Censu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SIS 2004, Genev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el Turner, Lise Duque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tatistics Canad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Agenda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overnment of Canada common infrastructur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ensus of Population, Census of Agricultu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usiness require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urity/Confidentiality require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new common service – SEA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Session Encryption with Automated Log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pplication flow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y is SEAL appropriate for statistical data collection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5C6D-1584-4508-8A79-01803CD92A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Business objectiv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ffer all Canadians the option to complete their Census forms using the Interne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ensus of Population and Census of Agriculture are conducted every 5 yea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3.5 million households and 300 000 farms in May 2006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duct a Census Dress Rehearsal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300 000 households and 20 000 farms in May 2004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arget Internet take-up rate of 20% to 25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eak period on or around Census da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vide the most secure way to connect Canadians to protect confidentiality of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CF35-013F-440C-91E1-0770B046B3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Business requirements 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mple and single-step acces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eed to authenticate a form, not a pers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 pre-registration requir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venient and ease of us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ccessible anytime, anywher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upported Web browser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bility to suspend and resume a session for long form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thing left behind the user’s workstation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pable of securely handling large volum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ighly visible applica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onse window focused on “Census day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5557-FA29-4E5F-BF12-921A404E6E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Confidentiality requirements 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80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fidentiality protection of data submitted on-l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technology provides confidentiality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digital signatur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AL uses PKI for confidentiality protection on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rong encryption using an anonymous PKI certificat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i-directional, end-to-end encrypt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cc"/>
                </a:solidFill>
                <a:latin typeface="Arial"/>
              </a:rPr>
              <a:t>Need to securely return instructions, sensitive data captured in a previous session or real-time updates to the use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urity interface transparent to the us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he steps taken by SEAL to maintain a secure session are invisible to the use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386-C1E1-4942-A517-1840D2BD81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SEAL Attribut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ol of anonymous PKI Certificat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certificates bulk generated in advanc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KI certificate recycled at the end of each sess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 user maintenanc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onymous PKI User ID, Password and Distinguished Names (DN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utomatic login and logoff from SEAL, invisible to the user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dicated Certificate Authorit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t cross-certified with other authoritie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nd-to-end bi-directional encryption with Entrust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ruePass 7.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9BED-E2F7-47CA-A490-DF87B7D65D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33cc"/>
                </a:solidFill>
                <a:latin typeface="Times New Roman"/>
              </a:rPr>
              <a:t>Census Login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12880" y="2006640"/>
            <a:ext cx="7770600" cy="3965400"/>
            <a:chOff x="812880" y="2006640"/>
            <a:chExt cx="7770600" cy="3965400"/>
          </a:xfrm>
        </p:grpSpPr>
        <p:grpSp>
          <p:nvGrpSpPr>
            <p:cNvPr id="102" name=""/>
            <p:cNvGrpSpPr/>
            <p:nvPr/>
          </p:nvGrpSpPr>
          <p:grpSpPr>
            <a:xfrm>
              <a:off x="812880" y="2019240"/>
              <a:ext cx="1346040" cy="3949920"/>
              <a:chOff x="812880" y="2019240"/>
              <a:chExt cx="1346040" cy="3949920"/>
            </a:xfrm>
          </p:grpSpPr>
          <p:sp>
            <p:nvSpPr>
              <p:cNvPr id="103" name=""/>
              <p:cNvSpPr/>
              <p:nvPr/>
            </p:nvSpPr>
            <p:spPr>
              <a:xfrm>
                <a:off x="812880" y="2019240"/>
                <a:ext cx="1346040" cy="749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tempt to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 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2880" y="3568680"/>
                <a:ext cx="1346040" cy="7491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stabli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eP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™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ames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2880" y="5219640"/>
                <a:ext cx="1346040" cy="74952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mpt us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cess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rinted on for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90840" y="2006640"/>
              <a:ext cx="134604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en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2280" y="5219640"/>
              <a:ext cx="1346400" cy="749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val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0240" y="5219640"/>
              <a:ext cx="1346400" cy="749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se prox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56120" y="3978360"/>
              <a:ext cx="157464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rieve a rand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id a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-lo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73640" y="2933640"/>
              <a:ext cx="939600" cy="7621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onym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0" idx="3"/>
              <a:endCxn id="109" idx="0"/>
            </p:cNvCxnSpPr>
            <p:nvPr/>
          </p:nvCxnSpPr>
          <p:spPr>
            <a:xfrm>
              <a:off x="4843080" y="3695400"/>
              <a:ext cx="108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grpSp>
          <p:nvGrpSpPr>
            <p:cNvPr id="112" name=""/>
            <p:cNvGrpSpPr/>
            <p:nvPr/>
          </p:nvGrpSpPr>
          <p:grpSpPr>
            <a:xfrm>
              <a:off x="5837400" y="2044800"/>
              <a:ext cx="1346040" cy="3924360"/>
              <a:chOff x="5837400" y="2044800"/>
              <a:chExt cx="1346040" cy="3924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837400" y="5219640"/>
                <a:ext cx="1346040" cy="74952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stablish 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37400" y="2044800"/>
                <a:ext cx="1346040" cy="74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 comple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 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>
              <a:stCxn id="107" idx="3"/>
              <a:endCxn id="108" idx="1"/>
            </p:cNvCxnSpPr>
            <p:nvPr/>
          </p:nvCxnSpPr>
          <p:spPr>
            <a:xfrm>
              <a:off x="3838320" y="5594040"/>
              <a:ext cx="33228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6" name=""/>
            <p:cNvCxnSpPr>
              <a:stCxn id="108" idx="0"/>
              <a:endCxn id="109" idx="2"/>
            </p:cNvCxnSpPr>
            <p:nvPr/>
          </p:nvCxnSpPr>
          <p:spPr>
            <a:xfrm flipV="1">
              <a:off x="4843080" y="4726800"/>
              <a:ext cx="1080" cy="492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7" name=""/>
            <p:cNvCxnSpPr>
              <a:stCxn id="108" idx="3"/>
              <a:endCxn id="113" idx="1"/>
            </p:cNvCxnSpPr>
            <p:nvPr/>
          </p:nvCxnSpPr>
          <p:spPr>
            <a:xfrm>
              <a:off x="5516280" y="5594040"/>
              <a:ext cx="32148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03" idx="2"/>
              <a:endCxn id="104" idx="0"/>
            </p:cNvCxnSpPr>
            <p:nvPr/>
          </p:nvCxnSpPr>
          <p:spPr>
            <a:xfrm>
              <a:off x="1485720" y="2768760"/>
              <a:ext cx="1080" cy="800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" name=""/>
            <p:cNvCxnSpPr>
              <a:stCxn id="104" idx="2"/>
              <a:endCxn id="105" idx="0"/>
            </p:cNvCxnSpPr>
            <p:nvPr/>
          </p:nvCxnSpPr>
          <p:spPr>
            <a:xfrm>
              <a:off x="1485720" y="4317480"/>
              <a:ext cx="1080" cy="9025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06" idx="2"/>
              <a:endCxn id="107" idx="0"/>
            </p:cNvCxnSpPr>
            <p:nvPr/>
          </p:nvCxnSpPr>
          <p:spPr>
            <a:xfrm>
              <a:off x="3164040" y="2755800"/>
              <a:ext cx="2160" cy="2464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05" idx="3"/>
              <a:endCxn id="106" idx="1"/>
            </p:cNvCxnSpPr>
            <p:nvPr/>
          </p:nvCxnSpPr>
          <p:spPr>
            <a:xfrm flipV="1">
              <a:off x="2158920" y="2380680"/>
              <a:ext cx="332640" cy="3213720"/>
            </a:xfrm>
            <a:prstGeom prst="bentConnector3">
              <a:avLst>
                <a:gd name="adj1" fmla="val 49729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2" name=""/>
            <p:cNvCxnSpPr>
              <a:stCxn id="113" idx="0"/>
              <a:endCxn id="114" idx="2"/>
            </p:cNvCxnSpPr>
            <p:nvPr/>
          </p:nvCxnSpPr>
          <p:spPr>
            <a:xfrm flipV="1">
              <a:off x="6509880" y="2793600"/>
              <a:ext cx="1080" cy="24264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23" name=""/>
            <p:cNvGrpSpPr/>
            <p:nvPr/>
          </p:nvGrpSpPr>
          <p:grpSpPr>
            <a:xfrm>
              <a:off x="7504200" y="2065320"/>
              <a:ext cx="1079280" cy="3906720"/>
              <a:chOff x="7504200" y="2065320"/>
              <a:chExt cx="1079280" cy="3906720"/>
            </a:xfrm>
          </p:grpSpPr>
          <p:sp>
            <p:nvSpPr>
              <p:cNvPr id="124" name=""/>
              <p:cNvSpPr/>
              <p:nvPr/>
            </p:nvSpPr>
            <p:spPr>
              <a:xfrm>
                <a:off x="7504200" y="2065320"/>
                <a:ext cx="107928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04200" y="3589200"/>
                <a:ext cx="107928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04200" y="5253120"/>
                <a:ext cx="107928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181B-FEE8-44B8-B15A-AE9803EC3F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33cc"/>
                </a:solidFill>
                <a:latin typeface="Times New Roman"/>
              </a:rPr>
              <a:t>User submits data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84280" y="1815120"/>
            <a:ext cx="7948440" cy="4169520"/>
            <a:chOff x="584280" y="1815120"/>
            <a:chExt cx="7948440" cy="4169520"/>
          </a:xfrm>
        </p:grpSpPr>
        <p:cxnSp>
          <p:nvCxnSpPr>
            <p:cNvPr id="129" name=""/>
            <p:cNvCxnSpPr>
              <a:stCxn id="130" idx="0"/>
              <a:endCxn id="131" idx="0"/>
            </p:cNvCxnSpPr>
            <p:nvPr/>
          </p:nvCxnSpPr>
          <p:spPr>
            <a:xfrm rot="5400000">
              <a:off x="2868840" y="609480"/>
              <a:ext cx="479880" cy="3348720"/>
            </a:xfrm>
            <a:prstGeom prst="bentConnector3">
              <a:avLst>
                <a:gd name="adj1" fmla="val -4767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1" name=""/>
            <p:cNvSpPr/>
            <p:nvPr/>
          </p:nvSpPr>
          <p:spPr>
            <a:xfrm>
              <a:off x="584280" y="2523960"/>
              <a:ext cx="1701720" cy="749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4280" y="3568680"/>
              <a:ext cx="170172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ata rem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ed unt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 reaches Cen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0" y="5218200"/>
              <a:ext cx="147348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is de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ing Statc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2680" y="5218200"/>
              <a:ext cx="134604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se 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dit check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0120" y="204480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contin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3"/>
              <a:endCxn id="136" idx="1"/>
            </p:cNvCxnSpPr>
            <p:nvPr/>
          </p:nvCxnSpPr>
          <p:spPr>
            <a:xfrm>
              <a:off x="3798720" y="5592240"/>
              <a:ext cx="2088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37" name=""/>
            <p:cNvCxnSpPr>
              <a:stCxn id="136" idx="0"/>
              <a:endCxn id="138" idx="2"/>
            </p:cNvCxnSpPr>
            <p:nvPr/>
          </p:nvCxnSpPr>
          <p:spPr>
            <a:xfrm flipV="1">
              <a:off x="4781160" y="4374720"/>
              <a:ext cx="1080" cy="843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8" idx="0"/>
              <a:endCxn id="140" idx="2"/>
            </p:cNvCxnSpPr>
            <p:nvPr/>
          </p:nvCxnSpPr>
          <p:spPr>
            <a:xfrm flipH="1" flipV="1">
              <a:off x="4779720" y="3320280"/>
              <a:ext cx="2160" cy="305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1" name=""/>
            <p:cNvCxnSpPr>
              <a:stCxn id="131" idx="2"/>
              <a:endCxn id="132" idx="0"/>
            </p:cNvCxnSpPr>
            <p:nvPr/>
          </p:nvCxnSpPr>
          <p:spPr>
            <a:xfrm>
              <a:off x="1434600" y="3273480"/>
              <a:ext cx="1080" cy="295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2" name=""/>
            <p:cNvCxnSpPr>
              <a:stCxn id="132" idx="2"/>
              <a:endCxn id="133" idx="0"/>
            </p:cNvCxnSpPr>
            <p:nvPr/>
          </p:nvCxnSpPr>
          <p:spPr>
            <a:xfrm>
              <a:off x="1434600" y="4317480"/>
              <a:ext cx="1080" cy="90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3" name=""/>
            <p:cNvCxnSpPr>
              <a:stCxn id="133" idx="3"/>
              <a:endCxn id="134" idx="1"/>
            </p:cNvCxnSpPr>
            <p:nvPr/>
          </p:nvCxnSpPr>
          <p:spPr>
            <a:xfrm>
              <a:off x="2171880" y="5592240"/>
              <a:ext cx="281520" cy="1080"/>
            </a:xfrm>
            <a:prstGeom prst="bentConnector2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grpSp>
          <p:nvGrpSpPr>
            <p:cNvPr id="144" name=""/>
            <p:cNvGrpSpPr/>
            <p:nvPr/>
          </p:nvGrpSpPr>
          <p:grpSpPr>
            <a:xfrm>
              <a:off x="7453440" y="2077920"/>
              <a:ext cx="1079280" cy="3906720"/>
              <a:chOff x="7453440" y="2077920"/>
              <a:chExt cx="1079280" cy="3906720"/>
            </a:xfrm>
          </p:grpSpPr>
          <p:sp>
            <p:nvSpPr>
              <p:cNvPr id="145" name=""/>
              <p:cNvSpPr/>
              <p:nvPr/>
            </p:nvSpPr>
            <p:spPr>
              <a:xfrm>
                <a:off x="7453440" y="2077920"/>
                <a:ext cx="107928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53440" y="3601800"/>
                <a:ext cx="107928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53440" y="5265720"/>
                <a:ext cx="107928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s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006800" y="5218200"/>
              <a:ext cx="154944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rypt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ing respon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8320" y="3625920"/>
              <a:ext cx="134640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se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 th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54600" y="2571840"/>
              <a:ext cx="165096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rypt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ar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0" idx="0"/>
              <a:endCxn id="130" idx="2"/>
            </p:cNvCxnSpPr>
            <p:nvPr/>
          </p:nvCxnSpPr>
          <p:spPr>
            <a:xfrm flipV="1">
              <a:off x="4780080" y="2307960"/>
              <a:ext cx="3600" cy="2642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49" name=""/>
            <p:cNvSpPr/>
            <p:nvPr/>
          </p:nvSpPr>
          <p:spPr>
            <a:xfrm>
              <a:off x="758880" y="200664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mi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 logo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 time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5760" y="3616200"/>
              <a:ext cx="1346400" cy="749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id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 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yc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0" idx="0"/>
              <a:endCxn id="151" idx="2"/>
            </p:cNvCxnSpPr>
            <p:nvPr/>
          </p:nvCxnSpPr>
          <p:spPr>
            <a:xfrm flipV="1">
              <a:off x="6435360" y="4365360"/>
              <a:ext cx="3960" cy="8532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36" idx="3"/>
              <a:endCxn id="150" idx="1"/>
            </p:cNvCxnSpPr>
            <p:nvPr/>
          </p:nvCxnSpPr>
          <p:spPr>
            <a:xfrm>
              <a:off x="5555880" y="5592240"/>
              <a:ext cx="2070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5961240" y="2571840"/>
              <a:ext cx="939600" cy="7617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onym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0"/>
            </p:cNvCxnSpPr>
            <p:nvPr/>
          </p:nvCxnSpPr>
          <p:spPr>
            <a:xfrm>
              <a:off x="6431040" y="3333240"/>
              <a:ext cx="864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59F3-02E4-4A40-8175-89D9781F3D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Times New Roman"/>
              </a:rPr>
              <a:t>Re-use of SEAL?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814040"/>
            <a:ext cx="803916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signed as a “service”, not an applicat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i-directional encryption using anonymous PKI certificate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exchange of confidential or sensitive information on-line where the identity of the individual is not relevan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exchange of data based on an access code (e.g. e-file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cure online forms or e-transactions where there is a need to securely </a:t>
            </a:r>
            <a:r>
              <a:rPr b="0" lang="en-CA" sz="1800" spc="-1" strike="noStrike">
                <a:solidFill>
                  <a:srgbClr val="0033cc"/>
                </a:solidFill>
                <a:latin typeface="Arial"/>
              </a:rPr>
              <a:t>return real-time updates, approvals or instructions to the user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onfidential (but not digitally signed) e-mail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ansparent certificate management to departmen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o individual data observed or retained by SE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o pre-registration; invisible and non-intrusive to the us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ase of deploymen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421B-C4EB-4072-9502-E352A754F3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53:07Z</dcterms:created>
  <dc:creator>Don</dc:creator>
  <dc:description/>
  <dc:language>en-US</dc:language>
  <cp:lastModifiedBy>Margo Meyers</cp:lastModifiedBy>
  <cp:lastPrinted>2002-10-01T12:51:03Z</cp:lastPrinted>
  <dcterms:modified xsi:type="dcterms:W3CDTF">2004-05-04T15:10:46Z</dcterms:modified>
  <cp:revision>4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2442064</vt:r8>
  </property>
  <property fmtid="{D5CDD505-2E9C-101B-9397-08002B2CF9AE}" pid="3" name="_AuthorEmail">
    <vt:lpwstr>Mel.Turner@a.statcan.ca</vt:lpwstr>
  </property>
  <property fmtid="{D5CDD505-2E9C-101B-9397-08002B2CF9AE}" pid="4" name="_AuthorEmailDisplayName">
    <vt:lpwstr>Turner, Mel - IT HQ/BC IT</vt:lpwstr>
  </property>
  <property fmtid="{D5CDD505-2E9C-101B-9397-08002B2CF9AE}" pid="5" name="_EmailSubject">
    <vt:lpwstr>MSIS 2004 - Slides - Using PKI for the Census</vt:lpwstr>
  </property>
  <property fmtid="{D5CDD505-2E9C-101B-9397-08002B2CF9AE}" pid="6" name="_PreviousAdHocReviewCycleID">
    <vt:r8>-1308998460</vt:r8>
  </property>
</Properties>
</file>