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21CA-CAFC-4DE0-9C90-19628D287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EBB0-CCDA-4A2E-B712-9261E7F13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47BA-16D4-4624-ACC5-FBEB4750B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3E44-52B4-4096-B9CE-6B738338E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79640" y="3805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8932-CE08-446B-A9CB-5664DE627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0928-FB5B-46E6-80C3-D9B70C2AB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E2E3-AA4D-48F2-B2A7-3E3E77849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B273-6A3E-4328-BE6D-E6F768EEE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79640" y="3805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3B6D-B726-4205-AD85-46265A5B9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C09C-6CED-4C7C-A042-B1FF3F062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B0D2-7828-4481-8A51-8BEE9108A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5D8D-CE6C-41EB-8E3B-85DEA7CB2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4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BFAA-7DE8-4065-812A-56464C6D7BEF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81920" y="6464160"/>
            <a:ext cx="971640" cy="2667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rcRect l="48199" t="0" r="0" b="0"/>
          <a:stretch/>
        </p:blipFill>
        <p:spPr>
          <a:xfrm>
            <a:off x="142920" y="6093000"/>
            <a:ext cx="735120" cy="704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95280" y="333360"/>
            <a:ext cx="1536840" cy="11588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85800" y="1557360"/>
            <a:ext cx="7918560" cy="1522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99ccff"/>
              </a:gs>
              <a:gs pos="100000">
                <a:srgbClr val="0000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03920" y="6595920"/>
            <a:ext cx="74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BFA0-C2AE-40E8-8AC2-E683E7675180}" type="slidenum">
              <a:rPr b="0" lang="en-US" sz="900" spc="-1" strike="noStrike">
                <a:solidFill>
                  <a:srgbClr val="acd1a1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69800" y="1638000"/>
            <a:ext cx="63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93080" y="6459480"/>
            <a:ext cx="971640" cy="26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48199" t="0" r="0" b="0"/>
          <a:stretch/>
        </p:blipFill>
        <p:spPr>
          <a:xfrm>
            <a:off x="1244520" y="3789360"/>
            <a:ext cx="735120" cy="704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3132000"/>
            <a:ext cx="7918560" cy="1526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99ccff"/>
              </a:gs>
              <a:gs pos="100000">
                <a:srgbClr val="0000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55640" y="1628640"/>
            <a:ext cx="153684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03920" y="6595920"/>
            <a:ext cx="74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20A6-B4AA-46BF-9DAB-C10006DAD303}" type="slidenum">
              <a:rPr b="0" lang="en-US" sz="900" spc="-1" strike="noStrike">
                <a:solidFill>
                  <a:srgbClr val="acd1a1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9800" y="1638000"/>
            <a:ext cx="63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Using PKI for the Census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SIS 2004, Geneva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el Turner, Lise Duquet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tatistics Canada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Agenda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overnment of Canada common infrastructure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ensus of Population, Census of Agricultur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usiness requirement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curity/Confidentiality requirement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 new common service – SEAL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Session Encryption with Automated Log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ttribute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pplication flow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hy is SEAL appropriate for statistical data collection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6CD1-40ED-4DA1-AF05-65BDA9C0D2E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Business objectives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ffer all Canadians the option to complete their Census forms using the Interne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ensus of Population and Census of Agriculture are conducted every 5 year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13.5 million households and 300 000 farms in May 2006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nduct a Census Dress Rehearsal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300 000 households and 20 000 farms in May 2004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arget Internet take-up rate of 20% to 25%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eak period on or around Census day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ovide the most secure way to connect Canadians to protect confidentiality of data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18FB-8CD9-41CF-B98C-02665707EB0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Business requirements 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imple and single-step acces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eed to authenticate a form, not a perso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o pre-registration required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nvenient and ease of us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ccessible anytime, anywher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upported Web browser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bility to suspend and resume a session for long form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othing left behind the user’s workstation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apable of securely handling large volum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ighly visible applicatio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esponse window focused on “Census day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D94D-39A6-4C12-8B08-B08860DD941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Confidentiality requirements 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0080" y="180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nfidentiality protection of data submitted on-lin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KI technology provides confidentiality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digital signature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AL uses PKI for confidentiality protection only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trong encryption using an anonymous PKI certificat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i-directional, end-to-end encryption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cc"/>
                </a:solidFill>
                <a:latin typeface="Arial"/>
              </a:rPr>
              <a:t>Need to securely return instructions, sensitive data captured in a previous session or real-time updates to the user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curity interface transparent to the use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he steps taken by SEAL to maintain a secure session are invisible to the user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879D-439F-45FC-BAB0-CF21E81053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SEAL Attributes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400" y="1792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ool of anonymous PKI Certificat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KI certificates bulk generated in advance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KI certificate recycled at the end of each session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o user maintenance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nonymous PKI User ID, Password and Distinguished Names (DN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utomatic login and logoff from SEAL, invisible to the user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edicated Certificate Authority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ot cross-certified with other authoritie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nd-to-end bi-directional encryption with Entrust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TruePass 7.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90B3-3E10-4E58-9E7F-AB2CF6BAEB1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0033cc"/>
                </a:solidFill>
                <a:latin typeface="Times New Roman"/>
              </a:rPr>
              <a:t>Census Login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12880" y="2006640"/>
            <a:ext cx="7770600" cy="3965400"/>
            <a:chOff x="812880" y="2006640"/>
            <a:chExt cx="7770600" cy="3965400"/>
          </a:xfrm>
        </p:grpSpPr>
        <p:grpSp>
          <p:nvGrpSpPr>
            <p:cNvPr id="102" name=""/>
            <p:cNvGrpSpPr/>
            <p:nvPr/>
          </p:nvGrpSpPr>
          <p:grpSpPr>
            <a:xfrm>
              <a:off x="812880" y="2019240"/>
              <a:ext cx="1346040" cy="3949920"/>
              <a:chOff x="812880" y="2019240"/>
              <a:chExt cx="1346040" cy="3949920"/>
            </a:xfrm>
          </p:grpSpPr>
          <p:sp>
            <p:nvSpPr>
              <p:cNvPr id="103" name=""/>
              <p:cNvSpPr/>
              <p:nvPr/>
            </p:nvSpPr>
            <p:spPr>
              <a:xfrm>
                <a:off x="812880" y="2019240"/>
                <a:ext cx="1346040" cy="749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tempt to ac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ensus si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12880" y="3568680"/>
                <a:ext cx="1346040" cy="7491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stablis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rueP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™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rames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12880" y="5219640"/>
                <a:ext cx="1346040" cy="749520"/>
              </a:xfrm>
              <a:prstGeom prst="rect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mpt user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cess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rinted on for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490840" y="2006640"/>
              <a:ext cx="1346040" cy="749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en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ss 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92280" y="5219640"/>
              <a:ext cx="1346400" cy="74952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t encry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ss Co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vali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70240" y="5219640"/>
              <a:ext cx="1346400" cy="74952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verse prox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fi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56120" y="3978360"/>
              <a:ext cx="1574640" cy="7491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trieve a random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id an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to-lo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73640" y="2933640"/>
              <a:ext cx="939600" cy="76212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onymo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10" idx="3"/>
              <a:endCxn id="109" idx="0"/>
            </p:cNvCxnSpPr>
            <p:nvPr/>
          </p:nvCxnSpPr>
          <p:spPr>
            <a:xfrm>
              <a:off x="4843080" y="3695400"/>
              <a:ext cx="1080" cy="28332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grpSp>
          <p:nvGrpSpPr>
            <p:cNvPr id="112" name=""/>
            <p:cNvGrpSpPr/>
            <p:nvPr/>
          </p:nvGrpSpPr>
          <p:grpSpPr>
            <a:xfrm>
              <a:off x="5837400" y="2044800"/>
              <a:ext cx="1346040" cy="3924360"/>
              <a:chOff x="5837400" y="2044800"/>
              <a:chExt cx="1346040" cy="3924360"/>
            </a:xfrm>
          </p:grpSpPr>
          <p:sp>
            <p:nvSpPr>
              <p:cNvPr id="113" name=""/>
              <p:cNvSpPr/>
              <p:nvPr/>
            </p:nvSpPr>
            <p:spPr>
              <a:xfrm>
                <a:off x="5837400" y="5219640"/>
                <a:ext cx="1346040" cy="749520"/>
              </a:xfrm>
              <a:prstGeom prst="rect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stablish u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37400" y="2044800"/>
                <a:ext cx="1346040" cy="749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ser comple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ensus 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5" name=""/>
            <p:cNvCxnSpPr>
              <a:stCxn id="107" idx="3"/>
              <a:endCxn id="108" idx="1"/>
            </p:cNvCxnSpPr>
            <p:nvPr/>
          </p:nvCxnSpPr>
          <p:spPr>
            <a:xfrm>
              <a:off x="3838320" y="5594040"/>
              <a:ext cx="332280" cy="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16" name=""/>
            <p:cNvCxnSpPr>
              <a:stCxn id="108" idx="0"/>
              <a:endCxn id="109" idx="2"/>
            </p:cNvCxnSpPr>
            <p:nvPr/>
          </p:nvCxnSpPr>
          <p:spPr>
            <a:xfrm flipV="1">
              <a:off x="4843080" y="4726800"/>
              <a:ext cx="1080" cy="49284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7" name=""/>
            <p:cNvCxnSpPr>
              <a:stCxn id="108" idx="3"/>
              <a:endCxn id="113" idx="1"/>
            </p:cNvCxnSpPr>
            <p:nvPr/>
          </p:nvCxnSpPr>
          <p:spPr>
            <a:xfrm>
              <a:off x="5516280" y="5594040"/>
              <a:ext cx="321480" cy="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18" name=""/>
            <p:cNvCxnSpPr>
              <a:stCxn id="103" idx="2"/>
              <a:endCxn id="104" idx="0"/>
            </p:cNvCxnSpPr>
            <p:nvPr/>
          </p:nvCxnSpPr>
          <p:spPr>
            <a:xfrm>
              <a:off x="1485720" y="2768760"/>
              <a:ext cx="1080" cy="80064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9" name=""/>
            <p:cNvCxnSpPr>
              <a:stCxn id="104" idx="2"/>
              <a:endCxn id="105" idx="0"/>
            </p:cNvCxnSpPr>
            <p:nvPr/>
          </p:nvCxnSpPr>
          <p:spPr>
            <a:xfrm>
              <a:off x="1485720" y="4317480"/>
              <a:ext cx="1080" cy="90252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20" name=""/>
            <p:cNvCxnSpPr>
              <a:stCxn id="106" idx="2"/>
              <a:endCxn id="107" idx="0"/>
            </p:cNvCxnSpPr>
            <p:nvPr/>
          </p:nvCxnSpPr>
          <p:spPr>
            <a:xfrm>
              <a:off x="3164040" y="2755800"/>
              <a:ext cx="2160" cy="246456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21" name=""/>
            <p:cNvCxnSpPr>
              <a:stCxn id="105" idx="3"/>
              <a:endCxn id="106" idx="1"/>
            </p:cNvCxnSpPr>
            <p:nvPr/>
          </p:nvCxnSpPr>
          <p:spPr>
            <a:xfrm flipV="1">
              <a:off x="2158920" y="2380680"/>
              <a:ext cx="332640" cy="3213720"/>
            </a:xfrm>
            <a:prstGeom prst="bentConnector3">
              <a:avLst>
                <a:gd name="adj1" fmla="val 49729"/>
              </a:avLst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22" name=""/>
            <p:cNvCxnSpPr>
              <a:stCxn id="113" idx="0"/>
              <a:endCxn id="114" idx="2"/>
            </p:cNvCxnSpPr>
            <p:nvPr/>
          </p:nvCxnSpPr>
          <p:spPr>
            <a:xfrm flipV="1">
              <a:off x="6509880" y="2793600"/>
              <a:ext cx="1080" cy="242640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23" name=""/>
            <p:cNvGrpSpPr/>
            <p:nvPr/>
          </p:nvGrpSpPr>
          <p:grpSpPr>
            <a:xfrm>
              <a:off x="7504200" y="2065320"/>
              <a:ext cx="1079280" cy="3906720"/>
              <a:chOff x="7504200" y="2065320"/>
              <a:chExt cx="1079280" cy="3906720"/>
            </a:xfrm>
          </p:grpSpPr>
          <p:sp>
            <p:nvSpPr>
              <p:cNvPr id="124" name=""/>
              <p:cNvSpPr/>
              <p:nvPr/>
            </p:nvSpPr>
            <p:spPr>
              <a:xfrm>
                <a:off x="7504200" y="2065320"/>
                <a:ext cx="1079280" cy="7189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row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04200" y="3589200"/>
                <a:ext cx="1079280" cy="719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mm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K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04200" y="5253120"/>
                <a:ext cx="1079280" cy="7189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ens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4609-2676-4363-BB85-543BEEA17B7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0033cc"/>
                </a:solidFill>
                <a:latin typeface="Times New Roman"/>
              </a:rPr>
              <a:t>User submits data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84280" y="1815120"/>
            <a:ext cx="7948440" cy="4169520"/>
            <a:chOff x="584280" y="1815120"/>
            <a:chExt cx="7948440" cy="4169520"/>
          </a:xfrm>
        </p:grpSpPr>
        <p:cxnSp>
          <p:nvCxnSpPr>
            <p:cNvPr id="129" name=""/>
            <p:cNvCxnSpPr>
              <a:stCxn id="130" idx="0"/>
              <a:endCxn id="131" idx="0"/>
            </p:cNvCxnSpPr>
            <p:nvPr/>
          </p:nvCxnSpPr>
          <p:spPr>
            <a:xfrm rot="5400000">
              <a:off x="2868840" y="609480"/>
              <a:ext cx="479880" cy="3348720"/>
            </a:xfrm>
            <a:prstGeom prst="bentConnector3">
              <a:avLst>
                <a:gd name="adj1" fmla="val -47672"/>
              </a:avLst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sp>
          <p:nvSpPr>
            <p:cNvPr id="131" name=""/>
            <p:cNvSpPr/>
            <p:nvPr/>
          </p:nvSpPr>
          <p:spPr>
            <a:xfrm>
              <a:off x="584280" y="2523960"/>
              <a:ext cx="1701720" cy="749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uePas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pp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cryp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4280" y="3568680"/>
              <a:ext cx="1701720" cy="7491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data rema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crypted unt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t reaches Cens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plica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400" y="5218200"/>
              <a:ext cx="1473480" cy="7491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 is decry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ing Statc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vate 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52680" y="5218200"/>
              <a:ext cx="1346040" cy="7491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sponse 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ces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dit check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10120" y="2044800"/>
              <a:ext cx="1346040" cy="263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continu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4" idx="3"/>
              <a:endCxn id="136" idx="1"/>
            </p:cNvCxnSpPr>
            <p:nvPr/>
          </p:nvCxnSpPr>
          <p:spPr>
            <a:xfrm>
              <a:off x="3798720" y="5592240"/>
              <a:ext cx="208800" cy="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37" name=""/>
            <p:cNvCxnSpPr>
              <a:stCxn id="136" idx="0"/>
              <a:endCxn id="138" idx="2"/>
            </p:cNvCxnSpPr>
            <p:nvPr/>
          </p:nvCxnSpPr>
          <p:spPr>
            <a:xfrm flipV="1">
              <a:off x="4781160" y="4374720"/>
              <a:ext cx="1080" cy="84384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9" name=""/>
            <p:cNvCxnSpPr>
              <a:stCxn id="138" idx="0"/>
              <a:endCxn id="140" idx="2"/>
            </p:cNvCxnSpPr>
            <p:nvPr/>
          </p:nvCxnSpPr>
          <p:spPr>
            <a:xfrm flipH="1" flipV="1">
              <a:off x="4779720" y="3320280"/>
              <a:ext cx="2160" cy="30564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41" name=""/>
            <p:cNvCxnSpPr>
              <a:stCxn id="131" idx="2"/>
              <a:endCxn id="132" idx="0"/>
            </p:cNvCxnSpPr>
            <p:nvPr/>
          </p:nvCxnSpPr>
          <p:spPr>
            <a:xfrm>
              <a:off x="1434600" y="3273480"/>
              <a:ext cx="1080" cy="29556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42" name=""/>
            <p:cNvCxnSpPr>
              <a:stCxn id="132" idx="2"/>
              <a:endCxn id="133" idx="0"/>
            </p:cNvCxnSpPr>
            <p:nvPr/>
          </p:nvCxnSpPr>
          <p:spPr>
            <a:xfrm>
              <a:off x="1434600" y="4317480"/>
              <a:ext cx="1080" cy="90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43" name=""/>
            <p:cNvCxnSpPr>
              <a:stCxn id="133" idx="3"/>
              <a:endCxn id="134" idx="1"/>
            </p:cNvCxnSpPr>
            <p:nvPr/>
          </p:nvCxnSpPr>
          <p:spPr>
            <a:xfrm>
              <a:off x="2171880" y="5592240"/>
              <a:ext cx="281520" cy="1080"/>
            </a:xfrm>
            <a:prstGeom prst="bentConnector2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grpSp>
          <p:nvGrpSpPr>
            <p:cNvPr id="144" name=""/>
            <p:cNvGrpSpPr/>
            <p:nvPr/>
          </p:nvGrpSpPr>
          <p:grpSpPr>
            <a:xfrm>
              <a:off x="7453440" y="2077920"/>
              <a:ext cx="1079280" cy="3906720"/>
              <a:chOff x="7453440" y="2077920"/>
              <a:chExt cx="1079280" cy="3906720"/>
            </a:xfrm>
          </p:grpSpPr>
          <p:sp>
            <p:nvSpPr>
              <p:cNvPr id="145" name=""/>
              <p:cNvSpPr/>
              <p:nvPr/>
            </p:nvSpPr>
            <p:spPr>
              <a:xfrm>
                <a:off x="7453440" y="2077920"/>
                <a:ext cx="1079280" cy="7189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row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453440" y="3601800"/>
                <a:ext cx="1079280" cy="719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mm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K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453440" y="5265720"/>
                <a:ext cx="1079280" cy="7189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ens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4006800" y="5218200"/>
              <a:ext cx="1549440" cy="7491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crypt 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ing respond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ublic 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08320" y="3625920"/>
              <a:ext cx="1346400" cy="7491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verse 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 thr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54600" y="2571840"/>
              <a:ext cx="1650960" cy="749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uePas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pp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rypts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parent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" name=""/>
            <p:cNvCxnSpPr>
              <a:stCxn id="140" idx="0"/>
              <a:endCxn id="130" idx="2"/>
            </p:cNvCxnSpPr>
            <p:nvPr/>
          </p:nvCxnSpPr>
          <p:spPr>
            <a:xfrm flipV="1">
              <a:off x="4780080" y="2307960"/>
              <a:ext cx="3600" cy="26424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sp>
          <p:nvSpPr>
            <p:cNvPr id="149" name=""/>
            <p:cNvSpPr/>
            <p:nvPr/>
          </p:nvSpPr>
          <p:spPr>
            <a:xfrm>
              <a:off x="758880" y="2006640"/>
              <a:ext cx="1346040" cy="263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bmit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62520" y="5218200"/>
              <a:ext cx="1346400" cy="7491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n logo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 time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65760" y="3616200"/>
              <a:ext cx="1346400" cy="7495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id 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e 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yc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" name=""/>
            <p:cNvCxnSpPr>
              <a:stCxn id="150" idx="0"/>
              <a:endCxn id="151" idx="2"/>
            </p:cNvCxnSpPr>
            <p:nvPr/>
          </p:nvCxnSpPr>
          <p:spPr>
            <a:xfrm flipV="1">
              <a:off x="6435360" y="4365360"/>
              <a:ext cx="3960" cy="85320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3" name=""/>
            <p:cNvCxnSpPr>
              <a:stCxn id="136" idx="3"/>
              <a:endCxn id="150" idx="1"/>
            </p:cNvCxnSpPr>
            <p:nvPr/>
          </p:nvCxnSpPr>
          <p:spPr>
            <a:xfrm>
              <a:off x="5555880" y="5592240"/>
              <a:ext cx="207000" cy="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5961240" y="2571840"/>
              <a:ext cx="939600" cy="76176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onymo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3"/>
              <a:endCxn id="151" idx="0"/>
            </p:cNvCxnSpPr>
            <p:nvPr/>
          </p:nvCxnSpPr>
          <p:spPr>
            <a:xfrm>
              <a:off x="6431040" y="3333240"/>
              <a:ext cx="8640" cy="28332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C8EC-E61B-4A70-B92E-8BA7F87308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Re-use of SEAL?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2680" y="1814040"/>
            <a:ext cx="8039160" cy="44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signed as a “service”, not an application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i-directional encryption using anonymous PKI certificate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ecure exchange of confidential or sensitive information on-line where the identity of the individual is not relevant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ecure exchange of data based on an access code (e.g. e-file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ecure online forms or e-transactions where there is a need to securely </a:t>
            </a:r>
            <a:r>
              <a:rPr b="0" lang="en-CA" sz="1800" spc="-1" strike="noStrike">
                <a:solidFill>
                  <a:srgbClr val="0033cc"/>
                </a:solidFill>
                <a:latin typeface="Arial"/>
              </a:rPr>
              <a:t>return real-time updates, approvals or instructions to the user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onfidential (but not digitally signed) e-mail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ransparent certificate management to department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No individual data observed or retained by SEA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No pre-registration; invisible and non-intrusive to the user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Ease of deployment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487B-A632-4FFA-9D1D-0294116E726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9:53:07Z</dcterms:created>
  <dc:creator>Don</dc:creator>
  <dc:description/>
  <dc:language>en-US</dc:language>
  <cp:lastModifiedBy>Margo Meyers</cp:lastModifiedBy>
  <cp:lastPrinted>2002-10-01T12:51:03Z</cp:lastPrinted>
  <dcterms:modified xsi:type="dcterms:W3CDTF">2004-05-04T15:10:46Z</dcterms:modified>
  <cp:revision>4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2442064</vt:r8>
  </property>
  <property fmtid="{D5CDD505-2E9C-101B-9397-08002B2CF9AE}" pid="3" name="_AuthorEmail">
    <vt:lpwstr>Mel.Turner@a.statcan.ca</vt:lpwstr>
  </property>
  <property fmtid="{D5CDD505-2E9C-101B-9397-08002B2CF9AE}" pid="4" name="_AuthorEmailDisplayName">
    <vt:lpwstr>Turner, Mel - IT HQ/BC IT</vt:lpwstr>
  </property>
  <property fmtid="{D5CDD505-2E9C-101B-9397-08002B2CF9AE}" pid="5" name="_EmailSubject">
    <vt:lpwstr>MSIS 2004 - Slides - Using PKI for the Census</vt:lpwstr>
  </property>
  <property fmtid="{D5CDD505-2E9C-101B-9397-08002B2CF9AE}" pid="6" name="_PreviousAdHocReviewCycleID">
    <vt:r8>-1308998460</vt:r8>
  </property>
</Properties>
</file>