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2825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1440" y="-3240"/>
            <a:ext cx="289224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777840" y="-3240"/>
            <a:ext cx="28926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-1440" y="9327960"/>
            <a:ext cx="2892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777840" y="9327960"/>
            <a:ext cx="28926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2C7A488E-3043-4963-8AC0-16A4D6361E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685800" y="742680"/>
            <a:ext cx="5299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обработку статистических данных в России осуществляют орг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ы Федеральной службы государственной статист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яд министерств и ведомств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месте с тем на Федеральную службу государственной статист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ложены функции межотраслевой координации и функционального регулирования в сфере государственной статистики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ая служба государственной статистики – главное статистические ведомство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ые возможности ИВС были сгруппированы в 5 системных проек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справочное и организационное обеспечение статистических раб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, обработка и информационный обмен статистической отчет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и распространение статистической информации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хранилища данных разн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публикация готовых доку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числительная и сетевая инфраструктура ИВ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их системных проектов состоит из ряда прикладных подсистем, реализующих конкретную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онологическая последовательность развития корпоративной информационно-вычислительной системы Федеральной службы государственной статистики следующ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екабре 2000 года утверждена Концепция развития ИВС, на основе которой в 2002 году было разработано техническое задание, включающее общую часть и 17 частных технических заданий на прикладные под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нитель Проекта выбирался на конкурсной основе и в декабре 2002 года были начаты работы по реализации проекта 1-ой очереди. Окончание реализации проекта – июнь 2004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итогам реализации проекта будет осуществлена корректировка Концепции, разработана программа внедрения  прикладных подсистем во всех территориальных организациях ФСГС, в 2004-2005 годах предполагается техническое дооснащение ИВС, а начиная с 2005 года – развитие качеств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уемый в  настоящее время  проект развития ИВС (1-ая очередь) Федеральной службы государственной статистики включает разработку прикладным подсистем,  техническое и программное оснащение пилотных объектов ИВС  ФСГС в соответствии с выбранными технологиями, а также пилотное внедрение разработанных прикладных подсистем в ряде организаций ФСГ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-ая очередь Проекта развития ИВС включает 3 этапа, два из которых – выполн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-ий этап – этап опытной эксплуатации и пилотного внедр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0280" y="4456080"/>
            <a:ext cx="4887720" cy="4626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настоящему времени, а именно в конце мае этого года, начинается опытная эксплуатации и пилотное внедрение разработанных под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пилотов войдут подсистемы и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х основных функциональных груп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акже обеспечивающие подсистемы. Это функции сбора и обработки статистической отчетности, функции хранения и анализа данных, функции обеспечения нормативно-справочной информацией, функции, завершающие производственный процесс  и обеспечивающие функции (транспорт данных, электронная почта и документооборот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я пилотного внедрения касаются объема обрабатываемых данных и некоторого служебного функционала под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отные подсистемы ИВС подразделяются на новые и  модернизируемы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подсистемы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истемы, которых не существовало в прежней структуре ИВС (хранилища данных, РБСД, система для разработки ПО, универсальная транспортная подсистема, документооборот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изируемые подсистемы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истемы, функции которых уже выполняются какой-либо частью существующей ИВС (ССО, ЦБСД, ОБСД, ОСР, АБК, КСП, БГД, Веб-система, электронная поч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отным внедрением обеспечивается охват всего федерального, части территориального и районного уровн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илотных объектах ведется обучение пользователей работе с новыми технологиями и модернизированными реш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едусматривает реализацию комплексного пилотного проекта, который охватывает федеральный уровень, а именно: ЦА ФСГС, ГМЦ и НИПИ, и включает полную технологическую цепочку. В рамках комплексного пилотного проекта осуществляется отработка технологии ЦОД. В качестве центра выступает Петербургкомстат, который производит централизованну обработку данных, обеспечивает интеграцию и доступность обработанных данных,  а объектами являются Архангельский, Вологодский, Калининградский и Псковский облкомстаты.  На карте обозначены синим цве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ом предусмотрены также ряд частных пилотных проектов, целью которых является отработка отдельных компонент ИВС и ее элементов. В качестве объектов выступают Комстат Республики Коми, Красноярский облкомстат, Мосгоркомстат, Мособлкомстат, Нижегородский, Новосибирский, Ростовский, Свердловский, Тюменский и Хабаровский облкомстаты (на карте отмечены оранжевым цвето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ая служба государственной статист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территориально-распределенную систему, включающую федеральный, региональный и районные уров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Федеральный уровень включает ФСГС и подведомственные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уровень объединяет территориальные организации ФСГС, которые находятся в каждом субъекте РФ (89). В свою очередь ТО имеют районные отделения, число которых разное в различных регион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5040" y="4456080"/>
            <a:ext cx="5124240" cy="521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организац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авлена на выполнение статистических, аналитических, контрольных, методологических и технических работ и реализуется на базе информационно-вычислительной системы (ИВС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корпоративной информационной системы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жае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ую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уктуру  и нацелена на достижение целей и решение задач, стоящих перед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организационной структуры, в состав ИВ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ходя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оненты, реализующие ту или иную функциональность соответственно на федеральном, региональном или местном уровнях с учетом возможного наличия промежуточных уровней – межтерриториальных вычислительных центров и межрайонных отде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поративную сеть федерального уровня ИВС входя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С Центрального аппарат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базе которой ведутся, в частности, информационные фонды статистических показателей и готовых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С ГМЦ, осуществляющего обработку статистической информации и ведение статистических регист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руги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омственных организаций, включая НИПИ, который обеспечивает проектирование, разработку и сопровождение программно-технологически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егиональном уровне в состав ИВС входят ИВС территориальных орган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обеспечивают сбор, предварительную обработку статистической информации в регионах, предоставление информации для региональных администраций и других потребителей, ведение части регистров и классификаторов по соответствующему регио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районного звена осуществляют первичный сбор, частичный контроль и агрегирование данных, передачу их на региональный уровен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атривая ИВС с точки зрения технологических процессов, следует отметить, что 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м технологическим процессам ИВС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ая деятельность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ой службы государственной статист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ределяемая Федеральной программой статистических работ и Производственным планом статистических работ, а именно: сбор, обработка, анализ и доставка официальной статистической информации органам государственной власти и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тавление официальной статистической информации в международные организации, местные админист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полнение исследований по заказам органов государственной власти и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организациями, входящими в структур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латных информационных и других услуг заказчик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нутренней деятельност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150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системы государственной статистики в современных условиях невозможно без наличия высокотехнологичной ИВС. Развитие корпоративной ИВС Федеральной службы государственной статистики производится на основе применения ресурсосберегающих информационных технологий, технических и программно-технологических средств и средств телекоммуникаций, обеспечивающих формирование статистических ресурсов и оперативный доступ к н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150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сновным целям совершенствования ИВС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статистической информации на основе интеграции статистических информационных ресурсов в масштабе страны с целью  максимального использования статистики при решении задач управления и прогнозир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сроков обработки и анализа статистических данных и сроков выполнения статистических исследований, выполняемых по заказам органов государственного управления, на основе внедрения электронных способов сбора статистических данных, применения современных программно-технических и телекоммуникационных сред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бюджетных расходов на содержание государственной статистики, в том числе за счет сокращения персонала, занятого малопроизводительным тру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доходов организаций ФСГС, оказывающих платные услуги, за счет расширения объемов услуг.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поставленных целей требует решения ряда задач, среди которых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интегрированного статистического ресурса на федеральном, региональном и районом уровнях посредством баз и хранилищ данных с использованием Интернет-технолог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повышения уровня автоматизации всех технологических процессов в органах государственной статистики и модернизация  применяемых программно-технологических сред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ое значение имеет внедрение электронных способов сбора данных от объектов статистического наблюд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задачам, которые требуют решения, относятся такж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электронного документообор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эффективности работы пользователей на основе расширения применения Интернет-, геоинформационых и др. совреме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и средств обеспечения конфиденциальности статистических данных и защиты от несанкционированного доступа защиты статистических данных информ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оптимальной стоимости технологических процессов на основе применения современных информационных технологий, снижение эксплуатационных затрат на систему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0" algn="just"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0" algn="just"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0" algn="just"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вленные цели и задачи определяют, что 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начение корпоративной информационно-вычислительной системы государственной статистики заключается в поддержке деятельности орган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федеральном, региональном и районном уровнях и обеспечении выполнения технологических процесс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формировании интегрированных информационных ресурсов и обеспечение оперативного доступа к н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функциональной структуры, в состав ИВС  включены следующие основные компонент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я и подготовки статистических работ, поддерживающ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сы постановки задач обследования и мониторинг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и и внедрения необходимого программного обеспечения, формирования мета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а информации, обеспечивающ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первичного ввода, контроля, корректировки данных и их доставки в вышестоящие цент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тки и хранения информации, включ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консолидации, преобразования, расчета показателей, загрузки в регист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и представления информации, позволяющ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ьзователям формировать запросы, создавать разнообразные отчеты, производить изучение получаемых результатов и осуществлять их отображение в различных форма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я информации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бликацию и доставку результатов обработки и анализа до конечных потреби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го управления, включая подсистемы планирования и контроля за выполнением Федеральной программы статистических работ, управление проектами, управление документооборо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я работы остальных подсистем и деятельности Госкомстата России в целом, включ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спечение информационной безопасности и защиты данных, универсальную транспортную подсистему для обмена информацией, электронную почту, управление сетевой, коммуникационной и вычислительной инфраструкту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правление закупками и услугам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1120" y="377964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5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70140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2168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8112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70140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22168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0720" y="476280"/>
            <a:ext cx="9244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85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3508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0560" indent="-22860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37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753240" y="3251160"/>
            <a:ext cx="2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68280" y="6553080"/>
            <a:ext cx="953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7920" y="6629400"/>
            <a:ext cx="1855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й 2004 го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3840" y="6553080"/>
            <a:ext cx="4600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едеральная служба государственной стати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6320" y="50760"/>
            <a:ext cx="27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4320" y="398520"/>
            <a:ext cx="953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05520" y="109440"/>
            <a:ext cx="470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едеральная служба государственной стати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4320" y="6392880"/>
            <a:ext cx="953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320" y="398520"/>
            <a:ext cx="953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09480"/>
            <a:ext cx="1013472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ая служба государственной статист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ршенствование архитектуры корпоратив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онно-вычислительной систем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льной службы государственной стати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й 2004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371600"/>
            <a:ext cx="539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j0294350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221400"/>
            <a:ext cx="92440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57200"/>
            <a:ext cx="906768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рмативно-справочное и организационное обеспечение статистически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тандартных экономико-статистических классифик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алог статистических показате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диненная система регист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ая поддержка планирования, контроля выполнения федеральной программы статистических работ и производственного пл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бор, обработка и информационный обмен статистической отче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бор и обработка статистическ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j0294350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0720" y="-145080"/>
            <a:ext cx="876960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57200"/>
            <a:ext cx="906768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ализ и распространение статистической информации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LAP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и хранилища данных разно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альная база статистических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аслевая база статистических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ональная база статистических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A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хранилище данных федерального уров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A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хранилище данных типового регионального уров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поративн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сист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ранение и публикация готовых доку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публик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нк готов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j0294350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360" y="244800"/>
            <a:ext cx="89218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57200"/>
            <a:ext cx="9448920" cy="28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числительная и сетевая инфраструктура И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и поддержка программного обеспечения ИВ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 и электронный документообор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ая транспортная под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j0294350" descr=""/>
          <p:cNvPicPr/>
          <p:nvPr/>
        </p:nvPicPr>
        <p:blipFill>
          <a:blip r:embed="rId1"/>
          <a:stretch/>
        </p:blipFill>
        <p:spPr>
          <a:xfrm>
            <a:off x="6934320" y="4191120"/>
            <a:ext cx="1814400" cy="16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931392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ИВС Федеральной службы государственной статисти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верждена Концепция развития ИВС  - декабрь 2000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о Техническое задание на развитие ИВС - 200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 работ по Проекту развития ИВС    (1-ая очередь) - декабрь 2002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реализация Проекта 1-ой очереди, пилотное внедрение - 2003- первое полугодие 20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ое дооснащение ИВС - 2004-2005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качества 2005-2007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j0294350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81476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0720" y="685440"/>
            <a:ext cx="924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 развития ИВС  (1-ая очередь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ой службы государственной статисти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прикладных подсист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ое оснащение пилотных объектов  ИВС Федеральной службы государственной статистики в соответствии с выбранными технолог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лотное внедрение прикладных под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94350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814760" cy="16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j0294350" descr=""/>
          <p:cNvPicPr/>
          <p:nvPr/>
        </p:nvPicPr>
        <p:blipFill>
          <a:blip r:embed="rId1"/>
          <a:stretch/>
        </p:blipFill>
        <p:spPr>
          <a:xfrm>
            <a:off x="7772400" y="4952880"/>
            <a:ext cx="1814400" cy="1660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931392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ыполнено к настоящему времени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975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а информационная модель ИВ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ана программно-аппаратная платфор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ализирована и уточнена функциональность подсистем ИВС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а степень интеграции применяемых и предлагае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онент и  технологи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а общая архитектура прикладных компонент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ющая их взаимодей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о программное обеспечение подсистем ИВ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рабочая документ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 объем реализации функциональности пилотных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федерального и региональных уровн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ы конкретные задачи для пилотных 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бретено программное и техническое обеспечение для пилот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д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924408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лот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9296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я  касаются объема обрабатываемых данны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которого функционала прикладных под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е и модернизируемые прикладные под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хватывает федеральный уровень в полном объеме и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риториального и районного уров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ет обучение пользователей на объектах внед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j0294350" descr=""/>
          <p:cNvPicPr/>
          <p:nvPr/>
        </p:nvPicPr>
        <p:blipFill>
          <a:blip r:embed="rId1"/>
          <a:stretch/>
        </p:blipFill>
        <p:spPr>
          <a:xfrm>
            <a:off x="380880" y="4876920"/>
            <a:ext cx="1814760" cy="16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 внедрения пилотных проект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илоты" descr=""/>
          <p:cNvPicPr/>
          <p:nvPr/>
        </p:nvPicPr>
        <p:blipFill>
          <a:blip r:embed="rId1"/>
          <a:stretch/>
        </p:blipFill>
        <p:spPr>
          <a:xfrm>
            <a:off x="228600" y="393840"/>
            <a:ext cx="9220320" cy="65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92440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Федеральной службы государственной статисти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ая служба государственной стат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риториальные орган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ведомствен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j0294350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93139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риториальные органы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й службы государственной статисти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Вся%20Россия" descr=""/>
          <p:cNvPicPr/>
          <p:nvPr/>
        </p:nvPicPr>
        <p:blipFill>
          <a:blip r:embed="rId1"/>
          <a:stretch/>
        </p:blipFill>
        <p:spPr>
          <a:xfrm>
            <a:off x="0" y="838080"/>
            <a:ext cx="990288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22860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 архитектура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Федеральной службы государственной статисти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80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9902880" y="914400"/>
            <a:ext cx="7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VS_GKS_general_2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629400" cy="62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технологические процессы ИВ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VS_GKS_2" descr=""/>
          <p:cNvPicPr/>
          <p:nvPr/>
        </p:nvPicPr>
        <p:blipFill>
          <a:blip r:embed="rId1"/>
          <a:stretch/>
        </p:blipFill>
        <p:spPr>
          <a:xfrm>
            <a:off x="838080" y="506520"/>
            <a:ext cx="7796160" cy="63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j0294350" descr=""/>
          <p:cNvPicPr/>
          <p:nvPr/>
        </p:nvPicPr>
        <p:blipFill>
          <a:blip r:embed="rId1"/>
          <a:stretch/>
        </p:blipFill>
        <p:spPr>
          <a:xfrm>
            <a:off x="380880" y="4724280"/>
            <a:ext cx="1814760" cy="1660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931392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цели совершенствования информационно-вычислительной системы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ой службы государственной статисти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610840" cy="38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25520" indent="-23508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статистическ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щение сроков обработки и анализа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щение сроков выполнения статистических исследований, выполняемых по заказам органов государствен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ижение бюджетных расходов на содержание государственной статистики, в том числе за счет сокращения персонала, занятого малопроизводительным тр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еличение доходов за счет расширения объемов услуг, выполняемых за пл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j0294350" descr=""/>
          <p:cNvPicPr/>
          <p:nvPr/>
        </p:nvPicPr>
        <p:blipFill>
          <a:blip r:embed="rId1"/>
          <a:stretch/>
        </p:blipFill>
        <p:spPr>
          <a:xfrm>
            <a:off x="8088480" y="5197320"/>
            <a:ext cx="1814400" cy="1660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задачи совершенствования информационно-вычислительной систе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9220320" cy="437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интегрированного статистического информационного ресурс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повышения уровня автоматизации всех технологических процессов в органах государственной стат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рнизация программно-технологически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дрение  электронных способов сбора данных от объектов статистическ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электронного документообо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ение эффективности работы пользова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методов и средств обеспечение конфиденциальности и защиты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оптимальной стоимости технологических 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75920"/>
            <a:ext cx="93898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ение информационно-вычислительной систе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458200" cy="27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ка деятельности Федеральной службы государственной статистики  на федеральном и региональном уровнях и обеспечение выполнения технологических 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интегрированных статистических информационных ресур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оперативного доступа к статистическим информацион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j0294350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81476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924408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ональная структура ИВ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24480" y="609480"/>
            <a:ext cx="3578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истемные 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тивно-справочное и организационное обеспечение статистиче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бор, обработка и информационный обмен статистической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и распространение статистической информации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A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хранилища данных раз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ение и публикация готовы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ительная и сетевая инфраструктура И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VS_GKS_proceses" descr=""/>
          <p:cNvPicPr/>
          <p:nvPr/>
        </p:nvPicPr>
        <p:blipFill>
          <a:blip r:embed="rId1"/>
          <a:stretch/>
        </p:blipFill>
        <p:spPr>
          <a:xfrm>
            <a:off x="0" y="914400"/>
            <a:ext cx="6416640" cy="54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1:12:27Z</dcterms:created>
  <dc:creator>Andrey Slyusarenko</dc:creator>
  <dc:description/>
  <dc:language>en-US</dc:language>
  <cp:lastModifiedBy>User</cp:lastModifiedBy>
  <cp:lastPrinted>2000-11-29T10:51:11Z</cp:lastPrinted>
  <dcterms:modified xsi:type="dcterms:W3CDTF">2004-05-12T09:40:43Z</dcterms:modified>
  <cp:revision>142</cp:revision>
  <dc:subject/>
  <dc:title>No Slide Title</dc:title>
</cp:coreProperties>
</file>