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2825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1440" y="-3240"/>
            <a:ext cx="289224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777840" y="-3240"/>
            <a:ext cx="289260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-1440" y="9327960"/>
            <a:ext cx="289224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3777840" y="9327960"/>
            <a:ext cx="28926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38450181-132B-4FAF-85A1-93C87E62F38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890280" y="4665600"/>
            <a:ext cx="4887720" cy="4416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Img"/>
          </p:nvPr>
        </p:nvSpPr>
        <p:spPr>
          <a:xfrm>
            <a:off x="685800" y="742680"/>
            <a:ext cx="5299200" cy="367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685800" y="743040"/>
            <a:ext cx="5299200" cy="36702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890280" y="4665600"/>
            <a:ext cx="4887720" cy="4416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7520" bIns="4752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и обработку статистических данных в России осуществляют орг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ы Федеральной службы государственной статисти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яд министерств и ведомств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месте с тем на Федеральную службу государственной статисти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зложены функции межотраслевой координации и функционального регулирования в сфере государственной статистики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ая служба государственной статистики – главное статистические ведомство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85800" y="743040"/>
            <a:ext cx="5299200" cy="3670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890280" y="4665600"/>
            <a:ext cx="4887720" cy="4416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7520" bIns="4752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ональные возможности ИВС были сгруппированы в 5 системных проек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тивно-справочное и организационное обеспечение статистических рабо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бор, обработка и информационный обмен статистической отчет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и распространение статистической информации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хранилища данных разного уровн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ранение и публикация готовых докум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числительная и сетевая инфраструктура ИВ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их системных проектов состоит из ряда прикладных подсистем, реализующих конкретную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685800" y="743040"/>
            <a:ext cx="5299200" cy="3670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0280" y="4665600"/>
            <a:ext cx="4887720" cy="4416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ронологическая последовательность развития корпоративной информационно-вычислительной системы Федеральной службы государственной статистики следующ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декабре 2000 года утверждена Концепция развития ИВС, на основе которой в 2002 году было разработано техническое задание, включающее общую часть и 17 частных технических заданий на прикладные под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нитель Проекта выбирался на конкурсной основе и в декабре 2002 года были начаты работы по реализации проекта 1-ой очереди. Окончание реализации проекта – июнь 2004 г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итогам реализации проекта будет осуществлена корректировка Концепции, разработана программа внедрения  прикладных подсистем во всех территориальных организациях ФСГС, в 2004-2005 годах предполагается техническое дооснащение ИВС, а начиная с 2005 года – развитие качества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85800" y="743040"/>
            <a:ext cx="5299200" cy="36702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890280" y="4665600"/>
            <a:ext cx="4887720" cy="4416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уемый в  настоящее время  проект развития ИВС (1-ая очередь) Федеральной службы государственной статистики включает разработку прикладным подсистем,  техническое и программное оснащение пилотных объектов ИВС  ФСГС в соответствии с выбранными технологиями, а также пилотное внедрение разработанных прикладных подсистем в ряде организаций ФСГ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685800" y="743040"/>
            <a:ext cx="5299200" cy="3670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90280" y="4665600"/>
            <a:ext cx="4887720" cy="4416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-ая очередь Проекта развития ИВС включает 3 этапа, два из которых – выполн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-ий этап – этап опытной эксплуатации и пилотного внедр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85800" y="743040"/>
            <a:ext cx="5299200" cy="36702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90280" y="4456080"/>
            <a:ext cx="4887720" cy="4626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7520" bIns="4752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настоящему времени, а именно в конце мае этого года, начинается опытная эксплуатации и пилотное внедрение разработанных подсист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став пилотов войдут подсистемы из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х основных функциональных груп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акже обеспечивающие подсистемы. Это функции сбора и обработки статистической отчетности, функции хранения и анализа данных, функции обеспечения нормативно-справочной информацией, функции, завершающие производственный процесс  и обеспечивающие функции (транспорт данных, электронная почта и документооборот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я пилотного внедрения касаются объема обрабатываемых данных и некоторого служебного функционала подсист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лотные подсистемы ИВС подразделяются на новые и  модернизируемые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подсистемы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системы, которых не существовало в прежней структуре ИВС (хранилища данных, РБСД, система для разработки ПО, универсальная транспортная подсистема, документооборот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рнизируемые подсистемы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системы, функции которых уже выполняются какой-либо частью существующей ИВС (ССО, ЦБСД, ОБСД, ОСР, АБК, КСП, БГД, Веб-система, электронная поч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лотным внедрением обеспечивается охват всего федерального, части территориального и районного уровн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илотных объектах ведется обучение пользователей работе с новыми технологиями и модернизированными реше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685800" y="743040"/>
            <a:ext cx="5299200" cy="36702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90280" y="4665600"/>
            <a:ext cx="4887720" cy="4416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 предусматривает реализацию комплексного пилотного проекта, который охватывает федеральный уровень, а именно: ЦА ФСГС, ГМЦ и НИПИ, и включает полную технологическую цепочку. В рамках комплексного пилотного проекта осуществляется отработка технологии ЦОД. В качестве центра выступает Петербургкомстат, который производит централизованну обработку данных, обеспечивает интеграцию и доступность обработанных данных,  а объектами являются Архангельский, Вологодский, Калининградский и Псковский облкомстаты.  На карте обозначены синим цвет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ом предусмотрены также ряд частных пилотных проектов, целью которых является отработка отдельных компонент ИВС и ее элементов. В качестве объектов выступают Комстат Республики Коми, Красноярский облкомстат, Мосгоркомстат, Мособлкомстат, Нижегородский, Новосибирский, Ростовский, Свердловский, Тюменский и Хабаровский облкомстаты (на карте отмечены оранжевым цвето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685800" y="743040"/>
            <a:ext cx="5299200" cy="3670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90280" y="4665600"/>
            <a:ext cx="4887720" cy="4416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7520" bIns="4752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ая служба государственной статисти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ляет собой территориально-распределенную систему, включающую федеральный, региональный и районные уровн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Федеральный уровень включает ФСГС и подведомственные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685800" y="743040"/>
            <a:ext cx="5299200" cy="3670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90280" y="4665600"/>
            <a:ext cx="4887720" cy="4416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риториальный уровень объединяет территориальные организации ФСГС, которые находятся в каждом субъекте РФ (89). В свою очередь ТО имеют районные отделения, число которых разное в различных регион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685800" y="743040"/>
            <a:ext cx="5299200" cy="3670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05040" y="4456080"/>
            <a:ext cx="5124240" cy="521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7520" bIns="47520" anchor="t">
            <a:noAutofit/>
          </a:bodyPr>
          <a:p>
            <a:pPr indent="0" algn="just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организаци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СГ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правлена на выполнение статистических, аналитических, контрольных, методологических и технических работ и реализуется на базе информационно-вычислительной системы (ИВС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ура корпоративной информационной системы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СГ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ажает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онную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уктуру  и нацелена на достижение целей и решение задач, стоящих перед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СГ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очки зрения организационной структуры, в состав ИВС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ходя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поненты, реализующие ту или иную функциональность соответственно на федеральном, региональном или местном уровнях с учетом возможного наличия промежуточных уровней – межтерриториальных вычислительных центров и межрайонных отдел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рпоративную сеть федерального уровня ИВС входя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С Центрального аппарат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СГ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 базе которой ведутся, в частности, информационные фонды статистических показателей и готовых докум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С ГМЦ, осуществляющего обработку статистической информации и ведение статистических регист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С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руги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омственных организаций, включая НИПИ, который обеспечивает проектирование, разработку и сопровождение программно-технологических реш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егиональном уровне в состав ИВС входят ИВС территориальных орган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СГ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обеспечивают сбор, предварительную обработку статистической информации в регионах, предоставление информации для региональных администраций и других потребителей, ведение части регистров и классификаторов по соответствующему регион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районного звена осуществляют первичный сбор, частичный контроль и агрегирование данных, передачу их на региональный уровен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685800" y="743040"/>
            <a:ext cx="5299200" cy="36702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90280" y="4665600"/>
            <a:ext cx="4887720" cy="4416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7520" bIns="4752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атривая ИВС с точки зрения технологических процессов, следует отметить, что 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ым технологическим процессам ИВС относя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енная деятельность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ой службы государственной статисти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пределяемая Федеральной программой статистических работ и Производственным планом статистических работ, а именно: сбор, обработка, анализ и доставка официальной статистической информации органам государственной власти и управ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ставление официальной статистической информации в международные организации, местные администр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полнение исследований по заказам органов государственной власти и управ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организациями, входящими в структуру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СГ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латных информационных и других услуг заказчик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нутренней деятельностью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СГ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685800" y="743040"/>
            <a:ext cx="5299200" cy="36702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90280" y="4665600"/>
            <a:ext cx="4887720" cy="4416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7520" bIns="4752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150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системы государственной статистики в современных условиях невозможно без наличия высокотехнологичной ИВС. Развитие корпоративной ИВС Федеральной службы государственной статистики производится на основе применения ресурсосберегающих информационных технологий, технических и программно-технологических средств и средств телекоммуникаций, обеспечивающих формирование статистических ресурсов и оперативный доступ к ни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150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основным целям совершенствования ИВС относя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1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ение качества статистической информации на основе интеграции статистических информационных ресурсов в масштабе страны с целью  максимального использования статистики при решении задач управления и прогнозирова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1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кращение сроков обработки и анализа статистических данных и сроков выполнения статистических исследований, выполняемых по заказам органов государственного управления, на основе внедрения электронных способов сбора статистических данных, применения современных программно-технических и телекоммуникационных сред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1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бюджетных расходов на содержание государственной статистики, в том числе за счет сокращения персонала, занятого малопроизводительным тру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1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ение доходов организаций ФСГС, оказывающих платные услуги, за счет расширения объемов услуг.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685800" y="743040"/>
            <a:ext cx="5299200" cy="3670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890280" y="4665600"/>
            <a:ext cx="4887720" cy="4416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7520" bIns="4752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ижение поставленных целей требует решения ряда задач, среди которых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интегрированного статистического ресурса на федеральном, региональном и районом уровнях посредством баз и хранилищ данных с использованием Интернет-технолог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ие повышения уровня автоматизации всех технологических процессов в органах государственной статистики и модернизация  применяемых программно-технологических средст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ое значение имеет внедрение электронных способов сбора данных от объектов статистического наблюд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задачам, которые требуют решения, относятся такж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электронного документооборо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ение эффективности работы пользователей на основе расширения применения Интернет-, геоинформационых и др. совреме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енствование методов и средств обеспечения конфиденциальности статистических данных и защиты от несанкционированного доступа защиты статистических данных информа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ие оптимальной стоимости технологических процессов на основе применения современных информационных технологий, снижение эксплуатационных затрат на систему в це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120" indent="0" algn="just"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120" indent="0" algn="just"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120" indent="0" algn="just"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85800" y="743040"/>
            <a:ext cx="5299200" cy="3670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90280" y="4665600"/>
            <a:ext cx="4887720" cy="4416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вленные цели и задачи определяют, что 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начение корпоративной информационно-вычислительной системы государственной статистики заключается в поддержке деятельности орган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СГ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федеральном, региональном и районном уровнях и обеспечении выполнения технологических процессо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формировании интегрированных информационных ресурсов и обеспечение оперативного доступа к ни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685800" y="743040"/>
            <a:ext cx="5299200" cy="3670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890280" y="4665600"/>
            <a:ext cx="4887720" cy="4416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7520" bIns="47520" anchor="t">
            <a:noAutofit/>
          </a:bodyPr>
          <a:p>
            <a:pPr indent="0" algn="just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очки зрения функциональной структуры, в состав ИВС  включены следующие основные компонент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я и подготовки статистических работ, поддерживающ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цессы постановки задач обследования и мониторинг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и и внедрения необходимого программного обеспечения, формирования метаданн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а информации, обеспечивающ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и первичного ввода, контроля, корректировки данных и их доставки в вышестоящие центр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тки и хранения информации, включ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и консолидации, преобразования, расчета показателей, загрузки в регистр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 и представления информации, позволяющ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ьзователям формировать запросы, создавать разнообразные отчеты, производить изучение получаемых результатов и осуществлять их отображение в различных формат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ия информации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 числ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убликацию и доставку результатов обработки и анализа до конечных потребите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го управления, включая подсистемы планирования и контроля за выполнением Федеральной программы статистических работ, управление проектами, управление документооборот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я работы остальных подсистем и деятельности Госкомстата России в целом, включ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еспечение информационной безопасности и защиты данных, универсальную транспортную подсистему для обмена информацией, электронную почту, управление сетевой, коммуникационной и вычислительной инфраструкту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правление закупками и услугами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44960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81120" y="3779640"/>
            <a:ext cx="44960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485120" y="116316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181120" y="377964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85120" y="377964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144756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701400" y="1163160"/>
            <a:ext cx="144756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21680" y="1163160"/>
            <a:ext cx="144756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81120" y="3779640"/>
            <a:ext cx="144756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6701400" y="3779640"/>
            <a:ext cx="144756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221680" y="3779640"/>
            <a:ext cx="144756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181120" y="1163160"/>
            <a:ext cx="44960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449604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219384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7485120" y="1163160"/>
            <a:ext cx="219384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0720" y="476280"/>
            <a:ext cx="92440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85120" y="1163160"/>
            <a:ext cx="219384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1120" y="377964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219384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85120" y="116316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85120" y="377964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85120" y="116316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81120" y="3779640"/>
            <a:ext cx="44960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81120" y="1163160"/>
            <a:ext cx="449604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3508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90560" indent="-228600"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37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486080" indent="-228600">
              <a:spcBef>
                <a:spcPts val="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486080" indent="-228600">
              <a:spcBef>
                <a:spcPts val="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486080" indent="-228600">
              <a:spcBef>
                <a:spcPts val="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753240" y="3251160"/>
            <a:ext cx="2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68280" y="6553080"/>
            <a:ext cx="953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7920" y="6629400"/>
            <a:ext cx="18558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ай 2004 год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3840" y="6553080"/>
            <a:ext cx="46004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едеральная служба государственной статис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6320" y="50760"/>
            <a:ext cx="27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84320" y="398520"/>
            <a:ext cx="953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105520" y="109440"/>
            <a:ext cx="4706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едеральная служба государственной статис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4320" y="6392880"/>
            <a:ext cx="953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4320" y="398520"/>
            <a:ext cx="953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09480"/>
            <a:ext cx="1013472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ая служба государственной статист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ершенствование архитектуры корпоративн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ционно-вычислительной системы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едеральной службы государственной статис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й 2004 г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1371600"/>
            <a:ext cx="539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j0294350" descr=""/>
          <p:cNvPicPr/>
          <p:nvPr/>
        </p:nvPicPr>
        <p:blipFill>
          <a:blip r:embed="rId1"/>
          <a:stretch/>
        </p:blipFill>
        <p:spPr>
          <a:xfrm>
            <a:off x="228600" y="4572000"/>
            <a:ext cx="1814400" cy="16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-221400"/>
            <a:ext cx="9244080" cy="3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457200"/>
            <a:ext cx="9067680" cy="51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ормативно-справочное и организационное обеспечение статистических раб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 стандартных экономико-статистических классифик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талог статистических показател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диненная система регистр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ая поддержка планирования, контроля выполнения федеральной программы статистических работ и производственного пла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бор, обработка и информационный обмен статистической отчет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бор и обработка статистической отчет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j0294350" descr=""/>
          <p:cNvPicPr/>
          <p:nvPr/>
        </p:nvPicPr>
        <p:blipFill>
          <a:blip r:embed="rId1"/>
          <a:stretch/>
        </p:blipFill>
        <p:spPr>
          <a:xfrm>
            <a:off x="6858000" y="4724280"/>
            <a:ext cx="1814400" cy="16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0720" y="-145080"/>
            <a:ext cx="8769600" cy="3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457200"/>
            <a:ext cx="906768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нализ и распространение статистической информации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LAP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и хранилища данных разного уров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нтральная база статистических да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аслевая база статистических да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гиональная база статистических да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AP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хранилище данных федерального уров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AP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хранилище данных типового регионального уров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поративн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систем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ранение и публикация готовых докум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ка публик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нк готовых доку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j0294350" descr=""/>
          <p:cNvPicPr/>
          <p:nvPr/>
        </p:nvPicPr>
        <p:blipFill>
          <a:blip r:embed="rId1"/>
          <a:stretch/>
        </p:blipFill>
        <p:spPr>
          <a:xfrm>
            <a:off x="6858000" y="4724280"/>
            <a:ext cx="1814400" cy="16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0360" y="244800"/>
            <a:ext cx="8921880" cy="3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457200"/>
            <a:ext cx="9448920" cy="28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числительная и сетевая инфраструктура ИВ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ка и поддержка программного обеспечения ИВ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почта и электронный документооборо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ая транспортная подсис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j0294350" descr=""/>
          <p:cNvPicPr/>
          <p:nvPr/>
        </p:nvPicPr>
        <p:blipFill>
          <a:blip r:embed="rId1"/>
          <a:stretch/>
        </p:blipFill>
        <p:spPr>
          <a:xfrm>
            <a:off x="6934320" y="4191120"/>
            <a:ext cx="1814400" cy="166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931392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ИВС Федеральной службы государственной статисти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тверждена Концепция развития ИВС  - декабрь 2000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ано Техническое задание на развитие ИВС - 2002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ало работ по Проекту развития ИВС    (1-ая очередь) - декабрь 2002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реализация Проекта 1-ой очереди, пилотное внедрение - 2003- первое полугодие 200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ическое дооснащение ИВС - 2004-2005 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качества 2005-2007 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j0294350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814760" cy="16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0720" y="685440"/>
            <a:ext cx="924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  развития ИВС  (1-ая очередь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деральной службы государственной статистик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ка прикладных подсист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ическое оснащение пилотных объектов  ИВС Федеральной службы государственной статистики в соответствии с выбранными технологи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лотное внедрение прикладных под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j0294350" descr=""/>
          <p:cNvPicPr/>
          <p:nvPr/>
        </p:nvPicPr>
        <p:blipFill>
          <a:blip r:embed="rId1"/>
          <a:stretch/>
        </p:blipFill>
        <p:spPr>
          <a:xfrm>
            <a:off x="380880" y="4648320"/>
            <a:ext cx="1814760" cy="166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j0294350" descr=""/>
          <p:cNvPicPr/>
          <p:nvPr/>
        </p:nvPicPr>
        <p:blipFill>
          <a:blip r:embed="rId1"/>
          <a:stretch/>
        </p:blipFill>
        <p:spPr>
          <a:xfrm>
            <a:off x="7772400" y="4952880"/>
            <a:ext cx="1814400" cy="1660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931392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выполнено к настоящему времени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9750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ана информационная модель ИВ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рана программно-аппаратная платформ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ализирована и уточнена функциональность подсистем ИВС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а степень интеграции применяемых и предлагаем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онент и  технологических ре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ана общая архитектура прикладных компонент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ывающая их взаимодейств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ано программное обеспечение подсистем ИВ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а рабочая документа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 объем реализации функциональности пилотных про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федерального и региональных уровн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ы конкретные задачи для пилотных прое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обретено программное и техническое обеспечение для пилот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ед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0720" y="475920"/>
            <a:ext cx="924408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лотн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9296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аничения  касаются объема обрабатываемых данных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которого функционала прикладных под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вые и модернизируемые прикладные под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хватывает федеральный уровень в полном объеме и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рриториального и районного уров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ключает обучение пользователей на объектах внед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j0294350" descr=""/>
          <p:cNvPicPr/>
          <p:nvPr/>
        </p:nvPicPr>
        <p:blipFill>
          <a:blip r:embed="rId1"/>
          <a:stretch/>
        </p:blipFill>
        <p:spPr>
          <a:xfrm>
            <a:off x="380880" y="4876920"/>
            <a:ext cx="1814760" cy="166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асти внедрения пилотных проект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Пилоты" descr=""/>
          <p:cNvPicPr/>
          <p:nvPr/>
        </p:nvPicPr>
        <p:blipFill>
          <a:blip r:embed="rId1"/>
          <a:stretch/>
        </p:blipFill>
        <p:spPr>
          <a:xfrm>
            <a:off x="228600" y="393840"/>
            <a:ext cx="9220320" cy="65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0720" y="475920"/>
            <a:ext cx="924408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асибо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449604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а Федеральной службы государственной статисти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24382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ая служба государственной стат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рриториальные организ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йонные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ведомственные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j0294350" descr=""/>
          <p:cNvPicPr/>
          <p:nvPr/>
        </p:nvPicPr>
        <p:blipFill>
          <a:blip r:embed="rId1"/>
          <a:stretch/>
        </p:blipFill>
        <p:spPr>
          <a:xfrm>
            <a:off x="533520" y="4343400"/>
            <a:ext cx="1814400" cy="16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931392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рриториальные органы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ой службы государственной статисти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449604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Вся%20Россия" descr=""/>
          <p:cNvPicPr/>
          <p:nvPr/>
        </p:nvPicPr>
        <p:blipFill>
          <a:blip r:embed="rId1"/>
          <a:stretch/>
        </p:blipFill>
        <p:spPr>
          <a:xfrm>
            <a:off x="0" y="838080"/>
            <a:ext cx="9902880" cy="61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0720" y="22860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ая архитектура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Федеральной службы государственной статисти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257800" y="9140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9902880" y="914400"/>
            <a:ext cx="7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IVS_GKS_general_2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629400" cy="621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технологические процессы ИВ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VS_GKS_2" descr=""/>
          <p:cNvPicPr/>
          <p:nvPr/>
        </p:nvPicPr>
        <p:blipFill>
          <a:blip r:embed="rId1"/>
          <a:stretch/>
        </p:blipFill>
        <p:spPr>
          <a:xfrm>
            <a:off x="838080" y="506520"/>
            <a:ext cx="7796160" cy="63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j0294350" descr=""/>
          <p:cNvPicPr/>
          <p:nvPr/>
        </p:nvPicPr>
        <p:blipFill>
          <a:blip r:embed="rId1"/>
          <a:stretch/>
        </p:blipFill>
        <p:spPr>
          <a:xfrm>
            <a:off x="380880" y="4724280"/>
            <a:ext cx="1814760" cy="16606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931392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цели совершенствования информационно-вычислительной системы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деральной службы государственной статисти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610840" cy="382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25520" indent="-235080" algn="just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ышение качества статистической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кращение сроков обработки и анализа статистических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кращение сроков выполнения статистических исследований, выполняемых по заказам органов государственного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ижение бюджетных расходов на содержание государственной статистики, в том числе за счет сокращения персонала, занятого малопроизводительным тру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величение доходов за счет расширения объемов услуг, выполняемых за пла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j0294350" descr=""/>
          <p:cNvPicPr/>
          <p:nvPr/>
        </p:nvPicPr>
        <p:blipFill>
          <a:blip r:embed="rId1"/>
          <a:stretch/>
        </p:blipFill>
        <p:spPr>
          <a:xfrm>
            <a:off x="8088480" y="5197320"/>
            <a:ext cx="1814400" cy="16606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задачи совершенствования информационно-вычислительной систем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9220320" cy="437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421200" indent="-232560" algn="just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ние интегрированного статистического информационного ресурс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1200" indent="-232560" algn="just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ение повышения уровня автоматизации всех технологических процессов в органах государственной стат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1200" indent="-232560" algn="just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ернизация программно-технологических 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1200" indent="-232560" algn="just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едрение  электронных способов сбора данных от объектов статистического наблю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1200" indent="-232560" algn="just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электронного документообор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1200" indent="-232560" algn="just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ышение эффективности работы пользова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1200" indent="-232560" algn="just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ершенствование методов и средств обеспечение конфиденциальности и защиты информ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1200" indent="-232560" algn="just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ение оптимальной стоимости технологических проце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475920"/>
            <a:ext cx="938988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ение информационно-вычислительной систем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458200" cy="27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421200" indent="-232560" algn="just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держка деятельности Федеральной службы государственной статистики  на федеральном и региональном уровнях и обеспечение выполнения технологических проце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1200" indent="-232560" algn="just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ние интегрированных статистических информационных ресур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1200" indent="-232560" algn="just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ение оперативного доступа к статистическим информационным ресурс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j0294350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814760" cy="16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0720" y="475920"/>
            <a:ext cx="924408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нкциональная структура ИВ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324480" y="609480"/>
            <a:ext cx="3578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истемные про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рмативно-справочное и организационное обеспечение статистически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бор, обработка и информационный обмен статистической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и распространение статистической информации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AP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хранилища данных разно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ранение и публикация готовых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числительная и сетевая инфраструктура И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VS_GKS_proceses" descr=""/>
          <p:cNvPicPr/>
          <p:nvPr/>
        </p:nvPicPr>
        <p:blipFill>
          <a:blip r:embed="rId1"/>
          <a:stretch/>
        </p:blipFill>
        <p:spPr>
          <a:xfrm>
            <a:off x="0" y="914400"/>
            <a:ext cx="6416640" cy="5448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11:12:27Z</dcterms:created>
  <dc:creator>Andrey Slyusarenko</dc:creator>
  <dc:description/>
  <dc:language>en-US</dc:language>
  <cp:lastModifiedBy>User</cp:lastModifiedBy>
  <cp:lastPrinted>2000-11-29T10:51:11Z</cp:lastPrinted>
  <dcterms:modified xsi:type="dcterms:W3CDTF">2004-05-12T09:40:43Z</dcterms:modified>
  <cp:revision>142</cp:revision>
  <dc:subject/>
  <dc:title>No Slide Title</dc:title>
</cp:coreProperties>
</file>