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F100-4931-49DC-8407-8509BAD736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0375-2C51-4389-A8B9-F4C81D82C8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023840" y="107640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22320" y="4744800"/>
            <a:ext cx="49672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81C7-9DA2-4A70-B5CD-6853395EC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8AAB-1474-4A94-972F-2D3D4076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F627-7316-421E-9456-ED6B1973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741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3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349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741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3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E8F0-288D-411D-8952-F9BC24D6EA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D78D-F87C-44D3-ABCD-BB805FFF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41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33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349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41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33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AA4D-C5E2-494E-AAE7-C1D6B746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1C2E-853D-4745-9164-7BA9F830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859B-50C2-454F-8183-0575DCA3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186B-0561-47C7-8A4D-35B7FAFA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428C-2FDD-408D-AF03-4FE1D0F1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5ED5-2308-444F-AB65-54CCE326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2B76-1DBD-474C-BB02-F5701829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50240" y="6207120"/>
            <a:ext cx="1823760" cy="33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EFC2-889C-4911-86E2-E4AA043DE36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369040" cy="99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3-hq.oecd.org/scripts/stats/itp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03280" y="566064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s Thyge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Review of the Web Site on IT Practices </a:t>
            </a:r>
            <a:endParaRPr b="1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03A9-4542-440D-A535-7D50C0ED2270}" type="slidenum">
              <a:t>2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31640" y="1752120"/>
            <a:ext cx="712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site is up and ru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unctionality is reasonable but could be improved, and should if we carry on with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blem no. 1: Very little activity: Limited contents, little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9C7C-FD3A-425C-9105-9EFA8ABB743A}" type="slidenum">
              <a:t>3</a:t>
            </a:fld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Questions for discu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al mass and momentum? Merg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other sites, e.g. AMRAD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, where could the site be hosted?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ECD, JCR/AMRADS, EU/CIR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could resources for transfer an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 come fro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 structure : Them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s? Overall managem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 solution: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lose the site 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6ECD-42F8-471A-9873-DF6FDAEC8C6E}" type="slidenum">
              <a:t>4</a:t>
            </a:fld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81160" y="-304920"/>
            <a:ext cx="977760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589720"/>
            <a:ext cx="968544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8000" spc="-1" strike="noStrike">
                <a:solidFill>
                  <a:srgbClr val="00ff00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9:48:40Z</dcterms:created>
  <dc:creator>Peter Lübkert</dc:creator>
  <dc:description/>
  <dc:language>en-US</dc:language>
  <cp:lastModifiedBy>Thygesen_L</cp:lastModifiedBy>
  <cp:lastPrinted>2001-10-12T08:11:06Z</cp:lastPrinted>
  <dcterms:modified xsi:type="dcterms:W3CDTF">2004-05-11T10:01:47Z</dcterms:modified>
  <cp:revision>188</cp:revision>
  <dc:subject/>
  <dc:title>2000 SDS Objectiv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82461552</vt:r8>
  </property>
  <property fmtid="{D5CDD505-2E9C-101B-9397-08002B2CF9AE}" pid="3" name="_AuthorEmail">
    <vt:lpwstr>Lars.THYGESEN@oecd.org</vt:lpwstr>
  </property>
  <property fmtid="{D5CDD505-2E9C-101B-9397-08002B2CF9AE}" pid="4" name="_AuthorEmailDisplayName">
    <vt:lpwstr>THYGESEN Lars, STD/SIMS</vt:lpwstr>
  </property>
  <property fmtid="{D5CDD505-2E9C-101B-9397-08002B2CF9AE}" pid="5" name="_EmailSubject">
    <vt:lpwstr>Information for Participants to MSIS 2004</vt:lpwstr>
  </property>
</Properties>
</file>