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6064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299A-A2A8-4C0E-970F-ACE7F35293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F1AD-B82D-4EA2-BB9E-9BAF8031D2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6064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023840" y="1076400"/>
            <a:ext cx="4764240" cy="3573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22320" y="4744800"/>
            <a:ext cx="49672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FCAC2-A922-48D5-B0B4-07A1B33750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6622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834920" y="4100760"/>
            <a:ext cx="6622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9BA91-CBF3-4541-8608-3BBCF727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3492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2864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026F0-9837-4D63-AE2E-A00C3F5C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74120" y="175212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3320" y="175212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834920" y="410076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74120" y="410076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3320" y="410076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34FB1-EF39-4559-ACF7-5ADF29BA19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34920" y="1752120"/>
            <a:ext cx="6622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6622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3492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834920" y="1752120"/>
            <a:ext cx="6622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0542C-8FD4-42FA-AADE-0D82E41E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2864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34920" y="4100760"/>
            <a:ext cx="6622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6622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34920" y="4100760"/>
            <a:ext cx="6622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3492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2864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4120" y="175212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13320" y="175212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34920" y="410076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4120" y="410076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13320" y="410076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6622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6D35C-2071-4142-BAAD-0850BAB8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03E94-B007-4314-91BC-5790950E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6D3AC-61F7-4F15-98DA-E7ED21B4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9FC44-EFAB-4DAC-A71D-D3B507E2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83492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6FE43-FC79-4A27-921E-DCFDE184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2864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36006-D717-4BF0-BF0B-92196EBE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834920" y="4100760"/>
            <a:ext cx="6622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C9130-9342-4977-8E05-B1BA35D6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050240" y="6207120"/>
            <a:ext cx="1823760" cy="336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834920" y="1752120"/>
            <a:ext cx="6622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85800" y="609480"/>
            <a:ext cx="646200" cy="1306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147600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17B8-BF62-4985-A507-24818211841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828800" y="1371600"/>
            <a:ext cx="5369040" cy="995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s3-hq.oecd.org/scripts/stats/itp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03280" y="5660640"/>
            <a:ext cx="64008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rs Thyge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Arial"/>
              </a:rPr>
              <a:t>Review of the Web Site on IT Practices </a:t>
            </a:r>
            <a:endParaRPr b="1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E07FA-5C4E-4FF9-8BB1-A6D93E61FC7D}" type="slidenum">
              <a:t>2</a:t>
            </a:fld>
          </a:p>
        </p:txBody>
      </p:sp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Summary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31640" y="1752120"/>
            <a:ext cx="7126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site is up and ru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unctionality is reasonable but could be improved, and should if we carry on with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blem no. 1: Very little activity: Limited contents, little u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41741-CE7F-44D8-AFC0-38E0F046FC95}" type="slidenum">
              <a:t>3</a:t>
            </a:fld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Questions for discussion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137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itical mass and momentum? Merg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other sites, e.g. AMRAD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, where could the site be hosted?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ECD, JCR/AMRADS, EU/CIRC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could resources for transfer an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ment come from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ment structure : Them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rs? Overall manageme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no solution: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lose the site d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8717E-0876-47C0-BE34-EB303374901D}" type="slidenum">
              <a:t>4</a:t>
            </a:fld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281160" y="-304920"/>
            <a:ext cx="977760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5589720"/>
            <a:ext cx="968544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a-DK" sz="8000" spc="-1" strike="noStrike">
                <a:solidFill>
                  <a:srgbClr val="00ff00"/>
                </a:solidFill>
                <a:latin typeface="Arial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9:48:40Z</dcterms:created>
  <dc:creator>Peter Lübkert</dc:creator>
  <dc:description/>
  <dc:language>en-US</dc:language>
  <cp:lastModifiedBy>Thygesen_L</cp:lastModifiedBy>
  <cp:lastPrinted>2001-10-12T08:11:06Z</cp:lastPrinted>
  <dcterms:modified xsi:type="dcterms:W3CDTF">2004-05-11T10:01:47Z</dcterms:modified>
  <cp:revision>188</cp:revision>
  <dc:subject/>
  <dc:title>2000 SDS Objectiv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82461552</vt:r8>
  </property>
  <property fmtid="{D5CDD505-2E9C-101B-9397-08002B2CF9AE}" pid="3" name="_AuthorEmail">
    <vt:lpwstr>Lars.THYGESEN@oecd.org</vt:lpwstr>
  </property>
  <property fmtid="{D5CDD505-2E9C-101B-9397-08002B2CF9AE}" pid="4" name="_AuthorEmailDisplayName">
    <vt:lpwstr>THYGESEN Lars, STD/SIMS</vt:lpwstr>
  </property>
  <property fmtid="{D5CDD505-2E9C-101B-9397-08002B2CF9AE}" pid="5" name="_EmailSubject">
    <vt:lpwstr>Information for Participants to MSIS 2004</vt:lpwstr>
  </property>
</Properties>
</file>