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E66-C570-4EFA-AB6E-94A21EED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77B-23DE-4A5E-83A0-C2E7A7F6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1E9-FCBF-4E86-AB6A-2997391B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18A-D31A-4FEA-991B-15320A98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9369-BC87-43FA-81D8-3A708CDF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88BA-C1CF-4819-8F5B-8DECB482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0EB8-24AC-4186-95B7-2CEF2542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31BB-D352-4439-86DA-E501C84A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848C-8A3B-4315-9019-E2152AFC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D826-7BD7-4AE5-A68C-1D492BB8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1110-BEC6-494B-B339-46650B0B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7B5-1613-4440-92B4-9E512F2F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2B39-80E6-4210-BBD6-CE644E00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D89F-A858-4CDB-A65C-959F6E6A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32D0-6135-4ECE-BDB5-B2CEAFDA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CCA0-2E35-4C15-ACF5-E057CA4B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ECBF-C419-44E0-94D7-91FF5645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0FF118-44DD-4793-A680-C395248EE1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141D0-8CD9-48C0-8AA6-28446BB23C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A765E9-3ED2-4F7F-837C-2D8B03B5FF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6B4EAF-CD2E-4491-980F-32985D7D04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3D500-CFC0-4193-AA32-D37BBE0B9E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EB3-BEB8-4C4F-BA27-5EAD758C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90FE6A-65E7-46E2-822D-33A04DCEA1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6E62CA-8888-40AF-91B2-B4CADD27D5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42883F-80EB-461A-BDFE-BBAF0EDBA8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7C7F98-73F5-453D-9728-7DAF0068E4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640FF0-A813-48B1-B992-5C4704E056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5BB7C3-200C-4670-8784-903A89744F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28F0E4-A825-45E2-AF5E-13E6DAB331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91FBB5-EE7C-4518-AAA1-371C0F11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6F793-FA47-427D-BFCD-E8C7CA73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6F2143-4030-4987-BD24-93983500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97E-23E9-4DB8-BCAB-5F58AD84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19A959-D158-4D3F-99C0-8AA8F4DF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78364-CCA7-4F4F-924D-F817AD82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9DBB0B-9549-4C6A-9ECF-640D6839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04E37E-B149-48ED-BAA7-46650889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AA2AE7-E78C-4882-8AD6-71210425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D484BB-1243-4BCB-AABF-F2C8ADEA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82B6BD-CACD-4B1B-AFD0-1BD2F150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D53CD-5DC6-4CCA-ACD0-78BD2D08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473E5D-A830-4630-BD37-9694CF25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512-07CD-40A7-96DB-A27EA3F9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C81-E2A2-40FF-8900-469E8852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66C-DAB2-4994-8657-05FAAB81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FE1-7E04-4397-AA67-06633188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AFB-CE62-48AC-B6E8-D6140291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1F81-C279-4D2A-9C9D-D44705DB69C0}" type="slidenum">
              <a:rPr b="0" lang="hr-H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9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" name=""/>
          <p:cNvGraphicFramePr/>
          <p:nvPr/>
        </p:nvGraphicFramePr>
        <p:xfrm>
          <a:off x="1116000" y="6308640"/>
          <a:ext cx="1511280" cy="40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6308640"/>
                    <a:ext cx="1511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2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3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AA46-4D37-4CC0-89AF-2108B4674836}" type="slidenum">
              <a:rPr b="0" lang="hr-H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26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2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633E-728C-4F41-BD08-AC64B05F8459}" type="slidenum">
              <a:rPr b="0" lang="hr-H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78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79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8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63E0-5FE3-4C8C-8DD4-B5E1037F3A79}" type="slidenum">
              <a:rPr b="0" lang="hr-H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42920" y="6237360"/>
          <a:ext cx="1679760" cy="44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6237360"/>
                    <a:ext cx="16797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aeaea"/>
                </a:solidFill>
                <a:latin typeface="Arial Unicode MS"/>
              </a:rPr>
              <a:t>REPUBLIC OF CROATIA</a:t>
            </a:r>
            <a:br>
              <a:rPr sz="2400"/>
            </a:b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Central Bureau of Statistics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63640" y="3068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NTEGRATED META DATABASE AS A BASIS FOR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6237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Zdenko Milonj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623736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Geneva, 17 – 19 May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GUILDENSTERN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Script MT Bold"/>
              </a:rPr>
              <a:t>Nor do we find him forward to be sounded,</a:t>
            </a:r>
            <a:br>
              <a:rPr sz="2800"/>
            </a:br>
            <a:r>
              <a:rPr b="1" lang="hr-HR" sz="2800" spc="-1" strike="noStrike">
                <a:solidFill>
                  <a:srgbClr val="ffffff"/>
                </a:solidFill>
                <a:latin typeface="Script MT Bold"/>
              </a:rPr>
              <a:t>But, with a </a:t>
            </a:r>
            <a:r>
              <a:rPr b="1" lang="hr-HR" sz="2800" spc="-1" strike="noStrike">
                <a:solidFill>
                  <a:srgbClr val="66ccff"/>
                </a:solidFill>
                <a:latin typeface="Script MT Bold"/>
              </a:rPr>
              <a:t>crafty madness</a:t>
            </a:r>
            <a:r>
              <a:rPr b="1" lang="hr-HR" sz="2800" spc="-1" strike="noStrike">
                <a:solidFill>
                  <a:srgbClr val="ffffff"/>
                </a:solidFill>
                <a:latin typeface="Script MT Bold"/>
              </a:rPr>
              <a:t>, keeps aloof,</a:t>
            </a:r>
            <a:br>
              <a:rPr sz="2800"/>
            </a:br>
            <a:r>
              <a:rPr b="1" lang="hr-HR" sz="2800" spc="-1" strike="noStrike">
                <a:solidFill>
                  <a:srgbClr val="ffffff"/>
                </a:solidFill>
                <a:latin typeface="Script MT Bold"/>
              </a:rPr>
              <a:t>When we would bring him on to some confession</a:t>
            </a:r>
            <a:br>
              <a:rPr sz="2800"/>
            </a:br>
            <a:r>
              <a:rPr b="1" lang="hr-HR" sz="2800" spc="-1" strike="noStrike">
                <a:solidFill>
                  <a:srgbClr val="ffffff"/>
                </a:solidFill>
                <a:latin typeface="Script MT Bold"/>
              </a:rPr>
              <a:t>Of his true state.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W. Shakespear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(1564 – 1616)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The Tragedy of Hamlet, Prince of Denmark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Act 3, Scene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87280" y="1989000"/>
            <a:ext cx="70866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ccff"/>
                </a:solidFill>
                <a:latin typeface="Tahoma"/>
              </a:rPr>
              <a:t>Thank you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hr-HR" sz="1600" spc="-1" strike="noStrike">
                <a:solidFill>
                  <a:srgbClr val="66ccff"/>
                </a:solidFill>
                <a:latin typeface="Tahoma"/>
              </a:rPr>
              <a:t>zmilonja@dzs.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ccff"/>
                </a:solidFill>
                <a:latin typeface="Tahoma"/>
              </a:rPr>
              <a:t>Project goals</a:t>
            </a: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285640"/>
            <a:ext cx="8064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Higher productivity in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tability in the database stru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ning fea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Metadata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cted once and used everyw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tegrated 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91920"/>
            <a:ext cx="75438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ccff"/>
                </a:solidFill>
                <a:latin typeface="Tahoma"/>
              </a:rPr>
              <a:t>Higher productivity in development </a:t>
            </a:r>
            <a:r>
              <a:rPr b="1" lang="hr-HR" sz="4000" spc="-1" strike="noStrike">
                <a:solidFill>
                  <a:srgbClr val="66ccff"/>
                </a:solidFill>
                <a:latin typeface="Tahoma"/>
              </a:rPr>
              <a:t>	</a:t>
            </a:r>
            <a:r>
              <a:rPr b="1" lang="hr-HR" sz="4000" spc="-1" strike="noStrike">
                <a:solidFill>
                  <a:srgbClr val="66ccff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7543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There are many ways to increase the productivity but there is a very important question for the IT develop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f we have 200 surveys how many programs for proccesing we need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19320" indent="-304920">
              <a:lnSpc>
                <a:spcPct val="16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two hundre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219320" indent="-304920">
              <a:lnSpc>
                <a:spcPct val="16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on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219320" indent="-304920">
              <a:lnSpc>
                <a:spcPct val="16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any number between those tw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7524720" y="2997360"/>
            <a:ext cx="216000" cy="1584000"/>
            <a:chOff x="7524720" y="2997360"/>
            <a:chExt cx="216000" cy="1584000"/>
          </a:xfrm>
        </p:grpSpPr>
        <p:grpSp>
          <p:nvGrpSpPr>
            <p:cNvPr id="243" name=""/>
            <p:cNvGrpSpPr/>
            <p:nvPr/>
          </p:nvGrpSpPr>
          <p:grpSpPr>
            <a:xfrm>
              <a:off x="7524720" y="2997360"/>
              <a:ext cx="216000" cy="1584000"/>
              <a:chOff x="7524720" y="2997360"/>
              <a:chExt cx="216000" cy="158400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7638480" y="2997360"/>
                <a:ext cx="720" cy="158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92760" y="4066560"/>
                <a:ext cx="91440" cy="1004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24720" y="3161160"/>
                <a:ext cx="216000" cy="339120"/>
              </a:xfrm>
              <a:custGeom>
                <a:avLst/>
                <a:gdLst/>
                <a:ahLst/>
                <a:rect l="l" t="t" r="r" b="b"/>
                <a:pathLst>
                  <a:path w="203" h="290">
                    <a:moveTo>
                      <a:pt x="203" y="0"/>
                    </a:moveTo>
                    <a:lnTo>
                      <a:pt x="107" y="290"/>
                    </a:lnTo>
                    <a:lnTo>
                      <a:pt x="0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2760" y="3500280"/>
                <a:ext cx="91440" cy="1004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7524720" y="4076640"/>
              <a:ext cx="216000" cy="360360"/>
            </a:xfrm>
            <a:custGeom>
              <a:avLst/>
              <a:gdLst/>
              <a:ahLst/>
              <a:rect l="l" t="t" r="r" b="b"/>
              <a:pathLst>
                <a:path w="192" h="280">
                  <a:moveTo>
                    <a:pt x="0" y="280"/>
                  </a:moveTo>
                  <a:lnTo>
                    <a:pt x="96" y="0"/>
                  </a:lnTo>
                  <a:lnTo>
                    <a:pt x="192" y="280"/>
                  </a:lnTo>
                  <a:lnTo>
                    <a:pt x="0" y="28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535800" y="4365720"/>
            <a:ext cx="2217600" cy="938160"/>
            <a:chOff x="6535800" y="4365720"/>
            <a:chExt cx="2217600" cy="938160"/>
          </a:xfrm>
        </p:grpSpPr>
        <p:sp>
          <p:nvSpPr>
            <p:cNvPr id="250" name=""/>
            <p:cNvSpPr/>
            <p:nvPr/>
          </p:nvSpPr>
          <p:spPr>
            <a:xfrm>
              <a:off x="6588000" y="4365720"/>
              <a:ext cx="2165400" cy="93816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35800" y="4726080"/>
              <a:ext cx="1619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alidity rule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ahoma"/>
                <a:ea typeface="Tahoma"/>
              </a:rPr>
              <a:t>"</a:t>
            </a:r>
            <a:r>
              <a:rPr b="1" lang="en-US" sz="4400" spc="-1" strike="noStrike">
                <a:solidFill>
                  <a:srgbClr val="66ccff"/>
                </a:solidFill>
                <a:latin typeface="Tahoma"/>
              </a:rPr>
              <a:t>Technical</a:t>
            </a:r>
            <a:r>
              <a:rPr b="1" lang="en-US" sz="4400" spc="-1" strike="noStrike">
                <a:solidFill>
                  <a:srgbClr val="66ccff"/>
                </a:solidFill>
                <a:latin typeface="Tahoma"/>
                <a:ea typeface="Tahoma"/>
              </a:rPr>
              <a:t>"</a:t>
            </a:r>
            <a:r>
              <a:rPr b="1" lang="en-US" sz="4400" spc="-1" strike="noStrike">
                <a:solidFill>
                  <a:srgbClr val="66ccff"/>
                </a:solidFill>
                <a:latin typeface="Tahoma"/>
              </a:rPr>
              <a:t> metadata  </a:t>
            </a: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4807080" y="2736720"/>
            <a:ext cx="28065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35800" y="2668680"/>
            <a:ext cx="134640" cy="1364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5680" y="2567160"/>
            <a:ext cx="457200" cy="32364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8" y="204"/>
                </a:moveTo>
                <a:lnTo>
                  <a:pt x="0" y="107"/>
                </a:lnTo>
                <a:lnTo>
                  <a:pt x="288" y="0"/>
                </a:lnTo>
                <a:lnTo>
                  <a:pt x="288" y="20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18320" y="266868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26000" y="2492280"/>
            <a:ext cx="143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has a fiel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637160" y="2736360"/>
            <a:ext cx="322200" cy="2149560"/>
            <a:chOff x="4637160" y="2736360"/>
            <a:chExt cx="322200" cy="2149560"/>
          </a:xfrm>
        </p:grpSpPr>
        <p:sp>
          <p:nvSpPr>
            <p:cNvPr id="259" name=""/>
            <p:cNvSpPr/>
            <p:nvPr/>
          </p:nvSpPr>
          <p:spPr>
            <a:xfrm flipV="1">
              <a:off x="4807080" y="2736360"/>
              <a:ext cx="1440" cy="214956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38680" y="4187880"/>
              <a:ext cx="136440" cy="136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37160" y="2959200"/>
              <a:ext cx="322200" cy="460440"/>
            </a:xfrm>
            <a:custGeom>
              <a:avLst/>
              <a:gdLst/>
              <a:ahLst/>
              <a:rect l="l" t="t" r="r" b="b"/>
              <a:pathLst>
                <a:path w="203" h="290">
                  <a:moveTo>
                    <a:pt x="203" y="0"/>
                  </a:moveTo>
                  <a:lnTo>
                    <a:pt x="107" y="290"/>
                  </a:lnTo>
                  <a:lnTo>
                    <a:pt x="0" y="0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38680" y="3419640"/>
              <a:ext cx="136440" cy="136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591080" y="3716280"/>
            <a:ext cx="1400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has a ro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62200" y="4886280"/>
            <a:ext cx="304488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55920" y="481824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734000"/>
            <a:ext cx="439560" cy="306360"/>
          </a:xfrm>
          <a:custGeom>
            <a:avLst/>
            <a:gdLst/>
            <a:ahLst/>
            <a:rect l="l" t="t" r="r" b="b"/>
            <a:pathLst>
              <a:path w="277" h="193">
                <a:moveTo>
                  <a:pt x="277" y="193"/>
                </a:moveTo>
                <a:lnTo>
                  <a:pt x="0" y="96"/>
                </a:lnTo>
                <a:lnTo>
                  <a:pt x="277" y="0"/>
                </a:lnTo>
                <a:lnTo>
                  <a:pt x="277" y="19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86160" y="481824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4581360"/>
            <a:ext cx="146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consists</a:t>
            </a: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2736720"/>
            <a:ext cx="1440" cy="214956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11440" y="3317760"/>
            <a:ext cx="135000" cy="1368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09560" y="4203720"/>
            <a:ext cx="304920" cy="444600"/>
          </a:xfrm>
          <a:custGeom>
            <a:avLst/>
            <a:gdLst/>
            <a:ahLst/>
            <a:rect l="l" t="t" r="r" b="b"/>
            <a:pathLst>
              <a:path w="192" h="280">
                <a:moveTo>
                  <a:pt x="0" y="280"/>
                </a:moveTo>
                <a:lnTo>
                  <a:pt x="96" y="0"/>
                </a:lnTo>
                <a:lnTo>
                  <a:pt x="192" y="280"/>
                </a:lnTo>
                <a:lnTo>
                  <a:pt x="0" y="28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11440" y="408456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01760" y="3692520"/>
            <a:ext cx="95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20760" y="2276640"/>
            <a:ext cx="1100160" cy="920520"/>
          </a:xfrm>
          <a:prstGeom prst="rect">
            <a:avLst/>
          </a:prstGeom>
          <a:solidFill>
            <a:srgbClr val="c0ffc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5640" y="2637000"/>
            <a:ext cx="1198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20000" y="2276640"/>
            <a:ext cx="1098360" cy="920520"/>
          </a:xfrm>
          <a:prstGeom prst="rect">
            <a:avLst/>
          </a:prstGeom>
          <a:solidFill>
            <a:srgbClr val="c0ffc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38000" y="2637000"/>
            <a:ext cx="104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4425840"/>
            <a:ext cx="1167120" cy="938160"/>
          </a:xfrm>
          <a:prstGeom prst="rect">
            <a:avLst/>
          </a:prstGeom>
          <a:solidFill>
            <a:srgbClr val="c0ffc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91440" y="4797360"/>
            <a:ext cx="1619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Questionair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24200" y="4425840"/>
            <a:ext cx="2165400" cy="938160"/>
          </a:xfrm>
          <a:prstGeom prst="rect">
            <a:avLst/>
          </a:prstGeom>
          <a:solidFill>
            <a:srgbClr val="c0ffc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86680" y="4797360"/>
            <a:ext cx="248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Table in the questionair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79880" y="2276640"/>
            <a:ext cx="1454040" cy="938160"/>
          </a:xfrm>
          <a:prstGeom prst="rect">
            <a:avLst/>
          </a:prstGeom>
          <a:solidFill>
            <a:srgbClr val="c0ffc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71440" y="2637000"/>
            <a:ext cx="1866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Row in the tabl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91920"/>
            <a:ext cx="75438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ahoma"/>
              </a:rPr>
              <a:t>Planning features</a:t>
            </a:r>
            <a:r>
              <a:rPr b="1" lang="hr-HR" sz="44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hr-HR" sz="4400" spc="-1" strike="noStrike">
                <a:solidFill>
                  <a:srgbClr val="66ccff"/>
                </a:solidFill>
                <a:latin typeface="Tahoma"/>
              </a:rPr>
              <a:t>	</a:t>
            </a:r>
            <a:r>
              <a:rPr b="1" lang="hr-HR" sz="4400" spc="-1" strike="noStrike">
                <a:solidFill>
                  <a:srgbClr val="66ccff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7543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There ar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y questions we can ask about planning but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e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is very importan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day is 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f May does everything go smoothly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19320" indent="-304920">
              <a:lnSpc>
                <a:spcPct val="16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e are just on time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219320" indent="-304920">
              <a:lnSpc>
                <a:spcPct val="16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e are late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219320" indent="-304920">
              <a:lnSpc>
                <a:spcPct val="16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e are ahead of the timetab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ahoma"/>
                <a:ea typeface="Tahoma"/>
              </a:rPr>
              <a:t>“</a:t>
            </a:r>
            <a:r>
              <a:rPr b="1" lang="en-US" sz="4400" spc="-1" strike="noStrike">
                <a:solidFill>
                  <a:srgbClr val="66ccff"/>
                </a:solidFill>
                <a:latin typeface="Tahoma"/>
                <a:ea typeface="Tahoma"/>
              </a:rPr>
              <a:t>Planning"</a:t>
            </a:r>
            <a:r>
              <a:rPr b="1" lang="en-US" sz="4400" spc="-1" strike="noStrike">
                <a:solidFill>
                  <a:srgbClr val="66ccff"/>
                </a:solidFill>
                <a:latin typeface="Tahoma"/>
              </a:rPr>
              <a:t> metadata  </a:t>
            </a: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893520" y="2060640"/>
            <a:ext cx="5419080" cy="3650040"/>
            <a:chOff x="893520" y="2060640"/>
            <a:chExt cx="5419080" cy="3650040"/>
          </a:xfrm>
        </p:grpSpPr>
        <p:sp>
          <p:nvSpPr>
            <p:cNvPr id="288" name=""/>
            <p:cNvSpPr/>
            <p:nvPr/>
          </p:nvSpPr>
          <p:spPr>
            <a:xfrm>
              <a:off x="4832640" y="2403720"/>
              <a:ext cx="1440" cy="14893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94480" y="2836800"/>
              <a:ext cx="8748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19600" y="3384000"/>
              <a:ext cx="225360" cy="329760"/>
            </a:xfrm>
            <a:custGeom>
              <a:avLst/>
              <a:gdLst/>
              <a:ahLst/>
              <a:rect l="l" t="t" r="r" b="b"/>
              <a:pathLst>
                <a:path w="136" h="199">
                  <a:moveTo>
                    <a:pt x="0" y="199"/>
                  </a:moveTo>
                  <a:lnTo>
                    <a:pt x="68" y="0"/>
                  </a:lnTo>
                  <a:lnTo>
                    <a:pt x="136" y="199"/>
                  </a:lnTo>
                  <a:lnTo>
                    <a:pt x="0" y="19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94480" y="3294360"/>
              <a:ext cx="10116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74640" y="3065400"/>
              <a:ext cx="114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ffffff"/>
                  </a:solidFill>
                  <a:latin typeface="Arial"/>
                </a:rPr>
                <a:t>consist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32640" y="3893400"/>
              <a:ext cx="1440" cy="1462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94480" y="4324320"/>
              <a:ext cx="87480" cy="102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19600" y="4846680"/>
              <a:ext cx="225360" cy="343080"/>
            </a:xfrm>
            <a:custGeom>
              <a:avLst/>
              <a:gdLst/>
              <a:ahLst/>
              <a:rect l="l" t="t" r="r" b="b"/>
              <a:pathLst>
                <a:path w="136" h="207">
                  <a:moveTo>
                    <a:pt x="0" y="207"/>
                  </a:moveTo>
                  <a:lnTo>
                    <a:pt x="68" y="0"/>
                  </a:lnTo>
                  <a:lnTo>
                    <a:pt x="136" y="207"/>
                  </a:lnTo>
                  <a:lnTo>
                    <a:pt x="0" y="20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94480" y="4757040"/>
              <a:ext cx="10116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02680" y="4541760"/>
              <a:ext cx="115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ffffff"/>
                  </a:solidFill>
                  <a:latin typeface="Arial"/>
                </a:rPr>
                <a:t>includ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90120" y="5356080"/>
              <a:ext cx="32421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79720" y="5317920"/>
              <a:ext cx="10116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51720" y="5241600"/>
              <a:ext cx="339840" cy="240120"/>
            </a:xfrm>
            <a:custGeom>
              <a:avLst/>
              <a:gdLst/>
              <a:ahLst/>
              <a:rect l="l" t="t" r="r" b="b"/>
              <a:pathLst>
                <a:path w="205" h="145">
                  <a:moveTo>
                    <a:pt x="205" y="145"/>
                  </a:moveTo>
                  <a:lnTo>
                    <a:pt x="0" y="69"/>
                  </a:lnTo>
                  <a:lnTo>
                    <a:pt x="205" y="0"/>
                  </a:lnTo>
                  <a:lnTo>
                    <a:pt x="205" y="14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64240" y="5317920"/>
              <a:ext cx="10116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89240" y="5151960"/>
              <a:ext cx="151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ffffff"/>
                  </a:solidFill>
                  <a:latin typeface="Arial"/>
                </a:rPr>
                <a:t>has  in  a  yea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90120" y="3904560"/>
              <a:ext cx="1440" cy="145116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52320" y="4337280"/>
              <a:ext cx="8748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76000" y="4846680"/>
              <a:ext cx="226800" cy="343080"/>
            </a:xfrm>
            <a:custGeom>
              <a:avLst/>
              <a:gdLst/>
              <a:ahLst/>
              <a:rect l="l" t="t" r="r" b="b"/>
              <a:pathLst>
                <a:path w="137" h="207">
                  <a:moveTo>
                    <a:pt x="0" y="207"/>
                  </a:moveTo>
                  <a:lnTo>
                    <a:pt x="69" y="0"/>
                  </a:lnTo>
                  <a:lnTo>
                    <a:pt x="137" y="207"/>
                  </a:lnTo>
                  <a:lnTo>
                    <a:pt x="0" y="20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38640" y="4757040"/>
              <a:ext cx="10116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73560" y="4541760"/>
              <a:ext cx="93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ffffff"/>
                  </a:solidFill>
                  <a:latin typeface="Arial"/>
                </a:rPr>
                <a:t>run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90120" y="2403720"/>
              <a:ext cx="1440" cy="15004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52320" y="2836800"/>
              <a:ext cx="8748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76000" y="3395520"/>
              <a:ext cx="226800" cy="342720"/>
            </a:xfrm>
            <a:custGeom>
              <a:avLst/>
              <a:gdLst/>
              <a:ahLst/>
              <a:rect l="l" t="t" r="r" b="b"/>
              <a:pathLst>
                <a:path w="137" h="207">
                  <a:moveTo>
                    <a:pt x="0" y="207"/>
                  </a:moveTo>
                  <a:lnTo>
                    <a:pt x="69" y="0"/>
                  </a:lnTo>
                  <a:lnTo>
                    <a:pt x="137" y="207"/>
                  </a:lnTo>
                  <a:lnTo>
                    <a:pt x="0" y="20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38640" y="3307680"/>
              <a:ext cx="10116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11280" y="3040560"/>
              <a:ext cx="121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ffffff"/>
                  </a:solidFill>
                  <a:latin typeface="Arial"/>
                </a:rPr>
                <a:t>is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r-HR" sz="1000" spc="-1" strike="noStrike">
                  <a:solidFill>
                    <a:srgbClr val="ffffff"/>
                  </a:solidFill>
                  <a:latin typeface="Arial"/>
                </a:rPr>
                <a:t>divide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7280" y="2060640"/>
              <a:ext cx="817560" cy="68616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09080" y="2085120"/>
              <a:ext cx="112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Divi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87280" y="2289240"/>
              <a:ext cx="81756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87280" y="2504880"/>
              <a:ext cx="8175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87280" y="3561480"/>
              <a:ext cx="817560" cy="68616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93520" y="3586320"/>
              <a:ext cx="134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Depart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87280" y="3790080"/>
              <a:ext cx="81756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87280" y="4007520"/>
              <a:ext cx="8175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87280" y="5024160"/>
              <a:ext cx="817560" cy="68652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32120" y="5037480"/>
              <a:ext cx="108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Surve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87280" y="5241600"/>
              <a:ext cx="8175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87280" y="5457240"/>
              <a:ext cx="8175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62840" y="3548160"/>
              <a:ext cx="2750760" cy="69984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56840" y="3561480"/>
              <a:ext cx="3155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Annual production plan (Statistical activitie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62840" y="3777120"/>
              <a:ext cx="27507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62840" y="3994560"/>
              <a:ext cx="27507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91400" y="2060640"/>
              <a:ext cx="1494000" cy="69984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84680" y="2073600"/>
              <a:ext cx="1953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Annual publishing pla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91400" y="2289240"/>
              <a:ext cx="14940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91400" y="2504880"/>
              <a:ext cx="14940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16240" y="5024160"/>
              <a:ext cx="1444320" cy="68652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35080" y="5037480"/>
              <a:ext cx="196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Survey processing uni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16240" y="5241600"/>
              <a:ext cx="143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16240" y="5457240"/>
              <a:ext cx="143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91920"/>
            <a:ext cx="75438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ccff"/>
                </a:solidFill>
                <a:latin typeface="Tahoma"/>
              </a:rPr>
              <a:t>Metadata </a:t>
            </a:r>
            <a:r>
              <a:rPr b="1" lang="en-US" sz="4000" spc="-1" strike="noStrike">
                <a:solidFill>
                  <a:srgbClr val="66ccff"/>
                </a:solidFill>
                <a:latin typeface="Tahoma"/>
              </a:rPr>
              <a:t>collected once and used everywhere</a:t>
            </a:r>
            <a:r>
              <a:rPr b="1" lang="hr-HR" sz="40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hr-HR" sz="4000" spc="-1" strike="noStrike">
                <a:solidFill>
                  <a:srgbClr val="66ccff"/>
                </a:solidFill>
                <a:latin typeface="Tahoma"/>
              </a:rPr>
              <a:t>	</a:t>
            </a:r>
            <a:r>
              <a:rPr b="1" lang="hr-HR" sz="4000" spc="-1" strike="noStrike">
                <a:solidFill>
                  <a:srgbClr val="66ccff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7543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5000"/>
              </a:lnSpc>
              <a:spcBef>
                <a:spcPts val="2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There 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places where the metadata can be stored but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rule is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very importa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125000"/>
              </a:lnSpc>
              <a:spcBef>
                <a:spcPts val="2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 Sundgren golden rule of thumb: It is probably good to store the metadata once and use many ti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ahoma"/>
                <a:ea typeface="Tahoma"/>
              </a:rPr>
              <a:t>“</a:t>
            </a:r>
            <a:r>
              <a:rPr b="1" lang="en-US" sz="4400" spc="-1" strike="noStrike">
                <a:solidFill>
                  <a:srgbClr val="66ccff"/>
                </a:solidFill>
                <a:latin typeface="Tahoma"/>
                <a:ea typeface="Tahoma"/>
              </a:rPr>
              <a:t>Semantical"</a:t>
            </a:r>
            <a:r>
              <a:rPr b="1" lang="en-US" sz="4400" spc="-1" strike="noStrike">
                <a:solidFill>
                  <a:srgbClr val="66ccff"/>
                </a:solidFill>
                <a:latin typeface="Tahoma"/>
              </a:rPr>
              <a:t> metadata  </a:t>
            </a: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0" y="260280"/>
            <a:ext cx="6936120" cy="5800680"/>
            <a:chOff x="0" y="260280"/>
            <a:chExt cx="6936120" cy="5800680"/>
          </a:xfrm>
        </p:grpSpPr>
        <p:sp>
          <p:nvSpPr>
            <p:cNvPr id="341" name=""/>
            <p:cNvSpPr/>
            <p:nvPr/>
          </p:nvSpPr>
          <p:spPr>
            <a:xfrm>
              <a:off x="3233520" y="3963960"/>
              <a:ext cx="1080" cy="17366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93920" y="4417920"/>
              <a:ext cx="9144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12920" y="5167080"/>
              <a:ext cx="253440" cy="360360"/>
            </a:xfrm>
            <a:custGeom>
              <a:avLst/>
              <a:gdLst/>
              <a:ahLst/>
              <a:rect l="l" t="t" r="r" b="b"/>
              <a:pathLst>
                <a:path w="160" h="227">
                  <a:moveTo>
                    <a:pt x="0" y="227"/>
                  </a:moveTo>
                  <a:lnTo>
                    <a:pt x="76" y="0"/>
                  </a:lnTo>
                  <a:lnTo>
                    <a:pt x="160" y="227"/>
                  </a:lnTo>
                  <a:lnTo>
                    <a:pt x="0" y="22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93920" y="5073480"/>
              <a:ext cx="9144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4920" y="4659120"/>
              <a:ext cx="1566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ffffff"/>
                  </a:solidFill>
                  <a:latin typeface="Arial"/>
                </a:rPr>
                <a:t>is collection of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233160" y="5700600"/>
              <a:ext cx="25743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93920" y="5580000"/>
              <a:ext cx="360000" cy="254160"/>
            </a:xfrm>
            <a:custGeom>
              <a:avLst/>
              <a:gdLst/>
              <a:ahLst/>
              <a:rect l="l" t="t" r="r" b="b"/>
              <a:pathLst>
                <a:path w="227" h="160">
                  <a:moveTo>
                    <a:pt x="227" y="160"/>
                  </a:moveTo>
                  <a:lnTo>
                    <a:pt x="0" y="76"/>
                  </a:lnTo>
                  <a:lnTo>
                    <a:pt x="227" y="0"/>
                  </a:lnTo>
                  <a:lnTo>
                    <a:pt x="227" y="16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00320" y="5661000"/>
              <a:ext cx="9324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00080" y="5580000"/>
              <a:ext cx="345960" cy="254160"/>
            </a:xfrm>
            <a:custGeom>
              <a:avLst/>
              <a:gdLst/>
              <a:ahLst/>
              <a:rect l="l" t="t" r="r" b="b"/>
              <a:pathLst>
                <a:path w="218" h="160">
                  <a:moveTo>
                    <a:pt x="0" y="0"/>
                  </a:moveTo>
                  <a:lnTo>
                    <a:pt x="218" y="76"/>
                  </a:lnTo>
                  <a:lnTo>
                    <a:pt x="0" y="1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46400" y="5661000"/>
              <a:ext cx="9324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23920" y="5500440"/>
              <a:ext cx="1386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ffffff"/>
                  </a:solidFill>
                  <a:latin typeface="Arial"/>
                </a:rPr>
                <a:t>is</a:t>
              </a: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r-HR" sz="1100" spc="-1" strike="noStrike">
                  <a:solidFill>
                    <a:srgbClr val="ffffff"/>
                  </a:solidFill>
                  <a:latin typeface="Arial"/>
                </a:rPr>
                <a:t>placed</a:t>
              </a: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r-HR" sz="1100" spc="-1" strike="noStrike">
                  <a:solidFill>
                    <a:srgbClr val="ffffff"/>
                  </a:solidFill>
                  <a:latin typeface="Arial"/>
                </a:rPr>
                <a:t>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08240" y="3963960"/>
              <a:ext cx="1440" cy="17366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67200" y="4417920"/>
              <a:ext cx="9324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87640" y="5167080"/>
              <a:ext cx="253800" cy="360360"/>
            </a:xfrm>
            <a:custGeom>
              <a:avLst/>
              <a:gdLst/>
              <a:ahLst/>
              <a:rect l="l" t="t" r="r" b="b"/>
              <a:pathLst>
                <a:path w="160" h="227">
                  <a:moveTo>
                    <a:pt x="0" y="227"/>
                  </a:moveTo>
                  <a:lnTo>
                    <a:pt x="76" y="0"/>
                  </a:lnTo>
                  <a:lnTo>
                    <a:pt x="160" y="227"/>
                  </a:lnTo>
                  <a:lnTo>
                    <a:pt x="0" y="22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67200" y="5073480"/>
              <a:ext cx="9324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4080" y="4738680"/>
              <a:ext cx="1433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ffffff"/>
                  </a:solidFill>
                  <a:latin typeface="Arial"/>
                </a:rPr>
                <a:t>is</a:t>
              </a: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r-HR" sz="1100" spc="-1" strike="noStrike">
                  <a:solidFill>
                    <a:srgbClr val="ffffff"/>
                  </a:solidFill>
                  <a:latin typeface="Arial"/>
                </a:rPr>
                <a:t>describ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08240" y="2281320"/>
              <a:ext cx="1440" cy="16826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87640" y="2455920"/>
              <a:ext cx="253800" cy="360360"/>
            </a:xfrm>
            <a:custGeom>
              <a:avLst/>
              <a:gdLst/>
              <a:ahLst/>
              <a:rect l="l" t="t" r="r" b="b"/>
              <a:pathLst>
                <a:path w="160" h="227">
                  <a:moveTo>
                    <a:pt x="160" y="0"/>
                  </a:moveTo>
                  <a:lnTo>
                    <a:pt x="76" y="227"/>
                  </a:lnTo>
                  <a:lnTo>
                    <a:pt x="0" y="0"/>
                  </a:lnTo>
                  <a:lnTo>
                    <a:pt x="16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67200" y="2816280"/>
              <a:ext cx="9324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87640" y="3430440"/>
              <a:ext cx="253800" cy="347760"/>
            </a:xfrm>
            <a:custGeom>
              <a:avLst/>
              <a:gdLst/>
              <a:ahLst/>
              <a:rect l="l" t="t" r="r" b="b"/>
              <a:pathLst>
                <a:path w="160" h="219">
                  <a:moveTo>
                    <a:pt x="0" y="219"/>
                  </a:moveTo>
                  <a:lnTo>
                    <a:pt x="76" y="0"/>
                  </a:lnTo>
                  <a:lnTo>
                    <a:pt x="160" y="219"/>
                  </a:lnTo>
                  <a:lnTo>
                    <a:pt x="0" y="21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67200" y="3336840"/>
              <a:ext cx="9324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50200" y="3016080"/>
              <a:ext cx="1285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ffffff"/>
                  </a:solidFill>
                  <a:latin typeface="Arial"/>
                </a:rPr>
                <a:t>describ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33520" y="2281320"/>
              <a:ext cx="25743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7040" y="2228760"/>
              <a:ext cx="9324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41520" y="2147760"/>
              <a:ext cx="358560" cy="254160"/>
            </a:xfrm>
            <a:custGeom>
              <a:avLst/>
              <a:gdLst/>
              <a:ahLst/>
              <a:rect l="l" t="t" r="r" b="b"/>
              <a:pathLst>
                <a:path w="226" h="160">
                  <a:moveTo>
                    <a:pt x="226" y="160"/>
                  </a:moveTo>
                  <a:lnTo>
                    <a:pt x="0" y="84"/>
                  </a:lnTo>
                  <a:lnTo>
                    <a:pt x="226" y="0"/>
                  </a:lnTo>
                  <a:lnTo>
                    <a:pt x="226" y="16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47920" y="2228760"/>
              <a:ext cx="9324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23360" y="2081160"/>
              <a:ext cx="98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ffffff"/>
                  </a:solidFill>
                  <a:latin typeface="Arial"/>
                </a:rPr>
                <a:t>us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06560" y="1920960"/>
              <a:ext cx="853560" cy="70776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22600" y="1947960"/>
              <a:ext cx="112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Surve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06560" y="2160360"/>
              <a:ext cx="86616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06560" y="2387520"/>
              <a:ext cx="8661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3680" y="3603600"/>
              <a:ext cx="1147320" cy="72216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43160" y="3618000"/>
              <a:ext cx="169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Statistical objec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33680" y="3844800"/>
              <a:ext cx="11602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33680" y="4071960"/>
              <a:ext cx="11602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81480" y="5340240"/>
              <a:ext cx="1266480" cy="72072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89880" y="5367240"/>
              <a:ext cx="1814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Statistical variab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81480" y="5580000"/>
              <a:ext cx="12790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81480" y="5807160"/>
              <a:ext cx="12790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14680" y="1920960"/>
              <a:ext cx="987120" cy="72072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22720" y="1933560"/>
              <a:ext cx="1558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Questionaire_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14680" y="2160360"/>
              <a:ext cx="99972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14680" y="2387520"/>
              <a:ext cx="99972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06400" y="5340240"/>
              <a:ext cx="1266480" cy="72072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12280" y="5367240"/>
              <a:ext cx="1842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Data matrix (table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06400" y="5580000"/>
              <a:ext cx="12808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06400" y="5807160"/>
              <a:ext cx="12808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06560" y="3603600"/>
              <a:ext cx="853560" cy="70812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31160" y="3618000"/>
              <a:ext cx="1369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Publica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6560" y="3844800"/>
              <a:ext cx="86616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260280"/>
              <a:ext cx="1029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273400" y="304920"/>
            <a:ext cx="5130720" cy="57909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419640" y="0"/>
            <a:ext cx="2736720" cy="191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63640" y="2349360"/>
            <a:ext cx="3313080" cy="424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40360" y="1844640"/>
            <a:ext cx="3311280" cy="374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40360" y="1557360"/>
            <a:ext cx="3456000" cy="1079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050920" y="1484280"/>
            <a:ext cx="2449800" cy="93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435640" y="333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ructure of the organiz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258920" y="141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 access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43640" y="1341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093080" y="3213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chnical meta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87280" y="4365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man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10:29:28Z</dcterms:created>
  <dc:creator>Zdenko Milonja</dc:creator>
  <dc:description/>
  <dc:language>en-US</dc:language>
  <cp:lastModifiedBy>Zdenko Milonja</cp:lastModifiedBy>
  <dcterms:modified xsi:type="dcterms:W3CDTF">2004-05-03T10:45:48Z</dcterms:modified>
  <cp:revision>7</cp:revision>
  <dc:subject/>
  <dc:title>REPUBLIC OF CROATIA Central Bureau of Statistics </dc:title>
</cp:coreProperties>
</file>