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EF3-4609-4EB4-88FE-3E1519DC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6D8-6F2B-4D51-BA67-A1F84B2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58A-EAF1-47D8-B889-7AAE2474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92B-7D3C-4D86-8B2E-16AFE728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76BB-7998-43E0-B8FC-4FB1311F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D886-97A1-4414-AC27-0381721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0F1B-E614-4789-99AE-E978387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953-60A9-427B-9CE4-51A4023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CF3-5D1A-4DC0-94F6-22A90BE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28AC-E450-4602-9FC0-C0242314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B24-6284-4D1C-9C2F-1D2D0DDC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19D-E55F-4442-9FE8-2DDF2EB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471-1535-4D70-93FC-7580CA1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35F-18BB-4BD2-8466-BF868D0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E52-265B-4F55-9582-DC969C62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0E4-E102-4BD7-80C7-7C70E106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E052-94A2-4EE5-9A2A-6F735FC4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67EF8-0A32-48A2-B3DD-396F74215D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286BF-DBB6-48C1-9835-AD21498CA0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9B613-8B19-40AE-A1F7-2B8BB2616A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F76A1-3E6F-444F-BCE4-F6E5CD6CBB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E1489-C298-4AE5-93BD-4407FD86F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7D0-68CE-4BF8-AE8D-80F30B1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E1D76-E229-435D-876E-36F7622236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962D0-1A30-4EA3-B611-ACB46A5FE7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DB840-3C5C-4D4B-9F29-90B228DD64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B2066-CA05-42EF-8942-A1437C03E8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6F55E-383C-42BD-90B2-08F4D3A45D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CE69A-6591-48A9-9922-58B3A6BCA2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FE0D3-FE12-4EE8-8897-4755F8A59B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76E91-4CCD-4977-96BC-2820B5D1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57DBF-7DA6-45A4-8915-083ADAE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2C1EB-A445-468C-9BFA-C0FCA28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AC5-C8EF-48BA-A3C0-ED16084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4300E-E96F-4B94-8449-B2A2B6D7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6B4B1-DC17-413E-84D4-CD9A66C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C549B-6653-4C2E-9803-808E8C9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B9C8F-C10B-4F95-8E8D-EA210A3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AE964-F178-4092-B321-6DE0127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6E9C6-35B9-4577-9F5D-5F4D7B0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A9EBA-2C13-40D4-B06F-788BF45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C0C23-7EB8-47B5-9856-42DE446F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D53CD-E319-4B97-B355-0AFB9582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F60-2A1A-42B8-A300-5C39472F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15A-96F7-41D8-B6CE-5491C36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4AE-FDF3-4F0C-B58E-91586F5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A20-DC95-40FA-913D-86DA6B1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B4E-A061-4E1C-AA9B-4CD7D92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5C7-0449-4215-95C2-9DDBC9B84FB1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" name=""/>
          <p:cNvGraphicFramePr/>
          <p:nvPr/>
        </p:nvGraphicFramePr>
        <p:xfrm>
          <a:off x="1116000" y="6308640"/>
          <a:ext cx="151128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6308640"/>
                    <a:ext cx="1511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EB3-6B38-4D57-923E-9BF47F10B42F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F90-3A1E-4091-BEA7-0AD7C346B0AB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5D6-83ED-44D4-8067-9763379F6961}" type="slidenum">
              <a:rPr b="0" lang="hr-H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6237360"/>
          <a:ext cx="1679760" cy="44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237360"/>
                    <a:ext cx="16797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Arial Unicode MS"/>
              </a:rPr>
              <a:t>REPUBLIC OF CROATIA</a:t>
            </a:r>
            <a:br>
              <a:rPr sz="2400"/>
            </a:b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Central Bureau of Statistics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TEGRATED META DATABASE AS A BASIS FOR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denko Milon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62373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Geneva, 17 – 19 May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GUILDENSTERN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Nor do we find him forward to be sounded,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But, with a </a:t>
            </a:r>
            <a:r>
              <a:rPr b="1" lang="hr-HR" sz="2800" spc="-1" strike="noStrike">
                <a:solidFill>
                  <a:srgbClr val="66ccff"/>
                </a:solidFill>
                <a:latin typeface="Script MT Bold"/>
              </a:rPr>
              <a:t>crafty madness</a:t>
            </a: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, keeps aloof,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When we would bring him on to some confession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Script MT Bold"/>
              </a:rPr>
              <a:t>Of his true state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. Shakespear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(1564 – 1616)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he Tragedy of Hamlet, Prince of Denmark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ct 3, Scene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87280" y="1989000"/>
            <a:ext cx="7086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Thank you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hr-HR" sz="1600" spc="-1" strike="noStrike">
                <a:solidFill>
                  <a:srgbClr val="66ccff"/>
                </a:solidFill>
                <a:latin typeface="Tahoma"/>
              </a:rPr>
              <a:t>zmilonja@dzs.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Project goals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285640"/>
            <a:ext cx="806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Higher productivity i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tability in the databas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etadat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ed once and used every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egrated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Higher productivity in development 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re are many ways to increase the productivity but there is a very important question for the IT develop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200 surveys how many programs for proccesing we ne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two hundr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on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any number between those tw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7524720" y="2997360"/>
            <a:ext cx="216000" cy="1584000"/>
            <a:chOff x="7524720" y="2997360"/>
            <a:chExt cx="216000" cy="1584000"/>
          </a:xfrm>
        </p:grpSpPr>
        <p:grpSp>
          <p:nvGrpSpPr>
            <p:cNvPr id="243" name=""/>
            <p:cNvGrpSpPr/>
            <p:nvPr/>
          </p:nvGrpSpPr>
          <p:grpSpPr>
            <a:xfrm>
              <a:off x="7524720" y="2997360"/>
              <a:ext cx="216000" cy="1584000"/>
              <a:chOff x="7524720" y="2997360"/>
              <a:chExt cx="216000" cy="15840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7638480" y="2997360"/>
                <a:ext cx="720" cy="158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92760" y="4066560"/>
                <a:ext cx="91440" cy="100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3161160"/>
                <a:ext cx="216000" cy="339120"/>
              </a:xfrm>
              <a:custGeom>
                <a:avLst/>
                <a:gdLst/>
                <a:ahLst/>
                <a:rect l="l" t="t" r="r" b="b"/>
                <a:pathLst>
                  <a:path w="203" h="290">
                    <a:moveTo>
                      <a:pt x="203" y="0"/>
                    </a:moveTo>
                    <a:lnTo>
                      <a:pt x="107" y="290"/>
                    </a:lnTo>
                    <a:lnTo>
                      <a:pt x="0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2760" y="3500280"/>
                <a:ext cx="91440" cy="100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524720" y="4076640"/>
              <a:ext cx="216000" cy="360360"/>
            </a:xfrm>
            <a:custGeom>
              <a:avLst/>
              <a:gdLst/>
              <a:ahLst/>
              <a:rect l="l" t="t" r="r" b="b"/>
              <a:pathLst>
                <a:path w="192" h="280">
                  <a:moveTo>
                    <a:pt x="0" y="280"/>
                  </a:moveTo>
                  <a:lnTo>
                    <a:pt x="96" y="0"/>
                  </a:lnTo>
                  <a:lnTo>
                    <a:pt x="192" y="280"/>
                  </a:lnTo>
                  <a:lnTo>
                    <a:pt x="0" y="28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35800" y="4365720"/>
            <a:ext cx="2217600" cy="938160"/>
            <a:chOff x="6535800" y="4365720"/>
            <a:chExt cx="2217600" cy="938160"/>
          </a:xfrm>
        </p:grpSpPr>
        <p:sp>
          <p:nvSpPr>
            <p:cNvPr id="250" name=""/>
            <p:cNvSpPr/>
            <p:nvPr/>
          </p:nvSpPr>
          <p:spPr>
            <a:xfrm>
              <a:off x="6588000" y="4365720"/>
              <a:ext cx="2165400" cy="938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35800" y="4726080"/>
              <a:ext cx="161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ity rule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Technical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807080" y="2736720"/>
            <a:ext cx="28065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5800" y="2668680"/>
            <a:ext cx="13464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5680" y="2567160"/>
            <a:ext cx="457200" cy="32364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8" y="204"/>
                </a:moveTo>
                <a:lnTo>
                  <a:pt x="0" y="107"/>
                </a:lnTo>
                <a:lnTo>
                  <a:pt x="288" y="0"/>
                </a:lnTo>
                <a:lnTo>
                  <a:pt x="288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18320" y="266868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26000" y="2492280"/>
            <a:ext cx="143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 a fiel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637160" y="2736360"/>
            <a:ext cx="322200" cy="2149560"/>
            <a:chOff x="4637160" y="2736360"/>
            <a:chExt cx="322200" cy="2149560"/>
          </a:xfrm>
        </p:grpSpPr>
        <p:sp>
          <p:nvSpPr>
            <p:cNvPr id="259" name=""/>
            <p:cNvSpPr/>
            <p:nvPr/>
          </p:nvSpPr>
          <p:spPr>
            <a:xfrm flipV="1">
              <a:off x="4807080" y="2736360"/>
              <a:ext cx="1440" cy="21495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38680" y="4187880"/>
              <a:ext cx="136440" cy="136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7160" y="2959200"/>
              <a:ext cx="322200" cy="460440"/>
            </a:xfrm>
            <a:custGeom>
              <a:avLst/>
              <a:gdLst/>
              <a:ahLst/>
              <a:rect l="l" t="t" r="r" b="b"/>
              <a:pathLst>
                <a:path w="203" h="290">
                  <a:moveTo>
                    <a:pt x="203" y="0"/>
                  </a:moveTo>
                  <a:lnTo>
                    <a:pt x="107" y="290"/>
                  </a:lnTo>
                  <a:lnTo>
                    <a:pt x="0" y="0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8680" y="3419640"/>
              <a:ext cx="136440" cy="136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591080" y="3716280"/>
            <a:ext cx="140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 a ro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2200" y="4886280"/>
            <a:ext cx="30448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55920" y="48182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734000"/>
            <a:ext cx="439560" cy="306360"/>
          </a:xfrm>
          <a:custGeom>
            <a:avLst/>
            <a:gdLst/>
            <a:ahLst/>
            <a:rect l="l" t="t" r="r" b="b"/>
            <a:pathLst>
              <a:path w="277" h="193">
                <a:moveTo>
                  <a:pt x="277" y="193"/>
                </a:moveTo>
                <a:lnTo>
                  <a:pt x="0" y="96"/>
                </a:lnTo>
                <a:lnTo>
                  <a:pt x="277" y="0"/>
                </a:lnTo>
                <a:lnTo>
                  <a:pt x="277" y="19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86160" y="48182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581360"/>
            <a:ext cx="146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consists</a:t>
            </a: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2736720"/>
            <a:ext cx="1440" cy="21495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11440" y="3317760"/>
            <a:ext cx="135000" cy="1368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9560" y="4203720"/>
            <a:ext cx="304920" cy="444600"/>
          </a:xfrm>
          <a:custGeom>
            <a:avLst/>
            <a:gdLst/>
            <a:ahLst/>
            <a:rect l="l" t="t" r="r" b="b"/>
            <a:pathLst>
              <a:path w="192" h="280">
                <a:moveTo>
                  <a:pt x="0" y="280"/>
                </a:moveTo>
                <a:lnTo>
                  <a:pt x="96" y="0"/>
                </a:lnTo>
                <a:lnTo>
                  <a:pt x="192" y="280"/>
                </a:lnTo>
                <a:lnTo>
                  <a:pt x="0" y="2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11440" y="408456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01760" y="3692520"/>
            <a:ext cx="95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0760" y="2276640"/>
            <a:ext cx="1100160" cy="92052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5640" y="2637000"/>
            <a:ext cx="119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20000" y="2276640"/>
            <a:ext cx="1098360" cy="92052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38000" y="2637000"/>
            <a:ext cx="104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4425840"/>
            <a:ext cx="116712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1440" y="4797360"/>
            <a:ext cx="161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Questionai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24200" y="4425840"/>
            <a:ext cx="216540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6680" y="4797360"/>
            <a:ext cx="248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Table in the questionai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79880" y="2276640"/>
            <a:ext cx="1454040" cy="938160"/>
          </a:xfrm>
          <a:prstGeom prst="rect">
            <a:avLst/>
          </a:prstGeom>
          <a:solidFill>
            <a:srgbClr val="c0ffc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71440" y="2637000"/>
            <a:ext cx="1866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Row in the tab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Planning features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4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questions we can ask about planning bu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is very importa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day is 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May does everything go smoothl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just on tim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lat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219320" indent="-304920">
              <a:lnSpc>
                <a:spcPct val="16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are ahead of the timetab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“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Planning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93520" y="2060640"/>
            <a:ext cx="5419080" cy="3650040"/>
            <a:chOff x="893520" y="2060640"/>
            <a:chExt cx="5419080" cy="3650040"/>
          </a:xfrm>
        </p:grpSpPr>
        <p:sp>
          <p:nvSpPr>
            <p:cNvPr id="288" name=""/>
            <p:cNvSpPr/>
            <p:nvPr/>
          </p:nvSpPr>
          <p:spPr>
            <a:xfrm>
              <a:off x="4832640" y="2403720"/>
              <a:ext cx="1440" cy="14893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94480" y="283680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9600" y="3384000"/>
              <a:ext cx="225360" cy="32976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0" y="199"/>
                  </a:moveTo>
                  <a:lnTo>
                    <a:pt x="68" y="0"/>
                  </a:lnTo>
                  <a:lnTo>
                    <a:pt x="136" y="199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94480" y="329436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74640" y="3065400"/>
              <a:ext cx="114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consis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32640" y="3893400"/>
              <a:ext cx="1440" cy="1462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4480" y="4324320"/>
              <a:ext cx="87480" cy="102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19600" y="4846680"/>
              <a:ext cx="225360" cy="343080"/>
            </a:xfrm>
            <a:custGeom>
              <a:avLst/>
              <a:gdLst/>
              <a:ahLst/>
              <a:rect l="l" t="t" r="r" b="b"/>
              <a:pathLst>
                <a:path w="136" h="207">
                  <a:moveTo>
                    <a:pt x="0" y="207"/>
                  </a:moveTo>
                  <a:lnTo>
                    <a:pt x="68" y="0"/>
                  </a:lnTo>
                  <a:lnTo>
                    <a:pt x="136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4480" y="475704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2680" y="4541760"/>
              <a:ext cx="115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includ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0120" y="5356080"/>
              <a:ext cx="32421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79720" y="531792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1720" y="5241600"/>
              <a:ext cx="339840" cy="240120"/>
            </a:xfrm>
            <a:custGeom>
              <a:avLst/>
              <a:gdLst/>
              <a:ahLst/>
              <a:rect l="l" t="t" r="r" b="b"/>
              <a:pathLst>
                <a:path w="205" h="145">
                  <a:moveTo>
                    <a:pt x="205" y="145"/>
                  </a:moveTo>
                  <a:lnTo>
                    <a:pt x="0" y="69"/>
                  </a:lnTo>
                  <a:lnTo>
                    <a:pt x="205" y="0"/>
                  </a:lnTo>
                  <a:lnTo>
                    <a:pt x="205" y="1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4240" y="531792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9240" y="5151960"/>
              <a:ext cx="151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has  in  a  yea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0120" y="3904560"/>
              <a:ext cx="1440" cy="14511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2320" y="433728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76000" y="4846680"/>
              <a:ext cx="226800" cy="34308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207"/>
                  </a:moveTo>
                  <a:lnTo>
                    <a:pt x="69" y="0"/>
                  </a:lnTo>
                  <a:lnTo>
                    <a:pt x="137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38640" y="475704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73560" y="4541760"/>
              <a:ext cx="9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run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0120" y="2403720"/>
              <a:ext cx="1440" cy="15004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2320" y="2836800"/>
              <a:ext cx="8748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76000" y="3395520"/>
              <a:ext cx="226800" cy="34272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207"/>
                  </a:moveTo>
                  <a:lnTo>
                    <a:pt x="69" y="0"/>
                  </a:lnTo>
                  <a:lnTo>
                    <a:pt x="137" y="207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8640" y="3307680"/>
              <a:ext cx="101160" cy="101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1280" y="3040560"/>
              <a:ext cx="12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000" spc="-1" strike="noStrike">
                  <a:solidFill>
                    <a:srgbClr val="ffffff"/>
                  </a:solidFill>
                  <a:latin typeface="Arial"/>
                </a:rPr>
                <a:t>divide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2060640"/>
              <a:ext cx="817560" cy="686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09080" y="2085120"/>
              <a:ext cx="112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Divi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289240"/>
              <a:ext cx="8175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50488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3561480"/>
              <a:ext cx="817560" cy="686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93520" y="3586320"/>
              <a:ext cx="134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Depart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3790080"/>
              <a:ext cx="8175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400752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7280" y="5024160"/>
              <a:ext cx="817560" cy="6865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32120" y="5037480"/>
              <a:ext cx="108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524160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7280" y="5457240"/>
              <a:ext cx="8175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62840" y="3548160"/>
              <a:ext cx="2750760" cy="69984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6840" y="3561480"/>
              <a:ext cx="315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Annual production plan (Statistical activitie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62840" y="3777120"/>
              <a:ext cx="2750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2840" y="3994560"/>
              <a:ext cx="2750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91400" y="2060640"/>
              <a:ext cx="1494000" cy="69984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84680" y="2073600"/>
              <a:ext cx="195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Annual publishing pla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91400" y="2289240"/>
              <a:ext cx="14940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1400" y="2504880"/>
              <a:ext cx="1494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6240" y="5024160"/>
              <a:ext cx="1444320" cy="6865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35080" y="5037480"/>
              <a:ext cx="196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Survey processing un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16240" y="5241600"/>
              <a:ext cx="143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16240" y="5457240"/>
              <a:ext cx="143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91920"/>
            <a:ext cx="75438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Metadata </a:t>
            </a: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collected once and used everywhere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1" lang="hr-HR" sz="40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5000"/>
              </a:lnSpc>
              <a:spcBef>
                <a:spcPts val="2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here 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laces where the metadata can be stored but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rule is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ery importa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125000"/>
              </a:lnSpc>
              <a:spcBef>
                <a:spcPts val="2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 Sundgren golden rule of thumb: It is probably good to store the metadata once and use many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“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  <a:ea typeface="Tahoma"/>
              </a:rPr>
              <a:t>Semantical"</a:t>
            </a: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 metadata  </a:t>
            </a:r>
            <a:endParaRPr b="1" lang="en-US" sz="4400" spc="-1" strike="noStrike">
              <a:solidFill>
                <a:srgbClr val="66ccff"/>
              </a:solidFill>
              <a:latin typeface="Tahom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260280"/>
            <a:ext cx="6936120" cy="5800680"/>
            <a:chOff x="0" y="260280"/>
            <a:chExt cx="6936120" cy="5800680"/>
          </a:xfrm>
        </p:grpSpPr>
        <p:sp>
          <p:nvSpPr>
            <p:cNvPr id="341" name=""/>
            <p:cNvSpPr/>
            <p:nvPr/>
          </p:nvSpPr>
          <p:spPr>
            <a:xfrm>
              <a:off x="3233520" y="3963960"/>
              <a:ext cx="1080" cy="1736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93920" y="4417920"/>
              <a:ext cx="914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12920" y="5167080"/>
              <a:ext cx="25344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27"/>
                  </a:moveTo>
                  <a:lnTo>
                    <a:pt x="76" y="0"/>
                  </a:lnTo>
                  <a:lnTo>
                    <a:pt x="160" y="227"/>
                  </a:lnTo>
                  <a:lnTo>
                    <a:pt x="0" y="22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3920" y="5073480"/>
              <a:ext cx="914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4920" y="4659120"/>
              <a:ext cx="156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 collection of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233160" y="5700600"/>
              <a:ext cx="25743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93920" y="5580000"/>
              <a:ext cx="360000" cy="254160"/>
            </a:xfrm>
            <a:custGeom>
              <a:avLst/>
              <a:gdLst/>
              <a:ahLst/>
              <a:rect l="l" t="t" r="r" b="b"/>
              <a:pathLst>
                <a:path w="227" h="160">
                  <a:moveTo>
                    <a:pt x="227" y="160"/>
                  </a:moveTo>
                  <a:lnTo>
                    <a:pt x="0" y="76"/>
                  </a:lnTo>
                  <a:lnTo>
                    <a:pt x="227" y="0"/>
                  </a:lnTo>
                  <a:lnTo>
                    <a:pt x="227" y="1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00320" y="566100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00080" y="5580000"/>
              <a:ext cx="345960" cy="254160"/>
            </a:xfrm>
            <a:custGeom>
              <a:avLst/>
              <a:gdLst/>
              <a:ahLst/>
              <a:rect l="l" t="t" r="r" b="b"/>
              <a:pathLst>
                <a:path w="218" h="160">
                  <a:moveTo>
                    <a:pt x="0" y="0"/>
                  </a:moveTo>
                  <a:lnTo>
                    <a:pt x="218" y="76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46400" y="566100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23920" y="5500440"/>
              <a:ext cx="138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placed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08240" y="3963960"/>
              <a:ext cx="1440" cy="1736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7200" y="441792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7640" y="516708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0" y="227"/>
                  </a:moveTo>
                  <a:lnTo>
                    <a:pt x="76" y="0"/>
                  </a:lnTo>
                  <a:lnTo>
                    <a:pt x="160" y="227"/>
                  </a:lnTo>
                  <a:lnTo>
                    <a:pt x="0" y="22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67200" y="507348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4738680"/>
              <a:ext cx="143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describ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08240" y="2281320"/>
              <a:ext cx="1440" cy="1682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87640" y="2455920"/>
              <a:ext cx="25380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160" y="0"/>
                  </a:moveTo>
                  <a:lnTo>
                    <a:pt x="76" y="227"/>
                  </a:lnTo>
                  <a:lnTo>
                    <a:pt x="0" y="0"/>
                  </a:lnTo>
                  <a:lnTo>
                    <a:pt x="1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67200" y="281628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7640" y="3430440"/>
              <a:ext cx="25380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0" y="219"/>
                  </a:moveTo>
                  <a:lnTo>
                    <a:pt x="76" y="0"/>
                  </a:lnTo>
                  <a:lnTo>
                    <a:pt x="160" y="219"/>
                  </a:lnTo>
                  <a:lnTo>
                    <a:pt x="0" y="21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67200" y="3336840"/>
              <a:ext cx="9324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50200" y="3016080"/>
              <a:ext cx="128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describ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33520" y="2281320"/>
              <a:ext cx="25743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7040" y="2228760"/>
              <a:ext cx="9324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41520" y="2147760"/>
              <a:ext cx="358560" cy="254160"/>
            </a:xfrm>
            <a:custGeom>
              <a:avLst/>
              <a:gdLst/>
              <a:ahLst/>
              <a:rect l="l" t="t" r="r" b="b"/>
              <a:pathLst>
                <a:path w="226" h="160">
                  <a:moveTo>
                    <a:pt x="226" y="160"/>
                  </a:moveTo>
                  <a:lnTo>
                    <a:pt x="0" y="84"/>
                  </a:lnTo>
                  <a:lnTo>
                    <a:pt x="226" y="0"/>
                  </a:lnTo>
                  <a:lnTo>
                    <a:pt x="226" y="1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47920" y="2228760"/>
              <a:ext cx="9324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3360" y="2081160"/>
              <a:ext cx="98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ffffff"/>
                  </a:solidFill>
                  <a:latin typeface="Arial"/>
                </a:rPr>
                <a:t>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06560" y="1920960"/>
              <a:ext cx="853560" cy="7077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22600" y="1947960"/>
              <a:ext cx="112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6560" y="2160360"/>
              <a:ext cx="8661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06560" y="2387520"/>
              <a:ext cx="8661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3680" y="3603600"/>
              <a:ext cx="1147320" cy="72216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3160" y="3618000"/>
              <a:ext cx="169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tatistical objec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3680" y="3844800"/>
              <a:ext cx="11602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33680" y="4071960"/>
              <a:ext cx="11602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1480" y="5340240"/>
              <a:ext cx="126648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89880" y="5367240"/>
              <a:ext cx="181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Statistical variab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81480" y="5580000"/>
              <a:ext cx="12790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81480" y="5807160"/>
              <a:ext cx="12790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14680" y="1920960"/>
              <a:ext cx="98712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22720" y="1933560"/>
              <a:ext cx="1558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Questionaire_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4680" y="2160360"/>
              <a:ext cx="999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14680" y="2387520"/>
              <a:ext cx="99972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06400" y="5340240"/>
              <a:ext cx="1266480" cy="7207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2280" y="5367240"/>
              <a:ext cx="1842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Data matrix (table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06400" y="5580000"/>
              <a:ext cx="1280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06400" y="5807160"/>
              <a:ext cx="1280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06560" y="3603600"/>
              <a:ext cx="853560" cy="708120"/>
            </a:xfrm>
            <a:prstGeom prst="rect">
              <a:avLst/>
            </a:prstGeom>
            <a:solidFill>
              <a:srgbClr val="c0ffc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1160" y="3618000"/>
              <a:ext cx="136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1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6560" y="3844800"/>
              <a:ext cx="86616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260280"/>
              <a:ext cx="1029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273400" y="304920"/>
            <a:ext cx="5130720" cy="5790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419640" y="0"/>
            <a:ext cx="2736720" cy="191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2349360"/>
            <a:ext cx="3313080" cy="424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1844640"/>
            <a:ext cx="3311280" cy="374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1557360"/>
            <a:ext cx="3456000" cy="107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1484280"/>
            <a:ext cx="24498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5640" y="333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ucture of the organiz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58920" y="141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 acces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3640" y="134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9308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chnical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43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man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0:29:28Z</dcterms:created>
  <dc:creator>Zdenko Milonja</dc:creator>
  <dc:description/>
  <dc:language>en-US</dc:language>
  <cp:lastModifiedBy>Zdenko Milonja</cp:lastModifiedBy>
  <dcterms:modified xsi:type="dcterms:W3CDTF">2004-05-03T10:45:48Z</dcterms:modified>
  <cp:revision>7</cp:revision>
  <dc:subject/>
  <dc:title>REPUBLIC OF CROATIA Central Bureau of Statistics </dc:title>
</cp:coreProperties>
</file>