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D43AC-E375-48C7-B03D-1D92D018C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9442F-9F09-48DB-9EC7-C611E0B28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ACE37-EA64-48C8-BA41-160C56FDB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560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3768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560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3768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9A98A-9FFF-482F-AC5A-0FA0ADCF49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8A401-A39A-484D-8725-6B4F62010C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AF694-1ADC-4E5A-BA47-FBAADF812B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CA051-6D70-43DF-90D5-FE82078AD8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E6C63-AFF6-4FC1-B2AC-171AF6568B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88064-3730-4D8F-B9C8-97E0875882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504C7-E475-467D-8574-B036D5D2D4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AC82B-E749-4ED4-9D1B-A8C6866F3C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A0356-1BA1-4C2E-81F1-DDAC369D63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ACEDC-80A9-4FD9-BEF7-60E7B0D36C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8BF75-3BCF-4067-9941-68960C5518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D3E3A-B994-4E33-A99D-B4A5B71434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9680E-443C-4CE3-B08B-10EACCFD91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560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37680" y="198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52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560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37680" y="405072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92CC5-1108-4C73-90C9-8573AD48C6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28F77-A0C3-4DE4-8DE5-2BC05B09D1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65B6C-80B7-4196-BABF-DCDBCEA25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E8374-79EF-45BD-8C92-2849955E3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D0692-450B-4646-AE20-F45069A1F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44713-022D-458F-A702-A67FC91EF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7320" y="405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89C7A-2724-4E20-9320-8C9A881B7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7320" y="198072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05072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CF3B9-5D0A-466A-AF91-F12C977B69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1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2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3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4"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8968-95BE-40B9-9003-7E55C2714A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wordCyan" descr=""/>
          <p:cNvPicPr/>
          <p:nvPr/>
        </p:nvPicPr>
        <p:blipFill>
          <a:blip r:embed="rId2"/>
          <a:stretch/>
        </p:blipFill>
        <p:spPr>
          <a:xfrm>
            <a:off x="457200" y="6326280"/>
            <a:ext cx="3276720" cy="2268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809880" y="6402240"/>
            <a:ext cx="5334120" cy="74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5400000">
            <a:off x="5142960" y="3390840"/>
            <a:ext cx="6858000" cy="75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86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7301-5F1C-4AF3-A5AF-69380B7384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wordCyan" descr=""/>
          <p:cNvPicPr/>
          <p:nvPr/>
        </p:nvPicPr>
        <p:blipFill>
          <a:blip r:embed="rId2"/>
          <a:stretch/>
        </p:blipFill>
        <p:spPr>
          <a:xfrm>
            <a:off x="457200" y="6326280"/>
            <a:ext cx="3276720" cy="226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9880" y="6402240"/>
            <a:ext cx="5334120" cy="74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5142960" y="3390840"/>
            <a:ext cx="6858000" cy="75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0492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  <a:ea typeface="Times New Roman"/>
              </a:rPr>
              <a:t>Free and Open Source Software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  <a:ea typeface="Times New Roman"/>
              </a:rPr>
              <a:t>at the US Census Bureau and FedStats: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  <a:ea typeface="Times New Roman"/>
              </a:rPr>
              <a:t>Building Shared Statistical Dissemination Systems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  <a:ea typeface="Times New Roman"/>
              </a:rPr>
              <a:t>Lisa Wolfisch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  <a:ea typeface="Times New Roman"/>
              </a:rPr>
              <a:t>US Census Bureau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  <a:ea typeface="Times New Roman"/>
              </a:rPr>
              <a:t>Open Source at the Census Bureau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Census Bureau has long used open source tools in its IT infrastructure and for application develop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recent survey identified over 125 packages in use and nine planned for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ache, Perl, sendmail, Linux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d reasons for using open source included portability, security, functionality, and stabi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The Need for Better Access to Statistic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ral years ago, the Census Bureau recognized a clear lack of support at Census.gov for the novice user who wanted simple statis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he same time, FedStats.gov wanted to include statistical profiles on its site, with data from various agencies, rather than just act as a portal leading to data at other si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ld one program satisfy the needs of Census &amp; FedStat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.  In 1999, work began on an application to help the novice user access statistical profiles at both si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Rapid Development with Open Sourc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ensus and FedStats teams worked together on a shared database and code base to create a single appl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six months, there was a stable, production-ready version of the software, configurable to create statistical profiles for the “Census QuickFacts” and “FedStats MapStats” applic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ooperative Application Development with Open Sourc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source provided portability that allowed Census and FedStats to share a single application yet maintain different hardware platfo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bust open source tools used include Perl, the Template Toolkit, Apache, and MySQ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4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ontinued Collaboration and Development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aboration continues as these sites attract more users, introducing many to federal statistics for the first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eeds of both applications are considered as the code base changes over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ickFacts/MapStats now inclu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 profiles (in cooperation with the Department of Housing and Urban Developm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matic M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ep linking to more data sets at Census, HUD, and other agenci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8:27:54Z</dcterms:created>
  <dc:creator>ADNET</dc:creator>
  <dc:description/>
  <dc:language>en-US</dc:language>
  <cp:lastModifiedBy>ADNET</cp:lastModifiedBy>
  <dcterms:modified xsi:type="dcterms:W3CDTF">2004-05-11T15:33:22Z</dcterms:modified>
  <cp:revision>7</cp:revision>
  <dc:subject/>
  <dc:title>PowerPoint Presentation</dc:title>
</cp:coreProperties>
</file>