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86535-CBC8-4018-AA55-B2D378BF7D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4D3C8-CBD0-46BA-95E1-67B915323F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EC4A2-BDF7-44C4-94C8-49C6EEA1DD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560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3768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560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3768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F24F2-5F16-4E7D-9D37-3FB3FB7376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DF9F1-F9CA-47EE-9332-2EEAC266EE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76C62-C822-4DB2-AE89-555170ADCE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A8E3B-F568-4B44-9792-3F9B1871B5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D3B67-E6A3-4E23-A224-518226B7ED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CD6FA-A72C-4879-8468-0DB702D2DF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A0AA3-F377-4D0F-B5C0-E98E3AC811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9FAD8-FF6D-4C70-AF77-2ADB1A9FAD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C1A09-01E7-4DBA-9614-6253290C3D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62A6D-3416-40AE-991B-AA1A8C492A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02CCB-8D4A-4807-912A-39C829B220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B709C-EEC6-472A-8824-0B5FC8EF99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4981A-98F0-4A7F-B69B-CFBF6E3146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560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3768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52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560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3768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9B521-9551-4A0E-8812-81BEF3D6FB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C4C1D-1883-489E-942E-45935610A9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C3CAA-3CE8-4EC0-AEBB-FDC11D6CA3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0D5E2-5610-4C87-873B-6DED008008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4A176-6E2B-4E01-AB65-3219900B22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E71AF-7C97-499E-A589-D5AA117A78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EE9FA-1354-48F1-B6C0-02134802B5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39B77-9788-42A8-9CE7-752B902020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1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2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3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4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8351-D100-4BAC-B86D-85D9BE4308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wordCyan" descr=""/>
          <p:cNvPicPr/>
          <p:nvPr/>
        </p:nvPicPr>
        <p:blipFill>
          <a:blip r:embed="rId2"/>
          <a:stretch/>
        </p:blipFill>
        <p:spPr>
          <a:xfrm>
            <a:off x="457200" y="6326280"/>
            <a:ext cx="3276720" cy="2268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809880" y="6402240"/>
            <a:ext cx="5334120" cy="74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5400000">
            <a:off x="5142960" y="3390840"/>
            <a:ext cx="6858000" cy="75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86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2E55-A8F5-48CF-A8E2-DC94BF87E8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wordCyan" descr=""/>
          <p:cNvPicPr/>
          <p:nvPr/>
        </p:nvPicPr>
        <p:blipFill>
          <a:blip r:embed="rId2"/>
          <a:stretch/>
        </p:blipFill>
        <p:spPr>
          <a:xfrm>
            <a:off x="457200" y="6326280"/>
            <a:ext cx="3276720" cy="226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9880" y="6402240"/>
            <a:ext cx="5334120" cy="74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5142960" y="3390840"/>
            <a:ext cx="6858000" cy="75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30492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  <a:ea typeface="Times New Roman"/>
              </a:rPr>
              <a:t>Free and Open Source Software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  <a:ea typeface="Times New Roman"/>
              </a:rPr>
              <a:t>at the US Census Bureau and FedStats: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  <a:ea typeface="Times New Roman"/>
              </a:rPr>
              <a:t>Building Shared Statistical Dissemination Systems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  <a:ea typeface="Times New Roman"/>
              </a:rPr>
              <a:t>Lisa Wolfisch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  <a:ea typeface="Times New Roman"/>
              </a:rPr>
              <a:t>US Census Bureau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  <a:ea typeface="Times New Roman"/>
              </a:rPr>
              <a:t>Open Source at the Census Bureau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Census Bureau has long used open source tools in its IT infrastructure and for application develop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recent survey identified over 125 packages in use and nine planned for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ache, Perl, sendmail, Linux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ed reasons for using open source included portability, security, functionality, and stabi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The Need for Better Access to Statistic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ral years ago, the Census Bureau recognized a clear lack of support at Census.gov for the novice user who wanted simple statis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the same time, FedStats.gov wanted to include statistical profiles on its site, with data from various agencies, rather than just act as a portal leading to data at other si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ld one program satisfy the needs of Census &amp; FedStat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.  In 1999, work began on an application to help the novice user access statistical profiles at both si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Rapid Development with Open Source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ensus and FedStats teams worked together on a shared database and code base to create a single appl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six months, there was a stable, production-ready version of the software, configurable to create statistical profiles for the “Census QuickFacts” and “FedStats MapStats” applic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ooperative Application Development with Open Source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source provided portability that allowed Census and FedStats to share a single application yet maintain different hardware platfo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bust open source tools used include Perl, the Template Toolkit, Apache, and MySQ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ontinued Collaboration and Development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aboration continues as these sites attract more users, introducing many to federal statistics for the first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eeds of both applications are considered as the code base changes over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ickFacts/MapStats now inclu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y profiles (in cooperation with the Department of Housing and Urban Developm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matic Ma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ep linking to more data sets at Census, HUD, and other agenci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8:27:54Z</dcterms:created>
  <dc:creator>ADNET</dc:creator>
  <dc:description/>
  <dc:language>en-US</dc:language>
  <cp:lastModifiedBy>ADNET</cp:lastModifiedBy>
  <dcterms:modified xsi:type="dcterms:W3CDTF">2004-05-11T15:33:22Z</dcterms:modified>
  <cp:revision>7</cp:revision>
  <dc:subject/>
  <dc:title>PowerPoint Presentation</dc:title>
</cp:coreProperties>
</file>