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6DD-4179-4A5B-85AE-0718E158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AA0-7AE8-4D87-967A-4488CE63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8E4-9A1C-4757-8BC4-1FC72DC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166-0901-4AD7-A9B2-8C8159EA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315-73F1-4433-9AF0-48BF630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DBE-26E3-4CFE-8496-3C7B50E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85E-0894-438E-9ACF-3D831D8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9B0-9C9E-4FBE-B182-2E3D69F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213-31EE-4607-A612-CC0F4BE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9C8-F478-4017-9D4B-F245F6CB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305-C66F-4670-BAB7-2161C8B0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DEE-0C04-4955-A2A2-DCD4670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1B7547-50B0-4518-A64D-7F5F7828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092240" y="1809360"/>
            <a:ext cx="7226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71440"/>
            <a:ext cx="783612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Joint ECE/Eurostat/OECD Meeting on the Management of Statistical Information Systems (MSI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eneva, 17-19 Ma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Topic (iii): Open source and software consortia i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600" spc="-1" strike="noStrike">
                <a:solidFill>
                  <a:srgbClr val="0033cc"/>
                </a:solidFill>
                <a:latin typeface="Arial"/>
              </a:rPr>
              <a:t>The PC-Axis Software Family          a ”Consortium” for output d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 Nordbä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.nordback@scb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Web dynamic tab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1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8220240" y="6184800"/>
            <a:ext cx="923760" cy="67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03240" y="628560"/>
            <a:ext cx="76676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i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95400" y="1031760"/>
            <a:ext cx="81486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86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2a40c3"/>
                </a:solidFill>
                <a:latin typeface="Arial Black"/>
              </a:rPr>
              <a:t>PX-Web application generator</a:t>
            </a:r>
            <a:endParaRPr b="0" lang="en-US" sz="32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958680"/>
            <a:ext cx="731520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41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620720" y="1303200"/>
            <a:ext cx="7255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4520" y="3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SQL Macro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50960" y="958680"/>
            <a:ext cx="708660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3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73280" y="1285920"/>
            <a:ext cx="70484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1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Publ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958680"/>
            <a:ext cx="727704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84360" y="1290600"/>
            <a:ext cx="7367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7620120" y="5746680"/>
            <a:ext cx="1523880" cy="1111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9680" y="-36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The function of the PC-Axis “consortium”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0040" y="13204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s Sweden as the leading country managing the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C-Axis International Reference Group for all parties outside Sweden using PC-Axis as a dissemination t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ic kernel for cooperation in the output database area where Denmark, Norway and Sweden are using the same 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wedish user group for the use of PX-Web applications in other organisations in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user group at Statistics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rd where some of the main end users are consulted concerning the development of Sweden’s Statistic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teering committee for the Data Base Project at Statistics Sweden, where PC-Axis constitutes one of the important 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11746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47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0440"/>
            <a:ext cx="2346480" cy="171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1447920"/>
            <a:ext cx="72388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08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 Black"/>
              </a:rPr>
              <a:t>Countries using the PC-Axis family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66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14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67652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: Croatia, Denmark, Estonia, Finland, Ireland, Iceland, Latvia, Lithuania, Norway, Slovenia, Spain, Sweden and UN/ECE in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ia: Taiwan, 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ka: Algeria, Kuwait, East Africa Community, Namibia, Uganda,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th America: Bolivia and 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ussions with Slovakia and 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6320" y="-637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to describe the PC-Axis family are: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88960" y="13456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of statistics online (PX-Web or PX-Web components) and off line (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tables – pivot function (PX-Web and 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to different file formats (PX-Web and PC-Axis) i.e. Excel, Lotus, txt, etc. and for PC-Axis only Gesmes/TS (and XML when a DTD is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base (PC-Axis database and/or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mensional Matrices/Cubicles/Boxes (PC-Axis files and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rich data model in SQL and in the PC-Axis fil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(PC-Axis) and Internet (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4960" y="98424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19920" y="5235480"/>
            <a:ext cx="22240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7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(continued)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6760" y="1155240"/>
            <a:ext cx="72262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Axis files in a catalogue structure forms a PC-Axis database and is accessed without using SQL (PC-Axis Main module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extension (Sybase/Oracle/MS-SQL-Server) for a SQL database structured according to the common macro meta data model (PC-Axis SQL and in some cases PX-Web components and PC-Axis/PX-Batch components in Internet User Interface to a macro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facilities (PC-Axis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(PX-i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(PX-Map and PX-i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of PC-Axis files from different sources (PC-Axis SQL, PX-Batch, PX-Make, PX-Edit and the Australian SuperStar/Super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 direct from a SQL or a PC-Axis database inserted into MS-Word or MS-Excel (PX-Pub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main modu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84360" y="1343160"/>
            <a:ext cx="6802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82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file forma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9716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46280" y="1359000"/>
            <a:ext cx="8397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568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460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96960" y="1289160"/>
            <a:ext cx="68216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896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Mak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2800" y="95868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84360" y="1177920"/>
            <a:ext cx="6838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3000" y="4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Edi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9440" y="996840"/>
            <a:ext cx="689616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8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71760" y="1295280"/>
            <a:ext cx="6875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PX-Web, disseminating dynamic table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952880" cy="435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83808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4610160" cy="433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057400" y="198108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990720" y="3048120"/>
            <a:ext cx="4343400" cy="320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"/>
            <a:ext cx="685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ame way of accessing statistics from a lot of different Statistical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585720" cy="838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5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124080" y="2133720"/>
            <a:ext cx="6543720" cy="5162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3962520" y="3124080"/>
            <a:ext cx="4038480" cy="357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0" y="5334120"/>
            <a:ext cx="5681520" cy="458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5105520" y="20574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1600200" y="4483080"/>
            <a:ext cx="5929200" cy="474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362320" y="5261040"/>
            <a:ext cx="4271760" cy="3193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6576840" y="914400"/>
            <a:ext cx="5134320" cy="426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5943600" y="2438280"/>
            <a:ext cx="452448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3429000" y="4952880"/>
            <a:ext cx="5033880" cy="4440240"/>
          </a:xfrm>
          <a:prstGeom prst="rect">
            <a:avLst/>
          </a:prstGeom>
          <a:ln w="0">
            <a:noFill/>
          </a:ln>
        </p:spPr>
      </p:pic>
      <p:pic>
        <p:nvPicPr>
          <p:cNvPr id="103" name="powered_by_pxweb" descr=""/>
          <p:cNvPicPr/>
          <p:nvPr/>
        </p:nvPicPr>
        <p:blipFill>
          <a:blip r:embed="rId18"/>
          <a:stretch/>
        </p:blipFill>
        <p:spPr>
          <a:xfrm>
            <a:off x="8229600" y="457200"/>
            <a:ext cx="91440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4495680" y="4594320"/>
            <a:ext cx="54198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5048280" y="5791320"/>
            <a:ext cx="4095720" cy="375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5638680" y="3352680"/>
            <a:ext cx="6257880" cy="495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6494400" y="4186080"/>
            <a:ext cx="5297400" cy="5343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7238880" y="3914640"/>
            <a:ext cx="8458200" cy="588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8001000" y="4572000"/>
            <a:ext cx="7067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17:11Z</dcterms:created>
  <dc:creator>scblano</dc:creator>
  <dc:description/>
  <dc:language>en-US</dc:language>
  <cp:lastModifiedBy>scblano</cp:lastModifiedBy>
  <cp:lastPrinted>1999-10-12T13:01:02Z</cp:lastPrinted>
  <dcterms:modified xsi:type="dcterms:W3CDTF">2004-05-14T08:48:38Z</dcterms:modified>
  <cp:revision>12</cp:revision>
  <dc:subject/>
  <dc:title>Rubrik</dc:title>
</cp:coreProperties>
</file>