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CE0-5412-4404-B728-3575DE1D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A16-3E7F-4232-B33D-95950D9B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912-DA0A-4947-9CDB-5A83DA7A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CB4D-3779-4B2F-B45C-801F42D0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21A5-49B8-41D3-9BEE-291F1BAE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868-0127-4DB5-96DC-7D18EC18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A49-FA15-46AD-AB3D-DDC30EF8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95E-935D-4BC6-93B0-7332507F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9D9-17AD-4299-95B2-FB60B0F6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8019-1D08-418F-957C-02B8E3B1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898-836B-4D81-826A-FE20B8CF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690-DF08-4868-80D0-0522157F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2a40c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9CA2E58-143E-480D-A0AB-9DD30AC3B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8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å-vita-siffror" descr=""/>
          <p:cNvPicPr/>
          <p:nvPr/>
        </p:nvPicPr>
        <p:blipFill>
          <a:blip r:embed="rId1"/>
          <a:srcRect l="0" t="0" r="0" b="45037"/>
          <a:stretch/>
        </p:blipFill>
        <p:spPr>
          <a:xfrm>
            <a:off x="6975360" y="5276880"/>
            <a:ext cx="2168640" cy="1581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092240" y="1809360"/>
            <a:ext cx="7226280" cy="1260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tående-logga-vit" descr=""/>
          <p:cNvPicPr/>
          <p:nvPr/>
        </p:nvPicPr>
        <p:blipFill>
          <a:blip r:embed="rId2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271440"/>
            <a:ext cx="7836120" cy="59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33cc"/>
                </a:solidFill>
                <a:latin typeface="Arial"/>
              </a:rPr>
              <a:t>Joint ECE/Eurostat/OECD Meeting on the Management of Statistical Information Systems (MSIS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Geneva, 17-19 May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33cc"/>
                </a:solidFill>
                <a:latin typeface="Arial"/>
              </a:rPr>
              <a:t>Topic (iii): Open source and software consortia in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600" spc="-1" strike="noStrike">
                <a:solidFill>
                  <a:srgbClr val="0033cc"/>
                </a:solidFill>
                <a:latin typeface="Arial"/>
              </a:rPr>
              <a:t>The PC-Axis Software Family          a ”Consortium” for output datab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33cc"/>
                </a:solidFill>
                <a:latin typeface="Arial"/>
              </a:rPr>
              <a:t>Lars Nordbä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33cc"/>
                </a:solidFill>
                <a:latin typeface="Arial"/>
              </a:rPr>
              <a:t>lars.nordback@scb.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3920" y="-152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X-Web dynamic table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15920" y="743040"/>
            <a:ext cx="1943280" cy="1260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14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8220240" y="6184800"/>
            <a:ext cx="923760" cy="67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03240" y="628560"/>
            <a:ext cx="766764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3920" y="-152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X-iMap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15920" y="743040"/>
            <a:ext cx="1943280" cy="1260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20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995400" y="1031760"/>
            <a:ext cx="81486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886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200" spc="-1" strike="noStrike">
                <a:solidFill>
                  <a:srgbClr val="2a40c3"/>
                </a:solidFill>
                <a:latin typeface="Arial Black"/>
              </a:rPr>
              <a:t>PX-Web application generator</a:t>
            </a:r>
            <a:endParaRPr b="0" lang="en-US" sz="32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958680"/>
            <a:ext cx="7315200" cy="1296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26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82412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620720" y="1303200"/>
            <a:ext cx="72550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4520" y="31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C-Axis SQL Macro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50960" y="958680"/>
            <a:ext cx="708660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33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673280" y="1285920"/>
            <a:ext cx="704844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1920" y="-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X-Publ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600200" y="958680"/>
            <a:ext cx="7277040" cy="1296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39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584360" y="1290600"/>
            <a:ext cx="73674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rå-vita-siffror" descr=""/>
          <p:cNvPicPr/>
          <p:nvPr/>
        </p:nvPicPr>
        <p:blipFill>
          <a:blip r:embed="rId1"/>
          <a:srcRect l="0" t="0" r="0" b="45037"/>
          <a:stretch/>
        </p:blipFill>
        <p:spPr>
          <a:xfrm>
            <a:off x="7620120" y="5746680"/>
            <a:ext cx="1523880" cy="11113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9680" y="-360"/>
            <a:ext cx="77439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"/>
                <a:ea typeface="Times New Roman"/>
              </a:rPr>
              <a:t>The function of the PC-Axis “consortium”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00040" y="1320480"/>
            <a:ext cx="74296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tistics Sweden as the leading country managing the co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C-Axis International Reference Group for all parties outside Sweden using PC-Axis as a dissemination to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Nordic kernel for cooperation in the output database area where Denmark, Norway and Sweden are using the same data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Swedish user group for the use of PX-Web applications in other organisations in Swe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internal user group at Statistics Swe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board where some of the main end users are consulted concerning the development of Sweden’s Statistic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steering committee for the Data Base Project at Statistics Sweden, where PC-Axis constitutes one of the important ingred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98680" y="117468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Stående-logga-vit" descr=""/>
          <p:cNvPicPr/>
          <p:nvPr/>
        </p:nvPicPr>
        <p:blipFill>
          <a:blip r:embed="rId2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47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0440"/>
            <a:ext cx="2346480" cy="1711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71600" y="1447920"/>
            <a:ext cx="723888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38088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 Black"/>
              </a:rPr>
              <a:t>Countries using the PC-Axis family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7668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1448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1676520"/>
            <a:ext cx="78487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urope: Croatia, Denmark, Estonia, Finland, Ireland, Iceland, Latvia, Lithuania, Norway, Slovenia, Spain, Sweden and UN/ECE in 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ia: Taiwan, The Philipp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rika: Algeria, Kuwait, East Africa Community, Namibia, Uganda, 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th America: Bolivia and Braz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cussions with Slovakia and Tanz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rå-vita-siffror" descr=""/>
          <p:cNvPicPr/>
          <p:nvPr/>
        </p:nvPicPr>
        <p:blipFill>
          <a:blip r:embed="rId1"/>
          <a:srcRect l="0" t="0" r="0" b="45037"/>
          <a:stretch/>
        </p:blipFill>
        <p:spPr>
          <a:xfrm>
            <a:off x="6975360" y="5276880"/>
            <a:ext cx="2168640" cy="1581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6320" y="-63720"/>
            <a:ext cx="740412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"/>
                <a:ea typeface="Times New Roman"/>
              </a:rPr>
              <a:t>Keywords to describe the PC-Axis family are: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88960" y="1345680"/>
            <a:ext cx="74296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emination of statistics online (PX-Web or PX-Web components) and off line (PC-Axis Main mo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tables – pivot function (PX-Web and PC-Axis Main mo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ion to different file formats (PX-Web and PC-Axis) i.e. Excel, Lotus, txt, etc. and for PC-Axis only Gesmes/TS (and XML when a DTD is avail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database (PC-Axis database and/or SQL data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dimensional Matrices/Cubicles/Boxes (PC-Axis files and SQL data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rich data model in SQL and in the PC-Axis file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(PC-Axis) and Internet (PX-We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34960" y="984240"/>
            <a:ext cx="678204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ående-logga-vit" descr=""/>
          <p:cNvPicPr/>
          <p:nvPr/>
        </p:nvPicPr>
        <p:blipFill>
          <a:blip r:embed="rId2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å-vita-siffror" descr=""/>
          <p:cNvPicPr/>
          <p:nvPr/>
        </p:nvPicPr>
        <p:blipFill>
          <a:blip r:embed="rId1"/>
          <a:srcRect l="0" t="0" r="0" b="45037"/>
          <a:stretch/>
        </p:blipFill>
        <p:spPr>
          <a:xfrm>
            <a:off x="6919920" y="5235480"/>
            <a:ext cx="2224080" cy="1622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97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"/>
                <a:ea typeface="Times New Roman"/>
              </a:rPr>
              <a:t>Keywords (continued)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6760" y="1155240"/>
            <a:ext cx="72262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-Axis files in a catalogue structure forms a PC-Axis database and is accessed without using SQL (PC-Axis Main module and PX-We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-extension (Sybase/Oracle/MS-SQL-Server) for a SQL database structured according to the common macro meta data model (PC-Axis SQL and in some cases PX-Web components and PC-Axis/PX-Batch components in Internet User Interface to a macro data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ing facilities (PC-Axis and PX-We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s (PX-iGrap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s (PX-Map and PX-i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of PC-Axis files from different sources (PC-Axis SQL, PX-Batch, PX-Make, PX-Edit and the Australian SuperStar/SuperCro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bles direct from a SQL or a PC-Axis database inserted into MS-Word or MS-Excel (PX-Pub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99684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tående-logga-vit" descr=""/>
          <p:cNvPicPr/>
          <p:nvPr/>
        </p:nvPicPr>
        <p:blipFill>
          <a:blip r:embed="rId2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-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C-Axis main module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99684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59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84360" y="1343160"/>
            <a:ext cx="680256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360" y="820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C-Axis file format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97164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64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46280" y="1359000"/>
            <a:ext cx="839772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360" y="568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X-Map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94608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70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596960" y="1289160"/>
            <a:ext cx="68216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8896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 Black"/>
              </a:rPr>
              <a:t>PX-Make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12800" y="958680"/>
            <a:ext cx="678204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76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584360" y="1177920"/>
            <a:ext cx="683892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13000" y="4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 Black"/>
              </a:rPr>
              <a:t>PX-Edit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49440" y="996840"/>
            <a:ext cx="689616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82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571760" y="1295280"/>
            <a:ext cx="68752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5050"/>
                </a:solidFill>
                <a:latin typeface="Times New Roman"/>
              </a:rPr>
              <a:t>PX-Web, disseminating dynamic tables on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952880" cy="4357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62520" y="838080"/>
            <a:ext cx="5181480" cy="4202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2523960"/>
            <a:ext cx="4610160" cy="4334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057400" y="198108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990720" y="3048120"/>
            <a:ext cx="4343400" cy="320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19320" y="457200"/>
            <a:ext cx="6858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same way of accessing statistics from a lot of different Statistical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0"/>
          <a:ext cx="585720" cy="8380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585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3124080" y="2133720"/>
            <a:ext cx="6543720" cy="5162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3962520" y="3124080"/>
            <a:ext cx="4038480" cy="357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>
            <a:off x="0" y="5334120"/>
            <a:ext cx="5681520" cy="458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5105520" y="2057400"/>
            <a:ext cx="2819160" cy="272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3"/>
          <a:stretch/>
        </p:blipFill>
        <p:spPr>
          <a:xfrm>
            <a:off x="1600200" y="4483080"/>
            <a:ext cx="5929200" cy="4748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4"/>
          <a:stretch/>
        </p:blipFill>
        <p:spPr>
          <a:xfrm>
            <a:off x="2362320" y="5261040"/>
            <a:ext cx="4271760" cy="3193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5"/>
          <a:stretch/>
        </p:blipFill>
        <p:spPr>
          <a:xfrm>
            <a:off x="6576840" y="914400"/>
            <a:ext cx="5134320" cy="426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6"/>
          <a:stretch/>
        </p:blipFill>
        <p:spPr>
          <a:xfrm>
            <a:off x="5943600" y="2438280"/>
            <a:ext cx="4524480" cy="3990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7"/>
          <a:stretch/>
        </p:blipFill>
        <p:spPr>
          <a:xfrm>
            <a:off x="3429000" y="4952880"/>
            <a:ext cx="5033880" cy="4440240"/>
          </a:xfrm>
          <a:prstGeom prst="rect">
            <a:avLst/>
          </a:prstGeom>
          <a:ln w="0">
            <a:noFill/>
          </a:ln>
        </p:spPr>
      </p:pic>
      <p:pic>
        <p:nvPicPr>
          <p:cNvPr id="103" name="powered_by_pxweb" descr=""/>
          <p:cNvPicPr/>
          <p:nvPr/>
        </p:nvPicPr>
        <p:blipFill>
          <a:blip r:embed="rId18"/>
          <a:stretch/>
        </p:blipFill>
        <p:spPr>
          <a:xfrm>
            <a:off x="8229600" y="457200"/>
            <a:ext cx="914400" cy="3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9"/>
          <a:stretch/>
        </p:blipFill>
        <p:spPr>
          <a:xfrm>
            <a:off x="4495680" y="4594320"/>
            <a:ext cx="541980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0"/>
          <a:stretch/>
        </p:blipFill>
        <p:spPr>
          <a:xfrm>
            <a:off x="5048280" y="5791320"/>
            <a:ext cx="4095720" cy="3759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1"/>
          <a:stretch/>
        </p:blipFill>
        <p:spPr>
          <a:xfrm>
            <a:off x="5638680" y="3352680"/>
            <a:ext cx="6257880" cy="495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2"/>
          <a:stretch/>
        </p:blipFill>
        <p:spPr>
          <a:xfrm>
            <a:off x="6494400" y="4186080"/>
            <a:ext cx="5297400" cy="5343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3"/>
          <a:stretch/>
        </p:blipFill>
        <p:spPr>
          <a:xfrm>
            <a:off x="7238880" y="3914640"/>
            <a:ext cx="8458200" cy="588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4"/>
          <a:stretch/>
        </p:blipFill>
        <p:spPr>
          <a:xfrm>
            <a:off x="8001000" y="4572000"/>
            <a:ext cx="7067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5:17:11Z</dcterms:created>
  <dc:creator>scblano</dc:creator>
  <dc:description/>
  <dc:language>en-US</dc:language>
  <cp:lastModifiedBy>scblano</cp:lastModifiedBy>
  <cp:lastPrinted>1999-10-12T13:01:02Z</cp:lastPrinted>
  <dcterms:modified xsi:type="dcterms:W3CDTF">2004-05-14T08:48:38Z</dcterms:modified>
  <cp:revision>12</cp:revision>
  <dc:subject/>
  <dc:title>Rubrik</dc:title>
</cp:coreProperties>
</file>