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7663-30AD-4B13-8837-CFDF79C7B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is free – but migration / training / support costs to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with the holder / issuer of lic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users are potential developers and testers, and can optionally refer changes to the holder or oth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ependence on proprietary products or imposed migration to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 complete code is available – no hidden do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ility – but could be problematic with proprietary documents and file forma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is free of charge – no guarant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er requires support – distribution, licenses, updating of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dependence on (e.g.) MS Windows, including local standard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costs  -  training / lack of pre-installed systems / existing contr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esources – new skil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licensing scheme or alternative sche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e existing software to all partners as OSS?  -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developments – co-ordination, support, localisation,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repository (or centralised co-ordination) – administration by wh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A project on statistical OSS – aims and objectiv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25360" y="68436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and the meeting paper reflect the views of the authors on possible OSS implications for Eurost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a Eurostat policy of  taking OSS into account for future projects, strategic decisions will be required with regard to both releasing products as OSS and using Open Source products within the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sing OSS is gaining momentum and the EU Commission, in line with other institutions and government agencies, is considering the issue as part of eGovernment strategy. Various reports and studies, along with the evolving policy within the Commission, need to be considered by Eurost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D – Collection of Raw Da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s retained by the holder. Ensures software is always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fully open source, licenses should comply with the Open Source Definition (OSD) – see appendix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ware is software which is for a specific purpose and is distributed free of charge but with no freedom to modify, adapt, incorpo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domain relinquishes all rights to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licenses are attached to meeting d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are examples only -  many mo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er can create own specific lic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rights remain with the software at re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es may suggest modifications to the holder, who can decide whether or not to incorporate these chang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RCA – Communication and Information Resources Centre Administra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icensed to European administrations – 3 ye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mercial use exclud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IPES – Statistical Interrogation of Popular European Softw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le format converter completed Feb 200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RD proposal – release as O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P/CN8 – Intrasat Data Entry pack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entrally supported at Eurostat until end of 200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urce code now released to MSs under legal agre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trictions as to use, but freedom to further develo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DI – Generic ED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verts text files to GESM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eased as freew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D738595-67B4-49C9-BC96-D92608201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1E2BCD2-2BF7-4AA4-9BD2-7ADC96E99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C668023-E4B8-49F5-93E2-DB7B6E75570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394F8D0-1467-40B6-BD22-BBD14BB33D4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6BB0A-1B3E-4E13-8325-448C449A1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FCA9B-61A1-41E7-9EFD-6A0A162A0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41D86-212F-49DB-A939-F953FF44A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31EB0-5FED-40EC-BF2A-A8EDAADA9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DB142-C22A-41A6-BE69-37B167580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4BE36-6A35-4386-BE3D-CE2C1C4BA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4AE21-B592-4AEC-9494-0C9FA66A4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D505BA6-0C0A-4E29-A0FC-4A8B53AA1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5AA8D-C308-46EF-8789-C75952CB8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59249-1185-40EB-B70F-FF29908DB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0BBBA-7A10-4152-A5E2-31C06FBE1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58555-C7A9-4AA6-8689-B341B2A49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4FF7D-E122-4F1E-9F98-C53C5E10C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549DAEA-A471-4CFA-A4EB-32DD869AA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419E1C0-3C1E-422C-AD20-80D8B443F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5CB97BA-B82A-420E-88D7-BE2BDFC33A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DD9C705-C8ED-4AC9-A10A-DA91BF4E5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CD3AF64-1E1C-4888-99F2-FCCA430CEE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C6B887E-F261-4C0F-A32A-67333777DB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26A444B-D761-4EA4-937C-4CBFA3B2F9B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884E-BFF0-481F-B780-23EB3578B2E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75B7-8750-4719-9F4F-C36FD4FF4C7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europa.eu.int/ISPO/ida" TargetMode="External"/><Relationship Id="rId4" Type="http://schemas.openxmlformats.org/officeDocument/2006/relationships/hyperlink" Target="http://europa.eu.int/ISPO/ida" TargetMode="Externa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def6"/>
                </a:solidFill>
                <a:latin typeface="Arial"/>
              </a:rPr>
              <a:t>Open</a:t>
            </a:r>
            <a:r>
              <a:rPr b="0" lang="en-US" sz="5400" spc="-1" strike="noStrike">
                <a:solidFill>
                  <a:srgbClr val="dfdef6"/>
                </a:solidFill>
                <a:latin typeface="Arial"/>
              </a:rPr>
              <a:t> </a:t>
            </a:r>
            <a:r>
              <a:rPr b="1" lang="en-US" sz="5400" spc="-1" strike="noStrike">
                <a:solidFill>
                  <a:srgbClr val="dfdef6"/>
                </a:solidFill>
                <a:latin typeface="Arial"/>
              </a:rPr>
              <a:t>Source Software (OSS)</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UROSTAT</a:t>
            </a:r>
            <a:endParaRPr b="0" lang="en-US" sz="20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uthors:</a:t>
            </a:r>
            <a:r>
              <a:rPr b="1" lang="en-GB" sz="2000" spc="-1" strike="noStrike">
                <a:solidFill>
                  <a:srgbClr val="ffffff"/>
                </a:solidFill>
                <a:latin typeface="Arial"/>
              </a:rPr>
              <a:t> </a:t>
            </a:r>
            <a:r>
              <a:rPr b="1" lang="en-GB" sz="1000" spc="-1" strike="noStrike">
                <a:solidFill>
                  <a:srgbClr val="ffffff"/>
                </a:solidFill>
                <a:latin typeface="Arial"/>
              </a:rPr>
              <a:t>Brendan McAvinue, Leonhard Maqua, Uwe Kunzl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Benefits of OSS</a:t>
            </a:r>
            <a:endParaRPr b="0" lang="en-US" sz="4400" spc="-1" strike="noStrike">
              <a:solidFill>
                <a:srgbClr val="dfdef6"/>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is free of charg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is protect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and testing is ongoing</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dependence on dominant proprietary</a:t>
            </a:r>
            <a:r>
              <a:rPr b="0" lang="en-US" sz="2400" spc="-1" strike="noStrike">
                <a:solidFill>
                  <a:srgbClr val="ffffff"/>
                </a:solidFill>
                <a:latin typeface="Arial"/>
              </a:rPr>
              <a:t> </a:t>
            </a:r>
            <a:r>
              <a:rPr b="1" lang="en-US" sz="2400" spc="-1" strike="noStrike">
                <a:solidFill>
                  <a:srgbClr val="ffffff"/>
                </a:solidFill>
                <a:latin typeface="Arial"/>
              </a:rPr>
              <a:t>system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Drawbacks to OSS</a:t>
            </a:r>
            <a:endParaRPr b="0" lang="en-US" sz="44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warranties or accountability</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chnical and administrative support required by the holder</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dependence on existing in-house systems</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gration costs</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uman resources</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Conclusions</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S is feasibl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cial to public administration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cations for administrative and technical resource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gration to OSS should be systematic</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 Eurostat products could be OS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Discussion Topics</a:t>
            </a:r>
            <a:endParaRPr b="0" lang="en-US" sz="44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censing scheme for the ES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ing software as OS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only developed open source produc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ntral repository of statistical OS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A project on statistical O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EUROSTAT</a:t>
            </a:r>
            <a:r>
              <a:rPr b="0" lang="en-US" sz="4400" spc="-1" strike="noStrike">
                <a:solidFill>
                  <a:srgbClr val="dfdef6"/>
                </a:solidFill>
                <a:latin typeface="Arial"/>
              </a:rPr>
              <a:t> </a:t>
            </a:r>
            <a:r>
              <a:rPr b="1" lang="en-US" sz="4400" spc="-1" strike="noStrike">
                <a:solidFill>
                  <a:srgbClr val="dfdef6"/>
                </a:solidFill>
                <a:latin typeface="Arial"/>
              </a:rPr>
              <a:t>and</a:t>
            </a:r>
            <a:r>
              <a:rPr b="0" lang="en-US" sz="4400" spc="-1" strike="noStrike">
                <a:solidFill>
                  <a:srgbClr val="dfdef6"/>
                </a:solidFill>
                <a:latin typeface="Arial"/>
              </a:rPr>
              <a:t> </a:t>
            </a:r>
            <a:r>
              <a:rPr b="1" lang="en-US" sz="4400" spc="-1" strike="noStrike">
                <a:solidFill>
                  <a:srgbClr val="dfdef6"/>
                </a:solidFill>
                <a:latin typeface="Arial"/>
              </a:rPr>
              <a:t>OSS</a:t>
            </a: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defined position on O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ining momentum</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be considered for new project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decisions required</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ne with Commission polic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Eurostat Proposal 2002</a:t>
            </a:r>
            <a:endParaRPr b="0" lang="en-US" sz="4400" spc="-1" strike="noStrike">
              <a:solidFill>
                <a:srgbClr val="dfdef6"/>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RD Task For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 a central OSS group within the European Statistical System</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central repository of statistical O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What is OSS ?</a:t>
            </a:r>
            <a:endParaRPr b="0" lang="en-US" sz="4400" spc="-1" strike="noStrike">
              <a:solidFill>
                <a:srgbClr val="dfdef6"/>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pyright is retained</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ributed under licens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restrictions but not many</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freewar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dom to modify</a:t>
            </a:r>
            <a:endParaRPr b="0" lang="en-US" sz="28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public domain</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righ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Examples of OSS</a:t>
            </a:r>
            <a:endParaRPr b="0" lang="en-US" sz="4400" spc="-1" strike="noStrike">
              <a:solidFill>
                <a:srgbClr val="dfdef6"/>
              </a:solidFill>
              <a:latin typeface="Arial"/>
            </a:endParaRPr>
          </a:p>
        </p:txBody>
      </p:sp>
      <p:sp>
        <p:nvSpPr>
          <p:cNvPr id="53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ACHE</a:t>
            </a:r>
            <a:r>
              <a:rPr b="0" lang="en-GB" sz="2800" spc="-1" strike="noStrike">
                <a:solidFill>
                  <a:srgbClr val="ffffff"/>
                </a:solidFill>
                <a:latin typeface="Arial"/>
              </a:rPr>
              <a:t> – runs over 50% of web serv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IND</a:t>
            </a:r>
            <a:r>
              <a:rPr b="0" lang="en-GB" sz="2800" spc="-1" strike="noStrike">
                <a:solidFill>
                  <a:srgbClr val="ffffff"/>
                </a:solidFill>
                <a:latin typeface="Arial"/>
              </a:rPr>
              <a:t> – software providing domain for entire web servi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NUX</a:t>
            </a:r>
            <a:r>
              <a:rPr b="0" lang="en-GB" sz="2800" spc="-1" strike="noStrike">
                <a:solidFill>
                  <a:srgbClr val="ffffff"/>
                </a:solidFill>
                <a:latin typeface="Arial"/>
              </a:rPr>
              <a:t> – free operating syst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IRCA</a:t>
            </a:r>
            <a:r>
              <a:rPr b="0" lang="en-GB" sz="2800" spc="-1" strike="noStrike">
                <a:solidFill>
                  <a:srgbClr val="ffffff"/>
                </a:solidFill>
                <a:latin typeface="Arial"/>
              </a:rPr>
              <a:t> – limited OSS, restricted license, time limt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Licenses</a:t>
            </a: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NU GPL, BSD (Berkley Public License), Own licens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ually very open</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to modify, adapt, integrate, bug fixes, re-distribute</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pyright holder can incorporate chan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Possible OSS at Eurostat</a:t>
            </a:r>
            <a:endParaRPr b="0" lang="en-US" sz="4400" spc="-1" strike="noStrike">
              <a:solidFill>
                <a:srgbClr val="dfdef6"/>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IRCA</a:t>
            </a:r>
            <a:r>
              <a:rPr b="0" lang="en-GB" sz="3200" spc="-1" strike="noStrike">
                <a:solidFill>
                  <a:srgbClr val="ffffff"/>
                </a:solidFill>
                <a:latin typeface="Arial"/>
              </a:rPr>
              <a:t> – Commission groupware tool</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rrently distributed under restricted license</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IPES </a:t>
            </a:r>
            <a:r>
              <a:rPr b="0" lang="en-GB" sz="3200" spc="-1" strike="noStrike">
                <a:solidFill>
                  <a:srgbClr val="ffffff"/>
                </a:solidFill>
                <a:latin typeface="Arial"/>
              </a:rPr>
              <a:t>– generic file converter (2004)</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posal to make it OSS</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DEP/CN8</a:t>
            </a:r>
            <a:r>
              <a:rPr b="0" lang="en-GB" sz="3200" spc="-1" strike="noStrike">
                <a:solidFill>
                  <a:srgbClr val="ffffff"/>
                </a:solidFill>
                <a:latin typeface="Arial"/>
              </a:rPr>
              <a:t> – Intrastat softwar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urce code available under legal agreement</a:t>
            </a:r>
            <a:endParaRPr b="0" lang="en-US" sz="28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GENEDI</a:t>
            </a:r>
            <a:r>
              <a:rPr b="0" lang="en-GB" sz="3200" spc="-1" strike="noStrike">
                <a:solidFill>
                  <a:srgbClr val="ffffff"/>
                </a:solidFill>
                <a:latin typeface="Arial"/>
              </a:rPr>
              <a:t> – GESMES conversion tool</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rrently available as freew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OSS and the Public Sector (1)</a:t>
            </a:r>
            <a:endParaRPr b="0" lang="en-US" sz="44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tilising existing OSS product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gration to Open Source system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listic alternative</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term strategy</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ications for technical and human</a:t>
            </a:r>
            <a:r>
              <a:rPr b="0" lang="en-US" sz="3200" spc="-1" strike="noStrike">
                <a:solidFill>
                  <a:srgbClr val="ffffff"/>
                </a:solidFill>
                <a:latin typeface="Arial"/>
              </a:rPr>
              <a:t> </a:t>
            </a:r>
            <a:r>
              <a:rPr b="1" lang="en-US" sz="3200" spc="-1" strike="noStrike">
                <a:solidFill>
                  <a:srgbClr val="ffffff"/>
                </a:solidFill>
                <a:latin typeface="Arial"/>
              </a:rPr>
              <a:t>resources</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gration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OSS and the Public Sector (2)</a:t>
            </a:r>
            <a:endParaRPr b="0" lang="en-US" sz="4400" spc="-1" strike="noStrike">
              <a:solidFill>
                <a:srgbClr val="dfdef6"/>
              </a:solidFill>
              <a:latin typeface="Arial"/>
            </a:endParaRPr>
          </a:p>
        </p:txBody>
      </p:sp>
      <p:sp>
        <p:nvSpPr>
          <p:cNvPr id="5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mission Studies</a:t>
            </a:r>
            <a:endParaRPr b="0" lang="en-US" sz="32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pen Source in Europe (2001)</a:t>
            </a:r>
            <a:endParaRPr b="0" lang="en-US" sz="28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oling OSS (2002)</a:t>
            </a:r>
            <a:endParaRPr b="0" lang="en-US" sz="28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A OSS Migration Guidelines (2003)</a:t>
            </a:r>
            <a:endParaRPr b="0" lang="en-US" sz="2800" spc="-1" strike="noStrike">
              <a:solidFill>
                <a:srgbClr val="ffffff"/>
              </a:solidFill>
              <a:latin typeface="Arial"/>
            </a:endParaRPr>
          </a:p>
          <a:p>
            <a:pPr lvl="2" marL="1131480" indent="-22608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9999ff"/>
                </a:solidFill>
                <a:uFillTx/>
                <a:latin typeface="Arial"/>
                <a:hlinkClick r:id="rId3"/>
              </a:rPr>
              <a:t>http://</a:t>
            </a:r>
            <a:r>
              <a:rPr b="0" lang="en-GB" sz="2400" spc="-1" strike="noStrike" u="sng">
                <a:solidFill>
                  <a:srgbClr val="9999ff"/>
                </a:solidFill>
                <a:uFillTx/>
                <a:latin typeface="Arial"/>
                <a:hlinkClick r:id="rId4"/>
              </a:rPr>
              <a:t>europa.eu.int/ISPO/ida</a:t>
            </a:r>
            <a:endParaRPr b="0" lang="en-US" sz="2400" spc="-1" strike="noStrike">
              <a:solidFill>
                <a:srgbClr val="ffffff"/>
              </a:solidFill>
              <a:latin typeface="Arial"/>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roposed IDA project</a:t>
            </a:r>
            <a:endParaRPr b="0" lang="en-US" sz="32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Encouraging good practice in the use of OSS in Public Administrations”</a:t>
            </a:r>
            <a:endParaRPr b="0" lang="en-US" sz="2800" spc="-1" strike="noStrike">
              <a:solidFill>
                <a:srgbClr val="ffffff"/>
              </a:solidFill>
              <a:latin typeface="Arial"/>
            </a:endParaRPr>
          </a:p>
          <a:p>
            <a:pPr lvl="2" marL="1131480" indent="-22608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verview and inventory of OSS</a:t>
            </a:r>
            <a:endParaRPr b="0" lang="en-US" sz="2400" spc="-1" strike="noStrike">
              <a:solidFill>
                <a:srgbClr val="ffffff"/>
              </a:solidFill>
              <a:latin typeface="Arial"/>
            </a:endParaRPr>
          </a:p>
          <a:p>
            <a:pPr lvl="2" marL="1131480" indent="-226080">
              <a:lnSpc>
                <a:spcPct val="9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vide technical adv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6:07:17Z</dcterms:created>
  <dc:creator>brendan mcavinue</dc:creator>
  <dc:description/>
  <dc:language>en-US</dc:language>
  <cp:lastModifiedBy>brendan mcavinue</cp:lastModifiedBy>
  <dcterms:modified xsi:type="dcterms:W3CDTF">2004-05-06T12:51:01Z</dcterms:modified>
  <cp:revision>5</cp:revision>
  <dc:subject/>
  <dc:title>Open Source Software (OSS)</dc:title>
</cp:coreProperties>
</file>