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6C4-1F95-4B19-97CD-BC006EC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9B8-BFC0-41FD-880C-452CC2C3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01A-6C13-4320-84CD-4832D9D8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684-BD81-40A4-9A94-0048A9CE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47F-DBA1-4DD1-A743-515EB48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B7D-758E-4AAB-99A4-B2A0DE4A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FDC-2BF4-4B8C-95B5-95FEFFF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84C-7FDB-4410-9EBA-CABE7442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3B1-E9DE-49E2-B1F7-1897759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EB0-4412-426F-8B1B-C3D1827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F46-FBBC-403D-9055-DEDCFB9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018-A23A-4238-BA21-C3750F3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2a40c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2DA2A9-8A2E-4F9F-8557-ED09EE032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7280" y="13330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The IT Policy of Statistics Sweden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80600" y="2933280"/>
            <a:ext cx="6324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78136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45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Components of the policy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37840" y="2285640"/>
            <a:ext cx="632484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verall goals and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uidelines for I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ntent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sponsibility for the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romotion and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8860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Content and application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T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ethodolog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T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perations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58112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5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Development of the policy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7280" y="205704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 one yea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volvment of all IT perso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volvment of the IT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development process almost as important as the policy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173340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43:20Z</dcterms:created>
  <dc:creator>scbperc</dc:creator>
  <dc:description/>
  <dc:language>en-US</dc:language>
  <cp:lastModifiedBy>scbperc</cp:lastModifiedBy>
  <cp:lastPrinted>1999-10-12T13:01:02Z</cp:lastPrinted>
  <dcterms:modified xsi:type="dcterms:W3CDTF">2004-05-04T18:10:05Z</dcterms:modified>
  <cp:revision>2</cp:revision>
  <dc:subject/>
  <dc:title>The IT Policy of Statistics Sweden</dc:title>
</cp:coreProperties>
</file>