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68A-0F86-4FFA-ADAA-537AC866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FD9-4DF6-41BB-897A-3FC052B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908-B80C-4D1A-B1DB-71B01E73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9D0-B1CD-4D89-AA01-B8576126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6BA-E111-400C-84B3-04EFAE97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424-8AF0-4A95-A506-DDB79BFD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083-EA87-4BA4-AF56-B0E89848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8D6-39E4-4E3C-B289-782838A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F03-949A-4880-A0CF-7BB184E6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4A0-FEE9-43B5-8F9A-24714BA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41E-3F1F-4269-AFF7-F06823C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B63-C3DD-4E16-8BF2-6F9317F5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2a40c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CFCD03-3982-4567-8B32-D945AE96C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7280" y="13330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The IT Policy of Statistics Sweden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80600" y="2933280"/>
            <a:ext cx="6324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78136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45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Components of the policy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37840" y="2285640"/>
            <a:ext cx="632484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verall goals and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uidelines for I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ntent an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esponsibility for the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romotion and 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8860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Content and application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T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ethodolog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T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perations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158112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5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Development of the policy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7280" y="205704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 one yea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volvment of all IT perso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volvment of the IT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development process almost as important as the policy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173340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43:20Z</dcterms:created>
  <dc:creator>scbperc</dc:creator>
  <dc:description/>
  <dc:language>en-US</dc:language>
  <cp:lastModifiedBy>scbperc</cp:lastModifiedBy>
  <cp:lastPrinted>1999-10-12T13:01:02Z</cp:lastPrinted>
  <dcterms:modified xsi:type="dcterms:W3CDTF">2004-05-04T18:10:05Z</dcterms:modified>
  <cp:revision>2</cp:revision>
  <dc:subject/>
  <dc:title>The IT Policy of Statistics Sweden</dc:title>
</cp:coreProperties>
</file>