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912600" y="744480"/>
            <a:ext cx="495756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81F704-8D36-4160-A018-1F196525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s: Directorates appreciate the direct control they have over statistical activities that are critical to their work program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CD.Stat seeks to address the disadvantages that can be associated with a decentralised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comer finds it virtually impossible to know how to access the Organisation's statistical data  ..... and very difficult to find out what data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e” of data uncertain: (stable and coherent or in middle of updating, rebas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-understanding of what data represent (lack of meta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plication of 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necessarily long time to 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67AEED-6CC4-4E76-B121-18F8A626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s: Directorates appreciate the direct control they have over statistical activities that are critical to their work program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CD.Stat seeks to address the disadvantages that can be associated with a decentralised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comer finds it virtually impossible to know how to access the Organisation's statistical data  ..... and very difficult to find out what data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e” of data uncertain: (stable and coherent or in middle of updating, rebas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-understanding of what data represent (lack of meta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plication of 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necessarily long time to 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6D2046-56A2-482A-95C1-43107602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FEAD7-9EC8-46E4-B2C0-CE24628D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205E-0B0F-47E5-B40D-9454488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25BA-ECA4-469D-B06F-A763C637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C0BF-375B-4DDE-B805-0A31D2DD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7D7A-115A-433A-BCB2-A8189E17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B0C-564B-4E9D-A734-12CDDC65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B2A-7874-40C9-A2A3-7AA243E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7BE-2A3B-482B-851A-D23F774D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AB0A-114B-40ED-96CF-1E16D04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EA6-DD8A-42D4-96EE-CEC5B10C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D1D7-EF1B-47F7-B554-12D8C8E6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E26-4ECB-4C46-8DEE-CBD5E0C3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1388-9982-4BC7-B0A8-EF784A9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0651-85E8-4598-B4DB-3A5C21F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9E4C-579C-4140-B225-7082777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730E-B2E2-4481-A76D-B4EEBFF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1193-B7BD-4D18-80B9-980EA783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396E-3BE0-4132-8421-A4F39E88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35E2-E556-4EA5-8CC6-46407F0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1033-45C0-4EF4-A41A-F8CADAC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B5F8-5EFD-4005-8E36-98AF066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86DA-5252-43E0-B1E2-03646587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E009-7A58-495E-8B38-824CEA6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6DAA-8CFA-4C22-B67F-55D9CB2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1A8A-9FBC-4971-9EF8-711CF3B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5AA-3DC6-432F-8452-07C8BF8FFB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278-3F8E-4735-B6EE-F8722475D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ee Samue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Building OECD’s New Statistical Information System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68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26920" y="1628640"/>
          <a:ext cx="7632720" cy="4638960"/>
        </p:xfrm>
        <a:graphic>
          <a:graphicData uri="http://schemas.openxmlformats.org/drawingml/2006/table">
            <a:tbl>
              <a:tblPr/>
              <a:tblGrid>
                <a:gridCol w="2016360"/>
                <a:gridCol w="56163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ECD.Stat v.1 in pro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Works v.1 in pro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Stat pilot Government Deb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er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Stat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ore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databases in OECD.St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ECD.Stat v.2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key databases in OECD.Stat Work flow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ee Samue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Building OECD’s New Statistical Information System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68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New OECD Statistical Information Syst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e element of OECD Strategy for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 the efficiency of statistic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the quality of statistical data and metadata -- notably timeliness and co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hance the accessibility of OECD statistical resources for both internal and externa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mpasses all aspects of statistic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A cooperative eff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rs of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rs of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EC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erna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C, ITN and S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ly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IS Design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rve the decentralised nature of directorates’ statistical activities ..... while making their data part of a coherent corporat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ild component elements that that can function independently …… and which are fully interoperabl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innovative use of emerging technology standards (e.g., XML, Web Services, SD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36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Three Inter-operating Layers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 …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Works – modern production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Store – coherent management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orag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ECD.Stat – validated data and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Stat – publications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. Supported by a WorkFlow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IS Archite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0360" y="2133720"/>
            <a:ext cx="1806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86320" y="2133720"/>
            <a:ext cx="1969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05720" y="2133720"/>
            <a:ext cx="1805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issem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6560" y="2467080"/>
            <a:ext cx="2133720" cy="283356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33560"/>
              <a:gd name="textAreaBottom" fmla="*/ 2729520 h 2833560"/>
            </a:gdLst>
            <a:ahLst/>
            <a:rect l="textAreaLeft" t="textAreaTop" r="textAreaRight" b="textAreaBottom"/>
            <a:pathLst>
              <a:path w="21600" h="28683">
                <a:moveTo>
                  <a:pt x="3600" y="0"/>
                </a:moveTo>
                <a:arcTo wR="3600" hR="3600" stAng="16200000" swAng="-5400000"/>
                <a:lnTo>
                  <a:pt x="0" y="25083"/>
                </a:lnTo>
                <a:arcTo wR="3600" hR="3600" stAng="10800000" swAng="-5400000"/>
                <a:lnTo>
                  <a:pt x="18000" y="28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21080" y="2467080"/>
            <a:ext cx="2298600" cy="283356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833560"/>
              <a:gd name="textAreaBottom" fmla="*/ 2721600 h 2833560"/>
            </a:gdLst>
            <a:ahLst/>
            <a:rect l="textAreaLeft" t="textAreaTop" r="textAreaRight" b="textAreaBottom"/>
            <a:pathLst>
              <a:path w="21600" h="26626">
                <a:moveTo>
                  <a:pt x="3600" y="0"/>
                </a:moveTo>
                <a:arcTo wR="3600" hR="3600" stAng="16200000" swAng="-5400000"/>
                <a:lnTo>
                  <a:pt x="0" y="23026"/>
                </a:lnTo>
                <a:arcTo wR="3600" hR="3600" stAng="10800000" swAng="-5400000"/>
                <a:lnTo>
                  <a:pt x="18000" y="26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40480" y="2467080"/>
            <a:ext cx="2135160" cy="2833560"/>
          </a:xfrm>
          <a:custGeom>
            <a:avLst/>
            <a:gdLst>
              <a:gd name="textAreaLeft" fmla="*/ 104040 w 2135160"/>
              <a:gd name="textAreaRight" fmla="*/ 2031120 w 2135160"/>
              <a:gd name="textAreaTop" fmla="*/ 104040 h 2833560"/>
              <a:gd name="textAreaBottom" fmla="*/ 2729520 h 2833560"/>
            </a:gdLst>
            <a:ahLst/>
            <a:rect l="textAreaLeft" t="textAreaTop" r="textAreaRight" b="textAreaBottom"/>
            <a:pathLst>
              <a:path w="21600" h="28664">
                <a:moveTo>
                  <a:pt x="3600" y="0"/>
                </a:moveTo>
                <a:arcTo wR="3600" hR="3600" stAng="16200000" swAng="-5400000"/>
                <a:lnTo>
                  <a:pt x="0" y="25064"/>
                </a:lnTo>
                <a:arcTo wR="3600" hR="3600" stAng="10800000" swAng="-5400000"/>
                <a:lnTo>
                  <a:pt x="18000" y="2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66560" y="2633760"/>
            <a:ext cx="1970280" cy="2500200"/>
            <a:chOff x="466560" y="2633760"/>
            <a:chExt cx="1970280" cy="2500200"/>
          </a:xfrm>
        </p:grpSpPr>
        <p:sp>
          <p:nvSpPr>
            <p:cNvPr id="541" name=""/>
            <p:cNvSpPr/>
            <p:nvPr/>
          </p:nvSpPr>
          <p:spPr>
            <a:xfrm>
              <a:off x="630360" y="3300480"/>
              <a:ext cx="49356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0360" y="2633760"/>
              <a:ext cx="18064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Data Pro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nviron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incl. StatWork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87360" y="3300480"/>
              <a:ext cx="49212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44720" y="3300480"/>
              <a:ext cx="49212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5240" y="4133880"/>
              <a:ext cx="1476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MetaSto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9480" y="4467240"/>
              <a:ext cx="657360" cy="666720"/>
            </a:xfrm>
            <a:prstGeom prst="can">
              <a:avLst>
                <a:gd name="adj" fmla="val 26250"/>
              </a:avLst>
            </a:prstGeom>
            <a:gradFill rotWithShape="0">
              <a:gsLst>
                <a:gs pos="0">
                  <a:srgbClr val="5b5b89"/>
                </a:gs>
                <a:gs pos="50000">
                  <a:srgbClr val="eaeaea"/>
                </a:gs>
                <a:gs pos="100000">
                  <a:srgbClr val="5b5b89"/>
                </a:gs>
              </a:gsLst>
              <a:lin ang="108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60" y="4467240"/>
              <a:ext cx="13129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Meta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nvironmen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5240" y="3800520"/>
              <a:ext cx="0" cy="1666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08160" y="3800520"/>
              <a:ext cx="0" cy="66672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50800" y="3800520"/>
              <a:ext cx="1800" cy="1666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5240" y="3967200"/>
              <a:ext cx="131292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735440" y="2967120"/>
            <a:ext cx="1970280" cy="2000160"/>
            <a:chOff x="4735440" y="2967120"/>
            <a:chExt cx="1970280" cy="2000160"/>
          </a:xfrm>
        </p:grpSpPr>
        <p:sp>
          <p:nvSpPr>
            <p:cNvPr id="553" name=""/>
            <p:cNvSpPr/>
            <p:nvPr/>
          </p:nvSpPr>
          <p:spPr>
            <a:xfrm>
              <a:off x="4735440" y="4800600"/>
              <a:ext cx="164160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56240" y="4633920"/>
              <a:ext cx="326880" cy="33336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19680" y="4300560"/>
              <a:ext cx="657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83120" y="4633920"/>
              <a:ext cx="328680" cy="33336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77040" y="2967120"/>
              <a:ext cx="0" cy="18334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77040" y="296712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77040" y="396720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540480" y="2800440"/>
            <a:ext cx="2133720" cy="2352600"/>
            <a:chOff x="6540480" y="2800440"/>
            <a:chExt cx="2133720" cy="2352600"/>
          </a:xfrm>
        </p:grpSpPr>
        <p:sp>
          <p:nvSpPr>
            <p:cNvPr id="561" name=""/>
            <p:cNvSpPr/>
            <p:nvPr/>
          </p:nvSpPr>
          <p:spPr>
            <a:xfrm>
              <a:off x="7032600" y="4300560"/>
              <a:ext cx="1440" cy="3333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Webpage"/>
            <p:cNvSpPr/>
            <p:nvPr/>
          </p:nvSpPr>
          <p:spPr>
            <a:xfrm>
              <a:off x="7526160" y="4633920"/>
              <a:ext cx="32724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97840" y="2800440"/>
              <a:ext cx="1476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Us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erfa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05720" y="3467160"/>
              <a:ext cx="1805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PubStat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Webpage"/>
            <p:cNvSpPr/>
            <p:nvPr/>
          </p:nvSpPr>
          <p:spPr>
            <a:xfrm>
              <a:off x="6705720" y="2800440"/>
              <a:ext cx="3268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869160" y="2967120"/>
              <a:ext cx="3636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Webpage"/>
            <p:cNvSpPr/>
            <p:nvPr/>
          </p:nvSpPr>
          <p:spPr>
            <a:xfrm>
              <a:off x="6705720" y="3800520"/>
              <a:ext cx="492120" cy="50004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7840" y="3800520"/>
              <a:ext cx="14763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ublicatio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e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18640" y="4633920"/>
              <a:ext cx="328320" cy="333360"/>
            </a:xfrm>
            <a:prstGeom prst="can">
              <a:avLst>
                <a:gd name="adj" fmla="val 2097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cddrive"/>
            <p:cNvSpPr/>
            <p:nvPr/>
          </p:nvSpPr>
          <p:spPr>
            <a:xfrm>
              <a:off x="8182080" y="4800600"/>
              <a:ext cx="3286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70196"/>
                  </a:srgbClr>
                </a:gs>
                <a:gs pos="100000">
                  <a:srgbClr val="eaeaea"/>
                </a:gs>
              </a:gsLst>
              <a:lin ang="54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89960" y="4800600"/>
              <a:ext cx="409320" cy="352440"/>
            </a:xfrm>
            <a:prstGeom prst="verticalScroll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40480" y="4633920"/>
              <a:ext cx="1478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ublish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Output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11280" y="5373720"/>
            <a:ext cx="8064360" cy="431640"/>
          </a:xfrm>
          <a:prstGeom prst="rightArrow">
            <a:avLst>
              <a:gd name="adj1" fmla="val 58824"/>
              <a:gd name="adj2" fmla="val 156298"/>
            </a:avLst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99"/>
                </a:solidFill>
                <a:latin typeface="Verdana"/>
              </a:rPr>
              <a:t>Work </a:t>
            </a:r>
            <a:r>
              <a:rPr b="1" lang="en-US" sz="1400" spc="-1" strike="noStrike">
                <a:solidFill>
                  <a:srgbClr val="666699"/>
                </a:solidFill>
                <a:latin typeface="Verdana"/>
              </a:rPr>
              <a:t>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65520" y="2633760"/>
            <a:ext cx="2954160" cy="2500200"/>
            <a:chOff x="2765520" y="2633760"/>
            <a:chExt cx="2954160" cy="2500200"/>
          </a:xfrm>
        </p:grpSpPr>
        <p:sp>
          <p:nvSpPr>
            <p:cNvPr id="575" name=""/>
            <p:cNvSpPr/>
            <p:nvPr/>
          </p:nvSpPr>
          <p:spPr>
            <a:xfrm>
              <a:off x="2765520" y="4800600"/>
              <a:ext cx="131292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35440" y="2967120"/>
              <a:ext cx="820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ub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4800600"/>
              <a:ext cx="1477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Web Ser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9760" y="3300480"/>
              <a:ext cx="657000" cy="666720"/>
            </a:xfrm>
            <a:prstGeom prst="can">
              <a:avLst>
                <a:gd name="adj" fmla="val 2138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49760" y="2633760"/>
              <a:ext cx="16412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OECD.Sta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1080" y="2800440"/>
              <a:ext cx="1641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orporate Data Wareho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06760" y="3465360"/>
              <a:ext cx="328680" cy="18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35440" y="3467160"/>
              <a:ext cx="0" cy="1333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88000" y="3965400"/>
              <a:ext cx="274680" cy="18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35440" y="4465800"/>
              <a:ext cx="32724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376560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2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26564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3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78440" y="3967200"/>
              <a:ext cx="1440" cy="8334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35440" y="3465360"/>
              <a:ext cx="327240" cy="18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29200" y="326556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4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436840" y="3632040"/>
            <a:ext cx="1149480" cy="1336680"/>
            <a:chOff x="2436840" y="3632040"/>
            <a:chExt cx="1149480" cy="1336680"/>
          </a:xfrm>
        </p:grpSpPr>
        <p:sp>
          <p:nvSpPr>
            <p:cNvPr id="591" name=""/>
            <p:cNvSpPr/>
            <p:nvPr/>
          </p:nvSpPr>
          <p:spPr>
            <a:xfrm>
              <a:off x="2765520" y="3633840"/>
              <a:ext cx="0" cy="1333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436840" y="3632040"/>
              <a:ext cx="1149480" cy="1336680"/>
              <a:chOff x="2436840" y="3632040"/>
              <a:chExt cx="1149480" cy="13366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28960" y="4633920"/>
                <a:ext cx="328680" cy="333360"/>
              </a:xfrm>
              <a:prstGeom prst="rightArrow">
                <a:avLst>
                  <a:gd name="adj1" fmla="val 55556"/>
                  <a:gd name="adj2" fmla="val 69444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f8f8f8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65520" y="4300560"/>
                <a:ext cx="6555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</a:rPr>
                  <a:t>XM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36840" y="3632040"/>
                <a:ext cx="328680" cy="180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36840" y="4967280"/>
                <a:ext cx="328680" cy="144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57640" y="4633920"/>
                <a:ext cx="328680" cy="333360"/>
              </a:xfrm>
              <a:prstGeom prst="flowChartSummingJunction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verall goals (1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r friend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-stop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“look and feel” for al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access across OE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view of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verall goals (2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herence of concepts &amp;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l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od 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ater visibility of statistic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e storage, processing,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Metadata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istical data being shared or disseminated, internally or externally, must have appropriate metada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istical metadata must be consist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adata must be created only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ach dataset there must be someone with responsibility for metada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13:51Z</dcterms:created>
  <dc:creator>Excel Business Tools</dc:creator>
  <dc:description/>
  <dc:language>en-US</dc:language>
  <cp:lastModifiedBy>samuelson_l</cp:lastModifiedBy>
  <dcterms:modified xsi:type="dcterms:W3CDTF">2004-05-13T08:44:26Z</dcterms:modified>
  <cp:revision>2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3934280</vt:r8>
  </property>
  <property fmtid="{D5CDD505-2E9C-101B-9397-08002B2CF9AE}" pid="3" name="_AuthorEmail">
    <vt:lpwstr>Lee.SAMUELSON@oecd.org</vt:lpwstr>
  </property>
  <property fmtid="{D5CDD505-2E9C-101B-9397-08002B2CF9AE}" pid="4" name="_AuthorEmailDisplayName">
    <vt:lpwstr>SAMUELSON Lee, EXD/ITN/CBS</vt:lpwstr>
  </property>
  <property fmtid="{D5CDD505-2E9C-101B-9397-08002B2CF9AE}" pid="5" name="_EmailSubject">
    <vt:lpwstr/>
  </property>
</Properties>
</file>