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dt" idx="7"/>
          </p:nvPr>
        </p:nvSpPr>
        <p:spPr>
          <a:xfrm>
            <a:off x="38397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sldImg"/>
          </p:nvPr>
        </p:nvSpPr>
        <p:spPr>
          <a:xfrm>
            <a:off x="912600" y="744480"/>
            <a:ext cx="4957560" cy="371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ftr" idx="8"/>
          </p:nvPr>
        </p:nvSpPr>
        <p:spPr>
          <a:xfrm>
            <a:off x="-360" y="942192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 type="sldNum" idx="9"/>
          </p:nvPr>
        </p:nvSpPr>
        <p:spPr>
          <a:xfrm>
            <a:off x="3839760" y="942192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9DF92F1-8D39-4164-8104-6F997F721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7560" cy="371808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vantages: Directorates appreciate the direct control they have over statistical activities that are critical to their work program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ECD.Stat seeks to address the disadvantages that can be associated with a decentralised dat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comer finds it virtually impossible to know how to access the Organisation's statistical data  ..... and very difficult to find out what data are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ality control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e” of data uncertain: (stable and coherent or in middle of updating, rebasing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s-understanding of what data represent (lack of metada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plication of data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onsist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necessarily long time to pub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3839760" y="942192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C9E98CF-0CB4-4377-B178-7FEFE7553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-360" y="942192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-3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8397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7560" cy="371808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7560" cy="371808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vantages: Directorates appreciate the direct control they have over statistical activities that are critical to their work program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ECD.Stat seeks to address the disadvantages that can be associated with a decentralised dat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comer finds it virtually impossible to know how to access the Organisation's statistical data  ..... and very difficult to find out what data are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ality control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e” of data uncertain: (stable and coherent or in middle of updating, rebasing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s-understanding of what data represent (lack of metada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plication of data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onsist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necessarily long time to pub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3839760" y="942192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7777093-A292-4026-9806-45D7BE98F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-360" y="942192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-3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8397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7560" cy="37180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3839760" y="942192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25DB5C9-2E86-4E3A-A2C3-08A5A8B0E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-360" y="942192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-3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8397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7560" cy="37180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7FBF0-E95B-4BC2-AFD0-82E54D443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9838F-1879-46F7-8D47-B9E6F01B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852C7-6959-438B-8EFF-0FC04098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1BBA8-1F56-4B4E-AB6C-841D05A9E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46A3-216E-457E-AA64-725AB5EA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D100-2AC3-4E08-9D6F-F3F16384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EE71-F14F-4EEC-90AC-B5B267EB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5472-81B1-4BA7-A9F7-D146856E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ACB2-3AB1-4E8C-9AC4-23066AC4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3C83-A8D7-4608-8A49-002A9890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72DD-2819-43B5-AA2B-F0D44840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A42AF-8149-4923-8F24-97E0EB15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FDE6-3DEE-434A-AAC5-81B5D4A8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A392-B1FD-4D24-87E2-3A63AD25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9B5D-C05F-4029-A460-F9A20992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2E8E-6AA4-41E9-852B-D59C3A68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BDF9-EAD6-49E1-B64E-425FB49B9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85E92-0603-415E-B951-C089D90E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BD7F3-708B-4FD5-B282-63E5A5BE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14196-E776-46C9-A94C-74002E09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B0228-410C-42F4-88D7-2598DFEF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5406A-C658-4F80-AF58-31BF53F0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08CF4-E748-42C9-B2A0-82F213C7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9E80A-6218-4830-9496-822A28BC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6060-6951-47F6-95F9-3500D41F34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9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DE70-01BC-4C73-9A53-69AB04BD7C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1403280" y="6308280"/>
            <a:ext cx="6400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Lee Samuel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78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8000" spc="-1" strike="noStrike">
                <a:solidFill>
                  <a:srgbClr val="ffcc00"/>
                </a:solidFill>
                <a:latin typeface="Arial"/>
              </a:rPr>
              <a:t>Building OECD’s New Statistical Information System</a:t>
            </a: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368680" cy="99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826920" y="1628640"/>
          <a:ext cx="7632720" cy="4638960"/>
        </p:xfrm>
        <a:graphic>
          <a:graphicData uri="http://schemas.openxmlformats.org/drawingml/2006/table">
            <a:tbl>
              <a:tblPr/>
              <a:tblGrid>
                <a:gridCol w="2016360"/>
                <a:gridCol w="561636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 20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ECD.Stat v.1 in produ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Works v.1 in produ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bStat pilot Government Deb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mmer 20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bStat v.1 launch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Store v.1 launch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d 20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cipal databases in OECD.St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ECD.Stat v.2 launch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key databases in OECD.Stat Work flow v.1 launch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403280" y="6308280"/>
            <a:ext cx="6400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Lee Samuel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78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8000" spc="-1" strike="noStrike">
                <a:solidFill>
                  <a:srgbClr val="ffcc00"/>
                </a:solidFill>
                <a:latin typeface="Arial"/>
              </a:rPr>
              <a:t>Building OECD’s New Statistical Information System</a:t>
            </a: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368680" cy="99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3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00"/>
                </a:solidFill>
                <a:latin typeface="Arial"/>
              </a:rPr>
              <a:t>New OECD Statistical Information System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re element of OECD Strategy for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crease the efficiency of statistical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rove the quality of statistical data and metadata -- notably timeliness and coh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hance the accessibility of OECD statistical resources for both internal and external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ncompasses all aspects of statistical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</a:rPr>
              <a:t>A cooperative effor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ducers of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ers of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ECD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ternal cl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C, ITN and ST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nage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pply 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vide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</a:rPr>
              <a:t>SIS Design Principl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serve the decentralised nature of directorates’ statistical activities ..... while making their data part of a coherent corporat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ild component elements that that can function independently …… and which are fully interoperable with each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ke innovative use of emerging technology standards (e.g., XML, Web Services, SDM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3631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00"/>
                </a:solidFill>
                <a:latin typeface="Arial"/>
              </a:rPr>
              <a:t>Three Inter-operating Layers</a:t>
            </a:r>
            <a:r>
              <a:rPr b="0" lang="en-GB" sz="4000" spc="-1" strike="noStrike">
                <a:solidFill>
                  <a:srgbClr val="ffcc00"/>
                </a:solidFill>
                <a:latin typeface="Arial"/>
              </a:rPr>
              <a:t> …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duction 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tWorks – modern production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taStore – coherent management of meta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orage 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ECD.Stat – validated data and meta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semination 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r interfa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bStat – publications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…</a:t>
            </a: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. Supported by a WorkFlow sys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</a:rPr>
              <a:t>SIS Architectur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30360" y="2133720"/>
            <a:ext cx="1806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586320" y="2133720"/>
            <a:ext cx="19699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tor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705720" y="2133720"/>
            <a:ext cx="1805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Dissemin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66560" y="2467080"/>
            <a:ext cx="2133720" cy="2833560"/>
          </a:xfrm>
          <a:custGeom>
            <a:avLst/>
            <a:gdLst>
              <a:gd name="textAreaLeft" fmla="*/ 104040 w 2133720"/>
              <a:gd name="textAreaRight" fmla="*/ 2029680 w 2133720"/>
              <a:gd name="textAreaTop" fmla="*/ 104040 h 2833560"/>
              <a:gd name="textAreaBottom" fmla="*/ 2729520 h 2833560"/>
            </a:gdLst>
            <a:ahLst/>
            <a:rect l="textAreaLeft" t="textAreaTop" r="textAreaRight" b="textAreaBottom"/>
            <a:pathLst>
              <a:path w="21600" h="28683">
                <a:moveTo>
                  <a:pt x="3600" y="0"/>
                </a:moveTo>
                <a:arcTo wR="3600" hR="3600" stAng="16200000" swAng="-5400000"/>
                <a:lnTo>
                  <a:pt x="0" y="25083"/>
                </a:lnTo>
                <a:arcTo wR="3600" hR="3600" stAng="10800000" swAng="-5400000"/>
                <a:lnTo>
                  <a:pt x="18000" y="286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421080" y="2467080"/>
            <a:ext cx="2298600" cy="2833560"/>
          </a:xfrm>
          <a:custGeom>
            <a:avLst/>
            <a:gdLst>
              <a:gd name="textAreaLeft" fmla="*/ 111960 w 2298600"/>
              <a:gd name="textAreaRight" fmla="*/ 2186640 w 2298600"/>
              <a:gd name="textAreaTop" fmla="*/ 111960 h 2833560"/>
              <a:gd name="textAreaBottom" fmla="*/ 2721600 h 2833560"/>
            </a:gdLst>
            <a:ahLst/>
            <a:rect l="textAreaLeft" t="textAreaTop" r="textAreaRight" b="textAreaBottom"/>
            <a:pathLst>
              <a:path w="21600" h="26626">
                <a:moveTo>
                  <a:pt x="3600" y="0"/>
                </a:moveTo>
                <a:arcTo wR="3600" hR="3600" stAng="16200000" swAng="-5400000"/>
                <a:lnTo>
                  <a:pt x="0" y="23026"/>
                </a:lnTo>
                <a:arcTo wR="3600" hR="3600" stAng="10800000" swAng="-5400000"/>
                <a:lnTo>
                  <a:pt x="18000" y="26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540480" y="2467080"/>
            <a:ext cx="2135160" cy="2833560"/>
          </a:xfrm>
          <a:custGeom>
            <a:avLst/>
            <a:gdLst>
              <a:gd name="textAreaLeft" fmla="*/ 104040 w 2135160"/>
              <a:gd name="textAreaRight" fmla="*/ 2031120 w 2135160"/>
              <a:gd name="textAreaTop" fmla="*/ 104040 h 2833560"/>
              <a:gd name="textAreaBottom" fmla="*/ 2729520 h 2833560"/>
            </a:gdLst>
            <a:ahLst/>
            <a:rect l="textAreaLeft" t="textAreaTop" r="textAreaRight" b="textAreaBottom"/>
            <a:pathLst>
              <a:path w="21600" h="28664">
                <a:moveTo>
                  <a:pt x="3600" y="0"/>
                </a:moveTo>
                <a:arcTo wR="3600" hR="3600" stAng="16200000" swAng="-5400000"/>
                <a:lnTo>
                  <a:pt x="0" y="25064"/>
                </a:lnTo>
                <a:arcTo wR="3600" hR="3600" stAng="10800000" swAng="-5400000"/>
                <a:lnTo>
                  <a:pt x="18000" y="286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466560" y="2633760"/>
            <a:ext cx="1970280" cy="2500200"/>
            <a:chOff x="466560" y="2633760"/>
            <a:chExt cx="1970280" cy="2500200"/>
          </a:xfrm>
        </p:grpSpPr>
        <p:sp>
          <p:nvSpPr>
            <p:cNvPr id="541" name=""/>
            <p:cNvSpPr/>
            <p:nvPr/>
          </p:nvSpPr>
          <p:spPr>
            <a:xfrm>
              <a:off x="630360" y="3300480"/>
              <a:ext cx="493560" cy="500040"/>
            </a:xfrm>
            <a:prstGeom prst="can">
              <a:avLst>
                <a:gd name="adj" fmla="val 21444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eaeaea"/>
                </a:gs>
                <a:gs pos="100000">
                  <a:srgbClr val="808080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0360" y="2633760"/>
              <a:ext cx="180648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Data Produc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Environment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(incl. StatWork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287360" y="3300480"/>
              <a:ext cx="492120" cy="500040"/>
            </a:xfrm>
            <a:prstGeom prst="can">
              <a:avLst>
                <a:gd name="adj" fmla="val 21444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eaeaea"/>
                </a:gs>
                <a:gs pos="100000">
                  <a:srgbClr val="808080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44720" y="3300480"/>
              <a:ext cx="492120" cy="500040"/>
            </a:xfrm>
            <a:prstGeom prst="can">
              <a:avLst>
                <a:gd name="adj" fmla="val 21444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eaeaea"/>
                </a:gs>
                <a:gs pos="100000">
                  <a:srgbClr val="808080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95240" y="4133880"/>
              <a:ext cx="147636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MetaStor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779480" y="4467240"/>
              <a:ext cx="657360" cy="666720"/>
            </a:xfrm>
            <a:prstGeom prst="can">
              <a:avLst>
                <a:gd name="adj" fmla="val 26250"/>
              </a:avLst>
            </a:prstGeom>
            <a:gradFill rotWithShape="0">
              <a:gsLst>
                <a:gs pos="0">
                  <a:srgbClr val="5b5b89"/>
                </a:gs>
                <a:gs pos="50000">
                  <a:srgbClr val="eaeaea"/>
                </a:gs>
                <a:gs pos="100000">
                  <a:srgbClr val="5b5b89"/>
                </a:gs>
              </a:gsLst>
              <a:lin ang="108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66560" y="4467240"/>
              <a:ext cx="131292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Metadat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Produc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Environment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95240" y="3800520"/>
              <a:ext cx="0" cy="166680"/>
            </a:xfrm>
            <a:prstGeom prst="line">
              <a:avLst/>
            </a:prstGeom>
            <a:ln w="1908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108160" y="3800520"/>
              <a:ext cx="0" cy="666720"/>
            </a:xfrm>
            <a:prstGeom prst="line">
              <a:avLst/>
            </a:prstGeom>
            <a:ln w="1908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450800" y="3800520"/>
              <a:ext cx="1800" cy="166680"/>
            </a:xfrm>
            <a:prstGeom prst="line">
              <a:avLst/>
            </a:prstGeom>
            <a:ln w="1908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95240" y="3967200"/>
              <a:ext cx="1312920" cy="1440"/>
            </a:xfrm>
            <a:prstGeom prst="line">
              <a:avLst/>
            </a:prstGeom>
            <a:ln w="1908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4735440" y="2967120"/>
            <a:ext cx="1970280" cy="2000160"/>
            <a:chOff x="4735440" y="2967120"/>
            <a:chExt cx="1970280" cy="2000160"/>
          </a:xfrm>
        </p:grpSpPr>
        <p:sp>
          <p:nvSpPr>
            <p:cNvPr id="553" name=""/>
            <p:cNvSpPr/>
            <p:nvPr/>
          </p:nvSpPr>
          <p:spPr>
            <a:xfrm>
              <a:off x="4735440" y="4800600"/>
              <a:ext cx="1641600" cy="14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556240" y="4633920"/>
              <a:ext cx="326880" cy="333360"/>
            </a:xfrm>
            <a:prstGeom prst="flowChartSummingJunction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719680" y="4300560"/>
              <a:ext cx="65736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XM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883120" y="4633920"/>
              <a:ext cx="328680" cy="333360"/>
            </a:xfrm>
            <a:prstGeom prst="rightArrow">
              <a:avLst>
                <a:gd name="adj1" fmla="val 55556"/>
                <a:gd name="adj2" fmla="val 69444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f8f8f8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377040" y="2967120"/>
              <a:ext cx="0" cy="183348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377040" y="2967120"/>
              <a:ext cx="328680" cy="14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377040" y="3967200"/>
              <a:ext cx="328680" cy="14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6540480" y="2800440"/>
            <a:ext cx="2133720" cy="2352600"/>
            <a:chOff x="6540480" y="2800440"/>
            <a:chExt cx="2133720" cy="2352600"/>
          </a:xfrm>
        </p:grpSpPr>
        <p:sp>
          <p:nvSpPr>
            <p:cNvPr id="561" name=""/>
            <p:cNvSpPr/>
            <p:nvPr/>
          </p:nvSpPr>
          <p:spPr>
            <a:xfrm>
              <a:off x="7032600" y="4300560"/>
              <a:ext cx="1440" cy="33336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Webpage"/>
            <p:cNvSpPr/>
            <p:nvPr/>
          </p:nvSpPr>
          <p:spPr>
            <a:xfrm>
              <a:off x="7526160" y="4633920"/>
              <a:ext cx="327240" cy="333360"/>
            </a:xfrm>
            <a:prstGeom prst="pie">
              <a:avLst/>
            </a:prstGeom>
            <a:gradFill rotWithShape="0">
              <a:gsLst>
                <a:gs pos="0">
                  <a:srgbClr val="808080">
                    <a:alpha val="44313"/>
                  </a:srgbClr>
                </a:gs>
                <a:gs pos="100000">
                  <a:srgbClr val="eaeaea"/>
                </a:gs>
              </a:gsLst>
              <a:lin ang="135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197840" y="2800440"/>
              <a:ext cx="14763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User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Interfac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705720" y="3467160"/>
              <a:ext cx="18050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Verdana"/>
                </a:rPr>
                <a:t>PubStat</a:t>
              </a:r>
              <a:r>
                <a:rPr b="1" lang="en-US" sz="1200" spc="-1" strike="noStrike">
                  <a:solidFill>
                    <a:srgbClr val="999999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Webpage"/>
            <p:cNvSpPr/>
            <p:nvPr/>
          </p:nvSpPr>
          <p:spPr>
            <a:xfrm>
              <a:off x="6705720" y="2800440"/>
              <a:ext cx="326880" cy="333360"/>
            </a:xfrm>
            <a:prstGeom prst="pie">
              <a:avLst/>
            </a:prstGeom>
            <a:gradFill rotWithShape="0">
              <a:gsLst>
                <a:gs pos="0">
                  <a:srgbClr val="808080">
                    <a:alpha val="44313"/>
                  </a:srgbClr>
                </a:gs>
                <a:gs pos="100000">
                  <a:srgbClr val="eaeaea"/>
                </a:gs>
              </a:gsLst>
              <a:lin ang="135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66" name="" descr=""/>
            <p:cNvPicPr/>
            <p:nvPr/>
          </p:nvPicPr>
          <p:blipFill>
            <a:blip r:embed="rId1"/>
            <a:stretch/>
          </p:blipFill>
          <p:spPr>
            <a:xfrm>
              <a:off x="6869160" y="2967120"/>
              <a:ext cx="3636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Webpage"/>
            <p:cNvSpPr/>
            <p:nvPr/>
          </p:nvSpPr>
          <p:spPr>
            <a:xfrm>
              <a:off x="6705720" y="3800520"/>
              <a:ext cx="492120" cy="500040"/>
            </a:xfrm>
            <a:prstGeom prst="pie">
              <a:avLst/>
            </a:prstGeom>
            <a:gradFill rotWithShape="0">
              <a:gsLst>
                <a:gs pos="0">
                  <a:srgbClr val="808080">
                    <a:alpha val="44313"/>
                  </a:srgbClr>
                </a:gs>
                <a:gs pos="100000">
                  <a:srgbClr val="eaeaea"/>
                </a:gs>
              </a:gsLst>
              <a:lin ang="135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197840" y="3800520"/>
              <a:ext cx="147636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Publication Manage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Interfa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018640" y="4633920"/>
              <a:ext cx="328320" cy="333360"/>
            </a:xfrm>
            <a:prstGeom prst="can">
              <a:avLst>
                <a:gd name="adj" fmla="val 20972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eaeaea"/>
                </a:gs>
                <a:gs pos="100000">
                  <a:srgbClr val="808080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cddrive"/>
            <p:cNvSpPr/>
            <p:nvPr/>
          </p:nvSpPr>
          <p:spPr>
            <a:xfrm>
              <a:off x="8182080" y="4800600"/>
              <a:ext cx="328680" cy="333360"/>
            </a:xfrm>
            <a:prstGeom prst="pie">
              <a:avLst/>
            </a:prstGeom>
            <a:gradFill rotWithShape="0">
              <a:gsLst>
                <a:gs pos="0">
                  <a:srgbClr val="808080">
                    <a:alpha val="70196"/>
                  </a:srgbClr>
                </a:gs>
                <a:gs pos="100000">
                  <a:srgbClr val="eaeaea"/>
                </a:gs>
              </a:gsLst>
              <a:lin ang="54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689960" y="4800600"/>
              <a:ext cx="409320" cy="352440"/>
            </a:xfrm>
            <a:prstGeom prst="verticalScroll">
              <a:avLst>
                <a:gd name="adj" fmla="val 25000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81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540480" y="4633920"/>
              <a:ext cx="14781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Publishe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Outputs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611280" y="5373720"/>
            <a:ext cx="8064360" cy="431640"/>
          </a:xfrm>
          <a:prstGeom prst="rightArrow">
            <a:avLst>
              <a:gd name="adj1" fmla="val 58824"/>
              <a:gd name="adj2" fmla="val 156298"/>
            </a:avLst>
          </a:prstGeom>
          <a:gradFill rotWithShape="0">
            <a:gsLst>
              <a:gs pos="0">
                <a:srgbClr val="969696"/>
              </a:gs>
              <a:gs pos="50000">
                <a:srgbClr val="f8f8f8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9999"/>
                </a:solidFill>
                <a:latin typeface="Verdana"/>
              </a:rPr>
              <a:t>Work </a:t>
            </a:r>
            <a:r>
              <a:rPr b="1" lang="en-US" sz="1400" spc="-1" strike="noStrike">
                <a:solidFill>
                  <a:srgbClr val="666699"/>
                </a:solidFill>
                <a:latin typeface="Verdana"/>
              </a:rPr>
              <a:t>fl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2765520" y="2633760"/>
            <a:ext cx="2954160" cy="2500200"/>
            <a:chOff x="2765520" y="2633760"/>
            <a:chExt cx="2954160" cy="2500200"/>
          </a:xfrm>
        </p:grpSpPr>
        <p:sp>
          <p:nvSpPr>
            <p:cNvPr id="575" name=""/>
            <p:cNvSpPr/>
            <p:nvPr/>
          </p:nvSpPr>
          <p:spPr>
            <a:xfrm>
              <a:off x="2765520" y="4800600"/>
              <a:ext cx="1312920" cy="14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735440" y="2967120"/>
              <a:ext cx="8208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Cub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241880" y="4800600"/>
              <a:ext cx="14778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Web Servic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749760" y="3300480"/>
              <a:ext cx="657000" cy="666720"/>
            </a:xfrm>
            <a:prstGeom prst="can">
              <a:avLst>
                <a:gd name="adj" fmla="val 21388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eaeaea"/>
                </a:gs>
                <a:gs pos="100000">
                  <a:srgbClr val="808080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49760" y="2633760"/>
              <a:ext cx="16412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OECD.Stat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1080" y="2800440"/>
              <a:ext cx="16416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Corporate Data Warehous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406760" y="3465360"/>
              <a:ext cx="328680" cy="180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735440" y="3467160"/>
              <a:ext cx="0" cy="13334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788000" y="3965400"/>
              <a:ext cx="274680" cy="1800"/>
            </a:xfrm>
            <a:prstGeom prst="line">
              <a:avLst/>
            </a:prstGeom>
            <a:ln w="1908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735440" y="4465800"/>
              <a:ext cx="327240" cy="1440"/>
            </a:xfrm>
            <a:prstGeom prst="line">
              <a:avLst/>
            </a:prstGeom>
            <a:ln w="1908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029200" y="3765600"/>
              <a:ext cx="361800" cy="368280"/>
            </a:xfrm>
            <a:prstGeom prst="cube">
              <a:avLst>
                <a:gd name="adj" fmla="val 26416"/>
              </a:avLst>
            </a:prstGeom>
            <a:blipFill rotWithShape="0">
              <a:blip r:embed="rId2"/>
              <a:srcRect/>
              <a:stretch/>
            </a:blip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29200" y="4265640"/>
              <a:ext cx="361800" cy="368280"/>
            </a:xfrm>
            <a:prstGeom prst="cube">
              <a:avLst>
                <a:gd name="adj" fmla="val 26416"/>
              </a:avLst>
            </a:prstGeom>
            <a:blipFill rotWithShape="0">
              <a:blip r:embed="rId3"/>
              <a:srcRect/>
              <a:stretch/>
            </a:blip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078440" y="3967200"/>
              <a:ext cx="1440" cy="83340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735440" y="3465360"/>
              <a:ext cx="327240" cy="1800"/>
            </a:xfrm>
            <a:prstGeom prst="line">
              <a:avLst/>
            </a:prstGeom>
            <a:ln w="1908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029200" y="3265560"/>
              <a:ext cx="361800" cy="368280"/>
            </a:xfrm>
            <a:prstGeom prst="cube">
              <a:avLst>
                <a:gd name="adj" fmla="val 26416"/>
              </a:avLst>
            </a:prstGeom>
            <a:blipFill rotWithShape="0">
              <a:blip r:embed="rId4"/>
              <a:srcRect/>
              <a:stretch/>
            </a:blip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2436840" y="3632040"/>
            <a:ext cx="1149480" cy="1336680"/>
            <a:chOff x="2436840" y="3632040"/>
            <a:chExt cx="1149480" cy="1336680"/>
          </a:xfrm>
        </p:grpSpPr>
        <p:sp>
          <p:nvSpPr>
            <p:cNvPr id="591" name=""/>
            <p:cNvSpPr/>
            <p:nvPr/>
          </p:nvSpPr>
          <p:spPr>
            <a:xfrm>
              <a:off x="2765520" y="3633840"/>
              <a:ext cx="0" cy="13334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2" name=""/>
            <p:cNvGrpSpPr/>
            <p:nvPr/>
          </p:nvGrpSpPr>
          <p:grpSpPr>
            <a:xfrm>
              <a:off x="2436840" y="3632040"/>
              <a:ext cx="1149480" cy="1336680"/>
              <a:chOff x="2436840" y="3632040"/>
              <a:chExt cx="1149480" cy="1336680"/>
            </a:xfrm>
          </p:grpSpPr>
          <p:sp>
            <p:nvSpPr>
              <p:cNvPr id="593" name=""/>
              <p:cNvSpPr/>
              <p:nvPr/>
            </p:nvSpPr>
            <p:spPr>
              <a:xfrm>
                <a:off x="2928960" y="4633920"/>
                <a:ext cx="328680" cy="333360"/>
              </a:xfrm>
              <a:prstGeom prst="rightArrow">
                <a:avLst>
                  <a:gd name="adj1" fmla="val 55556"/>
                  <a:gd name="adj2" fmla="val 69444"/>
                </a:avLst>
              </a:prstGeom>
              <a:gradFill rotWithShape="0">
                <a:gsLst>
                  <a:gs pos="0">
                    <a:srgbClr val="969696"/>
                  </a:gs>
                  <a:gs pos="50000">
                    <a:srgbClr val="f8f8f8"/>
                  </a:gs>
                  <a:gs pos="100000">
                    <a:srgbClr val="969696"/>
                  </a:gs>
                </a:gsLst>
                <a:lin ang="5400000"/>
              </a:gra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765520" y="4300560"/>
                <a:ext cx="655560" cy="33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Verdana"/>
                  </a:rPr>
                  <a:t>XM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436840" y="3632040"/>
                <a:ext cx="328680" cy="180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436840" y="4967280"/>
                <a:ext cx="328680" cy="144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257640" y="4633920"/>
                <a:ext cx="328680" cy="333360"/>
              </a:xfrm>
              <a:prstGeom prst="flowChartSummingJunction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</a:rPr>
              <a:t>Overall goals (1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424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er friendl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ne-stop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asy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mon “look and feel” for all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mo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asy access across OEC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view of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</a:rPr>
              <a:t>Overall goals (2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424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herence of concepts &amp;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imel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ood meta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is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reater visibility of statistical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lex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parate storage, processing, disse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</a:rPr>
              <a:t>Metadata Principl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9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atistical data being shared or disseminated, internally or externally, must have appropriate metadat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atistical metadata must be consist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etadata must be created only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r each dataset there must be someone with responsibility for metadat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3T15:13:51Z</dcterms:created>
  <dc:creator>Excel Business Tools</dc:creator>
  <dc:description/>
  <dc:language>en-US</dc:language>
  <cp:lastModifiedBy>samuelson_l</cp:lastModifiedBy>
  <dcterms:modified xsi:type="dcterms:W3CDTF">2004-05-13T08:44:26Z</dcterms:modified>
  <cp:revision>28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33934280</vt:r8>
  </property>
  <property fmtid="{D5CDD505-2E9C-101B-9397-08002B2CF9AE}" pid="3" name="_AuthorEmail">
    <vt:lpwstr>Lee.SAMUELSON@oecd.org</vt:lpwstr>
  </property>
  <property fmtid="{D5CDD505-2E9C-101B-9397-08002B2CF9AE}" pid="4" name="_AuthorEmailDisplayName">
    <vt:lpwstr>SAMUELSON Lee, EXD/ITN/CBS</vt:lpwstr>
  </property>
  <property fmtid="{D5CDD505-2E9C-101B-9397-08002B2CF9AE}" pid="5" name="_EmailSubject">
    <vt:lpwstr/>
  </property>
</Properties>
</file>