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gif" ContentType="image/gif"/>
  <Override PartName="/ppt/media/image7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1239500" cy="8570913"/>
  <p:notesSz cx="672465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248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145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3809520" y="0"/>
            <a:ext cx="29149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58320" y="733320"/>
            <a:ext cx="4807080" cy="366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Times New Roman"/>
              </a:rPr>
              <a:t>Click to move the slide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6400" y="4642920"/>
            <a:ext cx="493092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3"/>
          </p:nvPr>
        </p:nvSpPr>
        <p:spPr>
          <a:xfrm>
            <a:off x="0" y="9284760"/>
            <a:ext cx="29145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4"/>
          </p:nvPr>
        </p:nvSpPr>
        <p:spPr>
          <a:xfrm>
            <a:off x="3809520" y="9284760"/>
            <a:ext cx="291492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DD861-55A9-47D5-A5E2-D391F1B8405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958680" y="733320"/>
            <a:ext cx="4807080" cy="366552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896400" y="4642920"/>
            <a:ext cx="493092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Titulla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095AD-15F3-470A-B30F-1C3324AC39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496080"/>
            <a:ext cx="9556920" cy="5320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1960" y="2005560"/>
            <a:ext cx="101149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1960" y="4602240"/>
            <a:ext cx="101149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5048B-2C4C-4B40-AB5F-5287ED8F98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496080"/>
            <a:ext cx="9556920" cy="5320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1960" y="2005560"/>
            <a:ext cx="493596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45240" y="2005560"/>
            <a:ext cx="493596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1960" y="4602240"/>
            <a:ext cx="493596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45240" y="4602240"/>
            <a:ext cx="493596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D5ADC-A0A9-464C-800E-9A141007AA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040" y="496080"/>
            <a:ext cx="9556920" cy="5320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1960" y="2005560"/>
            <a:ext cx="32569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81960" y="2005560"/>
            <a:ext cx="32569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402320" y="2005560"/>
            <a:ext cx="32569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1960" y="4602240"/>
            <a:ext cx="32569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81960" y="4602240"/>
            <a:ext cx="32569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402320" y="4602240"/>
            <a:ext cx="32569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A8BB1-527C-4820-9879-469DE08B3F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040" y="496080"/>
            <a:ext cx="9556920" cy="5320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1960" y="2005560"/>
            <a:ext cx="10114920" cy="49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13A17-D5DD-4A5A-B486-0E103B3A72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040" y="496080"/>
            <a:ext cx="9556920" cy="5320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1960" y="2005560"/>
            <a:ext cx="10114920" cy="49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A2A01-DC5C-4E84-B810-09F0D397CA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496080"/>
            <a:ext cx="9556920" cy="5320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1960" y="2005560"/>
            <a:ext cx="4935960" cy="49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45240" y="2005560"/>
            <a:ext cx="4935960" cy="49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2BEE5-9161-449B-8428-61C1151EE0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496080"/>
            <a:ext cx="9556920" cy="5320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6C45C-75F0-42E7-8A2B-E274C83ED1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040" y="533520"/>
            <a:ext cx="95569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44CA9-424D-47E3-BBA4-160BF648AB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496080"/>
            <a:ext cx="9556920" cy="5320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1960" y="2005560"/>
            <a:ext cx="493596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45240" y="2005560"/>
            <a:ext cx="4935960" cy="49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1960" y="4602240"/>
            <a:ext cx="493596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BCC46-6024-4673-BB2B-3C0B29CFB7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496080"/>
            <a:ext cx="9556920" cy="5320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1960" y="2005560"/>
            <a:ext cx="4935960" cy="49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45240" y="2005560"/>
            <a:ext cx="493596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45240" y="4602240"/>
            <a:ext cx="493596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36753-C73B-4485-BC96-3B7D70B9CC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496080"/>
            <a:ext cx="9556920" cy="5320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1960" y="2005560"/>
            <a:ext cx="493596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45240" y="2005560"/>
            <a:ext cx="493596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1960" y="4602240"/>
            <a:ext cx="101149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88908-B4D1-4584-A8D3-BD1E221683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040" y="533520"/>
            <a:ext cx="9556920" cy="4572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-360" y="8001000"/>
            <a:ext cx="685800" cy="5716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Autofit/>
          </a:bodyPr>
          <a:lstStyle>
            <a:lvl1pPr indent="0" algn="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fld id="{9074B222-800A-408B-B1B4-B7B6C46EC3C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600200" y="8001000"/>
            <a:ext cx="9067680" cy="571680"/>
          </a:xfrm>
          <a:prstGeom prst="rect">
            <a:avLst/>
          </a:prstGeom>
          <a:gradFill rotWithShape="0">
            <a:gsLst>
              <a:gs pos="0">
                <a:srgbClr val="617085"/>
              </a:gs>
              <a:gs pos="100000">
                <a:srgbClr val="ff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%20CSP" descr=""/>
          <p:cNvPicPr/>
          <p:nvPr/>
        </p:nvPicPr>
        <p:blipFill>
          <a:blip r:embed="rId2"/>
          <a:stretch/>
        </p:blipFill>
        <p:spPr>
          <a:xfrm>
            <a:off x="10667880" y="8001000"/>
            <a:ext cx="540000" cy="5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561960" y="2005560"/>
            <a:ext cx="10114920" cy="49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3840" indent="-39384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51040" indent="-327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1120" indent="-26352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835280" indent="-26352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4" marL="2359080" indent="-26352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5" marL="2359080" indent="-26352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6" marL="2359080" indent="-26352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Logo%20CSP" descr=""/>
          <p:cNvPicPr/>
          <p:nvPr/>
        </p:nvPicPr>
        <p:blipFill>
          <a:blip r:embed="rId1"/>
          <a:stretch/>
        </p:blipFill>
        <p:spPr>
          <a:xfrm>
            <a:off x="10663200" y="7962840"/>
            <a:ext cx="576360" cy="609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7962840"/>
            <a:ext cx="10667880" cy="609840"/>
          </a:xfrm>
          <a:prstGeom prst="rect">
            <a:avLst/>
          </a:prstGeom>
          <a:gradFill rotWithShape="0">
            <a:gsLst>
              <a:gs pos="0">
                <a:srgbClr val="617085"/>
              </a:gs>
              <a:gs pos="100000">
                <a:srgbClr val="ff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752480" y="1523520"/>
            <a:ext cx="7848720" cy="6324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lv-LV" sz="4800" spc="-1" strike="noStrike">
                <a:solidFill>
                  <a:srgbClr val="000000"/>
                </a:solidFill>
                <a:latin typeface="Times New Roman"/>
              </a:rPr>
              <a:t>Metadata Driven </a:t>
            </a:r>
            <a:r>
              <a:rPr b="1" lang="en-AU" sz="4800" spc="-1" strike="noStrike">
                <a:solidFill>
                  <a:srgbClr val="000000"/>
                </a:solidFill>
                <a:latin typeface="Times New Roman"/>
              </a:rPr>
              <a:t>Integrated </a:t>
            </a:r>
            <a:r>
              <a:rPr b="1" lang="lv-LV" sz="4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AU" sz="4800" spc="-1" strike="noStrike">
                <a:solidFill>
                  <a:srgbClr val="000000"/>
                </a:solidFill>
                <a:latin typeface="Times New Roman"/>
              </a:rPr>
              <a:t>tatistical </a:t>
            </a:r>
            <a:r>
              <a:rPr b="1" lang="lv-LV" sz="4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AU" sz="4800" spc="-1" strike="noStrike">
                <a:solidFill>
                  <a:srgbClr val="000000"/>
                </a:solidFill>
                <a:latin typeface="Times New Roman"/>
              </a:rPr>
              <a:t>ata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lv-LV" sz="4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AU" sz="4800" spc="-1" strike="noStrike">
                <a:solidFill>
                  <a:srgbClr val="000000"/>
                </a:solidFill>
                <a:latin typeface="Times New Roman"/>
              </a:rPr>
              <a:t>anagement </a:t>
            </a:r>
            <a:r>
              <a:rPr b="1" lang="lv-LV" sz="4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AU" sz="4800" spc="-1" strike="noStrike">
                <a:solidFill>
                  <a:srgbClr val="000000"/>
                </a:solidFill>
                <a:latin typeface="Times New Roman"/>
              </a:rPr>
              <a:t>yste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lv-LV" sz="4800" spc="-1" strike="noStrike">
                <a:solidFill>
                  <a:srgbClr val="000000"/>
                </a:solidFill>
                <a:latin typeface="Times New Roman"/>
              </a:rPr>
              <a:t>CSB of Latvi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By Karlis Zeila Vice President CSB of Latv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MSIS 2004, Geneva May 17 - 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828800" y="533520"/>
            <a:ext cx="7238880" cy="7617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lv-LV" sz="2800" spc="-1" strike="noStrike">
                <a:solidFill>
                  <a:srgbClr val="666633"/>
                </a:solidFill>
                <a:latin typeface="Times New Roman"/>
              </a:rPr>
              <a:t>1. Data matrix - </a:t>
            </a:r>
            <a:r>
              <a:rPr b="1" lang="en-GB" sz="28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Fixed number of Rows (3) and variable number of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Columns (n)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3960" y="1676520"/>
            <a:ext cx="107856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xample)</a:t>
            </a:r>
            <a:r>
              <a:rPr b="1" i="1" lang="lv-LV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 economical indicators of the economics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380880" y="2209680"/>
            <a:ext cx="10362960" cy="4419360"/>
            <a:chOff x="380880" y="2209680"/>
            <a:chExt cx="10362960" cy="4419360"/>
          </a:xfrm>
        </p:grpSpPr>
        <p:grpSp>
          <p:nvGrpSpPr>
            <p:cNvPr id="166" name=""/>
            <p:cNvGrpSpPr/>
            <p:nvPr/>
          </p:nvGrpSpPr>
          <p:grpSpPr>
            <a:xfrm>
              <a:off x="388800" y="2214360"/>
              <a:ext cx="10345320" cy="4409280"/>
              <a:chOff x="388800" y="2214360"/>
              <a:chExt cx="10345320" cy="440928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388800" y="2214360"/>
                <a:ext cx="2956320" cy="938160"/>
                <a:chOff x="388800" y="2214360"/>
                <a:chExt cx="2956320" cy="93816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419400" y="2214360"/>
                  <a:ext cx="2894760" cy="93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ow heading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388800" y="2214360"/>
                  <a:ext cx="2956320" cy="93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3345480" y="2214360"/>
                <a:ext cx="808920" cy="938160"/>
                <a:chOff x="3345480" y="2214360"/>
                <a:chExt cx="808920" cy="938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3375360" y="2214360"/>
                  <a:ext cx="748440" cy="93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ow’s cod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3345480" y="2214360"/>
                  <a:ext cx="808920" cy="93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4155120" y="2214360"/>
                <a:ext cx="1517400" cy="938160"/>
                <a:chOff x="4155120" y="2214360"/>
                <a:chExt cx="1517400" cy="93816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4185720" y="2214360"/>
                  <a:ext cx="1455840" cy="93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ota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4155120" y="2214360"/>
                  <a:ext cx="1517400" cy="93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5672880" y="2214360"/>
                <a:ext cx="1161360" cy="938160"/>
                <a:chOff x="5672880" y="2214360"/>
                <a:chExt cx="1161360" cy="93816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5702760" y="2214360"/>
                  <a:ext cx="1100880" cy="93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20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Name</a:t>
                  </a:r>
                  <a:r>
                    <a:rPr b="1" i="1" lang="lv-LV" sz="2000" spc="-1" strike="noStrike">
                      <a:solidFill>
                        <a:srgbClr val="ff33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5672880" y="2214360"/>
                  <a:ext cx="1161360" cy="93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6834960" y="2214360"/>
                <a:ext cx="1161720" cy="938160"/>
                <a:chOff x="6834960" y="2214360"/>
                <a:chExt cx="1161720" cy="93816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6865560" y="2214360"/>
                  <a:ext cx="1100160" cy="93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20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Name</a:t>
                  </a:r>
                  <a:r>
                    <a:rPr b="1" i="1" lang="lv-LV" sz="2000" spc="-1" strike="noStrike">
                      <a:solidFill>
                        <a:srgbClr val="ff3300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6834960" y="2214360"/>
                  <a:ext cx="1161720" cy="93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7997400" y="2214360"/>
                <a:ext cx="570600" cy="938160"/>
                <a:chOff x="7997400" y="2214360"/>
                <a:chExt cx="570600" cy="93816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8027280" y="2214360"/>
                  <a:ext cx="510120" cy="93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7997400" y="2214360"/>
                  <a:ext cx="570600" cy="93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8568360" y="2214360"/>
                <a:ext cx="1161720" cy="938160"/>
                <a:chOff x="8568360" y="2214360"/>
                <a:chExt cx="1161720" cy="93816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8598960" y="2214360"/>
                  <a:ext cx="1100160" cy="93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20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Name</a:t>
                  </a:r>
                  <a:r>
                    <a:rPr b="1" i="1" lang="lv-LV" sz="2000" spc="-1" strike="noStrike">
                      <a:solidFill>
                        <a:srgbClr val="ff3300"/>
                      </a:solidFill>
                      <a:latin typeface="Times New Roman"/>
                    </a:rPr>
                    <a:t> n-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8568360" y="2214360"/>
                  <a:ext cx="1161720" cy="93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9730800" y="2214360"/>
                <a:ext cx="1003320" cy="938160"/>
                <a:chOff x="9730800" y="2214360"/>
                <a:chExt cx="1003320" cy="93816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9760680" y="2214360"/>
                  <a:ext cx="942840" cy="93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20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Name</a:t>
                  </a:r>
                  <a:r>
                    <a:rPr b="1" i="1" lang="lv-LV" sz="2000" spc="-1" strike="noStrike">
                      <a:solidFill>
                        <a:srgbClr val="ff3300"/>
                      </a:solidFill>
                      <a:latin typeface="Times New Roman"/>
                    </a:rPr>
                    <a:t> 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9730800" y="2214360"/>
                  <a:ext cx="1003320" cy="93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388800" y="3152880"/>
                <a:ext cx="2956320" cy="938160"/>
                <a:chOff x="388800" y="3152880"/>
                <a:chExt cx="2956320" cy="93816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419400" y="3152880"/>
                  <a:ext cx="2894760" cy="93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388800" y="3152880"/>
                  <a:ext cx="2956320" cy="93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3345480" y="3152880"/>
                <a:ext cx="808920" cy="938160"/>
                <a:chOff x="3345480" y="3152880"/>
                <a:chExt cx="808920" cy="9381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3375360" y="3152880"/>
                  <a:ext cx="748440" cy="93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3345480" y="3152880"/>
                  <a:ext cx="808920" cy="93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4155120" y="3152880"/>
                <a:ext cx="1517400" cy="938160"/>
                <a:chOff x="4155120" y="3152880"/>
                <a:chExt cx="1517400" cy="93816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4185720" y="3152880"/>
                  <a:ext cx="1455840" cy="93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999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4155120" y="3152880"/>
                  <a:ext cx="1517400" cy="93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5672880" y="3152880"/>
                <a:ext cx="1161360" cy="938160"/>
                <a:chOff x="5672880" y="3152880"/>
                <a:chExt cx="1161360" cy="93816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5702760" y="3152880"/>
                  <a:ext cx="1100880" cy="93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NACE 1 cod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5672880" y="3152880"/>
                  <a:ext cx="1161360" cy="93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" name=""/>
              <p:cNvGrpSpPr/>
              <p:nvPr/>
            </p:nvGrpSpPr>
            <p:grpSpPr>
              <a:xfrm>
                <a:off x="6834960" y="3152880"/>
                <a:ext cx="1161720" cy="938160"/>
                <a:chOff x="6834960" y="3152880"/>
                <a:chExt cx="1161720" cy="93816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6865560" y="3152880"/>
                  <a:ext cx="1100160" cy="93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NACE 2 cod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6834960" y="3152880"/>
                  <a:ext cx="1161720" cy="93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7997400" y="3152880"/>
                <a:ext cx="570600" cy="938160"/>
                <a:chOff x="7997400" y="3152880"/>
                <a:chExt cx="570600" cy="93816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8027280" y="3152880"/>
                  <a:ext cx="510120" cy="93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…</a:t>
                  </a:r>
                  <a:r>
                    <a:rPr b="1" lang="en-GB" sz="10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..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7997400" y="3152880"/>
                  <a:ext cx="570600" cy="93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" name=""/>
              <p:cNvGrpSpPr/>
              <p:nvPr/>
            </p:nvGrpSpPr>
            <p:grpSpPr>
              <a:xfrm>
                <a:off x="8568360" y="3152880"/>
                <a:ext cx="1161720" cy="938160"/>
                <a:chOff x="8568360" y="3152880"/>
                <a:chExt cx="1161720" cy="93816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8598960" y="3152880"/>
                  <a:ext cx="1100160" cy="93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NACE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n-1 cod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8568360" y="3152880"/>
                  <a:ext cx="1161720" cy="93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" name=""/>
              <p:cNvGrpSpPr/>
              <p:nvPr/>
            </p:nvGrpSpPr>
            <p:grpSpPr>
              <a:xfrm>
                <a:off x="9730800" y="3152880"/>
                <a:ext cx="1003320" cy="938160"/>
                <a:chOff x="9730800" y="3152880"/>
                <a:chExt cx="1003320" cy="93816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9760680" y="3152880"/>
                  <a:ext cx="942840" cy="93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NACE n  cod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9730800" y="3152880"/>
                  <a:ext cx="1003320" cy="93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" name=""/>
              <p:cNvGrpSpPr/>
              <p:nvPr/>
            </p:nvGrpSpPr>
            <p:grpSpPr>
              <a:xfrm>
                <a:off x="388800" y="4091400"/>
                <a:ext cx="2956320" cy="843840"/>
                <a:chOff x="388800" y="4091400"/>
                <a:chExt cx="2956320" cy="84384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419400" y="4091400"/>
                  <a:ext cx="2894760" cy="84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umber of employee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388800" y="4091400"/>
                  <a:ext cx="2956320" cy="84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3345480" y="4091400"/>
                <a:ext cx="808920" cy="843840"/>
                <a:chOff x="3345480" y="4091400"/>
                <a:chExt cx="808920" cy="84384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3375360" y="4091400"/>
                  <a:ext cx="748440" cy="84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1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345480" y="4091400"/>
                  <a:ext cx="808920" cy="84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4155120" y="4091400"/>
                <a:ext cx="1517400" cy="843840"/>
                <a:chOff x="4155120" y="4091400"/>
                <a:chExt cx="1517400" cy="84384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4155120" y="4091400"/>
                  <a:ext cx="1517400" cy="84384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3" name=""/>
                <p:cNvGrpSpPr/>
                <p:nvPr/>
              </p:nvGrpSpPr>
              <p:grpSpPr>
                <a:xfrm>
                  <a:off x="4155120" y="4091400"/>
                  <a:ext cx="1517040" cy="843480"/>
                  <a:chOff x="4155120" y="4091400"/>
                  <a:chExt cx="1517040" cy="84348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>
                    <a:off x="4185720" y="4091400"/>
                    <a:ext cx="1455480" cy="84348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AU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4155120" y="4091400"/>
                    <a:ext cx="1517040" cy="843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6" name=""/>
              <p:cNvGrpSpPr/>
              <p:nvPr/>
            </p:nvGrpSpPr>
            <p:grpSpPr>
              <a:xfrm>
                <a:off x="5672880" y="4091400"/>
                <a:ext cx="1161360" cy="843840"/>
                <a:chOff x="5672880" y="4091400"/>
                <a:chExt cx="1161360" cy="84384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672880" y="4091400"/>
                  <a:ext cx="1161360" cy="84384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8" name=""/>
                <p:cNvGrpSpPr/>
                <p:nvPr/>
              </p:nvGrpSpPr>
              <p:grpSpPr>
                <a:xfrm>
                  <a:off x="5672880" y="4091400"/>
                  <a:ext cx="1161000" cy="843480"/>
                  <a:chOff x="5672880" y="4091400"/>
                  <a:chExt cx="1161000" cy="843480"/>
                </a:xfrm>
              </p:grpSpPr>
              <p:sp>
                <p:nvSpPr>
                  <p:cNvPr id="229" name=""/>
                  <p:cNvSpPr/>
                  <p:nvPr/>
                </p:nvSpPr>
                <p:spPr>
                  <a:xfrm>
                    <a:off x="5702760" y="4091400"/>
                    <a:ext cx="1100520" cy="84348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AU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5672880" y="4091400"/>
                    <a:ext cx="1161000" cy="843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1" name=""/>
              <p:cNvGrpSpPr/>
              <p:nvPr/>
            </p:nvGrpSpPr>
            <p:grpSpPr>
              <a:xfrm>
                <a:off x="6834960" y="4091400"/>
                <a:ext cx="1161720" cy="843840"/>
                <a:chOff x="6834960" y="4091400"/>
                <a:chExt cx="1161720" cy="843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6834960" y="4091400"/>
                  <a:ext cx="1161720" cy="84384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3" name=""/>
                <p:cNvGrpSpPr/>
                <p:nvPr/>
              </p:nvGrpSpPr>
              <p:grpSpPr>
                <a:xfrm>
                  <a:off x="6834960" y="4091400"/>
                  <a:ext cx="1161360" cy="843480"/>
                  <a:chOff x="6834960" y="4091400"/>
                  <a:chExt cx="1161360" cy="843480"/>
                </a:xfrm>
              </p:grpSpPr>
              <p:sp>
                <p:nvSpPr>
                  <p:cNvPr id="234" name=""/>
                  <p:cNvSpPr/>
                  <p:nvPr/>
                </p:nvSpPr>
                <p:spPr>
                  <a:xfrm>
                    <a:off x="6865560" y="4091400"/>
                    <a:ext cx="1099800" cy="84348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AU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6834960" y="4091400"/>
                    <a:ext cx="1161360" cy="843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6" name=""/>
              <p:cNvGrpSpPr/>
              <p:nvPr/>
            </p:nvGrpSpPr>
            <p:grpSpPr>
              <a:xfrm>
                <a:off x="7997400" y="4091400"/>
                <a:ext cx="570600" cy="843840"/>
                <a:chOff x="7997400" y="4091400"/>
                <a:chExt cx="570600" cy="84384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7997400" y="4091400"/>
                  <a:ext cx="570600" cy="84384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8" name=""/>
                <p:cNvGrpSpPr/>
                <p:nvPr/>
              </p:nvGrpSpPr>
              <p:grpSpPr>
                <a:xfrm>
                  <a:off x="7997400" y="4091400"/>
                  <a:ext cx="570240" cy="843480"/>
                  <a:chOff x="7997400" y="4091400"/>
                  <a:chExt cx="570240" cy="843480"/>
                </a:xfrm>
              </p:grpSpPr>
              <p:sp>
                <p:nvSpPr>
                  <p:cNvPr id="239" name=""/>
                  <p:cNvSpPr/>
                  <p:nvPr/>
                </p:nvSpPr>
                <p:spPr>
                  <a:xfrm>
                    <a:off x="8027280" y="4091400"/>
                    <a:ext cx="509760" cy="84348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…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7997400" y="4091400"/>
                    <a:ext cx="570240" cy="843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1" name=""/>
              <p:cNvGrpSpPr/>
              <p:nvPr/>
            </p:nvGrpSpPr>
            <p:grpSpPr>
              <a:xfrm>
                <a:off x="8568360" y="4091400"/>
                <a:ext cx="1161720" cy="843840"/>
                <a:chOff x="8568360" y="4091400"/>
                <a:chExt cx="1161720" cy="84384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8568360" y="4091400"/>
                  <a:ext cx="1161720" cy="84384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3" name=""/>
                <p:cNvGrpSpPr/>
                <p:nvPr/>
              </p:nvGrpSpPr>
              <p:grpSpPr>
                <a:xfrm>
                  <a:off x="8568360" y="4091400"/>
                  <a:ext cx="1161360" cy="843480"/>
                  <a:chOff x="8568360" y="4091400"/>
                  <a:chExt cx="1161360" cy="84348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8598960" y="4091400"/>
                    <a:ext cx="1099800" cy="84348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AU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8568360" y="4091400"/>
                    <a:ext cx="1161360" cy="843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6" name=""/>
              <p:cNvGrpSpPr/>
              <p:nvPr/>
            </p:nvGrpSpPr>
            <p:grpSpPr>
              <a:xfrm>
                <a:off x="9730800" y="4091400"/>
                <a:ext cx="1003320" cy="843840"/>
                <a:chOff x="9730800" y="4091400"/>
                <a:chExt cx="1003320" cy="84384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9730800" y="4091400"/>
                  <a:ext cx="1003320" cy="84384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8" name=""/>
                <p:cNvGrpSpPr/>
                <p:nvPr/>
              </p:nvGrpSpPr>
              <p:grpSpPr>
                <a:xfrm>
                  <a:off x="9730800" y="4091400"/>
                  <a:ext cx="1002960" cy="843480"/>
                  <a:chOff x="9730800" y="4091400"/>
                  <a:chExt cx="1002960" cy="84348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>
                    <a:off x="9760680" y="4091400"/>
                    <a:ext cx="942480" cy="84348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AU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9730800" y="4091400"/>
                    <a:ext cx="1002960" cy="843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1" name=""/>
              <p:cNvGrpSpPr/>
              <p:nvPr/>
            </p:nvGrpSpPr>
            <p:grpSpPr>
              <a:xfrm>
                <a:off x="388800" y="4935960"/>
                <a:ext cx="2956320" cy="843480"/>
                <a:chOff x="388800" y="4935960"/>
                <a:chExt cx="2956320" cy="84348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419400" y="4935960"/>
                  <a:ext cx="2894760" cy="84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et turnove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388800" y="4935960"/>
                  <a:ext cx="2956320" cy="84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3345480" y="4935960"/>
                <a:ext cx="808920" cy="843480"/>
                <a:chOff x="3345480" y="4935960"/>
                <a:chExt cx="808920" cy="84348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3375360" y="4935960"/>
                  <a:ext cx="748440" cy="84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2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3345480" y="4935960"/>
                  <a:ext cx="808920" cy="84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4155120" y="4935960"/>
                <a:ext cx="1517400" cy="843480"/>
                <a:chOff x="4155120" y="4935960"/>
                <a:chExt cx="1517400" cy="843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155120" y="4935960"/>
                  <a:ext cx="1517400" cy="84348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9" name=""/>
                <p:cNvGrpSpPr/>
                <p:nvPr/>
              </p:nvGrpSpPr>
              <p:grpSpPr>
                <a:xfrm>
                  <a:off x="4155120" y="4935960"/>
                  <a:ext cx="1517040" cy="843120"/>
                  <a:chOff x="4155120" y="4935960"/>
                  <a:chExt cx="1517040" cy="84312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>
                    <a:off x="4185720" y="4935960"/>
                    <a:ext cx="1455480" cy="8431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AU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4155120" y="4935960"/>
                    <a:ext cx="1517040" cy="843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2" name=""/>
              <p:cNvGrpSpPr/>
              <p:nvPr/>
            </p:nvGrpSpPr>
            <p:grpSpPr>
              <a:xfrm>
                <a:off x="5672880" y="4935960"/>
                <a:ext cx="1161360" cy="843480"/>
                <a:chOff x="5672880" y="4935960"/>
                <a:chExt cx="1161360" cy="84348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5672880" y="4935960"/>
                  <a:ext cx="1161360" cy="84348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4" name=""/>
                <p:cNvGrpSpPr/>
                <p:nvPr/>
              </p:nvGrpSpPr>
              <p:grpSpPr>
                <a:xfrm>
                  <a:off x="5672880" y="4935960"/>
                  <a:ext cx="1161000" cy="843120"/>
                  <a:chOff x="5672880" y="4935960"/>
                  <a:chExt cx="1161000" cy="843120"/>
                </a:xfrm>
              </p:grpSpPr>
              <p:sp>
                <p:nvSpPr>
                  <p:cNvPr id="265" name=""/>
                  <p:cNvSpPr/>
                  <p:nvPr/>
                </p:nvSpPr>
                <p:spPr>
                  <a:xfrm>
                    <a:off x="5702760" y="4935960"/>
                    <a:ext cx="1100520" cy="8431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AU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5672880" y="4935960"/>
                    <a:ext cx="1161000" cy="843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7" name=""/>
              <p:cNvGrpSpPr/>
              <p:nvPr/>
            </p:nvGrpSpPr>
            <p:grpSpPr>
              <a:xfrm>
                <a:off x="6834960" y="4935960"/>
                <a:ext cx="1161720" cy="843480"/>
                <a:chOff x="6834960" y="4935960"/>
                <a:chExt cx="1161720" cy="84348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834960" y="4935960"/>
                  <a:ext cx="1161720" cy="84348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9" name=""/>
                <p:cNvGrpSpPr/>
                <p:nvPr/>
              </p:nvGrpSpPr>
              <p:grpSpPr>
                <a:xfrm>
                  <a:off x="6834960" y="4935960"/>
                  <a:ext cx="1161360" cy="843120"/>
                  <a:chOff x="6834960" y="4935960"/>
                  <a:chExt cx="1161360" cy="843120"/>
                </a:xfrm>
              </p:grpSpPr>
              <p:sp>
                <p:nvSpPr>
                  <p:cNvPr id="270" name=""/>
                  <p:cNvSpPr/>
                  <p:nvPr/>
                </p:nvSpPr>
                <p:spPr>
                  <a:xfrm>
                    <a:off x="6865560" y="4935960"/>
                    <a:ext cx="1099800" cy="8431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AU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6834960" y="4935960"/>
                    <a:ext cx="1161360" cy="843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2" name=""/>
              <p:cNvGrpSpPr/>
              <p:nvPr/>
            </p:nvGrpSpPr>
            <p:grpSpPr>
              <a:xfrm>
                <a:off x="7997400" y="4935960"/>
                <a:ext cx="570600" cy="843480"/>
                <a:chOff x="7997400" y="4935960"/>
                <a:chExt cx="570600" cy="84348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7997400" y="4935960"/>
                  <a:ext cx="570600" cy="84348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4" name=""/>
                <p:cNvGrpSpPr/>
                <p:nvPr/>
              </p:nvGrpSpPr>
              <p:grpSpPr>
                <a:xfrm>
                  <a:off x="7997400" y="4935960"/>
                  <a:ext cx="570240" cy="843120"/>
                  <a:chOff x="7997400" y="4935960"/>
                  <a:chExt cx="570240" cy="843120"/>
                </a:xfrm>
              </p:grpSpPr>
              <p:sp>
                <p:nvSpPr>
                  <p:cNvPr id="275" name=""/>
                  <p:cNvSpPr/>
                  <p:nvPr/>
                </p:nvSpPr>
                <p:spPr>
                  <a:xfrm>
                    <a:off x="8027280" y="4935960"/>
                    <a:ext cx="509760" cy="8431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…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7997400" y="4935960"/>
                    <a:ext cx="570240" cy="843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7" name=""/>
              <p:cNvGrpSpPr/>
              <p:nvPr/>
            </p:nvGrpSpPr>
            <p:grpSpPr>
              <a:xfrm>
                <a:off x="8568360" y="4935960"/>
                <a:ext cx="1161720" cy="843480"/>
                <a:chOff x="8568360" y="4935960"/>
                <a:chExt cx="1161720" cy="84348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8568360" y="4935960"/>
                  <a:ext cx="1161720" cy="84348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9" name=""/>
                <p:cNvGrpSpPr/>
                <p:nvPr/>
              </p:nvGrpSpPr>
              <p:grpSpPr>
                <a:xfrm>
                  <a:off x="8568360" y="4935960"/>
                  <a:ext cx="1161360" cy="843120"/>
                  <a:chOff x="8568360" y="4935960"/>
                  <a:chExt cx="1161360" cy="843120"/>
                </a:xfrm>
              </p:grpSpPr>
              <p:sp>
                <p:nvSpPr>
                  <p:cNvPr id="280" name=""/>
                  <p:cNvSpPr/>
                  <p:nvPr/>
                </p:nvSpPr>
                <p:spPr>
                  <a:xfrm>
                    <a:off x="8598960" y="4935960"/>
                    <a:ext cx="1099800" cy="8431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AU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8568360" y="4935960"/>
                    <a:ext cx="1161360" cy="843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2" name=""/>
              <p:cNvGrpSpPr/>
              <p:nvPr/>
            </p:nvGrpSpPr>
            <p:grpSpPr>
              <a:xfrm>
                <a:off x="9730800" y="4935960"/>
                <a:ext cx="1003320" cy="843480"/>
                <a:chOff x="9730800" y="4935960"/>
                <a:chExt cx="1003320" cy="8434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9730800" y="4935960"/>
                  <a:ext cx="1003320" cy="84348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4" name=""/>
                <p:cNvGrpSpPr/>
                <p:nvPr/>
              </p:nvGrpSpPr>
              <p:grpSpPr>
                <a:xfrm>
                  <a:off x="9730800" y="4935960"/>
                  <a:ext cx="1002960" cy="843120"/>
                  <a:chOff x="9730800" y="4935960"/>
                  <a:chExt cx="1002960" cy="843120"/>
                </a:xfrm>
              </p:grpSpPr>
              <p:sp>
                <p:nvSpPr>
                  <p:cNvPr id="285" name=""/>
                  <p:cNvSpPr/>
                  <p:nvPr/>
                </p:nvSpPr>
                <p:spPr>
                  <a:xfrm>
                    <a:off x="9760680" y="4935960"/>
                    <a:ext cx="942480" cy="8431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AU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9730800" y="4935960"/>
                    <a:ext cx="1002960" cy="843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7" name=""/>
              <p:cNvGrpSpPr/>
              <p:nvPr/>
            </p:nvGrpSpPr>
            <p:grpSpPr>
              <a:xfrm>
                <a:off x="388800" y="5780160"/>
                <a:ext cx="2956320" cy="843480"/>
                <a:chOff x="388800" y="5780160"/>
                <a:chExt cx="2956320" cy="84348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419400" y="5780160"/>
                  <a:ext cx="2894760" cy="84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ther incom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388800" y="5780160"/>
                  <a:ext cx="2956320" cy="84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3345480" y="5780160"/>
                <a:ext cx="808920" cy="843480"/>
                <a:chOff x="3345480" y="5780160"/>
                <a:chExt cx="808920" cy="84348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3375360" y="5780160"/>
                  <a:ext cx="748440" cy="84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3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3345480" y="5780160"/>
                  <a:ext cx="808920" cy="84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4155120" y="5780160"/>
                <a:ext cx="1517400" cy="843480"/>
                <a:chOff x="4155120" y="5780160"/>
                <a:chExt cx="1517400" cy="84348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4155120" y="5780160"/>
                  <a:ext cx="1517400" cy="84348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5" name=""/>
                <p:cNvGrpSpPr/>
                <p:nvPr/>
              </p:nvGrpSpPr>
              <p:grpSpPr>
                <a:xfrm>
                  <a:off x="4155120" y="5780160"/>
                  <a:ext cx="1517040" cy="843120"/>
                  <a:chOff x="4155120" y="5780160"/>
                  <a:chExt cx="1517040" cy="843120"/>
                </a:xfrm>
              </p:grpSpPr>
              <p:sp>
                <p:nvSpPr>
                  <p:cNvPr id="296" name=""/>
                  <p:cNvSpPr/>
                  <p:nvPr/>
                </p:nvSpPr>
                <p:spPr>
                  <a:xfrm>
                    <a:off x="4185720" y="5780160"/>
                    <a:ext cx="1455480" cy="8431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AU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4155120" y="5780160"/>
                    <a:ext cx="1517040" cy="843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8" name=""/>
              <p:cNvGrpSpPr/>
              <p:nvPr/>
            </p:nvGrpSpPr>
            <p:grpSpPr>
              <a:xfrm>
                <a:off x="5672880" y="5780160"/>
                <a:ext cx="1161360" cy="843480"/>
                <a:chOff x="5672880" y="5780160"/>
                <a:chExt cx="1161360" cy="84348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5672880" y="5780160"/>
                  <a:ext cx="1161360" cy="84348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0" name=""/>
                <p:cNvGrpSpPr/>
                <p:nvPr/>
              </p:nvGrpSpPr>
              <p:grpSpPr>
                <a:xfrm>
                  <a:off x="5672880" y="5780160"/>
                  <a:ext cx="1161000" cy="843120"/>
                  <a:chOff x="5672880" y="5780160"/>
                  <a:chExt cx="1161000" cy="843120"/>
                </a:xfrm>
              </p:grpSpPr>
              <p:sp>
                <p:nvSpPr>
                  <p:cNvPr id="301" name=""/>
                  <p:cNvSpPr/>
                  <p:nvPr/>
                </p:nvSpPr>
                <p:spPr>
                  <a:xfrm>
                    <a:off x="5702760" y="5780160"/>
                    <a:ext cx="1100520" cy="8431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AU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>
                    <a:off x="5672880" y="5780160"/>
                    <a:ext cx="1161000" cy="843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3" name=""/>
              <p:cNvGrpSpPr/>
              <p:nvPr/>
            </p:nvGrpSpPr>
            <p:grpSpPr>
              <a:xfrm>
                <a:off x="6834960" y="5780160"/>
                <a:ext cx="1161720" cy="843480"/>
                <a:chOff x="6834960" y="5780160"/>
                <a:chExt cx="1161720" cy="8434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6834960" y="5780160"/>
                  <a:ext cx="1161720" cy="84348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5" name=""/>
                <p:cNvGrpSpPr/>
                <p:nvPr/>
              </p:nvGrpSpPr>
              <p:grpSpPr>
                <a:xfrm>
                  <a:off x="6834960" y="5780160"/>
                  <a:ext cx="1161360" cy="843120"/>
                  <a:chOff x="6834960" y="5780160"/>
                  <a:chExt cx="1161360" cy="843120"/>
                </a:xfrm>
              </p:grpSpPr>
              <p:sp>
                <p:nvSpPr>
                  <p:cNvPr id="306" name=""/>
                  <p:cNvSpPr/>
                  <p:nvPr/>
                </p:nvSpPr>
                <p:spPr>
                  <a:xfrm>
                    <a:off x="6865560" y="5780160"/>
                    <a:ext cx="1099800" cy="8431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AU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6834960" y="5780160"/>
                    <a:ext cx="1161360" cy="843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8" name=""/>
              <p:cNvGrpSpPr/>
              <p:nvPr/>
            </p:nvGrpSpPr>
            <p:grpSpPr>
              <a:xfrm>
                <a:off x="7997400" y="5780160"/>
                <a:ext cx="570600" cy="843480"/>
                <a:chOff x="7997400" y="5780160"/>
                <a:chExt cx="570600" cy="84348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7997400" y="5780160"/>
                  <a:ext cx="570600" cy="84348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0" name=""/>
                <p:cNvGrpSpPr/>
                <p:nvPr/>
              </p:nvGrpSpPr>
              <p:grpSpPr>
                <a:xfrm>
                  <a:off x="7997400" y="5780160"/>
                  <a:ext cx="570240" cy="843120"/>
                  <a:chOff x="7997400" y="5780160"/>
                  <a:chExt cx="570240" cy="843120"/>
                </a:xfrm>
              </p:grpSpPr>
              <p:sp>
                <p:nvSpPr>
                  <p:cNvPr id="311" name=""/>
                  <p:cNvSpPr/>
                  <p:nvPr/>
                </p:nvSpPr>
                <p:spPr>
                  <a:xfrm>
                    <a:off x="8027280" y="5780160"/>
                    <a:ext cx="509760" cy="8431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AU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7997400" y="5780160"/>
                    <a:ext cx="570240" cy="843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3" name=""/>
              <p:cNvGrpSpPr/>
              <p:nvPr/>
            </p:nvGrpSpPr>
            <p:grpSpPr>
              <a:xfrm>
                <a:off x="8568360" y="5780160"/>
                <a:ext cx="1161720" cy="843480"/>
                <a:chOff x="8568360" y="5780160"/>
                <a:chExt cx="1161720" cy="84348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8568360" y="5780160"/>
                  <a:ext cx="1161720" cy="84348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5" name=""/>
                <p:cNvGrpSpPr/>
                <p:nvPr/>
              </p:nvGrpSpPr>
              <p:grpSpPr>
                <a:xfrm>
                  <a:off x="8568360" y="5780160"/>
                  <a:ext cx="1161360" cy="843120"/>
                  <a:chOff x="8568360" y="5780160"/>
                  <a:chExt cx="1161360" cy="843120"/>
                </a:xfrm>
              </p:grpSpPr>
              <p:sp>
                <p:nvSpPr>
                  <p:cNvPr id="316" name=""/>
                  <p:cNvSpPr/>
                  <p:nvPr/>
                </p:nvSpPr>
                <p:spPr>
                  <a:xfrm>
                    <a:off x="8598960" y="5780160"/>
                    <a:ext cx="1099800" cy="8431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AU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8568360" y="5780160"/>
                    <a:ext cx="1161360" cy="843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8" name=""/>
              <p:cNvGrpSpPr/>
              <p:nvPr/>
            </p:nvGrpSpPr>
            <p:grpSpPr>
              <a:xfrm>
                <a:off x="9730800" y="5780160"/>
                <a:ext cx="1003320" cy="843480"/>
                <a:chOff x="9730800" y="5780160"/>
                <a:chExt cx="1003320" cy="84348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9730800" y="5780160"/>
                  <a:ext cx="1003320" cy="84348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0" name=""/>
                <p:cNvGrpSpPr/>
                <p:nvPr/>
              </p:nvGrpSpPr>
              <p:grpSpPr>
                <a:xfrm>
                  <a:off x="9730800" y="5780160"/>
                  <a:ext cx="1002960" cy="843120"/>
                  <a:chOff x="9730800" y="5780160"/>
                  <a:chExt cx="1002960" cy="843120"/>
                </a:xfrm>
              </p:grpSpPr>
              <p:sp>
                <p:nvSpPr>
                  <p:cNvPr id="321" name=""/>
                  <p:cNvSpPr/>
                  <p:nvPr/>
                </p:nvSpPr>
                <p:spPr>
                  <a:xfrm>
                    <a:off x="9760680" y="5780160"/>
                    <a:ext cx="942480" cy="8431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AU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9730800" y="5780160"/>
                    <a:ext cx="1002960" cy="843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323" name=""/>
            <p:cNvSpPr/>
            <p:nvPr/>
          </p:nvSpPr>
          <p:spPr>
            <a:xfrm>
              <a:off x="380880" y="2209680"/>
              <a:ext cx="10362960" cy="441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904760" y="5331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Data matrix - </a:t>
            </a:r>
            <a:r>
              <a:rPr b="1" lang="en-A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xed number of Columns (3) and variable number of </a:t>
            </a:r>
            <a:r>
              <a:rPr b="1" lang="en-A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Rows (n)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33520" y="1170000"/>
            <a:ext cx="107092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xample)</a:t>
            </a:r>
            <a:r>
              <a:rPr b="0" i="1" lang="lv-LV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ion of industry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457200" y="1600200"/>
            <a:ext cx="10058040" cy="5943240"/>
            <a:chOff x="457200" y="1600200"/>
            <a:chExt cx="10058040" cy="5943240"/>
          </a:xfrm>
        </p:grpSpPr>
        <p:grpSp>
          <p:nvGrpSpPr>
            <p:cNvPr id="327" name=""/>
            <p:cNvGrpSpPr/>
            <p:nvPr/>
          </p:nvGrpSpPr>
          <p:grpSpPr>
            <a:xfrm>
              <a:off x="464760" y="1605600"/>
              <a:ext cx="10041120" cy="5930640"/>
              <a:chOff x="464760" y="1605600"/>
              <a:chExt cx="10041120" cy="593064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464760" y="1605600"/>
                <a:ext cx="2041560" cy="1230480"/>
                <a:chOff x="464760" y="1605600"/>
                <a:chExt cx="2041560" cy="123048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579240" y="1605600"/>
                  <a:ext cx="1812600" cy="123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ame of productio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464760" y="1605600"/>
                  <a:ext cx="2041560" cy="123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2506680" y="1605600"/>
                <a:ext cx="2040840" cy="1230480"/>
                <a:chOff x="2506680" y="1605600"/>
                <a:chExt cx="2040840" cy="123048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2620440" y="1605600"/>
                  <a:ext cx="1812960" cy="123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ion cod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PRODCOM or CN code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2506680" y="1605600"/>
                  <a:ext cx="2040840" cy="123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4547880" y="1605600"/>
                <a:ext cx="2041560" cy="1230480"/>
                <a:chOff x="4547880" y="1605600"/>
                <a:chExt cx="2041560" cy="123048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4662360" y="1605600"/>
                  <a:ext cx="1812600" cy="123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ed in natural measuremen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4547880" y="1605600"/>
                  <a:ext cx="2041560" cy="123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7" name=""/>
              <p:cNvGrpSpPr/>
              <p:nvPr/>
            </p:nvGrpSpPr>
            <p:grpSpPr>
              <a:xfrm>
                <a:off x="6590160" y="1605600"/>
                <a:ext cx="2041560" cy="1230480"/>
                <a:chOff x="6590160" y="1605600"/>
                <a:chExt cx="2041560" cy="1230480"/>
              </a:xfrm>
            </p:grpSpPr>
            <p:sp>
              <p:nvSpPr>
                <p:cNvPr id="338" name=""/>
                <p:cNvSpPr/>
                <p:nvPr/>
              </p:nvSpPr>
              <p:spPr>
                <a:xfrm>
                  <a:off x="6704640" y="1605600"/>
                  <a:ext cx="1812600" cy="123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ailed in natural measuremen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6590160" y="1605600"/>
                  <a:ext cx="2041560" cy="123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0" name=""/>
              <p:cNvGrpSpPr/>
              <p:nvPr/>
            </p:nvGrpSpPr>
            <p:grpSpPr>
              <a:xfrm>
                <a:off x="8632080" y="1605600"/>
                <a:ext cx="1873800" cy="1230480"/>
                <a:chOff x="8632080" y="1605600"/>
                <a:chExt cx="1873800" cy="1230480"/>
              </a:xfrm>
            </p:grpSpPr>
            <p:sp>
              <p:nvSpPr>
                <p:cNvPr id="341" name=""/>
                <p:cNvSpPr/>
                <p:nvPr/>
              </p:nvSpPr>
              <p:spPr>
                <a:xfrm>
                  <a:off x="8745840" y="1605600"/>
                  <a:ext cx="1645200" cy="123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come in lats (LVL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8632080" y="1605600"/>
                  <a:ext cx="1873800" cy="123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" name=""/>
              <p:cNvGrpSpPr/>
              <p:nvPr/>
            </p:nvGrpSpPr>
            <p:grpSpPr>
              <a:xfrm>
                <a:off x="464760" y="2836440"/>
                <a:ext cx="2041560" cy="783000"/>
                <a:chOff x="464760" y="2836440"/>
                <a:chExt cx="2041560" cy="78300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579240" y="2836440"/>
                  <a:ext cx="1812600" cy="78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464760" y="2836440"/>
                  <a:ext cx="2041560" cy="78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6" name=""/>
              <p:cNvGrpSpPr/>
              <p:nvPr/>
            </p:nvGrpSpPr>
            <p:grpSpPr>
              <a:xfrm>
                <a:off x="2506680" y="2836440"/>
                <a:ext cx="2040840" cy="783000"/>
                <a:chOff x="2506680" y="2836440"/>
                <a:chExt cx="2040840" cy="78300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2620440" y="2836440"/>
                  <a:ext cx="1812960" cy="78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2506680" y="2836440"/>
                  <a:ext cx="2040840" cy="78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9" name=""/>
              <p:cNvGrpSpPr/>
              <p:nvPr/>
            </p:nvGrpSpPr>
            <p:grpSpPr>
              <a:xfrm>
                <a:off x="4547880" y="2836440"/>
                <a:ext cx="2041560" cy="783000"/>
                <a:chOff x="4547880" y="2836440"/>
                <a:chExt cx="2041560" cy="78300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4662360" y="2836440"/>
                  <a:ext cx="1812600" cy="78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4547880" y="2836440"/>
                  <a:ext cx="2041560" cy="78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2" name=""/>
              <p:cNvGrpSpPr/>
              <p:nvPr/>
            </p:nvGrpSpPr>
            <p:grpSpPr>
              <a:xfrm>
                <a:off x="6590160" y="2836440"/>
                <a:ext cx="2041560" cy="783000"/>
                <a:chOff x="6590160" y="2836440"/>
                <a:chExt cx="2041560" cy="78300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6704640" y="2836440"/>
                  <a:ext cx="1812600" cy="78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6590160" y="2836440"/>
                  <a:ext cx="2041560" cy="78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5" name=""/>
              <p:cNvGrpSpPr/>
              <p:nvPr/>
            </p:nvGrpSpPr>
            <p:grpSpPr>
              <a:xfrm>
                <a:off x="8632080" y="2836440"/>
                <a:ext cx="1873800" cy="783000"/>
                <a:chOff x="8632080" y="2836440"/>
                <a:chExt cx="1873800" cy="78300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8745840" y="2836440"/>
                  <a:ext cx="1645200" cy="78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8632080" y="2836440"/>
                  <a:ext cx="1873800" cy="78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8" name=""/>
              <p:cNvGrpSpPr/>
              <p:nvPr/>
            </p:nvGrpSpPr>
            <p:grpSpPr>
              <a:xfrm>
                <a:off x="464760" y="3619800"/>
                <a:ext cx="2041560" cy="783000"/>
                <a:chOff x="464760" y="3619800"/>
                <a:chExt cx="2041560" cy="78300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579240" y="3619800"/>
                  <a:ext cx="1812600" cy="78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Product 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464760" y="3619800"/>
                  <a:ext cx="2041560" cy="78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1" name=""/>
              <p:cNvGrpSpPr/>
              <p:nvPr/>
            </p:nvGrpSpPr>
            <p:grpSpPr>
              <a:xfrm>
                <a:off x="2506680" y="3619800"/>
                <a:ext cx="2040840" cy="783000"/>
                <a:chOff x="2506680" y="3619800"/>
                <a:chExt cx="2040840" cy="78300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2620440" y="3619800"/>
                  <a:ext cx="1812960" cy="78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123456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2506680" y="3619800"/>
                  <a:ext cx="2040840" cy="78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" name=""/>
              <p:cNvGrpSpPr/>
              <p:nvPr/>
            </p:nvGrpSpPr>
            <p:grpSpPr>
              <a:xfrm>
                <a:off x="4547880" y="3619800"/>
                <a:ext cx="2041560" cy="783000"/>
                <a:chOff x="4547880" y="3619800"/>
                <a:chExt cx="2041560" cy="78300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4547880" y="3619800"/>
                  <a:ext cx="2041560" cy="78300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6" name=""/>
                <p:cNvGrpSpPr/>
                <p:nvPr/>
              </p:nvGrpSpPr>
              <p:grpSpPr>
                <a:xfrm>
                  <a:off x="4547880" y="3619800"/>
                  <a:ext cx="2041200" cy="782640"/>
                  <a:chOff x="4547880" y="3619800"/>
                  <a:chExt cx="2041200" cy="782640"/>
                </a:xfrm>
              </p:grpSpPr>
              <p:sp>
                <p:nvSpPr>
                  <p:cNvPr id="367" name=""/>
                  <p:cNvSpPr/>
                  <p:nvPr/>
                </p:nvSpPr>
                <p:spPr>
                  <a:xfrm>
                    <a:off x="4662360" y="3619800"/>
                    <a:ext cx="1812240" cy="782640"/>
                  </a:xfrm>
                  <a:prstGeom prst="rect">
                    <a:avLst/>
                  </a:pr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AU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>
                    <a:off x="4547880" y="3619800"/>
                    <a:ext cx="2041200" cy="782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69" name=""/>
              <p:cNvGrpSpPr/>
              <p:nvPr/>
            </p:nvGrpSpPr>
            <p:grpSpPr>
              <a:xfrm>
                <a:off x="6590160" y="3619800"/>
                <a:ext cx="2041560" cy="783000"/>
                <a:chOff x="6590160" y="3619800"/>
                <a:chExt cx="2041560" cy="78300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6590160" y="3619800"/>
                  <a:ext cx="2041560" cy="78300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1" name=""/>
                <p:cNvGrpSpPr/>
                <p:nvPr/>
              </p:nvGrpSpPr>
              <p:grpSpPr>
                <a:xfrm>
                  <a:off x="6590160" y="3619800"/>
                  <a:ext cx="2041200" cy="782640"/>
                  <a:chOff x="6590160" y="3619800"/>
                  <a:chExt cx="2041200" cy="78264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6704640" y="3619800"/>
                    <a:ext cx="1812240" cy="782640"/>
                  </a:xfrm>
                  <a:prstGeom prst="rect">
                    <a:avLst/>
                  </a:pr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AU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6590160" y="3619800"/>
                    <a:ext cx="2041200" cy="782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74" name=""/>
              <p:cNvGrpSpPr/>
              <p:nvPr/>
            </p:nvGrpSpPr>
            <p:grpSpPr>
              <a:xfrm>
                <a:off x="8632080" y="3619800"/>
                <a:ext cx="1873800" cy="783000"/>
                <a:chOff x="8632080" y="3619800"/>
                <a:chExt cx="1873800" cy="78300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8632080" y="3619800"/>
                  <a:ext cx="1873800" cy="78300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6" name=""/>
                <p:cNvGrpSpPr/>
                <p:nvPr/>
              </p:nvGrpSpPr>
              <p:grpSpPr>
                <a:xfrm>
                  <a:off x="8632080" y="3619800"/>
                  <a:ext cx="1873440" cy="782640"/>
                  <a:chOff x="8632080" y="3619800"/>
                  <a:chExt cx="1873440" cy="782640"/>
                </a:xfrm>
              </p:grpSpPr>
              <p:sp>
                <p:nvSpPr>
                  <p:cNvPr id="377" name=""/>
                  <p:cNvSpPr/>
                  <p:nvPr/>
                </p:nvSpPr>
                <p:spPr>
                  <a:xfrm>
                    <a:off x="8745840" y="3619800"/>
                    <a:ext cx="1644840" cy="782640"/>
                  </a:xfrm>
                  <a:prstGeom prst="rect">
                    <a:avLst/>
                  </a:pr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AU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8632080" y="3619800"/>
                    <a:ext cx="1873440" cy="782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79" name=""/>
              <p:cNvGrpSpPr/>
              <p:nvPr/>
            </p:nvGrpSpPr>
            <p:grpSpPr>
              <a:xfrm>
                <a:off x="464760" y="4403160"/>
                <a:ext cx="2041560" cy="783000"/>
                <a:chOff x="464760" y="4403160"/>
                <a:chExt cx="2041560" cy="78300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579240" y="4403160"/>
                  <a:ext cx="1812600" cy="78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Product 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464760" y="4403160"/>
                  <a:ext cx="2041560" cy="78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2" name=""/>
              <p:cNvGrpSpPr/>
              <p:nvPr/>
            </p:nvGrpSpPr>
            <p:grpSpPr>
              <a:xfrm>
                <a:off x="2506680" y="4403160"/>
                <a:ext cx="2040840" cy="783000"/>
                <a:chOff x="2506680" y="4403160"/>
                <a:chExt cx="2040840" cy="78300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2620440" y="4403160"/>
                  <a:ext cx="1812960" cy="78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234567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2506680" y="4403160"/>
                  <a:ext cx="2040840" cy="78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5" name=""/>
              <p:cNvGrpSpPr/>
              <p:nvPr/>
            </p:nvGrpSpPr>
            <p:grpSpPr>
              <a:xfrm>
                <a:off x="4547880" y="4403160"/>
                <a:ext cx="2041560" cy="783000"/>
                <a:chOff x="4547880" y="4403160"/>
                <a:chExt cx="2041560" cy="78300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4547880" y="4403160"/>
                  <a:ext cx="2041560" cy="78300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7" name=""/>
                <p:cNvGrpSpPr/>
                <p:nvPr/>
              </p:nvGrpSpPr>
              <p:grpSpPr>
                <a:xfrm>
                  <a:off x="4547880" y="4403160"/>
                  <a:ext cx="2041200" cy="782640"/>
                  <a:chOff x="4547880" y="4403160"/>
                  <a:chExt cx="2041200" cy="782640"/>
                </a:xfrm>
              </p:grpSpPr>
              <p:sp>
                <p:nvSpPr>
                  <p:cNvPr id="388" name=""/>
                  <p:cNvSpPr/>
                  <p:nvPr/>
                </p:nvSpPr>
                <p:spPr>
                  <a:xfrm>
                    <a:off x="4662360" y="4403160"/>
                    <a:ext cx="1812240" cy="782640"/>
                  </a:xfrm>
                  <a:prstGeom prst="rect">
                    <a:avLst/>
                  </a:pr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AU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4547880" y="4403160"/>
                    <a:ext cx="2041200" cy="782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90" name=""/>
              <p:cNvGrpSpPr/>
              <p:nvPr/>
            </p:nvGrpSpPr>
            <p:grpSpPr>
              <a:xfrm>
                <a:off x="6590160" y="4403160"/>
                <a:ext cx="2041560" cy="783000"/>
                <a:chOff x="6590160" y="4403160"/>
                <a:chExt cx="2041560" cy="78300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6590160" y="4403160"/>
                  <a:ext cx="2041560" cy="78300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2" name=""/>
                <p:cNvGrpSpPr/>
                <p:nvPr/>
              </p:nvGrpSpPr>
              <p:grpSpPr>
                <a:xfrm>
                  <a:off x="6590160" y="4403160"/>
                  <a:ext cx="2041200" cy="782640"/>
                  <a:chOff x="6590160" y="4403160"/>
                  <a:chExt cx="2041200" cy="782640"/>
                </a:xfrm>
              </p:grpSpPr>
              <p:sp>
                <p:nvSpPr>
                  <p:cNvPr id="393" name=""/>
                  <p:cNvSpPr/>
                  <p:nvPr/>
                </p:nvSpPr>
                <p:spPr>
                  <a:xfrm>
                    <a:off x="6704640" y="4403160"/>
                    <a:ext cx="1812240" cy="782640"/>
                  </a:xfrm>
                  <a:prstGeom prst="rect">
                    <a:avLst/>
                  </a:pr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AU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6590160" y="4403160"/>
                    <a:ext cx="2041200" cy="782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95" name=""/>
              <p:cNvGrpSpPr/>
              <p:nvPr/>
            </p:nvGrpSpPr>
            <p:grpSpPr>
              <a:xfrm>
                <a:off x="8632080" y="4403160"/>
                <a:ext cx="1873800" cy="783000"/>
                <a:chOff x="8632080" y="4403160"/>
                <a:chExt cx="1873800" cy="78300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8632080" y="4403160"/>
                  <a:ext cx="1873800" cy="78300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7" name=""/>
                <p:cNvGrpSpPr/>
                <p:nvPr/>
              </p:nvGrpSpPr>
              <p:grpSpPr>
                <a:xfrm>
                  <a:off x="8632080" y="4403160"/>
                  <a:ext cx="1873440" cy="782640"/>
                  <a:chOff x="8632080" y="4403160"/>
                  <a:chExt cx="1873440" cy="782640"/>
                </a:xfrm>
              </p:grpSpPr>
              <p:sp>
                <p:nvSpPr>
                  <p:cNvPr id="398" name=""/>
                  <p:cNvSpPr/>
                  <p:nvPr/>
                </p:nvSpPr>
                <p:spPr>
                  <a:xfrm>
                    <a:off x="8745840" y="4403160"/>
                    <a:ext cx="1644840" cy="782640"/>
                  </a:xfrm>
                  <a:prstGeom prst="rect">
                    <a:avLst/>
                  </a:pr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AU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8632080" y="4403160"/>
                    <a:ext cx="1873440" cy="782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00" name=""/>
              <p:cNvGrpSpPr/>
              <p:nvPr/>
            </p:nvGrpSpPr>
            <p:grpSpPr>
              <a:xfrm>
                <a:off x="464760" y="5186520"/>
                <a:ext cx="2041560" cy="783000"/>
                <a:chOff x="464760" y="5186520"/>
                <a:chExt cx="2041560" cy="78300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579240" y="5186520"/>
                  <a:ext cx="1812600" cy="78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…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464760" y="5186520"/>
                  <a:ext cx="2041560" cy="78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" name=""/>
              <p:cNvGrpSpPr/>
              <p:nvPr/>
            </p:nvGrpSpPr>
            <p:grpSpPr>
              <a:xfrm>
                <a:off x="2506680" y="5186520"/>
                <a:ext cx="2040840" cy="783000"/>
                <a:chOff x="2506680" y="5186520"/>
                <a:chExt cx="2040840" cy="78300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2620440" y="5186520"/>
                  <a:ext cx="1812960" cy="78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…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2506680" y="5186520"/>
                  <a:ext cx="2040840" cy="78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6" name=""/>
              <p:cNvGrpSpPr/>
              <p:nvPr/>
            </p:nvGrpSpPr>
            <p:grpSpPr>
              <a:xfrm>
                <a:off x="4547880" y="5186520"/>
                <a:ext cx="2041560" cy="783000"/>
                <a:chOff x="4547880" y="5186520"/>
                <a:chExt cx="2041560" cy="78300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4547880" y="5186520"/>
                  <a:ext cx="2041560" cy="78300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8" name=""/>
                <p:cNvGrpSpPr/>
                <p:nvPr/>
              </p:nvGrpSpPr>
              <p:grpSpPr>
                <a:xfrm>
                  <a:off x="4547880" y="5186520"/>
                  <a:ext cx="2041200" cy="782640"/>
                  <a:chOff x="4547880" y="5186520"/>
                  <a:chExt cx="2041200" cy="782640"/>
                </a:xfrm>
              </p:grpSpPr>
              <p:sp>
                <p:nvSpPr>
                  <p:cNvPr id="409" name=""/>
                  <p:cNvSpPr/>
                  <p:nvPr/>
                </p:nvSpPr>
                <p:spPr>
                  <a:xfrm>
                    <a:off x="4662360" y="5186520"/>
                    <a:ext cx="1812240" cy="78264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. . .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4547880" y="5186520"/>
                    <a:ext cx="2041200" cy="782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11" name=""/>
              <p:cNvGrpSpPr/>
              <p:nvPr/>
            </p:nvGrpSpPr>
            <p:grpSpPr>
              <a:xfrm>
                <a:off x="6590160" y="5186520"/>
                <a:ext cx="2041560" cy="783000"/>
                <a:chOff x="6590160" y="5186520"/>
                <a:chExt cx="2041560" cy="78300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6590160" y="5186520"/>
                  <a:ext cx="2041560" cy="78300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3" name=""/>
                <p:cNvGrpSpPr/>
                <p:nvPr/>
              </p:nvGrpSpPr>
              <p:grpSpPr>
                <a:xfrm>
                  <a:off x="6590160" y="5186520"/>
                  <a:ext cx="2041200" cy="782640"/>
                  <a:chOff x="6590160" y="5186520"/>
                  <a:chExt cx="2041200" cy="782640"/>
                </a:xfrm>
              </p:grpSpPr>
              <p:sp>
                <p:nvSpPr>
                  <p:cNvPr id="414" name=""/>
                  <p:cNvSpPr/>
                  <p:nvPr/>
                </p:nvSpPr>
                <p:spPr>
                  <a:xfrm>
                    <a:off x="6704640" y="5186520"/>
                    <a:ext cx="1812240" cy="78264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. . .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6590160" y="5186520"/>
                    <a:ext cx="2041200" cy="782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16" name=""/>
              <p:cNvGrpSpPr/>
              <p:nvPr/>
            </p:nvGrpSpPr>
            <p:grpSpPr>
              <a:xfrm>
                <a:off x="8632080" y="5186520"/>
                <a:ext cx="1873800" cy="783000"/>
                <a:chOff x="8632080" y="5186520"/>
                <a:chExt cx="1873800" cy="78300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8632080" y="5186520"/>
                  <a:ext cx="1873800" cy="78300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8" name=""/>
                <p:cNvGrpSpPr/>
                <p:nvPr/>
              </p:nvGrpSpPr>
              <p:grpSpPr>
                <a:xfrm>
                  <a:off x="8632080" y="5186520"/>
                  <a:ext cx="1873440" cy="782640"/>
                  <a:chOff x="8632080" y="5186520"/>
                  <a:chExt cx="1873440" cy="782640"/>
                </a:xfrm>
              </p:grpSpPr>
              <p:sp>
                <p:nvSpPr>
                  <p:cNvPr id="419" name=""/>
                  <p:cNvSpPr/>
                  <p:nvPr/>
                </p:nvSpPr>
                <p:spPr>
                  <a:xfrm>
                    <a:off x="8745840" y="5186520"/>
                    <a:ext cx="1644840" cy="78264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. . .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8632080" y="5186520"/>
                    <a:ext cx="1873440" cy="782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21" name=""/>
              <p:cNvGrpSpPr/>
              <p:nvPr/>
            </p:nvGrpSpPr>
            <p:grpSpPr>
              <a:xfrm>
                <a:off x="464760" y="5969880"/>
                <a:ext cx="2041560" cy="783000"/>
                <a:chOff x="464760" y="5969880"/>
                <a:chExt cx="2041560" cy="78300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579240" y="5969880"/>
                  <a:ext cx="1812600" cy="78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Product n-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464760" y="5969880"/>
                  <a:ext cx="2041560" cy="78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4" name=""/>
              <p:cNvGrpSpPr/>
              <p:nvPr/>
            </p:nvGrpSpPr>
            <p:grpSpPr>
              <a:xfrm>
                <a:off x="2506680" y="5969880"/>
                <a:ext cx="2040840" cy="783000"/>
                <a:chOff x="2506680" y="5969880"/>
                <a:chExt cx="2040840" cy="78300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2620440" y="5969880"/>
                  <a:ext cx="1812960" cy="78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456789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2506680" y="5969880"/>
                  <a:ext cx="2040840" cy="78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7" name=""/>
              <p:cNvGrpSpPr/>
              <p:nvPr/>
            </p:nvGrpSpPr>
            <p:grpSpPr>
              <a:xfrm>
                <a:off x="4547880" y="5969880"/>
                <a:ext cx="2041560" cy="783000"/>
                <a:chOff x="4547880" y="5969880"/>
                <a:chExt cx="2041560" cy="78300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4547880" y="5969880"/>
                  <a:ext cx="2041560" cy="78300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9" name=""/>
                <p:cNvGrpSpPr/>
                <p:nvPr/>
              </p:nvGrpSpPr>
              <p:grpSpPr>
                <a:xfrm>
                  <a:off x="4547880" y="5969880"/>
                  <a:ext cx="2041200" cy="782640"/>
                  <a:chOff x="4547880" y="5969880"/>
                  <a:chExt cx="2041200" cy="782640"/>
                </a:xfrm>
              </p:grpSpPr>
              <p:sp>
                <p:nvSpPr>
                  <p:cNvPr id="430" name=""/>
                  <p:cNvSpPr/>
                  <p:nvPr/>
                </p:nvSpPr>
                <p:spPr>
                  <a:xfrm>
                    <a:off x="4662360" y="5969880"/>
                    <a:ext cx="1812240" cy="782640"/>
                  </a:xfrm>
                  <a:prstGeom prst="rect">
                    <a:avLst/>
                  </a:pr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AU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4547880" y="5969880"/>
                    <a:ext cx="2041200" cy="782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32" name=""/>
              <p:cNvGrpSpPr/>
              <p:nvPr/>
            </p:nvGrpSpPr>
            <p:grpSpPr>
              <a:xfrm>
                <a:off x="6590160" y="5969880"/>
                <a:ext cx="2041560" cy="783000"/>
                <a:chOff x="6590160" y="5969880"/>
                <a:chExt cx="2041560" cy="78300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6590160" y="5969880"/>
                  <a:ext cx="2041560" cy="78300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4" name=""/>
                <p:cNvGrpSpPr/>
                <p:nvPr/>
              </p:nvGrpSpPr>
              <p:grpSpPr>
                <a:xfrm>
                  <a:off x="6590160" y="5969880"/>
                  <a:ext cx="2041200" cy="782640"/>
                  <a:chOff x="6590160" y="5969880"/>
                  <a:chExt cx="2041200" cy="782640"/>
                </a:xfrm>
              </p:grpSpPr>
              <p:sp>
                <p:nvSpPr>
                  <p:cNvPr id="435" name=""/>
                  <p:cNvSpPr/>
                  <p:nvPr/>
                </p:nvSpPr>
                <p:spPr>
                  <a:xfrm>
                    <a:off x="6704640" y="5969880"/>
                    <a:ext cx="1812240" cy="782640"/>
                  </a:xfrm>
                  <a:prstGeom prst="rect">
                    <a:avLst/>
                  </a:pr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AU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6590160" y="5969880"/>
                    <a:ext cx="2041200" cy="782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37" name=""/>
              <p:cNvGrpSpPr/>
              <p:nvPr/>
            </p:nvGrpSpPr>
            <p:grpSpPr>
              <a:xfrm>
                <a:off x="8632080" y="5969880"/>
                <a:ext cx="1873800" cy="783000"/>
                <a:chOff x="8632080" y="5969880"/>
                <a:chExt cx="1873800" cy="783000"/>
              </a:xfrm>
            </p:grpSpPr>
            <p:sp>
              <p:nvSpPr>
                <p:cNvPr id="438" name=""/>
                <p:cNvSpPr/>
                <p:nvPr/>
              </p:nvSpPr>
              <p:spPr>
                <a:xfrm>
                  <a:off x="8632080" y="5969880"/>
                  <a:ext cx="1873800" cy="78300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9" name=""/>
                <p:cNvGrpSpPr/>
                <p:nvPr/>
              </p:nvGrpSpPr>
              <p:grpSpPr>
                <a:xfrm>
                  <a:off x="8632080" y="5969880"/>
                  <a:ext cx="1873440" cy="782640"/>
                  <a:chOff x="8632080" y="5969880"/>
                  <a:chExt cx="1873440" cy="782640"/>
                </a:xfrm>
              </p:grpSpPr>
              <p:sp>
                <p:nvSpPr>
                  <p:cNvPr id="440" name=""/>
                  <p:cNvSpPr/>
                  <p:nvPr/>
                </p:nvSpPr>
                <p:spPr>
                  <a:xfrm>
                    <a:off x="8745840" y="5969880"/>
                    <a:ext cx="1644840" cy="782640"/>
                  </a:xfrm>
                  <a:prstGeom prst="rect">
                    <a:avLst/>
                  </a:pr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AU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8632080" y="5969880"/>
                    <a:ext cx="1873440" cy="782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2" name=""/>
              <p:cNvGrpSpPr/>
              <p:nvPr/>
            </p:nvGrpSpPr>
            <p:grpSpPr>
              <a:xfrm>
                <a:off x="464760" y="6753240"/>
                <a:ext cx="2041560" cy="783000"/>
                <a:chOff x="464760" y="6753240"/>
                <a:chExt cx="2041560" cy="783000"/>
              </a:xfrm>
            </p:grpSpPr>
            <p:sp>
              <p:nvSpPr>
                <p:cNvPr id="443" name=""/>
                <p:cNvSpPr/>
                <p:nvPr/>
              </p:nvSpPr>
              <p:spPr>
                <a:xfrm>
                  <a:off x="579240" y="6753240"/>
                  <a:ext cx="1812600" cy="78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Product 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464760" y="6753240"/>
                  <a:ext cx="2041560" cy="78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5" name=""/>
              <p:cNvGrpSpPr/>
              <p:nvPr/>
            </p:nvGrpSpPr>
            <p:grpSpPr>
              <a:xfrm>
                <a:off x="2506680" y="6753240"/>
                <a:ext cx="2040840" cy="783000"/>
                <a:chOff x="2506680" y="6753240"/>
                <a:chExt cx="2040840" cy="783000"/>
              </a:xfrm>
            </p:grpSpPr>
            <p:sp>
              <p:nvSpPr>
                <p:cNvPr id="446" name=""/>
                <p:cNvSpPr/>
                <p:nvPr/>
              </p:nvSpPr>
              <p:spPr>
                <a:xfrm>
                  <a:off x="2620440" y="6753240"/>
                  <a:ext cx="1812960" cy="78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567890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2506680" y="6753240"/>
                  <a:ext cx="2040840" cy="78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8" name=""/>
              <p:cNvGrpSpPr/>
              <p:nvPr/>
            </p:nvGrpSpPr>
            <p:grpSpPr>
              <a:xfrm>
                <a:off x="4547880" y="6753240"/>
                <a:ext cx="2041560" cy="783000"/>
                <a:chOff x="4547880" y="6753240"/>
                <a:chExt cx="2041560" cy="783000"/>
              </a:xfrm>
            </p:grpSpPr>
            <p:sp>
              <p:nvSpPr>
                <p:cNvPr id="449" name=""/>
                <p:cNvSpPr/>
                <p:nvPr/>
              </p:nvSpPr>
              <p:spPr>
                <a:xfrm>
                  <a:off x="4547880" y="6753240"/>
                  <a:ext cx="2041560" cy="78300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0" name=""/>
                <p:cNvGrpSpPr/>
                <p:nvPr/>
              </p:nvGrpSpPr>
              <p:grpSpPr>
                <a:xfrm>
                  <a:off x="4547880" y="6753240"/>
                  <a:ext cx="2041200" cy="782640"/>
                  <a:chOff x="4547880" y="6753240"/>
                  <a:chExt cx="2041200" cy="782640"/>
                </a:xfrm>
              </p:grpSpPr>
              <p:sp>
                <p:nvSpPr>
                  <p:cNvPr id="451" name=""/>
                  <p:cNvSpPr/>
                  <p:nvPr/>
                </p:nvSpPr>
                <p:spPr>
                  <a:xfrm>
                    <a:off x="4662360" y="6753240"/>
                    <a:ext cx="1812240" cy="782640"/>
                  </a:xfrm>
                  <a:prstGeom prst="rect">
                    <a:avLst/>
                  </a:pr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AU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>
                    <a:off x="4547880" y="6753240"/>
                    <a:ext cx="2041200" cy="782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3" name=""/>
              <p:cNvGrpSpPr/>
              <p:nvPr/>
            </p:nvGrpSpPr>
            <p:grpSpPr>
              <a:xfrm>
                <a:off x="6590160" y="6753240"/>
                <a:ext cx="2041560" cy="783000"/>
                <a:chOff x="6590160" y="6753240"/>
                <a:chExt cx="2041560" cy="783000"/>
              </a:xfrm>
            </p:grpSpPr>
            <p:sp>
              <p:nvSpPr>
                <p:cNvPr id="454" name=""/>
                <p:cNvSpPr/>
                <p:nvPr/>
              </p:nvSpPr>
              <p:spPr>
                <a:xfrm>
                  <a:off x="6590160" y="6753240"/>
                  <a:ext cx="2041560" cy="78300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5" name=""/>
                <p:cNvGrpSpPr/>
                <p:nvPr/>
              </p:nvGrpSpPr>
              <p:grpSpPr>
                <a:xfrm>
                  <a:off x="6590160" y="6753240"/>
                  <a:ext cx="2041200" cy="782640"/>
                  <a:chOff x="6590160" y="6753240"/>
                  <a:chExt cx="2041200" cy="782640"/>
                </a:xfrm>
              </p:grpSpPr>
              <p:sp>
                <p:nvSpPr>
                  <p:cNvPr id="456" name=""/>
                  <p:cNvSpPr/>
                  <p:nvPr/>
                </p:nvSpPr>
                <p:spPr>
                  <a:xfrm>
                    <a:off x="6704640" y="6753240"/>
                    <a:ext cx="1812240" cy="782640"/>
                  </a:xfrm>
                  <a:prstGeom prst="rect">
                    <a:avLst/>
                  </a:pr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AU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6590160" y="6753240"/>
                    <a:ext cx="2041200" cy="782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8" name=""/>
              <p:cNvGrpSpPr/>
              <p:nvPr/>
            </p:nvGrpSpPr>
            <p:grpSpPr>
              <a:xfrm>
                <a:off x="8632080" y="6753240"/>
                <a:ext cx="1873800" cy="783000"/>
                <a:chOff x="8632080" y="6753240"/>
                <a:chExt cx="1873800" cy="78300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8632080" y="6753240"/>
                  <a:ext cx="1873800" cy="78300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0" name=""/>
                <p:cNvGrpSpPr/>
                <p:nvPr/>
              </p:nvGrpSpPr>
              <p:grpSpPr>
                <a:xfrm>
                  <a:off x="8632080" y="6753240"/>
                  <a:ext cx="1873440" cy="782640"/>
                  <a:chOff x="8632080" y="6753240"/>
                  <a:chExt cx="1873440" cy="782640"/>
                </a:xfrm>
              </p:grpSpPr>
              <p:sp>
                <p:nvSpPr>
                  <p:cNvPr id="461" name=""/>
                  <p:cNvSpPr/>
                  <p:nvPr/>
                </p:nvSpPr>
                <p:spPr>
                  <a:xfrm>
                    <a:off x="8745840" y="6753240"/>
                    <a:ext cx="1644840" cy="782640"/>
                  </a:xfrm>
                  <a:prstGeom prst="rect">
                    <a:avLst/>
                  </a:pr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AU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>
                    <a:off x="8632080" y="6753240"/>
                    <a:ext cx="1873440" cy="782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463" name=""/>
            <p:cNvSpPr/>
            <p:nvPr/>
          </p:nvSpPr>
          <p:spPr>
            <a:xfrm>
              <a:off x="457200" y="1600200"/>
              <a:ext cx="10058040" cy="59432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3240" y="6794640"/>
            <a:ext cx="1123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505320" y="533160"/>
            <a:ext cx="5029200" cy="6094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en-US" sz="3200" spc="-1" strike="noStrike">
                <a:solidFill>
                  <a:srgbClr val="666633"/>
                </a:solidFill>
                <a:latin typeface="Times New Roman"/>
              </a:rPr>
              <a:t>Creating of variables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28600" y="16002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200" spc="-1" strike="noStrike">
                <a:solidFill>
                  <a:srgbClr val="ff3300"/>
                </a:solidFill>
                <a:latin typeface="Times New Roman"/>
              </a:rPr>
              <a:t>INDIC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914400" y="30481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000" spc="-1" strike="noStrike" u="sng">
                <a:solidFill>
                  <a:srgbClr val="000000"/>
                </a:solidFill>
                <a:uFillTx/>
                <a:latin typeface="Times New Roman"/>
              </a:rPr>
              <a:t>Example</a:t>
            </a:r>
            <a:r>
              <a:rPr b="0" i="1" lang="lv-LV" sz="20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80880" y="3657600"/>
            <a:ext cx="1524240" cy="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Number of employ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057400" y="5257800"/>
            <a:ext cx="480060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808000"/>
                </a:solidFill>
                <a:latin typeface="Times New Roman"/>
              </a:rPr>
              <a:t>+ </a:t>
            </a:r>
            <a:r>
              <a:rPr b="1" lang="en-GB" sz="2400" spc="-1" strike="noStrike">
                <a:solidFill>
                  <a:srgbClr val="808000"/>
                </a:solidFill>
                <a:latin typeface="Times New Roman"/>
              </a:rPr>
              <a:t>Regional code (ATVK or NUTS</a:t>
            </a:r>
            <a:r>
              <a:rPr b="1" lang="lv-LV" sz="2400" spc="-1" strike="noStrike">
                <a:solidFill>
                  <a:srgbClr val="808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743880" y="3657600"/>
            <a:ext cx="407664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umber of employees</a:t>
            </a: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781680" y="4191120"/>
            <a:ext cx="381024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umber of employees in        breakdown by kind of activity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(~300 variab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781680" y="5257800"/>
            <a:ext cx="411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umber of employees in breakdown by regions</a:t>
            </a: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Times New Roman"/>
              </a:rPr>
              <a:t>(~</a:t>
            </a: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26 variables</a:t>
            </a:r>
            <a:r>
              <a:rPr b="1" lang="lv-LV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057400" y="36576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808000"/>
                </a:solidFill>
                <a:latin typeface="Times New Roman"/>
              </a:rPr>
              <a:t>+ no </a:t>
            </a:r>
            <a:r>
              <a:rPr b="1" lang="en-GB" sz="2400" spc="-1" strike="noStrike">
                <a:solidFill>
                  <a:srgbClr val="808000"/>
                </a:solidFill>
                <a:latin typeface="Times New Roman"/>
              </a:rPr>
              <a:t>attrib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057400" y="41911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808000"/>
                </a:solidFill>
                <a:latin typeface="Times New Roman"/>
              </a:rPr>
              <a:t>+ </a:t>
            </a:r>
            <a:r>
              <a:rPr b="1" lang="en-GB" sz="2400" spc="-1" strike="noStrike">
                <a:solidFill>
                  <a:srgbClr val="808000"/>
                </a:solidFill>
                <a:latin typeface="Times New Roman"/>
              </a:rPr>
              <a:t>Local kind of activity (NACE</a:t>
            </a:r>
            <a:r>
              <a:rPr b="1" lang="lv-LV" sz="2400" spc="-1" strike="noStrike">
                <a:solidFill>
                  <a:srgbClr val="808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648320" y="2514600"/>
            <a:ext cx="2895480" cy="76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618" y="-10260"/>
                </a:moveTo>
                <a:lnTo>
                  <a:pt x="-568" y="3240"/>
                </a:lnTo>
              </a:path>
              <a:path w="21600" h="21600">
                <a:moveTo>
                  <a:pt x="-568" y="0"/>
                </a:moveTo>
                <a:lnTo>
                  <a:pt x="-568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mensions (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Vector</a:t>
            </a:r>
            <a:r>
              <a:rPr b="0" lang="lv-LV" sz="2000" spc="-1" strike="noStrike" u="sng">
                <a:solidFill>
                  <a:srgbClr val="000000"/>
                </a:solidFill>
                <a:uFillTx/>
                <a:latin typeface="Times New Roman"/>
              </a:rPr>
              <a:t>s)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 of indic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048120" y="1523880"/>
            <a:ext cx="48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200" spc="-1" strike="noStrike">
                <a:solidFill>
                  <a:srgbClr val="808000"/>
                </a:solidFill>
                <a:latin typeface="Times New Roman"/>
              </a:rPr>
              <a:t>ATTRIBUTES</a:t>
            </a:r>
            <a:r>
              <a:rPr b="1" i="1" lang="lv-LV" sz="3600" spc="-1" strike="noStrike">
                <a:solidFill>
                  <a:srgbClr val="808000"/>
                </a:solidFill>
                <a:latin typeface="Times New Roman"/>
              </a:rPr>
              <a:t> </a:t>
            </a:r>
            <a:r>
              <a:rPr b="1" i="1" lang="lv-LV" sz="1800" spc="-1" strike="noStrike">
                <a:solidFill>
                  <a:srgbClr val="808000"/>
                </a:solidFill>
                <a:latin typeface="Times New Roman"/>
              </a:rPr>
              <a:t>(CLASSIFICATO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590920" y="1600200"/>
            <a:ext cx="41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200" spc="-1" strike="noStrike">
                <a:solidFill>
                  <a:srgbClr val="ff33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001000" y="152388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lv-LV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lv-LV" sz="32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40960" y="456840"/>
            <a:ext cx="9556920" cy="685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en-AU" sz="3200" spc="-1" strike="noStrike">
                <a:solidFill>
                  <a:srgbClr val="666633"/>
                </a:solidFill>
                <a:latin typeface="Times New Roman"/>
              </a:rPr>
              <a:t>Dimensions of objects and indicators</a:t>
            </a:r>
            <a:r>
              <a:rPr b="1" lang="lv-LV" sz="3200" spc="-1" strike="noStrike">
                <a:solidFill>
                  <a:srgbClr val="808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lv-LV" sz="2400" spc="-1" strike="noStrike">
                <a:solidFill>
                  <a:srgbClr val="666633"/>
                </a:solidFill>
                <a:latin typeface="Times New Roman"/>
              </a:rPr>
              <a:t>(example)</a:t>
            </a:r>
            <a:endParaRPr b="0" lang="en-US" sz="2400" spc="-1" strike="noStrike">
              <a:solidFill>
                <a:srgbClr val="808000"/>
              </a:solidFill>
              <a:latin typeface="Times New Roman"/>
            </a:endParaRPr>
          </a:p>
        </p:txBody>
      </p:sp>
      <p:graphicFrame>
        <p:nvGraphicFramePr>
          <p:cNvPr id="480" name=""/>
          <p:cNvGraphicFramePr/>
          <p:nvPr/>
        </p:nvGraphicFramePr>
        <p:xfrm>
          <a:off x="4724280" y="4038480"/>
          <a:ext cx="6172200" cy="1219320"/>
        </p:xfrm>
        <a:graphic>
          <a:graphicData uri="http://schemas.openxmlformats.org/drawingml/2006/table">
            <a:tbl>
              <a:tblPr/>
              <a:tblGrid>
                <a:gridCol w="1562400"/>
                <a:gridCol w="1562040"/>
                <a:gridCol w="1562040"/>
                <a:gridCol w="1485720"/>
              </a:tblGrid>
              <a:tr h="3988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Number of employees </a:t>
                      </a:r>
                      <a:r>
                        <a:rPr b="1" lang="en-US" sz="2000" spc="-1" strike="noStrike">
                          <a:solidFill>
                            <a:srgbClr val="808000"/>
                          </a:solidFill>
                          <a:latin typeface="Times New Roman"/>
                        </a:rPr>
                        <a:t>in breakdown </a:t>
                      </a:r>
                      <a:r>
                        <a:rPr b="1" lang="en-US" sz="2000" spc="-1" strike="noStrike" u="sng">
                          <a:solidFill>
                            <a:srgbClr val="808000"/>
                          </a:solidFill>
                          <a:uFillTx/>
                          <a:latin typeface="Times New Roman"/>
                        </a:rPr>
                        <a:t>by kind of activ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lang="lv-LV" sz="1400" spc="-1" strike="noStrike">
                          <a:solidFill>
                            <a:srgbClr val="808000"/>
                          </a:solidFill>
                          <a:latin typeface="Times New Roman"/>
                        </a:rPr>
                        <a:t>NACE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lang="lv-LV" sz="1400" spc="-1" strike="noStrike">
                          <a:solidFill>
                            <a:srgbClr val="808000"/>
                          </a:solidFill>
                          <a:latin typeface="Times New Roman"/>
                        </a:rPr>
                        <a:t>NACE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lang="lv-LV" sz="1400" spc="-1" strike="noStrike">
                          <a:solidFill>
                            <a:srgbClr val="808000"/>
                          </a:solidFill>
                          <a:latin typeface="Times New Roman"/>
                        </a:rPr>
                        <a:t>NACE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lang="lv-LV" sz="1400" spc="-1" strike="noStrike">
                          <a:solidFill>
                            <a:srgbClr val="808000"/>
                          </a:solidFill>
                          <a:latin typeface="Times New Roman"/>
                        </a:rPr>
                        <a:t>NACE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i="1" lang="lv-LV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i="1" lang="lv-LV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i="1" lang="lv-LV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i="1" lang="lv-LV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81" name=""/>
          <p:cNvGraphicFramePr/>
          <p:nvPr/>
        </p:nvGraphicFramePr>
        <p:xfrm>
          <a:off x="1447920" y="5410080"/>
          <a:ext cx="3200400" cy="2438640"/>
        </p:xfrm>
        <a:graphic>
          <a:graphicData uri="http://schemas.openxmlformats.org/drawingml/2006/table">
            <a:tbl>
              <a:tblPr/>
              <a:tblGrid>
                <a:gridCol w="1143000"/>
                <a:gridCol w="2057400"/>
              </a:tblGrid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lang="en-AU" sz="2000" spc="-1" strike="noStrike">
                          <a:solidFill>
                            <a:srgbClr val="808000"/>
                          </a:solidFill>
                          <a:latin typeface="Times New Roman"/>
                        </a:rPr>
                        <a:t>Region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i="1" lang="lv-LV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lang="en-AU" sz="2000" spc="-1" strike="noStrike">
                          <a:solidFill>
                            <a:srgbClr val="808000"/>
                          </a:solidFill>
                          <a:latin typeface="Times New Roman"/>
                        </a:rPr>
                        <a:t>Region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i="1" lang="lv-LV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lang="en-AU" sz="2000" spc="-1" strike="noStrike">
                          <a:solidFill>
                            <a:srgbClr val="808000"/>
                          </a:solidFill>
                          <a:latin typeface="Times New Roman"/>
                        </a:rPr>
                        <a:t>Region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i="1" lang="lv-LV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82" name=""/>
          <p:cNvGraphicFramePr/>
          <p:nvPr/>
        </p:nvGraphicFramePr>
        <p:xfrm>
          <a:off x="2590920" y="4038480"/>
          <a:ext cx="2057400" cy="121932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lang="en-AU" sz="21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Number of employees, </a:t>
                      </a:r>
                      <a:r>
                        <a:rPr b="1" lang="en-AU" sz="21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</a:rPr>
                        <a:t>tota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i="1" lang="lv-LV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483" name=""/>
          <p:cNvSpPr/>
          <p:nvPr/>
        </p:nvSpPr>
        <p:spPr>
          <a:xfrm rot="16200000">
            <a:off x="-171720" y="6343920"/>
            <a:ext cx="2438640" cy="57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Number of employees </a:t>
            </a:r>
            <a:r>
              <a:rPr b="1" lang="en-US" sz="1800" spc="-1" strike="noStrike">
                <a:solidFill>
                  <a:srgbClr val="808000"/>
                </a:solidFill>
                <a:latin typeface="Times New Roman"/>
              </a:rPr>
              <a:t>in breakdown </a:t>
            </a:r>
            <a:r>
              <a:rPr b="1" lang="en-US" sz="1800" spc="-1" strike="noStrike" u="sng">
                <a:solidFill>
                  <a:srgbClr val="808000"/>
                </a:solidFill>
                <a:uFillTx/>
                <a:latin typeface="Times New Roman"/>
              </a:rPr>
              <a:t>by reg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990720" y="236232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295280" y="259092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REGIONS</a:t>
            </a:r>
            <a:r>
              <a:rPr b="1" lang="lv-LV" sz="1600" spc="-1" strike="noStrike">
                <a:solidFill>
                  <a:srgbClr val="000000"/>
                </a:solidFill>
                <a:latin typeface="Times New Roman"/>
              </a:rPr>
              <a:t> (Teri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676520" y="2819520"/>
            <a:ext cx="411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WNERSHIP AND ENTERPRENER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209680" y="3048120"/>
            <a:ext cx="243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Times New Roman"/>
              </a:rPr>
              <a:t>EMPLOYEES 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590920" y="327672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Times New Roman"/>
              </a:rPr>
              <a:t>TURNOVER 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 flipV="1">
            <a:off x="533160" y="2590920"/>
            <a:ext cx="190476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57200" y="16765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9900"/>
                </a:solidFill>
                <a:uFillTx/>
                <a:latin typeface="Times New Roman"/>
              </a:rPr>
              <a:t>Main dimensions (vectors) of respondents</a:t>
            </a:r>
            <a:r>
              <a:rPr b="1" lang="lv-LV" sz="2400" spc="-1" strike="noStrike" u="sng">
                <a:solidFill>
                  <a:srgbClr val="ff9900"/>
                </a:solidFill>
                <a:uFillTx/>
                <a:latin typeface="Times New Roman"/>
              </a:rPr>
              <a:t> </a:t>
            </a:r>
            <a:r>
              <a:rPr b="1" lang="en-AU" sz="2400" spc="-1" strike="noStrike" u="sng">
                <a:solidFill>
                  <a:srgbClr val="ff9900"/>
                </a:solidFill>
                <a:uFillTx/>
                <a:latin typeface="Times New Roman"/>
              </a:rPr>
              <a:t>(objects </a:t>
            </a:r>
            <a:r>
              <a:rPr b="1" i="1" lang="en-AU" sz="2400" spc="-1" strike="noStrike" u="sng">
                <a:solidFill>
                  <a:srgbClr val="ff9900"/>
                </a:solidFill>
                <a:uFillTx/>
                <a:latin typeface="Times New Roman"/>
              </a:rPr>
              <a:t>O(t)</a:t>
            </a:r>
            <a:r>
              <a:rPr b="1" lang="en-AU" sz="2400" spc="-1" strike="noStrike" u="sng">
                <a:solidFill>
                  <a:srgbClr val="ff9900"/>
                </a:solidFill>
                <a:uFillTx/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876920" y="541008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876920" y="5638680"/>
            <a:ext cx="0" cy="2210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410080" y="594360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ff9900"/>
                </a:solidFill>
                <a:uFillTx/>
                <a:latin typeface="Times New Roman"/>
              </a:rPr>
              <a:t>Dimensions (vectors) of indic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685800" y="609480"/>
            <a:ext cx="9906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lv-LV" sz="2800" spc="-1" strike="noStrike">
                <a:solidFill>
                  <a:srgbClr val="808000"/>
                </a:solidFill>
                <a:latin typeface="Times New Roman"/>
              </a:rPr>
              <a:t>Integrated Metadata Driven Quasy Process Oriented Techn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5" name=""/>
          <p:cNvGraphicFramePr/>
          <p:nvPr/>
        </p:nvGraphicFramePr>
        <p:xfrm>
          <a:off x="838080" y="1724040"/>
          <a:ext cx="10134720" cy="628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724040"/>
                    <a:ext cx="10134720" cy="628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 flipV="1">
            <a:off x="7086600" y="2438280"/>
            <a:ext cx="2133720" cy="3733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5029200" y="1980720"/>
            <a:ext cx="3657600" cy="2590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2514600" y="1905120"/>
            <a:ext cx="6095880" cy="3124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2590920" y="1828440"/>
            <a:ext cx="5943600" cy="2057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2590920" y="1828800"/>
            <a:ext cx="601956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590920" y="1828800"/>
            <a:ext cx="6019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562720" y="1447920"/>
            <a:ext cx="2971800" cy="304560"/>
          </a:xfrm>
          <a:prstGeom prst="leftArrow">
            <a:avLst>
              <a:gd name="adj1" fmla="val 38537"/>
              <a:gd name="adj2" fmla="val 194747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10591920" cy="5331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en-GB" sz="28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Metadata base link with Microdata and Macrodata bases</a:t>
            </a:r>
            <a:r>
              <a:rPr b="1" lang="en-GB" sz="28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09480" y="1371600"/>
            <a:ext cx="1619280" cy="90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surv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09480" y="2514600"/>
            <a:ext cx="1619280" cy="90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survey ver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09480" y="3657600"/>
            <a:ext cx="1619280" cy="90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ption of chapters (data matri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09480" y="4800600"/>
            <a:ext cx="1619280" cy="90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ption of  rows and colum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994200" y="1371600"/>
            <a:ext cx="14158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ing Indic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324480" y="1371600"/>
            <a:ext cx="14479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ing   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800600" y="2819520"/>
            <a:ext cx="198108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ing of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200400" y="4800600"/>
            <a:ext cx="1752480" cy="914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nking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791320" y="4800600"/>
            <a:ext cx="2209680" cy="90000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ion form for data entr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utomatic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8839080" y="6248520"/>
            <a:ext cx="1600200" cy="1143000"/>
          </a:xfrm>
          <a:prstGeom prst="flowChartMagneticDisk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j0296945" descr=""/>
          <p:cNvPicPr/>
          <p:nvPr/>
        </p:nvPicPr>
        <p:blipFill>
          <a:blip r:embed="rId1"/>
          <a:stretch/>
        </p:blipFill>
        <p:spPr>
          <a:xfrm>
            <a:off x="8763120" y="4419720"/>
            <a:ext cx="1600200" cy="145404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8915400" y="655308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MICRO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943600" y="6400800"/>
            <a:ext cx="2057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ing of  data aggregation r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971800" y="6400800"/>
            <a:ext cx="2209680" cy="9144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 aggregation funct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09480" y="6172200"/>
            <a:ext cx="1676520" cy="1219320"/>
          </a:xfrm>
          <a:prstGeom prst="flowChartMagneticDisk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85800" y="655308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MACRO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514600" y="5105520"/>
            <a:ext cx="533520" cy="304560"/>
          </a:xfrm>
          <a:prstGeom prst="rightArrow">
            <a:avLst>
              <a:gd name="adj1" fmla="val 38537"/>
              <a:gd name="adj2" fmla="val 82479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477120" y="2286000"/>
            <a:ext cx="380880" cy="380880"/>
          </a:xfrm>
          <a:prstGeom prst="downArrow">
            <a:avLst>
              <a:gd name="adj1" fmla="val 50000"/>
              <a:gd name="adj2" fmla="val 42500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876920" y="2286000"/>
            <a:ext cx="380880" cy="380880"/>
          </a:xfrm>
          <a:prstGeom prst="downArrow">
            <a:avLst>
              <a:gd name="adj1" fmla="val 50000"/>
              <a:gd name="adj2" fmla="val 42500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rot="3061800">
            <a:off x="4863600" y="3441960"/>
            <a:ext cx="380880" cy="1422360"/>
          </a:xfrm>
          <a:prstGeom prst="downArrow">
            <a:avLst>
              <a:gd name="adj1" fmla="val 50000"/>
              <a:gd name="adj2" fmla="val 93360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8229600" y="5105520"/>
            <a:ext cx="533520" cy="304560"/>
          </a:xfrm>
          <a:prstGeom prst="rightArrow">
            <a:avLst>
              <a:gd name="adj1" fmla="val 38537"/>
              <a:gd name="adj2" fmla="val 82479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181480" y="5105520"/>
            <a:ext cx="533520" cy="304560"/>
          </a:xfrm>
          <a:prstGeom prst="rightArrow">
            <a:avLst>
              <a:gd name="adj1" fmla="val 38537"/>
              <a:gd name="adj2" fmla="val 82479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9448920" y="5943600"/>
            <a:ext cx="380880" cy="380880"/>
          </a:xfrm>
          <a:prstGeom prst="downArrow">
            <a:avLst>
              <a:gd name="adj1" fmla="val 50000"/>
              <a:gd name="adj2" fmla="val 42500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rot="10800000">
            <a:off x="8153280" y="6629040"/>
            <a:ext cx="533520" cy="304920"/>
          </a:xfrm>
          <a:prstGeom prst="rightArrow">
            <a:avLst>
              <a:gd name="adj1" fmla="val 38537"/>
              <a:gd name="adj2" fmla="val 82382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rot="10800000">
            <a:off x="5333760" y="6705720"/>
            <a:ext cx="533160" cy="304560"/>
          </a:xfrm>
          <a:prstGeom prst="rightArrow">
            <a:avLst>
              <a:gd name="adj1" fmla="val 38537"/>
              <a:gd name="adj2" fmla="val 82424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rot="10800000">
            <a:off x="2362320" y="6629400"/>
            <a:ext cx="457200" cy="380880"/>
          </a:xfrm>
          <a:prstGeom prst="rightArrow">
            <a:avLst>
              <a:gd name="adj1" fmla="val 38537"/>
              <a:gd name="adj2" fmla="val 56517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8763120" y="1143000"/>
            <a:ext cx="1676160" cy="1143000"/>
          </a:xfrm>
          <a:prstGeom prst="flowChartMagneticDisk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8610480" y="1295280"/>
            <a:ext cx="19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A DATA BAS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REPOSITO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8001000" y="1752480"/>
            <a:ext cx="533520" cy="381240"/>
          </a:xfrm>
          <a:prstGeom prst="leftArrow">
            <a:avLst>
              <a:gd name="adj1" fmla="val 38333"/>
              <a:gd name="adj2" fmla="val 58893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9144000" y="7467480"/>
            <a:ext cx="1143000" cy="609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000" spc="-1" strike="noStrike">
                <a:solidFill>
                  <a:srgbClr val="000000"/>
                </a:solidFill>
                <a:latin typeface="Arial"/>
              </a:rPr>
              <a:t>IMPORT EX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9067680" y="73915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0363320" y="73915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5791320" y="3276720"/>
            <a:ext cx="380880" cy="3504960"/>
          </a:xfrm>
          <a:prstGeom prst="downArrow">
            <a:avLst>
              <a:gd name="adj1" fmla="val 43750"/>
              <a:gd name="adj2" fmla="val 14203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267080" y="3962520"/>
            <a:ext cx="4114800" cy="0"/>
          </a:xfrm>
          <a:prstGeom prst="line">
            <a:avLst/>
          </a:prstGeom>
          <a:ln w="101520">
            <a:solidFill>
              <a:srgbClr val="808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514600" y="3352680"/>
            <a:ext cx="380880" cy="3276720"/>
          </a:xfrm>
          <a:prstGeom prst="downArrow">
            <a:avLst>
              <a:gd name="adj1" fmla="val 40000"/>
              <a:gd name="adj2" fmla="val 14485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971800" y="3352680"/>
            <a:ext cx="380880" cy="1752840"/>
          </a:xfrm>
          <a:prstGeom prst="downArrow">
            <a:avLst>
              <a:gd name="adj1" fmla="val 40000"/>
              <a:gd name="adj2" fmla="val 112303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076640" y="609480"/>
            <a:ext cx="6438960" cy="5335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en-US" sz="3200" spc="-1" strike="noStrike">
                <a:solidFill>
                  <a:srgbClr val="666633"/>
                </a:solidFill>
                <a:latin typeface="Times New Roman"/>
              </a:rPr>
              <a:t>Data entry and validation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8534520" y="5105520"/>
            <a:ext cx="1600200" cy="9000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transfer to Microdata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286000" y="2286000"/>
            <a:ext cx="16192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data entry 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486400" y="2209680"/>
            <a:ext cx="1523880" cy="9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validation r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286000" y="3733920"/>
            <a:ext cx="1600200" cy="8380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Standard data entry and valid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62120" y="2286000"/>
            <a:ext cx="13716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reating list of Respon- d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8610480" y="3352680"/>
            <a:ext cx="1524240" cy="1371600"/>
          </a:xfrm>
          <a:prstGeom prst="flowChartMagneticDisk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8763120" y="3429000"/>
            <a:ext cx="1233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MICRO DATA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686800" y="6705720"/>
            <a:ext cx="1371600" cy="1218960"/>
          </a:xfrm>
          <a:prstGeom prst="flowChartMagneticDisk">
            <a:avLst/>
          </a:prstGeom>
          <a:solidFill>
            <a:srgbClr val="ccffcc"/>
          </a:solidFill>
          <a:ln w="64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8763120" y="6705720"/>
            <a:ext cx="1218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AW Web DATA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429000" y="3352680"/>
            <a:ext cx="380880" cy="381240"/>
          </a:xfrm>
          <a:prstGeom prst="downArrow">
            <a:avLst>
              <a:gd name="adj1" fmla="val 38333"/>
              <a:gd name="adj2" fmla="val 61725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048120" y="1676520"/>
            <a:ext cx="228600" cy="380880"/>
          </a:xfrm>
          <a:prstGeom prst="downArrow">
            <a:avLst>
              <a:gd name="adj1" fmla="val 50000"/>
              <a:gd name="adj2" fmla="val 70811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590920" y="762120"/>
            <a:ext cx="1295280" cy="838080"/>
          </a:xfrm>
          <a:prstGeom prst="flowChartMagneticDisk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819520" y="68580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A DATA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914400" y="762120"/>
            <a:ext cx="1295280" cy="838080"/>
          </a:xfrm>
          <a:prstGeom prst="flowChartMagneticDisk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914400" y="9907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INESS REGI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362320" y="5334120"/>
            <a:ext cx="1523880" cy="6858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Mass data 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362320" y="6858000"/>
            <a:ext cx="1600200" cy="9144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Web data entry and valid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477120" y="4952880"/>
            <a:ext cx="1371600" cy="1219320"/>
          </a:xfrm>
          <a:prstGeom prst="flowChartMagneticDisk">
            <a:avLst/>
          </a:prstGeom>
          <a:solidFill>
            <a:srgbClr val="ccffcc"/>
          </a:solidFill>
          <a:ln w="64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629400" y="5029200"/>
            <a:ext cx="1219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1" lang="lv-LV" sz="2000" spc="-1" strike="noStrike">
                <a:solidFill>
                  <a:srgbClr val="ff3300"/>
                </a:solidFill>
                <a:latin typeface="Arial"/>
              </a:rPr>
              <a:t>AW</a:t>
            </a: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 DATA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343400" y="7162920"/>
            <a:ext cx="4191120" cy="0"/>
          </a:xfrm>
          <a:prstGeom prst="line">
            <a:avLst/>
          </a:prstGeom>
          <a:ln w="101520">
            <a:solidFill>
              <a:srgbClr val="6666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4343400" y="7467480"/>
            <a:ext cx="990720" cy="0"/>
          </a:xfrm>
          <a:prstGeom prst="line">
            <a:avLst/>
          </a:prstGeom>
          <a:ln w="101520">
            <a:solidFill>
              <a:srgbClr val="6666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343400" y="5562720"/>
            <a:ext cx="2057400" cy="0"/>
          </a:xfrm>
          <a:prstGeom prst="line">
            <a:avLst/>
          </a:prstGeom>
          <a:ln w="101520">
            <a:solidFill>
              <a:srgbClr val="6666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486400" y="3809880"/>
            <a:ext cx="1523880" cy="6858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Data valid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4267080" y="4191120"/>
            <a:ext cx="1067040" cy="0"/>
          </a:xfrm>
          <a:prstGeom prst="line">
            <a:avLst/>
          </a:prstGeom>
          <a:ln w="101520">
            <a:solidFill>
              <a:srgbClr val="808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7238520" y="4191120"/>
            <a:ext cx="1143000" cy="0"/>
          </a:xfrm>
          <a:prstGeom prst="line">
            <a:avLst/>
          </a:prstGeom>
          <a:ln w="101520">
            <a:solidFill>
              <a:srgbClr val="808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553080" y="3276720"/>
            <a:ext cx="381240" cy="380880"/>
          </a:xfrm>
          <a:prstGeom prst="downArrow">
            <a:avLst>
              <a:gd name="adj1" fmla="val 38333"/>
              <a:gd name="adj2" fmla="val 61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410080" y="6858000"/>
            <a:ext cx="1524240" cy="76212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Web Data valid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7162560" y="7391520"/>
            <a:ext cx="1447560" cy="0"/>
          </a:xfrm>
          <a:prstGeom prst="line">
            <a:avLst/>
          </a:prstGeom>
          <a:ln w="101520">
            <a:solidFill>
              <a:srgbClr val="6666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371600" y="1676520"/>
            <a:ext cx="228600" cy="380880"/>
          </a:xfrm>
          <a:prstGeom prst="downArrow">
            <a:avLst>
              <a:gd name="adj1" fmla="val 50000"/>
              <a:gd name="adj2" fmla="val 70811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8001000" y="5486400"/>
            <a:ext cx="457200" cy="0"/>
          </a:xfrm>
          <a:prstGeom prst="line">
            <a:avLst/>
          </a:prstGeom>
          <a:ln w="101520">
            <a:solidFill>
              <a:srgbClr val="6666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9448920" y="5866920"/>
            <a:ext cx="0" cy="762120"/>
          </a:xfrm>
          <a:prstGeom prst="line">
            <a:avLst/>
          </a:prstGeom>
          <a:ln w="101520">
            <a:solidFill>
              <a:srgbClr val="6666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9372600" y="4419720"/>
            <a:ext cx="0" cy="457200"/>
          </a:xfrm>
          <a:prstGeom prst="line">
            <a:avLst/>
          </a:prstGeom>
          <a:ln w="101520">
            <a:solidFill>
              <a:srgbClr val="6666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8534520" y="6248520"/>
            <a:ext cx="1676160" cy="265320"/>
          </a:xfrm>
          <a:prstGeom prst="rect">
            <a:avLst/>
          </a:prstGeom>
          <a:solidFill>
            <a:srgbClr val="ff66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 i r e   w a l 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8458200" y="2209680"/>
            <a:ext cx="1619280" cy="51912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import from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6" name="Cdrom1" descr=""/>
          <p:cNvPicPr/>
          <p:nvPr/>
        </p:nvPicPr>
        <p:blipFill>
          <a:blip r:embed="rId1"/>
          <a:stretch/>
        </p:blipFill>
        <p:spPr>
          <a:xfrm>
            <a:off x="9448920" y="1676520"/>
            <a:ext cx="533160" cy="493560"/>
          </a:xfrm>
          <a:prstGeom prst="rect">
            <a:avLst/>
          </a:prstGeom>
          <a:ln w="0">
            <a:noFill/>
          </a:ln>
        </p:spPr>
      </p:pic>
      <p:pic>
        <p:nvPicPr>
          <p:cNvPr id="577" name="Floppy2" descr=""/>
          <p:cNvPicPr/>
          <p:nvPr/>
        </p:nvPicPr>
        <p:blipFill>
          <a:blip r:embed="rId2"/>
          <a:stretch/>
        </p:blipFill>
        <p:spPr>
          <a:xfrm>
            <a:off x="8686800" y="1676520"/>
            <a:ext cx="609480" cy="48888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9296280" y="2743200"/>
            <a:ext cx="0" cy="457200"/>
          </a:xfrm>
          <a:prstGeom prst="line">
            <a:avLst/>
          </a:prstGeom>
          <a:ln w="101520">
            <a:solidFill>
              <a:srgbClr val="6666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7391520" y="2971800"/>
            <a:ext cx="1295280" cy="6094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Full data valid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rot="795600">
            <a:off x="8457840" y="3200040"/>
            <a:ext cx="457200" cy="380880"/>
          </a:xfrm>
          <a:custGeom>
            <a:avLst/>
            <a:gdLst>
              <a:gd name="textAreaLeft" fmla="*/ 0 w 457200"/>
              <a:gd name="textAreaRight" fmla="*/ 457560 w 4572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rot="12387000">
            <a:off x="8305920" y="3504960"/>
            <a:ext cx="457200" cy="380880"/>
          </a:xfrm>
          <a:custGeom>
            <a:avLst/>
            <a:gdLst>
              <a:gd name="textAreaLeft" fmla="*/ 0 w 457200"/>
              <a:gd name="textAreaRight" fmla="*/ 457560 w 4572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2" name="j0296945" descr=""/>
          <p:cNvPicPr/>
          <p:nvPr/>
        </p:nvPicPr>
        <p:blipFill>
          <a:blip r:embed="rId3"/>
          <a:stretch/>
        </p:blipFill>
        <p:spPr>
          <a:xfrm>
            <a:off x="914400" y="4724280"/>
            <a:ext cx="1568520" cy="1600200"/>
          </a:xfrm>
          <a:prstGeom prst="rect">
            <a:avLst/>
          </a:prstGeom>
          <a:ln w="0">
            <a:noFill/>
          </a:ln>
        </p:spPr>
      </p:pic>
      <p:sp>
        <p:nvSpPr>
          <p:cNvPr id="583" name=""/>
          <p:cNvSpPr/>
          <p:nvPr/>
        </p:nvSpPr>
        <p:spPr>
          <a:xfrm>
            <a:off x="1600200" y="3200400"/>
            <a:ext cx="6094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447920" y="3200400"/>
            <a:ext cx="91440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295280" y="3200400"/>
            <a:ext cx="990720" cy="426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rot="1183800">
            <a:off x="3963960" y="1508040"/>
            <a:ext cx="1917720" cy="154080"/>
          </a:xfrm>
          <a:prstGeom prst="rightArrow">
            <a:avLst>
              <a:gd name="adj1" fmla="val 50000"/>
              <a:gd name="adj2" fmla="val 311157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rot="777600">
            <a:off x="3979800" y="1536840"/>
            <a:ext cx="4354560" cy="139680"/>
          </a:xfrm>
          <a:prstGeom prst="rightArrow">
            <a:avLst>
              <a:gd name="adj1" fmla="val 50000"/>
              <a:gd name="adj2" fmla="val 779381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rot="2664000">
            <a:off x="7086240" y="2895480"/>
            <a:ext cx="469800" cy="154080"/>
          </a:xfrm>
          <a:prstGeom prst="rightArrow">
            <a:avLst>
              <a:gd name="adj1" fmla="val 50000"/>
              <a:gd name="adj2" fmla="val 7622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9" name=""/>
          <p:cNvGraphicFramePr/>
          <p:nvPr/>
        </p:nvGraphicFramePr>
        <p:xfrm>
          <a:off x="0" y="0"/>
          <a:ext cx="11239560" cy="960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1239560" cy="960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685800" y="609480"/>
            <a:ext cx="9326520" cy="11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lv-LV" sz="2800" spc="-1" strike="noStrike">
                <a:solidFill>
                  <a:srgbClr val="808000"/>
                </a:solidFill>
                <a:latin typeface="Times New Roman"/>
              </a:rPr>
              <a:t>LESSONS LEAR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0" y="1981080"/>
            <a:ext cx="10972800" cy="58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851040" indent="-327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 of the new information system should be based on the results of deep analysis of the statistical processes and data fl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1040" indent="-327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r objectives of achievements have to be set up,  discussed and approved by all parties invol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35280" indent="-26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stici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35280" indent="-26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pers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35280" indent="-26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min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685800" y="609480"/>
            <a:ext cx="10363320" cy="12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lv-LV" sz="2800" spc="-1" strike="noStrike">
                <a:solidFill>
                  <a:srgbClr val="808000"/>
                </a:solidFill>
                <a:latin typeface="Times New Roman"/>
              </a:rPr>
              <a:t>LESSONS LEAR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85800" y="1981080"/>
            <a:ext cx="1036332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in the process of the design and implementation of metadata driven integrated statistical information system both partie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tisticians and IT specialists should be involved from the very beginn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 parties have to hav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ear understanding of all statistical processes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will be covered by the system, as well as metadata meaning and role within the system from production and user s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533520"/>
            <a:ext cx="9556920" cy="4572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lv-LV" sz="4400" spc="-1" strike="noStrike">
                <a:solidFill>
                  <a:srgbClr val="808000"/>
                </a:solidFill>
                <a:latin typeface="Times New Roman"/>
              </a:rPr>
              <a:t>META DATA DRIVEN ... ?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791280" indent="-304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y action within the system is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ruled by metadata</a:t>
            </a:r>
            <a:r>
              <a:rPr b="1" lang="lv-LV" sz="3200" spc="-1" strike="noStrike" u="sng">
                <a:solidFill>
                  <a:srgbClr val="000000"/>
                </a:solidFill>
                <a:uFillTx/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9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19320" y="2819520"/>
            <a:ext cx="9556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52560" bIns="52560" anchor="ctr">
            <a:noAutofit/>
          </a:bodyPr>
          <a:p>
            <a:pPr lv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eta data is the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key elemen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f the system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19320" y="3657600"/>
            <a:ext cx="9556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52560" bIns="5256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l software modules of entire system is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nnected with the Core Metadata modul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Meta data base)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19320" y="4800600"/>
            <a:ext cx="9556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52560" bIns="52560" anchor="ctr">
            <a:noAutofit/>
          </a:bodyPr>
          <a:p>
            <a:pPr lv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changes within the system starts with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hanges of meta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5943600"/>
            <a:ext cx="95569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52560" bIns="52560" anchor="ctr">
            <a:noAutofit/>
          </a:bodyPr>
          <a:p>
            <a:pPr lv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cycle of the data processing is possible as late as the proper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scription process in meta  data base are comple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19320" y="6095880"/>
            <a:ext cx="9556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52560" bIns="52560" anchor="ctr">
            <a:noAutofit/>
          </a:bodyPr>
          <a:p>
            <a:pPr algn="ctr"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685800" y="609480"/>
            <a:ext cx="10363320" cy="12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lv-LV" sz="2800" spc="-1" strike="noStrike">
                <a:solidFill>
                  <a:srgbClr val="808000"/>
                </a:solidFill>
                <a:latin typeface="Times New Roman"/>
              </a:rPr>
              <a:t>LESSONS LEAR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85800" y="1981080"/>
            <a:ext cx="1036332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93840" indent="-393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nitiativ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move from classical stove-pipe production approach to process oriented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have to come from statisticia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ide not from IT personal  or admin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9384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tivat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statisticians to move from existing to the new data processing environment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essentia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93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mprovement of knowledg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bout metadata is one of the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ost important task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through o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 of the all process of the design and implementation phases of the projec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93840">
              <a:spcBef>
                <a:spcPts val="799"/>
              </a:spcBef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685800" y="609480"/>
            <a:ext cx="10363320" cy="12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lv-LV" sz="2800" spc="-1" strike="noStrike">
                <a:solidFill>
                  <a:srgbClr val="808000"/>
                </a:solidFill>
                <a:latin typeface="Times New Roman"/>
              </a:rPr>
              <a:t>LESSONS LEAR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85800" y="1981080"/>
            <a:ext cx="1036332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93840" indent="-393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lear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division of the tasks and responsibiliti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etween statisticians and IT personal is the key point to achieve successful imple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93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o achieve the best performance of the entire system it is  important to organize the execution of the statistical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rocesses in the right sequen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93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Design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the new surveys and questionnaires particularly as well as changes in 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isting ones should be done in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ccordance with the system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93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93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914040" y="533520"/>
            <a:ext cx="9556920" cy="4572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lv-LV" sz="2800" spc="-1" strike="noStrike">
                <a:solidFill>
                  <a:srgbClr val="808000"/>
                </a:solidFill>
                <a:latin typeface="Times New Roman"/>
              </a:rPr>
              <a:t>LESSONS LEARNED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837720" y="1143000"/>
            <a:ext cx="952524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-39384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the result of feasibility study we clear understood, that </a:t>
            </a:r>
            <a:r>
              <a:rPr b="1" lang="lv-LV" sz="3200" spc="-1" strike="noStrike">
                <a:solidFill>
                  <a:srgbClr val="000000"/>
                </a:solidFill>
                <a:latin typeface="Times New Roman"/>
              </a:rPr>
              <a:t>some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ep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statistical data processing for different surveys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y standardizat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som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rvey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ay require complementary functionality (non standard procedures), which is necessary just for this exact survey data processing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93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olving problems with the non-standard procedures interfaces for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export/impor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/from system has been developed to ensure use of the standard statistical data processing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ftware packages and other generalized software available in market;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914040" y="533520"/>
            <a:ext cx="9556920" cy="4572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lv-LV" sz="2800" spc="-1" strike="noStrike">
                <a:solidFill>
                  <a:srgbClr val="808000"/>
                </a:solidFill>
                <a:latin typeface="Times New Roman"/>
              </a:rPr>
              <a:t>LESSONS LEARNED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837720" y="990360"/>
            <a:ext cx="952524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-39384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necessary to establish an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pecial group o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sticia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hich will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tain Metadata ba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which will be responsible for accurateness of metadata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9384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the administration and maintenance of the system it is necessary to hav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ll trained IT staf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hich is familiar with the MS SQL Server 2000 administration, MS Analysis Service, other MS tools, PC AXIS family products and system Data Model, system application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0">
              <a:spcBef>
                <a:spcPts val="799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533520"/>
            <a:ext cx="9556920" cy="4572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lv-LV" sz="4400" spc="-1" strike="noStrike">
                <a:solidFill>
                  <a:srgbClr val="808000"/>
                </a:solidFill>
                <a:latin typeface="Times New Roman"/>
              </a:rPr>
              <a:t>INTEGRATED ... ?</a:t>
            </a:r>
            <a:br>
              <a:rPr sz="3200"/>
            </a:b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01720" y="990720"/>
            <a:ext cx="9104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791280" indent="-304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of the system software module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nnec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ith the Registers modul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84480" y="1905120"/>
            <a:ext cx="889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isters module is an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ntegral par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the system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590920"/>
            <a:ext cx="9104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51040" indent="-32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surveys are supported by adequat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lassifica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stored in the Meta data 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3657600"/>
            <a:ext cx="9104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51040" indent="-32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ll surveys respondent data fiel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nnec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ith registers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4648320"/>
            <a:ext cx="9104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51040" indent="-32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dat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s stor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corporative data wareho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334120"/>
            <a:ext cx="9104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51040" indent="-32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stical data processing has split in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nified step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different surve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6477120"/>
            <a:ext cx="910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51040" indent="-32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port </a:t>
            </a:r>
            <a:r>
              <a:rPr b="1" lang="lv-LV" sz="3200" spc="-1" strike="noStrike" u="sng">
                <a:solidFill>
                  <a:srgbClr val="000000"/>
                </a:solidFill>
                <a:uFillTx/>
                <a:latin typeface="Times New Roman"/>
              </a:rPr>
              <a:t>/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Impor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procedures ensure work with the system data files using different standard software pack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9556920" cy="4572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en-US" sz="28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Advantages</a:t>
            </a:r>
            <a:r>
              <a:rPr b="1" lang="en-US" sz="2800" spc="-1" strike="noStrike">
                <a:solidFill>
                  <a:srgbClr val="666633"/>
                </a:solidFill>
                <a:latin typeface="Times New Roman"/>
              </a:rPr>
              <a:t> and</a:t>
            </a:r>
            <a:r>
              <a:rPr b="1" lang="en-US" sz="28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 Restrictions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838080"/>
            <a:ext cx="19810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666633"/>
                </a:solidFill>
                <a:uFillTx/>
                <a:latin typeface="Times New Roman"/>
                <a:ea typeface="Times New Roman"/>
              </a:rPr>
              <a:t>Advant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2743200"/>
            <a:ext cx="103629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Centralized processing and storag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f the statistical data, including metadata, by using data warehouse technologies and OLAP tool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3809880"/>
            <a:ext cx="10439280" cy="19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All the data processing procedures are being </a:t>
            </a:r>
            <a:r>
              <a:rPr b="1" lang="en-GB" sz="2600" spc="-1" strike="noStrike" u="sng">
                <a:solidFill>
                  <a:srgbClr val="000000"/>
                </a:solidFill>
                <a:uFillTx/>
                <a:latin typeface="Times New Roman"/>
              </a:rPr>
              <a:t>hosted from common metadata system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. These procedures are being described in metadata base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Therefore for standardized procedure execution for each survey individual </a:t>
            </a:r>
            <a:r>
              <a:rPr b="1" lang="en-GB" sz="2600" spc="-1" strike="noStrike" u="sng">
                <a:solidFill>
                  <a:srgbClr val="000000"/>
                </a:solidFill>
                <a:uFillTx/>
                <a:latin typeface="Times New Roman"/>
              </a:rPr>
              <a:t>programming is not required</a:t>
            </a:r>
            <a:r>
              <a:rPr b="0" lang="en-GB" sz="26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5715000"/>
            <a:ext cx="103633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  The system is informatively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connected with Business Registe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which provides with the direct respondent data retrieval and updating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6629400"/>
            <a:ext cx="102870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 Special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import and expor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procedure is created for data exchange with other system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7467480"/>
            <a:ext cx="1005840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link with PC Axi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created for electronic data dissemina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1066680"/>
            <a:ext cx="990612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1600200"/>
            <a:ext cx="1059156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At most </a:t>
            </a:r>
            <a:r>
              <a:rPr b="1" lang="en-GB" sz="2600" spc="-1" strike="noStrike" u="sng">
                <a:solidFill>
                  <a:srgbClr val="000000"/>
                </a:solidFill>
                <a:uFillTx/>
                <a:latin typeface="Times New Roman"/>
              </a:rPr>
              <a:t>standardized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main business statistics data entry, processing and storage procedures, that provide the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bases for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transfer from stove pipe data processing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approach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to process oriented data processing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approach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9524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marL="2282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 u="sng">
                <a:solidFill>
                  <a:srgbClr val="993300"/>
                </a:solidFill>
                <a:uFillTx/>
                <a:latin typeface="Times New Roman"/>
                <a:ea typeface="Times New Roman"/>
              </a:rPr>
              <a:t>Restriction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282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1066680"/>
            <a:ext cx="9524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3840" indent="-393840">
              <a:spcBef>
                <a:spcPts val="751"/>
              </a:spcBef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The system is oriented towards the data processing of</a:t>
            </a:r>
            <a:r>
              <a:rPr b="0" lang="lv-LV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different periodicity </a:t>
            </a:r>
            <a:r>
              <a:rPr b="1" lang="en-GB" sz="3000" spc="-1" strike="noStrike" u="sng">
                <a:solidFill>
                  <a:srgbClr val="000000"/>
                </a:solidFill>
                <a:uFillTx/>
                <a:latin typeface="Times New Roman"/>
              </a:rPr>
              <a:t>business statistics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survey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2057400"/>
            <a:ext cx="9524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3840" indent="-393840">
              <a:spcBef>
                <a:spcPts val="751"/>
              </a:spcBef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Metadata base does not foreseen description of </a:t>
            </a:r>
            <a:r>
              <a:rPr b="1" lang="en-GB" sz="3000" spc="-1" strike="noStrike" u="sng">
                <a:solidFill>
                  <a:srgbClr val="000000"/>
                </a:solidFill>
                <a:uFillTx/>
                <a:latin typeface="Times New Roman"/>
              </a:rPr>
              <a:t>confidentiality rules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they are hard coded in the system</a:t>
            </a:r>
            <a:r>
              <a:rPr b="0" lang="lv-LV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200400"/>
            <a:ext cx="9524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3840" indent="-393840">
              <a:spcBef>
                <a:spcPts val="751"/>
              </a:spcBef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v-LV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Hardware and Standard software requirement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93840">
              <a:spcBef>
                <a:spcPts val="751"/>
              </a:spcBef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PC’s &gt;/= Pentium II, </a:t>
            </a:r>
            <a:r>
              <a:rPr b="1" lang="en-GB" sz="3000" spc="-1" strike="noStrike" u="sng">
                <a:solidFill>
                  <a:srgbClr val="000000"/>
                </a:solidFill>
                <a:uFillTx/>
                <a:latin typeface="Times New Roman"/>
              </a:rPr>
              <a:t>RAM &gt;/=128Mb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equipped with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93840">
              <a:spcBef>
                <a:spcPts val="751"/>
              </a:spcBef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W – 95 to W-2000 and MS Office 2000</a:t>
            </a:r>
            <a:r>
              <a:rPr b="0" lang="lv-LV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4724280"/>
            <a:ext cx="95248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3840" indent="-393840">
              <a:spcBef>
                <a:spcPts val="751"/>
              </a:spcBef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v-LV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Metadata base does not foreseen description of algorithm for automatic creation of </a:t>
            </a:r>
            <a:r>
              <a:rPr b="1" lang="en-GB" sz="3000" spc="-1" strike="noStrike" u="sng">
                <a:solidFill>
                  <a:srgbClr val="000000"/>
                </a:solidFill>
                <a:uFillTx/>
                <a:latin typeface="Times New Roman"/>
              </a:rPr>
              <a:t>respondents lists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for Sample surveys from the Business register frame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6172200"/>
            <a:ext cx="95252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3840" indent="-393840">
              <a:spcBef>
                <a:spcPts val="751"/>
              </a:spcBef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GB" sz="3000" spc="-1" strike="noStrike" u="sng">
                <a:solidFill>
                  <a:srgbClr val="000000"/>
                </a:solidFill>
                <a:uFillTx/>
                <a:latin typeface="Times New Roman"/>
              </a:rPr>
              <a:t>Diagnostic tools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for the metadata descriptions</a:t>
            </a:r>
            <a:r>
              <a:rPr b="0" lang="lv-LV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are not powerful enough</a:t>
            </a:r>
            <a:r>
              <a:rPr b="0" lang="lv-LV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therefore</a:t>
            </a:r>
            <a:r>
              <a:rPr b="0" lang="lv-LV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experts preparing meta data descriptions should be of</a:t>
            </a:r>
            <a:r>
              <a:rPr b="0" lang="lv-LV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high experience</a:t>
            </a:r>
            <a:r>
              <a:rPr b="0" lang="lv-LV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36720" y="190440"/>
            <a:ext cx="9555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52560" bIns="52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en-US" sz="1800" spc="-1" strike="noStrike">
                <a:solidFill>
                  <a:srgbClr val="666633"/>
                </a:solidFill>
                <a:latin typeface="Arial"/>
              </a:rPr>
              <a:t>ISDMS 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609480"/>
            <a:ext cx="9752040" cy="7296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609480"/>
            <a:ext cx="6400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ted statistical data management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36720" y="1047600"/>
            <a:ext cx="5867280" cy="306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752480" y="990720"/>
            <a:ext cx="3962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rporative data Wareho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10280" y="1066680"/>
            <a:ext cx="304920" cy="3048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543800" y="1047600"/>
            <a:ext cx="2819520" cy="306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773840" y="1047600"/>
            <a:ext cx="236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SB Web S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952880" y="1297080"/>
            <a:ext cx="1600200" cy="1217520"/>
          </a:xfrm>
          <a:prstGeom prst="flowChartMagneticDisk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952880" y="1752480"/>
            <a:ext cx="15242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crodata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95280" y="1297080"/>
            <a:ext cx="1600200" cy="1217520"/>
          </a:xfrm>
          <a:prstGeom prst="flowChartMagneticDisk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371600" y="1752480"/>
            <a:ext cx="1371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adata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2668680"/>
            <a:ext cx="1600200" cy="1217520"/>
          </a:xfrm>
          <a:prstGeom prst="flowChartMagneticDisk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029200" y="3124080"/>
            <a:ext cx="1523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icrodata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95280" y="2666880"/>
            <a:ext cx="1600200" cy="1219320"/>
          </a:xfrm>
          <a:prstGeom prst="flowChartMagneticDisk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371600" y="3048120"/>
            <a:ext cx="1371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isters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24080" y="2666880"/>
            <a:ext cx="1600200" cy="1219320"/>
          </a:xfrm>
          <a:prstGeom prst="flowChartMagneticDisk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76720" y="3048120"/>
            <a:ext cx="1371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LAP data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24080" y="1295280"/>
            <a:ext cx="1600200" cy="1219320"/>
          </a:xfrm>
          <a:prstGeom prst="flowChartMagneticDisk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24080" y="1219320"/>
            <a:ext cx="16002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ser adminis- tration data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48600" y="1333440"/>
            <a:ext cx="1602000" cy="952560"/>
          </a:xfrm>
          <a:prstGeom prst="flowChartMagneticDisk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153280" y="1371600"/>
            <a:ext cx="1677960" cy="8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Dissemi-nation data bas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91520" y="3352680"/>
            <a:ext cx="320040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36000" bIns="360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Windows 2000 Server Advanced        MS Internet Information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QL server 2000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C-Ax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3880" y="4191120"/>
            <a:ext cx="84582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DMS Business application Software Modu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60400" y="4495680"/>
            <a:ext cx="1685880" cy="161928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90920" y="4495680"/>
            <a:ext cx="1828800" cy="161928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95680" y="4495680"/>
            <a:ext cx="1828800" cy="161928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00800" y="4495680"/>
            <a:ext cx="1995480" cy="161928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447040" y="4495680"/>
            <a:ext cx="1967040" cy="161928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55720" y="4552920"/>
            <a:ext cx="159228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re metadata base 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 u="sng">
                <a:solidFill>
                  <a:srgbClr val="ff3300"/>
                </a:solidFill>
                <a:uFillTx/>
                <a:latin typeface="Arial"/>
              </a:rPr>
              <a:t>related with DB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36800" y="4552920"/>
            <a:ext cx="12175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gisters 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u="sng">
                <a:solidFill>
                  <a:srgbClr val="ff3300"/>
                </a:solidFill>
                <a:uFillTx/>
                <a:latin typeface="Arial"/>
              </a:rPr>
              <a:t>related with DB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19720" y="4495680"/>
            <a:ext cx="18399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 entry and validation 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 u="sng">
                <a:solidFill>
                  <a:srgbClr val="ff3300"/>
                </a:solidFill>
                <a:uFillTx/>
                <a:latin typeface="Arial"/>
              </a:rPr>
              <a:t>related with DB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386400" y="4495680"/>
            <a:ext cx="196704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 aggregation 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u="sng">
                <a:solidFill>
                  <a:srgbClr val="ff3300"/>
                </a:solidFill>
                <a:uFillTx/>
                <a:latin typeface="Arial"/>
              </a:rPr>
              <a:t>related with DB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728200" y="4495680"/>
            <a:ext cx="137160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 analysis 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u="sng">
                <a:solidFill>
                  <a:srgbClr val="ff3300"/>
                </a:solidFill>
                <a:uFillTx/>
                <a:latin typeface="Arial"/>
              </a:rPr>
              <a:t>related with DB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629400" y="1905120"/>
            <a:ext cx="382680" cy="152280"/>
          </a:xfrm>
          <a:prstGeom prst="rightArrow">
            <a:avLst>
              <a:gd name="adj1" fmla="val 50000"/>
              <a:gd name="adj2" fmla="val 62825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467480" y="1905120"/>
            <a:ext cx="381240" cy="152280"/>
          </a:xfrm>
          <a:prstGeom prst="rightArrow">
            <a:avLst>
              <a:gd name="adj1" fmla="val 50000"/>
              <a:gd name="adj2" fmla="val 62589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6200000">
            <a:off x="6309000" y="2453040"/>
            <a:ext cx="16765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REW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60400" y="5162400"/>
            <a:ext cx="168588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  AD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639880" y="5162400"/>
            <a:ext cx="177984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19720" y="5162400"/>
            <a:ext cx="1873080" cy="9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ETADATA MICRODATA</a:t>
            </a:r>
            <a:r>
              <a:rPr b="1" lang="lv-LV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GIST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USER AD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86400" y="5162400"/>
            <a:ext cx="1967040" cy="9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TADATA MICRODATA REGIST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540640" y="5162400"/>
            <a:ext cx="18734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L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TADATA MACRO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61640" y="592452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148600" y="2419200"/>
            <a:ext cx="1602000" cy="933480"/>
          </a:xfrm>
          <a:prstGeom prst="flowChartMagneticDisk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153280" y="2666880"/>
            <a:ext cx="16779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700" spc="-1" strike="noStrike">
                <a:solidFill>
                  <a:srgbClr val="000000"/>
                </a:solidFill>
                <a:latin typeface="Arial"/>
              </a:rPr>
              <a:t>Raw</a:t>
            </a: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 data bas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553080" y="3276720"/>
            <a:ext cx="382680" cy="171360"/>
          </a:xfrm>
          <a:prstGeom prst="rightArrow">
            <a:avLst>
              <a:gd name="adj1" fmla="val 50000"/>
              <a:gd name="adj2" fmla="val 55830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467480" y="2743200"/>
            <a:ext cx="374760" cy="190440"/>
          </a:xfrm>
          <a:prstGeom prst="leftArrow">
            <a:avLst>
              <a:gd name="adj1" fmla="val 50000"/>
              <a:gd name="adj2" fmla="val 49197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3080" y="3048120"/>
            <a:ext cx="374760" cy="152280"/>
          </a:xfrm>
          <a:prstGeom prst="leftArrow">
            <a:avLst>
              <a:gd name="adj1" fmla="val 50000"/>
              <a:gd name="adj2" fmla="val 61525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60400" y="6172200"/>
            <a:ext cx="1685880" cy="167652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90920" y="6172200"/>
            <a:ext cx="1828800" cy="1676520"/>
          </a:xfrm>
          <a:prstGeom prst="rect">
            <a:avLst/>
          </a:prstGeom>
          <a:solidFill>
            <a:srgbClr val="ccff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495680" y="6172200"/>
            <a:ext cx="1828800" cy="1676520"/>
          </a:xfrm>
          <a:prstGeom prst="rect">
            <a:avLst/>
          </a:prstGeom>
          <a:solidFill>
            <a:srgbClr val="ccff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400800" y="6172200"/>
            <a:ext cx="1995480" cy="1676520"/>
          </a:xfrm>
          <a:prstGeom prst="rect">
            <a:avLst/>
          </a:prstGeom>
          <a:solidFill>
            <a:srgbClr val="ccff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60400" y="6210360"/>
            <a:ext cx="15922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 dissemination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 u="sng">
                <a:solidFill>
                  <a:srgbClr val="ff3300"/>
                </a:solidFill>
                <a:uFillTx/>
                <a:latin typeface="Arial"/>
              </a:rPr>
              <a:t>related with DB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743200" y="6248520"/>
            <a:ext cx="159228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 WEB entry 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 u="sng">
                <a:solidFill>
                  <a:srgbClr val="ff3300"/>
                </a:solidFill>
                <a:uFillTx/>
                <a:latin typeface="Arial"/>
              </a:rPr>
              <a:t>related with DB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0" y="6324480"/>
            <a:ext cx="159228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 mass entry 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 u="sng">
                <a:solidFill>
                  <a:srgbClr val="ff3300"/>
                </a:solidFill>
                <a:uFillTx/>
                <a:latin typeface="Arial"/>
              </a:rPr>
              <a:t>related with DB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77120" y="6324480"/>
            <a:ext cx="1744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ssed data imputation 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 u="sng">
                <a:solidFill>
                  <a:srgbClr val="ff3300"/>
                </a:solidFill>
                <a:uFillTx/>
                <a:latin typeface="Arial"/>
              </a:rPr>
              <a:t>related with DB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6800" y="6877080"/>
            <a:ext cx="1967040" cy="9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ETADATA M</a:t>
            </a:r>
            <a:r>
              <a:rPr b="1" lang="lv-LV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RODATA REGIST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US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6934320"/>
            <a:ext cx="1676520" cy="9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TADATA MICRODATA REGIST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743200" y="6781680"/>
            <a:ext cx="1600200" cy="10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10800" bIns="10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TADATA MICRODATA REGI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W DATA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400800" y="6934320"/>
            <a:ext cx="1967040" cy="9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TADATA MICRODATA REGI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A IMPUTATION SOFTW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6172200"/>
            <a:ext cx="1967040" cy="167652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458200" y="6248520"/>
            <a:ext cx="18446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 administration 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 u="sng">
                <a:solidFill>
                  <a:srgbClr val="ff3300"/>
                </a:solidFill>
                <a:uFillTx/>
                <a:latin typeface="Arial"/>
              </a:rPr>
              <a:t>related with DB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534520" y="6934320"/>
            <a:ext cx="1966680" cy="9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TADATA MICRODATA MACRO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 ADMINIST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467480" y="2971800"/>
            <a:ext cx="382680" cy="152280"/>
          </a:xfrm>
          <a:prstGeom prst="rightArrow">
            <a:avLst>
              <a:gd name="adj1" fmla="val 50000"/>
              <a:gd name="adj2" fmla="val 62825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581040" y="1050840"/>
          <a:ext cx="10078920" cy="647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1050840"/>
                    <a:ext cx="10078920" cy="647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9556920" cy="4572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lv-LV" sz="2800" spc="-1" strike="noStrike">
                <a:solidFill>
                  <a:srgbClr val="666633"/>
                </a:solidFill>
                <a:latin typeface="Times New Roman"/>
              </a:rPr>
              <a:t>Structure of </a:t>
            </a:r>
            <a:r>
              <a:rPr b="1" lang="en-GB" sz="2800" spc="-1" strike="noStrike">
                <a:solidFill>
                  <a:srgbClr val="666633"/>
                </a:solidFill>
                <a:latin typeface="Times New Roman"/>
              </a:rPr>
              <a:t>Surveys </a:t>
            </a:r>
            <a:r>
              <a:rPr b="1" lang="lv-LV" sz="2800" spc="-1" strike="noStrike">
                <a:solidFill>
                  <a:srgbClr val="666633"/>
                </a:solidFill>
                <a:latin typeface="Times New Roman"/>
              </a:rPr>
              <a:t>(</a:t>
            </a:r>
            <a:r>
              <a:rPr b="1" lang="en-GB" sz="2800" spc="-1" strike="noStrike">
                <a:solidFill>
                  <a:srgbClr val="666633"/>
                </a:solidFill>
                <a:latin typeface="Times New Roman"/>
              </a:rPr>
              <a:t>questionnaires</a:t>
            </a:r>
            <a:r>
              <a:rPr b="1" lang="lv-LV" sz="2800" spc="-1" strike="noStrike">
                <a:solidFill>
                  <a:srgbClr val="6666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1143000"/>
            <a:ext cx="10439280" cy="17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ew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urve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hould be registered in the 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or each survey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hall b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reate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questionnaire</a:t>
            </a:r>
            <a:r>
              <a:rPr b="1" lang="lv-LV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ersio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hich is valid for at least one year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f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questionnair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 and/or layout do not change, then current version and it description in Metadata base is usable for next ye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2895480"/>
            <a:ext cx="1028700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urvey contains one or more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ata entry tables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chapters</a:t>
            </a:r>
            <a:r>
              <a:rPr b="0" lang="lv-LV" sz="2800" spc="-1" strike="noStrike" u="sng">
                <a:solidFill>
                  <a:srgbClr val="000000"/>
                </a:solidFill>
                <a:uFillTx/>
                <a:latin typeface="Times New Roman"/>
              </a:rPr>
              <a:t> (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data matrix</a:t>
            </a:r>
            <a:r>
              <a:rPr b="0" lang="lv-LV" sz="2800" spc="-1" strike="noStrike" u="sng">
                <a:solidFill>
                  <a:srgbClr val="000000"/>
                </a:solidFill>
                <a:uFillTx/>
                <a:latin typeface="Times New Roman"/>
              </a:rPr>
              <a:t>)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can be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nstant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table</a:t>
            </a:r>
            <a:r>
              <a:rPr b="0" lang="lv-LV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fixed rows and columns number or table with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ariable row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lumns number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4343400"/>
            <a:ext cx="1043928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chapter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e have to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be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ws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lumn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their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codes and name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Metadata base.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 information is necessary for automatic data entry application generatio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data validation e.t.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" y="5791320"/>
            <a:ext cx="10515600" cy="17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t step in the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questionnaire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 and layout description is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ell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mation. Cells are smallest data unit in survey data processing.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ell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created as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ination of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ow and colum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rom survey version side and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ariabl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rom indicators and attributes si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240" y="190080"/>
            <a:ext cx="1074420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18000" bIns="1800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en-US" sz="2800" spc="-1" strike="noStrike">
                <a:solidFill>
                  <a:srgbClr val="666633"/>
                </a:solidFill>
                <a:latin typeface="Times New Roman"/>
              </a:rPr>
              <a:t>Structure of trade statistics questionnaire</a:t>
            </a:r>
            <a:r>
              <a:rPr b="1" lang="en-US" sz="2800" spc="-1" strike="noStrike">
                <a:solidFill>
                  <a:srgbClr val="808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(data matrix - fixed table)</a:t>
            </a:r>
            <a:endParaRPr b="0" lang="en-US" sz="2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685440"/>
            <a:ext cx="7010280" cy="1523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46800" bIns="46800" anchor="t">
            <a:normAutofit/>
          </a:bodyPr>
          <a:p>
            <a:pPr marL="393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Name of Questionnaire, index, code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AU" sz="2100" spc="-1" strike="noStrike">
                <a:solidFill>
                  <a:srgbClr val="000000"/>
                </a:solidFill>
                <a:latin typeface="Times New Roman"/>
              </a:rPr>
              <a:t>corroboration </a:t>
            </a:r>
            <a:r>
              <a:rPr b="1" lang="lv-LV" sz="2100" spc="-1" strike="noStrike">
                <a:solidFill>
                  <a:srgbClr val="000000"/>
                </a:solidFill>
                <a:latin typeface="Times New Roman"/>
              </a:rPr>
              <a:t>date, </a:t>
            </a:r>
            <a:r>
              <a:rPr b="1" lang="en-AU" sz="2100" spc="-1" strike="noStrike">
                <a:solidFill>
                  <a:srgbClr val="000000"/>
                </a:solidFill>
                <a:latin typeface="Times New Roman"/>
              </a:rPr>
              <a:t>Nr</a:t>
            </a:r>
            <a:r>
              <a:rPr b="1" lang="lv-LV" sz="2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Respondents</a:t>
            </a:r>
            <a:r>
              <a:rPr b="1" lang="lv-LV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(object)</a:t>
            </a:r>
            <a:r>
              <a:rPr b="1" lang="lv-LV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code, name and  address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Period (year, quarter, month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Name of chapte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457200" y="2362320"/>
          <a:ext cx="10039320" cy="5952960"/>
        </p:xfrm>
        <a:graphic>
          <a:graphicData uri="http://schemas.openxmlformats.org/drawingml/2006/table">
            <a:tbl>
              <a:tblPr/>
              <a:tblGrid>
                <a:gridCol w="3295800"/>
                <a:gridCol w="936360"/>
                <a:gridCol w="1495440"/>
                <a:gridCol w="1498680"/>
                <a:gridCol w="1406520"/>
                <a:gridCol w="1406520"/>
              </a:tblGrid>
              <a:tr h="1369800">
                <a:tc>
                  <a:txBody>
                    <a:bodyPr lIns="104760" rIns="104760" tIns="52560" bIns="52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oods and commodity groups</a:t>
                      </a: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4760" marR="104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760" rIns="104760" tIns="52560" bIns="52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w code</a:t>
                      </a: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4760" marR="104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760" rIns="104760" tIns="52560" bIns="52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turno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</a:t>
                      </a: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</a:t>
                      </a: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2,3,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4760" marR="104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760" rIns="104760" tIns="52560" bIns="52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tail trade turno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4760" marR="104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760" rIns="104760" tIns="52560" bIns="52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lic catering</a:t>
                      </a: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rno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4760" marR="104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760" rIns="104760" tIns="52560" bIns="52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olesale trade </a:t>
                      </a: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4760" marR="104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800">
                <a:tc>
                  <a:txBody>
                    <a:bodyPr lIns="104760" rIns="104760" tIns="52560" bIns="52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4760" marR="104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760" rIns="104760" tIns="52560" bIns="52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4760" marR="104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760" rIns="104760" tIns="52560" bIns="52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lang="lv-LV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4760" marR="104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760" rIns="104760" tIns="52560" bIns="52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lang="lv-LV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4760" marR="104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760" rIns="104760" tIns="52560" bIns="52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lang="lv-LV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4760" marR="104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760" rIns="104760" tIns="52560" bIns="52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lang="lv-LV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4760" marR="104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040">
                <a:tc>
                  <a:txBody>
                    <a:bodyPr lIns="104760" rIns="104760" tIns="52560" bIns="52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oods, in total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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2010, 2020, 2030-2190)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4760" marR="104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6560" rIns="106560" tIns="53280" bIns="5328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lang="lv-LV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760" rIns="104760" tIns="52560" bIns="5256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i="1" lang="lv-LV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4760" marR="104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104760" rIns="104760" tIns="52560" bIns="5256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i="1" lang="lv-LV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4760" marR="104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104760" rIns="104760" tIns="52560" bIns="5256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i="1" lang="lv-LV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4760" marR="104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104760" rIns="104760" tIns="52560" bIns="5256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i="1" lang="lv-LV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4760" marR="104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1030680">
                <a:tc>
                  <a:txBody>
                    <a:bodyPr lIns="104760" rIns="104760" tIns="52560" bIns="52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od products (except alcoholic beverages and tobacco goods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4760" marR="104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6560" rIns="106560" tIns="53280" bIns="5328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lang="lv-LV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0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6560" rIns="106560" tIns="53280" bIns="5328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i="1" lang="lv-LV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106560" rIns="106560" tIns="53280" bIns="5328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i="1" lang="lv-LV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106560" rIns="106560" tIns="53280" bIns="5328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i="1" lang="lv-LV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106560" rIns="106560" tIns="53280" bIns="5328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i="1" lang="lv-LV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06560" marR="1065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715320">
                <a:tc>
                  <a:txBody>
                    <a:bodyPr lIns="104760" rIns="104760" tIns="52560" bIns="52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coholic beverages, in tota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4760" marR="104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6560" rIns="106560" tIns="53280" bIns="5328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lang="lv-LV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0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6560" rIns="106560" tIns="53280" bIns="5328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i="1" lang="lv-LV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106560" rIns="106560" tIns="53280" bIns="5328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i="1" lang="lv-LV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106560" rIns="106560" tIns="53280" bIns="5328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i="1" lang="lv-LV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106560" rIns="106560" tIns="53280" bIns="5328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i="1" lang="lv-LV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06560" marR="1065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991800">
                <a:tc>
                  <a:txBody>
                    <a:bodyPr lIns="104760" rIns="104760" tIns="52560" bIns="52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f which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irits and liqueurs, whisky, long drink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4760" marR="104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6560" rIns="106560" tIns="53280" bIns="5328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lang="lv-LV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0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6560" rIns="106560" tIns="53280" bIns="5328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i="1" lang="lv-LV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106560" rIns="106560" tIns="53280" bIns="5328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i="1" lang="lv-LV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106560" rIns="106560" tIns="53280" bIns="5328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i="1" lang="lv-LV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106560" rIns="106560" tIns="53280" bIns="5328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i="1" lang="lv-LV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06560" marR="1065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785520">
                <a:tc>
                  <a:txBody>
                    <a:bodyPr lIns="104760" rIns="104760" tIns="52560" bIns="52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4760" marR="104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6560" rIns="106560" tIns="53280" bIns="5328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lang="lv-LV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0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6560" rIns="106560" tIns="53280" bIns="5328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i="1" lang="lv-LV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106560" rIns="106560" tIns="53280" bIns="5328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i="1" lang="lv-LV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106560" rIns="106560" tIns="53280" bIns="5328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i="1" lang="lv-LV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106560" rIns="106560" tIns="53280" bIns="5328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i="1" lang="lv-LV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06560" marR="1065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155" name=""/>
          <p:cNvSpPr/>
          <p:nvPr/>
        </p:nvSpPr>
        <p:spPr>
          <a:xfrm>
            <a:off x="4952880" y="4800600"/>
            <a:ext cx="1013040" cy="76896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efe3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lv-LV" sz="2000" spc="-1" strike="noStrike">
                <a:solidFill>
                  <a:srgbClr val="ff3300"/>
                </a:solidFill>
                <a:latin typeface="Arial"/>
              </a:rPr>
              <a:t>C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lv-LV" sz="2000" spc="-1" strike="noStrike">
                <a:solidFill>
                  <a:srgbClr val="ff3300"/>
                </a:solidFill>
                <a:latin typeface="Arial"/>
              </a:rPr>
              <a:t>[2010,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029200"/>
            <a:ext cx="1295280" cy="3070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Times New Roman"/>
              </a:rPr>
              <a:t>VARIAB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533920" y="1585800"/>
            <a:ext cx="2016360" cy="630360"/>
          </a:xfrm>
          <a:prstGeom prst="borderCallout1">
            <a:avLst>
              <a:gd name="adj1" fmla="val 18750"/>
              <a:gd name="adj2" fmla="val -8333"/>
              <a:gd name="adj3" fmla="val 552138"/>
              <a:gd name="adj4" fmla="val -31731"/>
            </a:avLst>
          </a:prstGeom>
          <a:solidFill>
            <a:srgbClr val="ffcc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INDICATOR 1  + ATTRIB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772400" y="685800"/>
            <a:ext cx="3314880" cy="152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159" y="12173"/>
                </a:moveTo>
                <a:lnTo>
                  <a:pt x="-497" y="1620"/>
                </a:lnTo>
              </a:path>
              <a:path w="21600" h="21600">
                <a:moveTo>
                  <a:pt x="-497" y="0"/>
                </a:moveTo>
                <a:lnTo>
                  <a:pt x="-497" y="21600"/>
                </a:lnTo>
              </a:path>
            </a:pathLst>
          </a:custGeom>
          <a:solidFill>
            <a:srgbClr val="ffff99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Metadata repository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: common table of statistical indicators</a:t>
            </a: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table of attributes (classifications)</a:t>
            </a: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nd table of created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5943600" y="3505320"/>
            <a:ext cx="40384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581280" y="4876560"/>
            <a:ext cx="0" cy="2971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2169360" y="6208920"/>
            <a:ext cx="254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ff6600"/>
                </a:solidFill>
                <a:latin typeface="Times New Roman"/>
              </a:rPr>
              <a:t>A t t r i b u t e 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172200" y="320040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ff6600"/>
                </a:solidFill>
                <a:latin typeface="Times New Roman"/>
              </a:rPr>
              <a:t>I n d i c a t  o r 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5T13:31:32Z</dcterms:created>
  <dc:creator>csb</dc:creator>
  <dc:description/>
  <dc:language>en-US</dc:language>
  <cp:lastModifiedBy> </cp:lastModifiedBy>
  <dcterms:modified xsi:type="dcterms:W3CDTF">2004-05-16T20:19:21Z</dcterms:modified>
  <cp:revision>93</cp:revision>
  <dc:subject/>
  <dc:title>Integrētā statistisko datu apstrādes un vadības sistēma “ISDAVS”</dc:title>
</cp:coreProperties>
</file>