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296-CEBD-4BB0-8493-F234F350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96F-CD63-493B-B778-F4B3CE6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7E4-53BD-4036-AE2D-0FED7AE6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00C-3A92-4222-BD43-009257FA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BB5-8D2D-4D3C-BF5F-279A6C63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9A1-A759-428F-8468-7068195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29A7-46E8-4944-A90B-09C1789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715F-B2A4-4FD2-88F6-440986D7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F62-FF68-41F6-9A3B-B02FE02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84A2-3742-44DE-87E0-FD296714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EA6-39C6-45E7-B554-11EC517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638-377F-4140-9721-15E51A2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2AA2-9D0A-45A0-8671-5CDF309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077-1DD6-4730-9FC7-F821A4E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C4A-6D89-4B7B-B913-E10290D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DFF0-4474-4993-825C-77DDBB8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2B68-4E3E-4DED-A639-1833422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E6F-14B6-4585-82B6-B1E6D7A9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60E-C5C1-47D4-84D1-B27C05B8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E83-694C-4BC0-8245-E70A046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F5F-853A-4B22-8E79-53F6E1C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B73-C3A6-4383-9A18-5BFC1EE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847-721C-4F9D-A4D0-A1422EC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92A-C929-43BE-B10A-A357DCF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32C-CD38-4D89-AA5E-1EB634D05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69C-F147-4B3D-88AF-D5EE34CD963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stat/cache/infographs/economy/desktop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Principles of 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urostat's dissemination strategy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27628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ew website which offers users an easier access and a better understanding of European statist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velop a more visual dissemination of European statistics by means of simple infographics &amp; different visualisation to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 present where users are (apps for mobile phones &amp; table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lease cross-cutting publica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ffer "thematic" packages: combination of publication, infographic, apps…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Some innovative products from Eurosta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Economic trends": 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eurostat/cache/infographs/economy/desktop/index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Young Europeans": http://ec.europa.eu/eurostat/cache/infographs/youth/index_en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Quality of life": http://ec.europa.eu/eurostat/cache/infographs/qol/index_en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urope Day: http://ec.europa.eu/eurostat/news/themes-in-the-spotlight/europe-da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7:33:56Z</dcterms:created>
  <dc:creator>URHAUSEN Julia (ESTAT)</dc:creator>
  <dc:description/>
  <dc:language>en-US</dc:language>
  <cp:lastModifiedBy>URHAUSEN Julia (ESTAT)</cp:lastModifiedBy>
  <dcterms:modified xsi:type="dcterms:W3CDTF">2015-06-15T08:58:07Z</dcterms:modified>
  <cp:revision>4</cp:revision>
  <dc:subject/>
  <dc:title>Some innovative products from Eurostat</dc:title>
</cp:coreProperties>
</file>