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7A5-E70F-49D1-AA8C-16EB76C0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0D6-34D5-41F5-9FC2-B546585C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EE4A-F8F1-4BA3-8B97-CCFCCFED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D81-FE00-4AFA-9462-271D8AFD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9210-D27A-4BC2-BF84-2EA69953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B085-747E-425F-AE29-57CE7EFB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2552-9C7A-44C8-9950-F297BCDF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E5AE-9A2F-4586-91ED-0A1394C2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46EA-C5C5-4986-BEDF-537319E9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DA5F-6072-474A-86C8-933FF3F2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302B-90AE-4D1F-BE45-8380CD25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C0A-D062-4F06-826A-60679AD7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DB91-51AA-4646-A810-86751123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4444-D7AE-40B7-B0DE-0D8799C4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2640-9FE9-4628-B6B0-390B6F6A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754F-A4E7-4D61-B291-028CD39B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EF71-11B6-4B37-99CB-4A3E5455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814-9A63-4077-A79A-4D172D0A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DA5-29C8-418F-B38E-1CB80013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726-5111-4A4A-9FE9-668EB421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38C-580D-41C4-9E48-768768A1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25E-732E-4A5F-BF75-60620E04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995-0FFE-4A54-ABB1-FE8502EB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C8B-2DC1-469F-80A4-EAA29E4F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B023-32F3-46BA-B47C-B11E484606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0551-4F79-489E-9B4A-F25D270959A5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urostat/cache/infographs/economy/desktop/index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Principles of </a:t>
            </a:r>
            <a:br>
              <a:rPr sz="2800"/>
            </a:b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urostat's dissemination strategy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2276280"/>
            <a:ext cx="8362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ew website which offers users an easier access and a better understanding of European statistic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evelop a more visual dissemination of European statistics by means of simple infographics &amp; different visualisation tool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e present where users are (apps for mobile phones &amp; tablet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lease cross-cutting publica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ffer "thematic" packages: combination of publication, infographic, apps…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Some innovative products from Eurostat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"Economic trends": </a:t>
            </a:r>
            <a:r>
              <a:rPr b="0" i="1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eurostat/cache/infographs/economy/desktop/index.htm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"Young Europeans": http://ec.europa.eu/eurostat/cache/infographs/youth/index_en.htm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"Quality of life": http://ec.europa.eu/eurostat/cache/infographs/qol/index_en.htm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Europe Day: http://ec.europa.eu/eurostat/news/themes-in-the-spotlight/europe-da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07:33:56Z</dcterms:created>
  <dc:creator>URHAUSEN Julia (ESTAT)</dc:creator>
  <dc:description/>
  <dc:language>en-US</dc:language>
  <cp:lastModifiedBy>URHAUSEN Julia (ESTAT)</cp:lastModifiedBy>
  <dcterms:modified xsi:type="dcterms:W3CDTF">2015-06-15T08:58:07Z</dcterms:modified>
  <cp:revision>4</cp:revision>
  <dc:subject/>
  <dc:title>Some innovative products from Eurostat</dc:title>
</cp:coreProperties>
</file>