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BE57C6F-498B-4EA8-B7FD-255E54BB735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1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 Session on Statistical Dissemination and Communicatio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y 200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or: Gina Pears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.S. Energy Information Admini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 is looking at a system for licensing its data on the internet; legal issues and IT issues are being looked at. Are other agencies considering using watermarks etc for this. So any lessons? (Austr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semination of sensitive group-specific results (SGSR) – from Heinrich Brun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cerning the issue of release of small aggregates, do you have special rules or a special policy for SGSR? If yes, 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type of comments did you add to the last release of a SGS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was the reaction by media and users? Were some of these interpretations erroneous, and if yes did the NSO react public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rge or not to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rice policies of other statistical organizations and how does this differ depending on the category of us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’l Statistical Service of Greece – charges only for tailor-made data &amp; printed pubs, but special discounts for students &amp; universities, free for public secto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rganizations charge for metadata?  How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e-releas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pre-release or not to pre-re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-release to whom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rket-moving information – the exce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ed for guidel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ole of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use the disscomm listserv to have discussions in between meetings? How can we achieve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hat are the major themes that emerged during the course of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important outstanding questions or issues?  Which topics especially warrant further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63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ow to successfully serve so many diverse (divergent) audiences / us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veloping &amp; managing a customer feedback strategy /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ance of customers and stakeholders – who are they and what are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velopment – related to use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allenges of changing environment, both internal (eg moving from having only a press secretary to a public relations office) and external (adapting product suite and web site to suit changing client groups and n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7924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thods for preventing errors from leaving the office / proofreading and how to deal with them if the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Quality assurance (like a future topic on this provided we don’t duplicate work in other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olitical independence and equal treatment of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Keeping up with the latest communications and technology tools, techniques, etc (RSS, Blogs, pod &amp; video casting, wiki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ta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ed to remember focus on communication not technic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he need for standard structure(s) for data, data integration, data commonality, etc.  Metadata is a recurren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quests for and confidenti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concile differences in data available at regional and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ducation / statistic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ole of dissemination vs communication – overlap and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ne of our stated goals is to ‘train’ statisticians &amp; subject specialists to design tables &amp; write reports that tell interesting stories.  Is there thought of working with meta-data writers to write for non-statistical audi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What are the key functional branches (teams) needed for the communications arm of a national statistical orga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can web governance be integrated with web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has the 24/7 news cycle provided challenges and opportunities for statistical communications organiz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much influence should stakeholders have concerning the inclusion of content questions and form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hould we create an international statistics ‘access license’ (standards involving identification of source, protection of original data, conditions for re-use and re-distribution)and,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1:37:05Z</dcterms:created>
  <dc:creator>Bruengger</dc:creator>
  <dc:description/>
  <dc:language>en-US</dc:language>
  <cp:lastModifiedBy>Gardner</cp:lastModifiedBy>
  <dcterms:modified xsi:type="dcterms:W3CDTF">2008-05-19T11:56:12Z</dcterms:modified>
  <cp:revision>53</cp:revision>
  <dc:subject/>
  <dc:title>Dissemination of sensitive group-specific results</dc:title>
</cp:coreProperties>
</file>