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gif" ContentType="image/gif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5.wmf" ContentType="image/x-wmf"/>
  <Override PartName="/ppt/media/image2.png" ContentType="image/png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09B4-25A4-4F7A-922C-5E27934503D7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Matyt, pasitaikė daugiau tokių, kurie nesinaudoja statistika ir jiems sunku atsakyti į šį klausimą. 3 proc. daugiau nei pernai, o tu kurie supranta 3 proc. maži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 skaičius gaunamas konkrečiai sričiai, pvz. Televant for population to understand country’s situation. Svoriai priskirimi atsakymų variantams: Teigiamas atsakymas +1, neigiamas atsakymas -1, No idea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Rezultatai tik patvirtina, kad statistinio raštingumo ugdymo kryptis pasirinkta teisingai – nukreipta į jaunąją kartą (bus kuriamas puslapis vaikams, leidžiama knygelė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Indeksai, palyginti su ankstesniais meta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4 rod.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.094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.0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5 rod.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.082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.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Indeksas 2007 m. palyginti su 2005 m. (per 2 met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4 rod.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5 rod.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.2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KVS – kokybės valdymo sis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Uniform procedure for all surveys (the same steps followed in preparation, execution, analysis and follow-up) approved for all surveys. Continu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0 target user groups identified and surveys organise users into these groups (except the specialisted user group surve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The order for the User-satisfaction surveys system foresees following steps to organise surv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 same questions are used: 4 CoP criteria-related, 1 national interest questions, since 2006 a question on quality was introduced to continue in further surveys. Additional chageable 4-5 questions each year depend on topical issues or specific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comparison purposes, following the trends and evaluation of the Customer satisfaction index each year 1 General SL visibility and image survey, 1 not yet surveyed user group and after 2-3 years 1 repeated user group survey is conducted. Public administration inc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cipalities are very important users (stakeholders) using statistics for decision mak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 and strategic  plann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thus, in 2008 this specialised survey is to be rep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Pateikiamos skaidrės iš pagrindinių tęstinių klausimų nuo 2005 metų. (kai kurie klausimai buvo klausiami 2005 m., bet nekartoti 2006 m. čia yra tie, kur galima lyginti visus 3 me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Omnibus tyrimas - tai jungtinis tyrimas, kuomet į vieną klausimyną skirtingus klausimus įtraukia skirtingi užsakovai. Kas mėnesi atliekamo Omnibus tyrimo imtis viršija 1000 respondentų, atranka - atsitiktinė tikimybinė. Tyrimas organizuojamas taip, kad jo rezultatai reprezentatyviai atspindėtų šalies gyventojų nuomonę. Trukmė - apie 4 savaites nuo tyrimo pradžios.  Užsakovams individualiai  parengiamos  ataskaitos tik su jo klausimais, taigi kiekvienam Užsakovui garantuojamas jį dominančių duomenų konfidencialuma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Times New Roman"/>
              </a:rPr>
              <a:t>Atrankiniuose kiekybiniuose tyrimuose visada išlieka statistinės paklaidos tikimybė, į kurią būtina atsižvelgti interpretuojant duomenis. Pvz.: Jeigu apklausus 1005 respondentus gavome, jog 24,5% apklaustųjų teigia, kad jiems statistinės informacijos pakanka, tai yra 95 proc. tikimybė, kad tikroji reikšmė yra tarp 21,6 ir 27,4 pro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rcRect l="45142" t="0" r="1177" b="0"/>
            <a:stretch/>
          </p:blipFill>
          <p:spPr>
            <a:xfrm>
              <a:off x="5791320" y="0"/>
              <a:ext cx="33526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rcRect l="0" t="0" r="1177" b="0"/>
            <a:stretch/>
          </p:blipFill>
          <p:spPr>
            <a:xfrm>
              <a:off x="0" y="0"/>
              <a:ext cx="61722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79280" y="6237000"/>
            <a:ext cx="266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t-LT" sz="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800" spc="-1" strike="noStrike">
                <a:solidFill>
                  <a:srgbClr val="003366"/>
                </a:solidFill>
                <a:latin typeface="Arial"/>
              </a:rPr>
              <a:t>13-15 May 2008, UNECE Dissemination, Gene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09520" y="6433920"/>
            <a:ext cx="8755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t-LT" sz="10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Developing statistical literacy in SL </a:t>
            </a: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www.stat.gov.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6411960"/>
            <a:ext cx="8686800" cy="0"/>
          </a:xfrm>
          <a:prstGeom prst="line">
            <a:avLst/>
          </a:prstGeom>
          <a:ln w="6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rcRect l="12598" t="0" r="0" b="0"/>
          <a:stretch/>
        </p:blipFill>
        <p:spPr>
          <a:xfrm>
            <a:off x="719280" y="304920"/>
            <a:ext cx="2643120" cy="3445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277920" y="277920"/>
            <a:ext cx="3855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tat.gov.lt/en/" TargetMode="External"/><Relationship Id="rId2" Type="http://schemas.openxmlformats.org/officeDocument/2006/relationships/hyperlink" Target="http://www.stat.gov.lt/lt/pages/view/?id=2327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16000" y="692280"/>
            <a:ext cx="424836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6600"/>
                </a:solidFill>
                <a:latin typeface="Verdana"/>
              </a:rPr>
              <a:t>Developing 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S</a:t>
            </a:r>
            <a:r>
              <a:rPr b="1" lang="lt-LT" sz="3200" spc="-1" strike="noStrike">
                <a:solidFill>
                  <a:srgbClr val="006600"/>
                </a:solidFill>
                <a:latin typeface="Verdana"/>
              </a:rPr>
              <a:t>tatistical 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L</a:t>
            </a:r>
            <a:r>
              <a:rPr b="1" lang="lt-LT" sz="3200" spc="-1" strike="noStrike">
                <a:solidFill>
                  <a:srgbClr val="006600"/>
                </a:solidFill>
                <a:latin typeface="Verdana"/>
              </a:rPr>
              <a:t>iteracy in Statistics Lithuani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16000" y="3789000"/>
            <a:ext cx="3395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Audronė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Miškinienė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Head, Public Relations division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38098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48000" y="189000"/>
            <a:ext cx="5796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Customer satisfaction index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712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Formula produced in 2007 &amp; calculated from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constant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questions in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user satisfaction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surveys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,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attributing weights to replies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B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ased on CoP principles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and national needs: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1" lang="lt-LT" sz="2000" spc="-1" strike="noStrike">
                <a:solidFill>
                  <a:srgbClr val="008000"/>
                </a:solidFill>
                <a:latin typeface="Verdana"/>
              </a:rPr>
              <a:t>   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Clarity 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+ 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Sufficiency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+ 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Reliability / trust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+ 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Relevance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4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characteristics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=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Customer satisfaction index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+ Awareness, v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isibility </a:t>
            </a: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&amp;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 image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5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characteristics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=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General customer satisfaction index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19280" y="549000"/>
            <a:ext cx="5616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Is statistical information presented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clearly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? </a:t>
            </a:r>
            <a:r>
              <a:rPr b="0" lang="lt-LT" sz="2000" spc="-1" strike="noStrike">
                <a:solidFill>
                  <a:srgbClr val="0066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%</a:t>
            </a:r>
            <a:r>
              <a:rPr b="0" lang="lt-LT" sz="2000" spc="-1" strike="noStrike">
                <a:solidFill>
                  <a:srgbClr val="0066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4360" y="1557360"/>
          <a:ext cx="773424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73424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859280" y="4797360"/>
            <a:ext cx="4033800" cy="1067400"/>
          </a:xfrm>
          <a:prstGeom prst="rect">
            <a:avLst/>
          </a:prstGeom>
          <a:gradFill rotWithShape="0">
            <a:gsLst>
              <a:gs pos="0">
                <a:srgbClr val="ccccff">
                  <a:alpha val="21176"/>
                </a:srgbClr>
              </a:gs>
              <a:gs pos="100000">
                <a:srgbClr val="5e5e75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Statistics better understood by respondents aged </a:t>
            </a:r>
            <a:r>
              <a:rPr b="1" lang="lt-LT" sz="1600" spc="-1" strike="noStrike">
                <a:solidFill>
                  <a:srgbClr val="006600"/>
                </a:solidFill>
                <a:latin typeface="Verdana"/>
              </a:rPr>
              <a:t>46-55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 with higher education and highest income</a:t>
            </a:r>
            <a:r>
              <a:rPr b="1" lang="lt-LT" sz="1600" spc="-1" strike="noStrike">
                <a:solidFill>
                  <a:srgbClr val="006600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small and large businessmen, man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Is statistical information</a:t>
            </a:r>
            <a:r>
              <a:rPr b="1" lang="lt-LT" sz="2400" spc="-1" strike="noStrike">
                <a:solidFill>
                  <a:srgbClr val="3399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sufficient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?</a:t>
            </a:r>
            <a:r>
              <a:rPr b="1" lang="lt-LT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66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%</a:t>
            </a:r>
            <a:r>
              <a:rPr b="0" lang="lt-LT" sz="2000" spc="-1" strike="noStrike">
                <a:solidFill>
                  <a:srgbClr val="0066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5640" y="1450800"/>
          <a:ext cx="7920000" cy="421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50800"/>
                    <a:ext cx="792000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39640" y="5877000"/>
            <a:ext cx="82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Verdana"/>
              </a:rPr>
              <a:t>* In 2006 this question was changed into quality, since 2007 – both questions ar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19280" y="189000"/>
            <a:ext cx="572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What statistical info is</a:t>
            </a:r>
            <a:r>
              <a:rPr b="1" lang="lt-LT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relevant 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for</a:t>
            </a:r>
            <a:r>
              <a:rPr b="1" lang="lt-LT" sz="2400" spc="-1" strike="noStrike">
                <a:solidFill>
                  <a:srgbClr val="008000"/>
                </a:solidFill>
                <a:latin typeface="Verdana"/>
              </a:rPr>
              <a:t>?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8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%</a:t>
            </a:r>
            <a:r>
              <a:rPr b="1" lang="lt-LT" sz="2400" spc="-1" strike="noStrike">
                <a:solidFill>
                  <a:srgbClr val="008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32240" y="944640"/>
          <a:ext cx="6432480" cy="53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2240" y="944640"/>
                    <a:ext cx="643248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95280" y="436572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3280" y="189000"/>
            <a:ext cx="5940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Do you</a:t>
            </a:r>
            <a:r>
              <a:rPr b="1" lang="lt-LT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rely</a:t>
            </a:r>
            <a:r>
              <a:rPr b="1" lang="lt-LT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/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trust in statistics?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lt-LT" sz="2400" spc="-1" strike="noStrike">
                <a:solidFill>
                  <a:srgbClr val="0066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%</a:t>
            </a:r>
            <a:r>
              <a:rPr b="0" lang="lt-LT" sz="2400" spc="-1" strike="noStrike">
                <a:solidFill>
                  <a:srgbClr val="0066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03280" y="841320"/>
          <a:ext cx="697068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841320"/>
                    <a:ext cx="697068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050920" y="5445000"/>
            <a:ext cx="7093080" cy="824040"/>
          </a:xfrm>
          <a:prstGeom prst="rect">
            <a:avLst/>
          </a:prstGeom>
          <a:gradFill rotWithShape="0">
            <a:gsLst>
              <a:gs pos="0">
                <a:srgbClr val="5e5e75">
                  <a:alpha val="27058"/>
                </a:srgbClr>
              </a:gs>
              <a:gs pos="100000">
                <a:srgbClr val="ccccff">
                  <a:alpha val="14117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Trust (reliability) considerably grew among specialists, civil servants</a:t>
            </a:r>
            <a:r>
              <a:rPr b="1" lang="lt-LT" sz="1600" spc="-1" strike="noStrike">
                <a:solidFill>
                  <a:srgbClr val="006600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but fell among workers, technical staff, unemployed, students and pup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8135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Did you know about statistics and SL prior to the survey? </a:t>
            </a:r>
            <a:r>
              <a:rPr b="0" lang="lt-LT" sz="2000" spc="-1" strike="noStrike">
                <a:solidFill>
                  <a:srgbClr val="0066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%</a:t>
            </a:r>
            <a:r>
              <a:rPr b="0" lang="lt-LT" sz="2000" spc="-1" strike="noStrike">
                <a:solidFill>
                  <a:srgbClr val="006600"/>
                </a:solidFill>
                <a:latin typeface="Verdana"/>
              </a:rPr>
              <a:t>)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5960" y="1484280"/>
          <a:ext cx="743580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484280"/>
                    <a:ext cx="743580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076720" y="4653000"/>
            <a:ext cx="3672000" cy="1310760"/>
          </a:xfrm>
          <a:prstGeom prst="rect">
            <a:avLst/>
          </a:prstGeom>
          <a:gradFill rotWithShape="0">
            <a:gsLst>
              <a:gs pos="0">
                <a:srgbClr val="ccccff">
                  <a:alpha val="17254"/>
                </a:srgbClr>
              </a:gs>
              <a:gs pos="100000">
                <a:srgbClr val="5e5e75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Awareness - majority of knowing nothing among youngest &amp; oldest respondents with low income, incomplete secondary education, farmers &amp; students</a:t>
            </a:r>
            <a:r>
              <a:rPr b="0" lang="lt-LT" sz="16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11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Customer statisfaction evaluation, 2005-2007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281240"/>
          <a:ext cx="8327880" cy="50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81240"/>
                    <a:ext cx="8327880" cy="50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6600"/>
                </a:solidFill>
                <a:latin typeface="Verdana"/>
              </a:rPr>
              <a:t>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e. g. R&amp;D</a:t>
            </a:r>
            <a:r>
              <a:rPr b="1" lang="lt-LT" sz="2400" spc="-1" strike="noStrike">
                <a:solidFill>
                  <a:srgbClr val="008000"/>
                </a:solidFill>
                <a:latin typeface="Verdana"/>
              </a:rPr>
              <a:t> community survey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, 2007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Target group: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R&amp;D staff using statistics in institutes, universities, primary data for analysis, articles or lecture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Territory: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R&amp;D institutions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in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LT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3333cc"/>
                </a:solidFill>
                <a:uFillTx/>
                <a:latin typeface="Verdana"/>
              </a:rPr>
              <a:t>Survey period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:</a:t>
            </a:r>
            <a:r>
              <a:rPr b="1" i="1" lang="lt-LT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Dec. 2006-Apr.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2007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3333cc"/>
                </a:solidFill>
                <a:uFillTx/>
                <a:latin typeface="Verdana"/>
              </a:rPr>
              <a:t>Objective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:</a:t>
            </a:r>
            <a:r>
              <a:rPr b="1" i="1" lang="lt-LT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1. O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pinion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need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s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of Scientific community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researchers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. Consultation on Population census questions. 2. Calculation of R&amp;D community satisfaction index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3333cc"/>
                </a:solidFill>
                <a:uFillTx/>
                <a:latin typeface="Verdana"/>
              </a:rPr>
              <a:t>S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urvey method: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S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ample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499 representatives from SL extracted list of institutions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, interview by professional interviewer</a:t>
            </a:r>
            <a:r>
              <a:rPr b="0" lang="lt-LT" sz="2000" spc="-1" strike="noStrike" u="sng">
                <a:solidFill>
                  <a:srgbClr val="000066"/>
                </a:solidFill>
                <a:uFillTx/>
                <a:latin typeface="Verdana"/>
              </a:rPr>
              <a:t> 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3333cc"/>
                </a:solidFill>
                <a:uFillTx/>
                <a:latin typeface="Verdana"/>
              </a:rPr>
              <a:t>Questions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: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24: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5 constant,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5 quality-related,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9 on censuses + other on topical issue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708000" y="259920"/>
            <a:ext cx="5038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Specialised surveys</a:t>
            </a:r>
            <a:br>
              <a:rPr sz="3200"/>
            </a:b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00000" y="333000"/>
            <a:ext cx="53643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e.g., </a:t>
            </a: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School survey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, 2007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2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Target group: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condary school teachers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Territory: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condary schools of LT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3333cc"/>
                </a:solidFill>
                <a:uFillTx/>
                <a:latin typeface="Verdana"/>
              </a:rPr>
              <a:t>Survey period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ay-June, 2007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3333cc"/>
                </a:solidFill>
                <a:uFillTx/>
                <a:latin typeface="Verdana"/>
              </a:rPr>
              <a:t>Objectiv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: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identify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usability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&amp; understanding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of statistical info in school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3333cc"/>
                </a:solidFill>
                <a:uFillTx/>
                <a:latin typeface="Verdana"/>
              </a:rPr>
              <a:t>S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urvey method: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1163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schools: basic, secondary, upper-secondary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2 size groups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: small (less 270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pupils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large (270 and more)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. Sample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240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schools. 3 questionnaires for small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4 for large schools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ailed &amp; web-based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3333cc"/>
                </a:solidFill>
                <a:uFillTx/>
                <a:latin typeface="Verdana"/>
              </a:rPr>
              <a:t>Questions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8: 10 teaching-oriented + on topical issues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Verdana"/>
              </a:rPr>
              <a:t> 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6119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School survey key result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esponse rate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79%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: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35%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rural,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65%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– town teacher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Teaching matematics (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178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), informatics (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130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), geography (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90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), history (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69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), economics (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45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SL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nfo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used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~ 60%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respondent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esorted to by teachers aged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55–65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ostly resorting to  publications, Libraries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website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www.stat.gov.lt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N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eed to attend courses, improve statistical skills, use for teaching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pprove principal scheme of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web</a:t>
            </a: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 “Sch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ool corner“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3280" y="549360"/>
            <a:ext cx="590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Towards</a:t>
            </a: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S</a:t>
            </a: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tat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istical</a:t>
            </a: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 literacy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 system in S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281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Step 1.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Identify gaps in unde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standing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statistic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Step 2.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Develop system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organise user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survey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Step 3.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Analyse results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,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plan general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mpromevent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iteracy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Step 4.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Monitor user feedback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,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customer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satisfaction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&amp; Literacy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Step 5.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ontinue with development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1484280"/>
            <a:ext cx="485640" cy="1214640"/>
          </a:xfrm>
          <a:prstGeom prst="upDownArrow">
            <a:avLst>
              <a:gd name="adj1" fmla="val 50000"/>
              <a:gd name="adj2" fmla="val 4979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3280" y="259920"/>
            <a:ext cx="7200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Teachers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wish</a:t>
            </a: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 to know SL service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341360"/>
          <a:ext cx="832968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3296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Web ,,School corner“ pages needed by</a:t>
            </a:r>
            <a:r>
              <a:rPr b="1" lang="lt-LT" sz="2800" spc="-1" strike="noStrike">
                <a:solidFill>
                  <a:srgbClr val="008080"/>
                </a:solidFill>
                <a:latin typeface="Verdana"/>
              </a:rPr>
              <a:t> </a:t>
            </a:r>
            <a:r>
              <a:rPr b="1" lang="lt-LT" sz="2800" spc="-1" strike="noStrike">
                <a:solidFill>
                  <a:srgbClr val="003366"/>
                </a:solidFill>
                <a:latin typeface="Verdana"/>
              </a:rPr>
              <a:t>teacher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557360"/>
          <a:ext cx="843444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84344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Web ,,School corner“ pages needed by</a:t>
            </a:r>
            <a:r>
              <a:rPr b="1" lang="lt-LT" sz="2800" spc="-1" strike="noStrike">
                <a:solidFill>
                  <a:srgbClr val="00808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pupil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1484280"/>
          <a:ext cx="84171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4171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32000" y="333360"/>
            <a:ext cx="5688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3366"/>
                </a:solidFill>
                <a:latin typeface="Verdana"/>
              </a:rPr>
              <a:t>Motives </a:t>
            </a: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to study statistic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50880" y="1052640"/>
          <a:ext cx="807228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1052640"/>
                    <a:ext cx="807228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360" y="115560"/>
            <a:ext cx="5545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Key improvements after user feedback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2005</a:t>
            </a:r>
            <a:r>
              <a:rPr b="1" lang="en-US" sz="12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T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rainings of public administration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N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ew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more user friendly 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website launched 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(*)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User corners introduced in Regional offices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2006 </a:t>
            </a:r>
            <a:r>
              <a:rPr b="1" lang="en-US" sz="14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More free information on web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Output DB launched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(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Trainings of other user groups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&amp;D community opinion taken into consideration for Census questionnaire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Development of order for using primary data for statistical purposes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2007</a:t>
            </a:r>
            <a:r>
              <a:rPr b="1" lang="en-US" sz="14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Statistical literacy Action plan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Website user-friendliness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Regional DB incorporated into Output DB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W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eb School-corner launched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(*)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V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isualisation of statistics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Standard training package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&amp; training of trainers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0" y="189000"/>
            <a:ext cx="5904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Scope</a:t>
            </a: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 of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Literacy projec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Best practices. T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heory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concept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iteracy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gaps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. LT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ducational programmes. School survey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iteracy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plan</a:t>
            </a: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s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for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 individual user group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, 2007–2012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iteracy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traditional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means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(brochures, pens, calendars, meetings, events…)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iteracy on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web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. Best practices.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Visualisation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lection &amp; t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raining of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SL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experts – future trainer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85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Concept of Statistical literacy agreed by S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53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720" y="188640"/>
            <a:ext cx="460368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Literacy 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Project 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A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ctiviti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Means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&amp;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types of promotion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&amp; training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Pilot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“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Statistics days”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in all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ounties &amp;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district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B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rochure “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Statistics ABC for 5-8 classes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”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Standard slides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for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SL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staff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Draft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Verdana"/>
              </a:rPr>
              <a:t>w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eb “School corner”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, vizualisation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T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raining of trainers.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Standard training packages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, invitations, plans of lectures, course evaluation forms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S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tat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.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literacy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               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in SL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Strategy 2008–2012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59280" y="551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08000" y="333000"/>
            <a:ext cx="50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Nearest Literacy Project Plan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Joint work with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Min. of Educ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a</a:t>
            </a: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tion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– projects, competitions, award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Teachers’ competence institute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– a course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Institute of Journalism, Vilnius University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– a course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Traditional</a:t>
            </a: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 “Statistics days”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in schools (end Sept.) in 60 regional office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User group-relevant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promotion tools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, e.g. brochure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ABC for 9-12 classes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, leaflets, calendar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Advanced web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“School corner”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,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continue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visualisation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Definitions for web</a:t>
            </a: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 “School corner”</a:t>
            </a:r>
            <a:r>
              <a:rPr b="1" lang="lt-LT" sz="2000" spc="-1" strike="noStrike">
                <a:solidFill>
                  <a:srgbClr val="993300"/>
                </a:solidFill>
                <a:latin typeface="Verdana"/>
              </a:rPr>
              <a:t> Glossary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993300"/>
                </a:solidFill>
                <a:latin typeface="Verdana"/>
              </a:rPr>
              <a:t>Demo version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on usage of SL website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DB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Standard training packages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for 3 user levels: basic, middle, advanced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egular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training &amp; communication events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for individual user group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19640" y="260280"/>
            <a:ext cx="5324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Media-related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L</a:t>
            </a: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iterac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Events related to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key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milestones: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2008   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Media survey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DGINS meeting, Vilniu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Specialised media survey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Introductory course, Institute of Journalism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2009   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90 years to SL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1000 years LT mention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ed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 in annals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+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Capital of Culture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2010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Agro censu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2011 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Population &amp; Housing Censu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2012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First Agro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Population census result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+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Newly employed journalist invited and trained regularly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6266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Strategy of Statistics Lithuani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0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2005–2007</a:t>
            </a:r>
            <a:r>
              <a:rPr b="1" lang="lt-LT" sz="1800" spc="-1" strike="noStrike">
                <a:solidFill>
                  <a:srgbClr val="990000"/>
                </a:solidFill>
                <a:latin typeface="Verdana"/>
              </a:rPr>
              <a:t>: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Introduction of </a:t>
            </a:r>
            <a:r>
              <a:rPr b="1" lang="lt-LT" sz="2000" spc="-1" strike="noStrike">
                <a:solidFill>
                  <a:srgbClr val="008000"/>
                </a:solidFill>
                <a:latin typeface="Verdana"/>
              </a:rPr>
              <a:t>System of User satisfaction survey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Monitoring criteria based on principles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 of 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European Statistics Code of Practice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&amp; 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national need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F</a:t>
            </a:r>
            <a:r>
              <a:rPr b="1" lang="lt-LT" sz="1800" spc="-1" strike="noStrike">
                <a:solidFill>
                  <a:srgbClr val="990000"/>
                </a:solidFill>
                <a:latin typeface="Verdana"/>
              </a:rPr>
              <a:t>unctioning</a:t>
            </a:r>
            <a:r>
              <a:rPr b="1" lang="lt-LT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1800" spc="-1" strike="noStrike">
                <a:solidFill>
                  <a:srgbClr val="000066"/>
                </a:solidFill>
                <a:latin typeface="Verdana"/>
              </a:rPr>
              <a:t>beg. </a:t>
            </a:r>
            <a:r>
              <a:rPr b="1" lang="lt-LT" sz="1800" spc="-1" strike="noStrike">
                <a:solidFill>
                  <a:srgbClr val="990000"/>
                </a:solidFill>
                <a:latin typeface="Verdana"/>
              </a:rPr>
              <a:t>2006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2008–2012: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Develop 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S</a:t>
            </a:r>
            <a:r>
              <a:rPr b="1" lang="lt-LT" sz="2000" spc="-1" strike="noStrike">
                <a:solidFill>
                  <a:srgbClr val="008000"/>
                </a:solidFill>
                <a:latin typeface="Verdana"/>
              </a:rPr>
              <a:t>ystem for evaluation of individual user needs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adjust for individual service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Calculat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e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C</a:t>
            </a:r>
            <a:r>
              <a:rPr b="1" lang="lt-LT" sz="2000" spc="-1" strike="noStrike">
                <a:solidFill>
                  <a:srgbClr val="008000"/>
                </a:solidFill>
                <a:latin typeface="Verdana"/>
              </a:rPr>
              <a:t>ustomer satisfaction index 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for specialised user group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Expand circle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f statistically literate users,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cultivate new generation of users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, capable to use &amp; interpret statistic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Ongoing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Gear"/>
          <p:cNvSpPr/>
          <p:nvPr/>
        </p:nvSpPr>
        <p:spPr>
          <a:xfrm rot="750000">
            <a:off x="7524360" y="5157720"/>
            <a:ext cx="1228680" cy="91764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750000">
            <a:off x="6795720" y="5299200"/>
            <a:ext cx="1371600" cy="1368360"/>
          </a:xfrm>
          <a:prstGeom prst="pi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750000">
            <a:off x="7524720" y="5445000"/>
            <a:ext cx="914400" cy="10796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000" y="1413000"/>
            <a:ext cx="59022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Thank you.</a:t>
            </a:r>
            <a:br>
              <a:rPr sz="2800"/>
            </a:br>
            <a:r>
              <a:rPr b="1" lang="lt-LT" sz="2800" spc="-1" strike="noStrike">
                <a:solidFill>
                  <a:srgbClr val="008000"/>
                </a:solidFill>
                <a:latin typeface="Verdana"/>
              </a:rPr>
              <a:t>Questions are welcom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24000" y="3860640"/>
            <a:ext cx="1081080" cy="1027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96000" y="3933720"/>
            <a:ext cx="1081080" cy="1027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140360" y="5229360"/>
            <a:ext cx="1081080" cy="102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Internet-related user survey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Web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accessibility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(monthly, quarterly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Web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users registered to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lt-LT" sz="2400" spc="-1" strike="noStrike">
                <a:solidFill>
                  <a:srgbClr val="990000"/>
                </a:solidFill>
                <a:latin typeface="Verdana"/>
              </a:rPr>
              <a:t>Alert-me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services (monthly, quarterly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3.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Opinion survey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of web visitors (monthly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404640"/>
            <a:ext cx="5761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System of user satisfaction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System of user satisfaction survey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497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Traditional satisfaction survey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1.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General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sz="2400" spc="-1" strike="noStrike">
                <a:solidFill>
                  <a:srgbClr val="000066"/>
                </a:solidFill>
                <a:latin typeface="Verdana"/>
              </a:rPr>
              <a:t>SL visibility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sz="2400" spc="-1" strike="noStrike">
                <a:solidFill>
                  <a:srgbClr val="000066"/>
                </a:solidFill>
                <a:latin typeface="Verdana"/>
              </a:rPr>
              <a:t> image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opinion poll (annual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2.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Special</a:t>
            </a: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ised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user group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(2 surveys per year on rotation, repeated after 2-3 years for the same group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3. Eurostat data users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lt-LT" sz="2400" spc="-1" strike="noStrike">
                <a:solidFill>
                  <a:srgbClr val="990000"/>
                </a:solidFill>
                <a:latin typeface="Verdana"/>
              </a:rPr>
              <a:t>(ESUS)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(quarterly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4.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Visitors at Library-bookshop</a:t>
            </a:r>
            <a:r>
              <a:rPr b="1" i="1" lang="lt-LT" sz="24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i="1" lang="lt-LT" sz="24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Visitors‘ corners in Regional offices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(quarterly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5. Incoming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user-requests</a:t>
            </a:r>
            <a:r>
              <a:rPr b="1" lang="lt-LT" sz="24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(quarterly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6. Opinion on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statistical publications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(annual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6188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Uniform survey principle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3024000" cy="45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General public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Public administration institutions (inc. municipalities)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3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. Students 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&amp;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 school children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4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. R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&amp;D 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community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5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. Media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6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. Politicians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7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. Business 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8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. International org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.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9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. Embassies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10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. NGOs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16720" y="1125360"/>
            <a:ext cx="237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1773360"/>
            <a:ext cx="2881080" cy="446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Survey obj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User-groups surve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Period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Survey programme, data collection means 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&amp;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Anticipated results 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&amp;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 u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Feedback with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1197000"/>
            <a:ext cx="295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Approach / procedure</a:t>
            </a:r>
            <a:r>
              <a:rPr b="1" lang="lt-LT" sz="18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52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Targe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6000" y="105264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43640" y="1773360"/>
            <a:ext cx="2521080" cy="428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Regular Co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1. C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2. Su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3. Reli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4. Relev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National inter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5. Awar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6.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+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Other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4–5 depend on topicality of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19640" y="188640"/>
            <a:ext cx="5543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Verdana"/>
              </a:rPr>
              <a:t>MONITORING CRITERIA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 (2007–2010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8389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990000"/>
                </a:solidFill>
                <a:latin typeface="Verdana"/>
              </a:rPr>
              <a:t>1. </a:t>
            </a:r>
            <a:r>
              <a:rPr b="1" lang="en-GB" sz="1400" spc="-1" strike="noStrike">
                <a:solidFill>
                  <a:srgbClr val="990000"/>
                </a:solidFill>
                <a:latin typeface="Verdana"/>
              </a:rPr>
              <a:t>Effect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Internet average daily unique visitors </a:t>
            </a:r>
            <a:r>
              <a:rPr b="1" lang="lt-LT" sz="1200" spc="-1" strike="noStrike">
                <a:solidFill>
                  <a:srgbClr val="000066"/>
                </a:solidFill>
                <a:latin typeface="Verdana"/>
              </a:rPr>
              <a:t>–</a:t>
            </a:r>
            <a:r>
              <a:rPr b="1" lang="lt-LT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5000,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7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8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00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, 8000, 8200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000066"/>
                </a:solidFill>
                <a:latin typeface="Verdana"/>
              </a:rPr>
              <a:t>Customer satisfaction level –</a:t>
            </a:r>
            <a:r>
              <a:rPr b="1" lang="lt-LT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61.4, 62, 63, 64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Verdana"/>
              </a:rPr>
              <a:t>2. Result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Info spread and coverage by key national and regional press </a:t>
            </a:r>
            <a:r>
              <a:rPr b="1" lang="lt-LT" sz="1200" spc="-1" strike="noStrike">
                <a:solidFill>
                  <a:srgbClr val="000066"/>
                </a:solidFill>
                <a:latin typeface="Verdana"/>
              </a:rPr>
              <a:t>–</a:t>
            </a:r>
            <a:r>
              <a:rPr b="1" lang="lt-LT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3800,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6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1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00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, 6200, 6300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Terms for submitting info to users: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Monthly</a:t>
            </a:r>
            <a:r>
              <a:rPr b="1" lang="lt-LT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lt-LT" sz="1200" spc="-1" strike="noStrike">
                <a:solidFill>
                  <a:srgbClr val="003366"/>
                </a:solidFill>
                <a:latin typeface="Verdana"/>
              </a:rPr>
              <a:t>–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22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, 21, 21, 21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 days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Quarterly</a:t>
            </a:r>
            <a:r>
              <a:rPr b="0" lang="lt-LT" sz="1200" spc="-1" strike="noStrike">
                <a:solidFill>
                  <a:srgbClr val="003366"/>
                </a:solidFill>
                <a:latin typeface="Verdana"/>
              </a:rPr>
              <a:t> –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59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, 57, 56, 55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 days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Annual</a:t>
            </a:r>
            <a:r>
              <a:rPr b="0" lang="lt-LT" sz="1200" spc="-1" strike="noStrike">
                <a:solidFill>
                  <a:srgbClr val="003366"/>
                </a:solidFill>
                <a:latin typeface="Verdana"/>
              </a:rPr>
              <a:t> –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212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, 205, 200, 195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 days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Average response time to user-requests </a:t>
            </a:r>
            <a:r>
              <a:rPr b="1" lang="lt-LT" sz="1200" spc="-1" strike="noStrike">
                <a:solidFill>
                  <a:srgbClr val="003366"/>
                </a:solidFill>
                <a:latin typeface="Verdana"/>
              </a:rPr>
              <a:t>–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3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, 2.5, 2.5, 2.5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 days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Verdana"/>
              </a:rPr>
              <a:t>3. Product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Datasets in DB </a:t>
            </a:r>
            <a:r>
              <a:rPr b="1" lang="lt-LT" sz="1200" spc="-1" strike="noStrike">
                <a:solidFill>
                  <a:srgbClr val="003366"/>
                </a:solidFill>
                <a:latin typeface="Verdana"/>
              </a:rPr>
              <a:t>–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900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, 920,</a:t>
            </a:r>
            <a:r>
              <a:rPr b="1" lang="lt-LT" sz="1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Verdana"/>
              </a:rPr>
              <a:t>930, 940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003366"/>
                </a:solidFill>
                <a:latin typeface="Verdana"/>
              </a:rPr>
              <a:t>Pre-defined tables on web – 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950, 1010, 1020, 1040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ress releases </a:t>
            </a:r>
            <a:r>
              <a:rPr b="1" lang="lt-LT" sz="1200" spc="-1" strike="noStrike">
                <a:solidFill>
                  <a:srgbClr val="000066"/>
                </a:solidFill>
                <a:latin typeface="Verdana"/>
              </a:rPr>
              <a:t>–</a:t>
            </a:r>
            <a:r>
              <a:rPr b="1" lang="lt-LT" sz="1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2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12, 216 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ublications </a:t>
            </a:r>
            <a:r>
              <a:rPr b="1" lang="lt-LT" sz="1200" spc="-1" strike="noStrike">
                <a:solidFill>
                  <a:srgbClr val="000066"/>
                </a:solidFill>
                <a:latin typeface="Verdana"/>
              </a:rPr>
              <a:t>–</a:t>
            </a:r>
            <a:r>
              <a:rPr b="1" lang="lt-LT" sz="1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201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, 201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Methodology on web: brief</a:t>
            </a:r>
            <a:r>
              <a:rPr b="1" lang="en-GB" sz="12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lt-LT" sz="1200" spc="-1" strike="noStrike">
                <a:solidFill>
                  <a:srgbClr val="003399"/>
                </a:solidFill>
                <a:latin typeface="Verdana"/>
              </a:rPr>
              <a:t>–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12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0, 140, 140, 140</a:t>
            </a: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en-GB" sz="12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detailed</a:t>
            </a:r>
            <a:r>
              <a:rPr b="1" lang="en-GB" sz="12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lt-LT" sz="1200" spc="-1" strike="noStrike">
                <a:solidFill>
                  <a:srgbClr val="003399"/>
                </a:solidFill>
                <a:latin typeface="Verdana"/>
              </a:rPr>
              <a:t>– 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50, 95, 100, 100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Quality reports on web</a:t>
            </a:r>
            <a:r>
              <a:rPr b="1" lang="en-GB" sz="12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lt-LT" sz="1200" spc="-1" strike="noStrike">
                <a:solidFill>
                  <a:srgbClr val="003399"/>
                </a:solidFill>
                <a:latin typeface="Verdana"/>
              </a:rPr>
              <a:t>– 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89, 140, 150, 160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Verdana"/>
              </a:rPr>
              <a:t>+</a:t>
            </a:r>
            <a:r>
              <a:rPr b="1" lang="en-GB" sz="9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990000"/>
                </a:solidFill>
                <a:latin typeface="Verdana"/>
              </a:rPr>
              <a:t>Additional sub-criteria</a:t>
            </a: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for</a:t>
            </a: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990000"/>
                </a:solidFill>
                <a:latin typeface="Verdana"/>
              </a:rPr>
              <a:t>national needs,</a:t>
            </a: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e.g. user requests per year </a:t>
            </a:r>
            <a:r>
              <a:rPr b="1" lang="lt-LT" sz="12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1" lang="lt-LT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by reception mode, type of user, SL office, etc.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08000" y="333360"/>
            <a:ext cx="5256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Outsourced </a:t>
            </a:r>
            <a:r>
              <a:rPr b="1" lang="en-GB" sz="2400" spc="-1" strike="noStrike">
                <a:solidFill>
                  <a:srgbClr val="006600"/>
                </a:solidFill>
                <a:latin typeface="Verdana"/>
              </a:rPr>
              <a:t>U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ser</a:t>
            </a:r>
            <a:r>
              <a:rPr b="1" lang="en-GB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satisfaction</a:t>
            </a:r>
            <a:r>
              <a:rPr b="1" lang="en-GB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surveys, 2005–2007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66"/>
                </a:solidFill>
                <a:latin typeface="Verdana"/>
              </a:rPr>
              <a:t>General – SL visibility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sz="2000" spc="-1" strike="noStrike">
                <a:solidFill>
                  <a:srgbClr val="000066"/>
                </a:solidFill>
                <a:latin typeface="Verdana"/>
              </a:rPr>
              <a:t> image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opinion poll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, July, 2005–2007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66"/>
                </a:solidFill>
                <a:latin typeface="Verdana"/>
              </a:rPr>
              <a:t>Specialised: Public administration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, Oct.-Nov. 2005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66"/>
                </a:solidFill>
                <a:latin typeface="Verdana"/>
              </a:rPr>
              <a:t>Specialised: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&amp;D community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, Dec. 2006-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pr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. 2007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66"/>
                </a:solidFill>
                <a:latin typeface="Verdana"/>
              </a:rPr>
              <a:t>Specialised: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S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econdary schools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May-June, 2007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66"/>
                </a:solidFill>
                <a:latin typeface="Verdana"/>
              </a:rPr>
              <a:t>Specialised: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Business community, November 2007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6600"/>
                </a:solidFill>
                <a:latin typeface="Verdana"/>
              </a:rPr>
              <a:t>Plans for 2008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66"/>
                </a:solidFill>
                <a:latin typeface="Verdana"/>
              </a:rPr>
              <a:t>General – SL visibility and image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opinion poll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, July 2008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66"/>
                </a:solidFill>
                <a:latin typeface="Verdana"/>
              </a:rPr>
              <a:t>Specialised: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Media, 3Q 2008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Specialised: Public administration, 4 Q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2008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27280" y="115920"/>
            <a:ext cx="56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General </a:t>
            </a:r>
            <a:r>
              <a:rPr b="1" lang="en-GB" sz="2400" spc="-1" strike="noStrike">
                <a:solidFill>
                  <a:srgbClr val="006600"/>
                </a:solidFill>
                <a:latin typeface="Verdana"/>
              </a:rPr>
              <a:t>SL visibility &amp; image opinion poll, 2005–2007</a:t>
            </a:r>
            <a:r>
              <a:rPr b="1" i="1" lang="lt-LT" sz="2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Verdana"/>
              </a:rPr>
              <a:t>Target group:</a:t>
            </a:r>
            <a:r>
              <a:rPr b="1" lang="lt-LT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Population of LT aged 18–65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Verdana"/>
              </a:rPr>
              <a:t>Territory: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95 points represent LT</a:t>
            </a:r>
            <a:r>
              <a:rPr b="1" lang="en-GB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Verdana"/>
              </a:rPr>
              <a:t>Survey period:</a:t>
            </a:r>
            <a:r>
              <a:rPr b="1" i="1" lang="en-GB" sz="24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July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Verdana"/>
              </a:rPr>
              <a:t>Objective: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1. 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Awareness of population, opinion on availability of statistical information, its quality, CoP-related principles &amp; comparisons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. 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2. Calculation of Customer satisfaction index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Verdana"/>
              </a:rPr>
              <a:t>Survey method: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Standard interview by professional interviewer. Omnibus method</a:t>
            </a: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Verdana"/>
              </a:rPr>
              <a:t>Questions:</a:t>
            </a: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10-11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5 constant, 1 quality-related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+ other on topical issue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6:47:56Z</dcterms:created>
  <dc:creator>std</dc:creator>
  <dc:description/>
  <dc:language>en-US</dc:language>
  <cp:lastModifiedBy>AudroneMi</cp:lastModifiedBy>
  <dcterms:modified xsi:type="dcterms:W3CDTF">2008-05-08T13:53:33Z</dcterms:modified>
  <cp:revision>131</cp:revision>
  <dc:subject/>
  <dc:title>PAVADINIM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a">
    <vt:lpwstr>2006-01-18</vt:lpwstr>
  </property>
</Properties>
</file>