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788B-3E94-441F-9853-3AD24C1EC213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F3B8F47-CCE6-439A-BD88-55F5F8A1C1B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who are all these customers anyway?</a:t>
            </a:r>
            <a:br>
              <a:rPr sz="40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st steps towards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stomer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7720" y="52574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 Session on Statistical Dissemination and Communication – Geneva, 13-15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sources of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ed low awareness of UNE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xtraction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on screen, 10% to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addresses stored – many downloads from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service analyzing web site h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9AABC-733C-4C50-99F6-A6A0229E5C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gle Analytics – website h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6312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73E0C-33F8-488D-9CBC-5E47FA6867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gle Analytics – website h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4190760" cy="21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589200"/>
            <a:ext cx="914400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4A044-7145-41C5-9E56-99EFF7D06A1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our service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“Country Overview” data cube to give quick access to ke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tent in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nd better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“Statistics Explained” series of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ime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724DE-97D6-4073-B72B-C7B24F27B2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our service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user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unctionality for register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rts (RSS feed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quality improve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user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ed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75927-E3BE-413E-AB48-AEBF9A82C2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154160"/>
            <a:ext cx="7619760" cy="5197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mpact of targeted marke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0880" y="1294920"/>
            <a:ext cx="6069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ownloads (Ind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E0400-0AB6-49CA-AD8E-46C7866B6E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just at the tip of the ice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t least we are starting to know h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we k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ustomer knowledge and relations is vital for effectiv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l available information sources to get a fuller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0F833-6E80-4D73-8DD8-CFB5DE7E62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users = more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users = more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bility and Relevance = Surviv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419720"/>
            <a:ext cx="85341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Good customer knowledge and relations are a vital part of future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F19DB-9346-47B2-8D72-FB76806104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from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rst us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ources of us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ou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20480-7A5B-4E34-8AF9-4742AE1935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rting from ze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arted disseminating data on the Internet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s gre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ew noth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hes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we improve our dissemination ser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724640" cy="290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05516-C661-4A99-B6AE-A79E927CF6C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r first user surve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ed Autumn 2007 on database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2 respon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arget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4800600" cy="30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BCD7F-0A6B-48C5-860C-81B8C5121BB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608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EF8EF-8CCF-4871-9542-CAA572996A7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2666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u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5715000" cy="556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B96DF-C452-4FA1-8F7D-7F8F4019DC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2666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8686800" cy="601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10450-042B-421B-9026-2E4494CEDCA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2819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qu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597996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E82DD-2A91-46A9-B42F-2626A3680C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2590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5924520" cy="60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551BD-138B-433F-81F5-9BE89BE9CA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5-09T08:53:43Z</dcterms:modified>
  <cp:revision>38</cp:revision>
  <dc:subject/>
  <dc:title>Quality Framework</dc:title>
</cp:coreProperties>
</file>