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5ED-EC99-435C-9162-9C463FC0588B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A756DDE-5FA2-41E6-B684-347420AA736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who are all these customers anyway?</a:t>
            </a:r>
            <a:br>
              <a:rPr sz="40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st steps towards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stomer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52574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 – Geneva, 13-15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sources of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ed low awareness of UNE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xtraction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n screen, 10% 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addresses stored – many downloads from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ervice analyzing web site h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E492-EE1F-412E-95DF-91EC7250C0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gle Analytics – website h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07021-CEB4-4FB9-9E32-10C570F463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gle Analytics – website h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4190760" cy="21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589200"/>
            <a:ext cx="914400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4D37E-45A0-4F92-89AE-F64ACC4084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our service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“Country Overview” data cube to give quick access to ke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tent in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nd better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“Statistics Explained” series of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5C77F-BE0A-4A75-8FEC-597639D87C0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our servic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us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unctionality for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s (RSS feed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improv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user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C8BFD-A2C6-49F6-A004-EB06D974C5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154160"/>
            <a:ext cx="7619760" cy="5197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mpact of targeted marke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0880" y="1294920"/>
            <a:ext cx="606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ownloads (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9F21D-C2D8-4F91-9DB3-F8BE187714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just at the tip of the ice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t least we are starting to know h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we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ustomer knowledge and relations is vital for effectiv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l available information sources to get a fuller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BB196-C535-4119-A5D5-303B4B9E8F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s = mor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users = more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bility and Relevance = Surviv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419720"/>
            <a:ext cx="85341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Good customer knowledge and relations are a vital part of future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431AF-A7E8-4D95-A491-9FD17FB5515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rst us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ources of us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ou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11B93-5ABF-4520-9DB2-D3F1FCF47D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rting from ze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ed disseminating data on the Internet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s gre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ew not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s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we improve our dissemination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724640" cy="29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268C9-4778-4AE0-940D-14CA7231CE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 first user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Autumn 2007 on database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2 respon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arget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800600" cy="30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BED24-2603-4CB2-BCB1-5CEF0A5E06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608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88CB9-4883-4703-9A52-7D4746F68A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2666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5715000" cy="556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3F846-F1D6-4653-99F4-AB87658484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2666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8686800" cy="601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BF455-B8B3-4FB6-825D-D5A94F8DCF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597996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CFD04-CE73-48AC-BC52-68D2CD651D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590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592452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B6CBC-15D7-4BBB-AACF-110606A04A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09T08:53:43Z</dcterms:modified>
  <cp:revision>38</cp:revision>
  <dc:subject/>
  <dc:title>Quality Framework</dc:title>
</cp:coreProperties>
</file>