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FBFA-953B-40A0-A800-ACDDB7C8F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6280" y="390204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CE59-07F4-446B-B1C9-6F55C975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232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965E-C505-46F9-BE87-21BF83986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8724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856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628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8724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856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D407-5678-462F-8A8A-3C2448376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EC5B-FADC-43D2-9785-7086C40AA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51EF-6C37-4814-964A-703B5EF2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1BD8-5437-4218-9561-E52A589E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58DF-E994-4410-9AAF-1A673776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0B19-01FC-4F70-8342-76222FFC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847440"/>
            <a:ext cx="75456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DCDA-8231-4A75-BF9B-FE0636FE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4115-14BE-408F-903F-791B092E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EEB6-841D-4B9C-9B72-8491272D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0232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29F6-FAB5-4F30-8EC7-A9BB964C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4974-B9A3-401F-B8BE-2053D82E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6280" y="390204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20C2-5B78-4993-9EBB-D6BFF9E9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0232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780C-DE3D-4090-82DC-6057E2AEC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8724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3856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628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8724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3856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CD4C-E0AF-4B95-9BB8-1270312E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F846-80B9-483A-BA09-7BA74323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8D9D-DDAE-49A2-9E27-20E88564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D1A4-A368-4F35-BF42-AC593F43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847440"/>
            <a:ext cx="75456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5D75-49A3-4FDC-8B26-DE6B7DFE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0592-D519-4DC4-86C0-07CAB048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232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69F7-2514-4BD7-A4F9-DF5CFBFA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E3E1-240A-4F81-A629-B32BDE9F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7920" y="3166920"/>
            <a:ext cx="9172440" cy="3691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8db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f32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3" marL="156204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4" marL="198108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5" marL="198108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6" marL="198108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85400" y="6400800"/>
            <a:ext cx="158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 Narrow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&lt;date/time&gt;</a:t>
            </a:r>
            <a:r>
              <a:rPr b="0" i="1" lang="en-GB" sz="12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13-Jul-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836640" y="6400800"/>
            <a:ext cx="518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f4b85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4b85"/>
                </a:solidFill>
                <a:latin typeface="Times New Roman"/>
                <a:ea typeface="ＭＳ Ｐゴシック"/>
              </a:rPr>
              <a:t>&lt;footer&gt;</a:t>
            </a:r>
            <a:r>
              <a:rPr b="0" lang="en-US" sz="1200" spc="-1" strike="noStrike">
                <a:solidFill>
                  <a:srgbClr val="2f4b85"/>
                </a:solidFill>
                <a:latin typeface="Times New Roman"/>
                <a:ea typeface="ＭＳ Ｐゴシック"/>
              </a:rPr>
              <a:t> Name of the 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5249-22C8-4B4C-94C8-3F4D42E10DEA}" type="slidenum">
              <a:rPr b="1" lang="fr-FR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2209680"/>
            <a:ext cx="9145440" cy="4197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-3240" y="-1440"/>
            <a:ext cx="9151920" cy="68626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38db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178920" y="6448320"/>
            <a:ext cx="158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bbe0e3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bbe0e3"/>
                </a:solidFill>
                <a:latin typeface="Times New Roman"/>
                <a:ea typeface="ＭＳ Ｐゴシック"/>
              </a:rPr>
              <a:t>&lt;date/time&gt;</a:t>
            </a:r>
            <a:r>
              <a:rPr b="0" i="1" lang="en-GB" sz="1000" spc="-1" strike="noStrike">
                <a:solidFill>
                  <a:srgbClr val="bbe0e3"/>
                </a:solidFill>
                <a:latin typeface="Times New Roman"/>
                <a:ea typeface="ＭＳ Ｐゴシック"/>
              </a:rPr>
              <a:t>13-Jul-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1907640" y="6421320"/>
            <a:ext cx="518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305920" y="638640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478E-69F7-4834-A621-C133B833E0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f3277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4" marL="1752480" algn="ctr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5" marL="17524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6" marL="17524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hyperlink" Target="http://158.167.194.11/xdis_en.html" TargetMode="External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71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38dbe"/>
                </a:solidFill>
                <a:latin typeface="Arial"/>
              </a:rPr>
              <a:t>Reflection on graphical interfaces for illustrating European statistics</a:t>
            </a:r>
            <a:br>
              <a:rPr sz="2800"/>
            </a:br>
            <a:r>
              <a:rPr b="1" lang="en-US" sz="1800" spc="-1" strike="noStrike">
                <a:solidFill>
                  <a:srgbClr val="538dbe"/>
                </a:solidFill>
                <a:latin typeface="Arial"/>
              </a:rPr>
              <a:t>   </a:t>
            </a:r>
            <a:br>
              <a:rPr sz="1800"/>
            </a:br>
            <a:r>
              <a:rPr b="1" lang="en-US" sz="1800" spc="-1" strike="noStrike">
                <a:solidFill>
                  <a:srgbClr val="538dbe"/>
                </a:solidFill>
                <a:latin typeface="Arial"/>
              </a:rPr>
              <a:t>                             </a:t>
            </a:r>
            <a:endParaRPr b="1" lang="en-US" sz="1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00000" y="2349360"/>
            <a:ext cx="6624720" cy="18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UNECE Work Session on Statistical Dissemination and Communication 13-15 May 2008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Communicating statistics in the information age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                  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8dbe"/>
                </a:solidFill>
                <a:latin typeface="Arial"/>
              </a:rPr>
              <a:t>Main topics</a:t>
            </a: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f3277"/>
                </a:solidFill>
                <a:latin typeface="Arial"/>
              </a:rPr>
              <a:t>Statistical User Interface is where the supply of data and the demand for information meet (transformation of data into information, putting the user in control)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Consultation numbers (element of demand)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ESS Task Force on visualisation (element of supply)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First basic recommendations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User interface approach Eurostat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847440"/>
            <a:ext cx="83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38dbe"/>
                </a:solidFill>
                <a:latin typeface="Arial"/>
              </a:rPr>
              <a:t>Consultation numbers of European statistics (demand)</a:t>
            </a:r>
            <a:endParaRPr b="1" lang="en-US" sz="24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Up to 1 million visits and 700 thousand monthly data downloads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- 300 K : pre-defined tables (majority of users)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- 250 K : user-defined data sets (1/5</a:t>
            </a:r>
            <a:r>
              <a:rPr b="0" lang="en-US" sz="1800" spc="-1" strike="noStrike" baseline="30000">
                <a:solidFill>
                  <a:srgbClr val="0f3277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 users of which  1% reg.)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- 200 K : bulk download data sets (few users)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300 thousand monthly publication downloads of which Press releases and quick small sized releases make up the majority (200 K)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Search-logs reveal strong demand for country information and a limited set of key indicators (around 50%)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First evidence of high appreciation of graphs and maps (up to 80%)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"/>
              </a:rPr>
              <a:t>Relevant quick pre-view followed by customization and details, with an increased role for graphics </a:t>
            </a:r>
            <a:r>
              <a:rPr b="1" lang="en-US" sz="1800" spc="-1" strike="noStrike">
                <a:solidFill>
                  <a:srgbClr val="0f3277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f3277"/>
                </a:solidFill>
                <a:latin typeface="Arial"/>
              </a:rPr>
              <a:t> tourists, harvesters, data-miners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38dbe"/>
                </a:solidFill>
                <a:latin typeface="Arial"/>
              </a:rPr>
              <a:t>ESS Task Force on Visualisation (supply)</a:t>
            </a:r>
            <a:endParaRPr b="1" lang="en-US" sz="24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6640" y="1752480"/>
            <a:ext cx="798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ESS Survey: visualisation very important, but high costs, many technical solutions, and how to attract more users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Need for developing it COREA (maintenance, sharing)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ESS Library for sharing code and ideas (SDMX, configuration files)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Need for strongly demanded visualisation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First recommendations 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8dbe"/>
                </a:solidFill>
                <a:latin typeface="Arial"/>
              </a:rPr>
              <a:t>First basic recommendations</a:t>
            </a: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920" y="907920"/>
            <a:ext cx="7545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Supporting search engines and search results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Compatibility across browsers and OS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Serve various purposes (play for fun, education, business need)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Well-defined target groups of users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Allow comparisons and link to a personal situation 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Cover a repetitive and longer term requirement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Connect to live data (i.e. data bases)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Start with display of most relevant content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Richness of functions to explore (content) and to customize (display)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Top-down approach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Data and meta-data should accompany the graphics (also for WAI)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Providing additional info for understanding e.g. on breaks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Visually oriented Help/Demo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Provide output functions (print, save, bookmark: cross-media output)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Offer special features for personalising the UI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Link to other relevant information 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Allow feedback of users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115920"/>
            <a:ext cx="7545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8dbe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538dbe"/>
                </a:solidFill>
                <a:latin typeface="Arial"/>
              </a:rPr>
              <a:t>User interface approach of Eurostat </a:t>
            </a:r>
            <a:endParaRPr b="1" lang="en-US" sz="2800" spc="-1" strike="noStrike">
              <a:solidFill>
                <a:srgbClr val="538dbe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348000" y="1341360"/>
            <a:ext cx="1800360" cy="1349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348000" y="4221000"/>
            <a:ext cx="1800360" cy="1349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348000" y="2781360"/>
            <a:ext cx="1833480" cy="1374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03640" y="692280"/>
            <a:ext cx="21603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GM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{pre-defined key indicators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877080" y="1341360"/>
            <a:ext cx="1760400" cy="1320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659640" y="692280"/>
            <a:ext cx="1944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Explo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{access to all data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6877080" y="2781360"/>
            <a:ext cx="1760400" cy="1320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03640" y="270828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5661000"/>
            <a:ext cx="187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-defined graphs and m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77080" y="4221000"/>
            <a:ext cx="172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-defined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79280" y="4259160"/>
            <a:ext cx="1800360" cy="1349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6443640" y="6211800"/>
            <a:ext cx="2700360" cy="646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443640" y="5877000"/>
            <a:ext cx="27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put &amp;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179280" y="2133720"/>
            <a:ext cx="1800360" cy="1349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0920" y="981000"/>
            <a:ext cx="165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692280"/>
            <a:ext cx="2160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{crosscutting overview of most relevant key indicators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185904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untry Pro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3946680"/>
            <a:ext cx="187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siness Cycle C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4920" y="1125360"/>
            <a:ext cx="79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      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f3277"/>
                </a:solidFill>
                <a:latin typeface="Arial"/>
              </a:rPr>
              <a:t>THANK YOU FOR YOUR ATTENTION!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277"/>
                </a:solidFill>
                <a:latin typeface="Arial"/>
              </a:rPr>
              <a:t>                  </a:t>
            </a:r>
            <a:r>
              <a:rPr b="1" lang="en-US" sz="3200" spc="-1" strike="noStrike">
                <a:solidFill>
                  <a:srgbClr val="0f3277"/>
                </a:solidFill>
                <a:latin typeface="Arial"/>
              </a:rPr>
              <a:t>ANY QUESTIONS?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6:06:56Z</dcterms:created>
  <dc:creator>werkhoven</dc:creator>
  <dc:description/>
  <dc:language>en-US</dc:language>
  <cp:lastModifiedBy>werkhoven</cp:lastModifiedBy>
  <dcterms:modified xsi:type="dcterms:W3CDTF">2008-05-08T14:23:49Z</dcterms:modified>
  <cp:revision>6</cp:revision>
  <dc:subject/>
  <dc:title>Reflection on graphical interfaces for illustrating European statistics</dc:title>
</cp:coreProperties>
</file>