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E32A-A8FF-4A4B-BEC0-D52944D0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3AF0-725C-41B6-8A58-9F6A7278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3D5B-CC59-40F6-AAB4-59F16BFF8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275B-579A-4E22-B116-078B2AD37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8A4D-ECEC-4A5D-8CD1-FC023B1D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4E46-572A-4C8D-A6F1-435F787A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F2D4-15FF-4954-AA8C-7A9C1CD1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A6AC-8897-4A4B-B376-E6318CF0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4D45-E87A-446B-BFC1-D7E47E9D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2863-1725-42B9-95A7-79BA91DD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34B2-86BF-4DC7-AAFA-06145B26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F9E2-6C66-4876-AA4F-057D70D7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3B52-D29B-45AE-9E50-0689CC62C8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16646"/>
          <a:stretch/>
        </p:blipFill>
        <p:spPr>
          <a:xfrm>
            <a:off x="0" y="8380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514600"/>
            <a:ext cx="9144000" cy="10234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VISUALIZATION AND OTHER TOOLS</a:t>
            </a:r>
            <a:br>
              <a:rPr sz="3600"/>
            </a:br>
            <a:r>
              <a:rPr b="1" lang="en-US" sz="2500" spc="-1" strike="noStrike">
                <a:solidFill>
                  <a:srgbClr val="0000cc"/>
                </a:solidFill>
                <a:latin typeface="Arial"/>
              </a:rPr>
              <a:t>FOR BETTER UNDERSTANDING &amp; DISSEMIN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6080"/>
            <a:ext cx="6629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ECE Work Session on Statistical Dissemination and Communication  </a:t>
            </a:r>
            <a:br>
              <a:rPr sz="24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13-15 May 2008, Geneva, Swize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010280" y="152280"/>
            <a:ext cx="1916280" cy="952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5791320"/>
            <a:ext cx="9144000" cy="764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Arial"/>
              </a:rPr>
              <a:t>Information &amp; Publishing Center 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«</a:t>
            </a:r>
            <a:r>
              <a:rPr b="1" lang="ru-RU" sz="2200" spc="-1" strike="noStrike">
                <a:solidFill>
                  <a:srgbClr val="0000cc"/>
                </a:solidFill>
                <a:latin typeface="Arial"/>
              </a:rPr>
              <a:t>Statistics of Russia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»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Arial"/>
              </a:rPr>
              <a:t>Federal State Statistics Service (ROSSTA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00720" y="6591240"/>
            <a:ext cx="411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FORMATION &amp; PUBLISHING CENTRE «STATISTICS OF RUSSIA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SONAL INFLATION CALCU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1268280"/>
            <a:ext cx="8642160" cy="360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TO KNOW YOUR PERSONAL INFLATIO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1989000"/>
            <a:ext cx="2881080" cy="1944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E OWN INFLATION RAT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AVERAG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REGION AND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4149720"/>
            <a:ext cx="2881080" cy="1800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ISIT TO IMROVE STATISTICAL LITE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419640" y="1984320"/>
            <a:ext cx="5484600" cy="39657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00720" y="6591240"/>
            <a:ext cx="411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FORMATION &amp; PUBLISHING CENTRE «STATISTICS OF RUSSIA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23920" y="1552680"/>
            <a:ext cx="689472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LL THESE TOOLS PROMOTE 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TO ATTRACT U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ELP THEM TO FIND, UNDERSTAND 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AND INTERPRET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ERNATIONAL COOPERATION ASSIST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TO IMPROVE DISSEMINATION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YGWY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rcRect l="0" t="0" r="0" b="16646"/>
          <a:stretch/>
        </p:blipFill>
        <p:spPr>
          <a:xfrm>
            <a:off x="0" y="8380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2946240"/>
            <a:ext cx="9144000" cy="91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46080"/>
            <a:ext cx="6629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ECE Work Session on Statistical Dissemination and Communication  </a:t>
            </a:r>
            <a:br>
              <a:rPr sz="24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13-15 May 2008, Geneva, Swize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010280" y="152280"/>
            <a:ext cx="1916280" cy="9525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5791320"/>
            <a:ext cx="9144000" cy="764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Arial"/>
              </a:rPr>
              <a:t>Information &amp; Publishing Center 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«</a:t>
            </a:r>
            <a:r>
              <a:rPr b="1" lang="ru-RU" sz="2200" spc="-1" strike="noStrike">
                <a:solidFill>
                  <a:srgbClr val="0000cc"/>
                </a:solidFill>
                <a:latin typeface="Arial"/>
              </a:rPr>
              <a:t>Statistics of Russia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»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Arial"/>
              </a:rPr>
              <a:t>Federal State Statistics Service (ROSSTA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6591240"/>
            <a:ext cx="411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FORMATION &amp; PUBLISHING CENTRE «STATISTICS OF RUSSIA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7906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GENERAL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PREREQUI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58880" y="1739880"/>
            <a:ext cx="582444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ERNET ROLE 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FOR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CREASING NUMBER 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OF INTERNET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USERS ARE NOT QUITE SATISFIED 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WITH BARE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0" y="0"/>
            <a:ext cx="9144000" cy="1066680"/>
            <a:chOff x="0" y="0"/>
            <a:chExt cx="9144000" cy="1066680"/>
          </a:xfrm>
        </p:grpSpPr>
        <p:sp>
          <p:nvSpPr>
            <p:cNvPr id="55" name=""/>
            <p:cNvSpPr/>
            <p:nvPr/>
          </p:nvSpPr>
          <p:spPr>
            <a:xfrm>
              <a:off x="0" y="0"/>
              <a:ext cx="9144000" cy="10666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0"/>
              <a:ext cx="9144000" cy="10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790640"/>
                  <a:tab algn="ctr" pos="4848120"/>
                  <a:tab algn="l" pos="60102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GENERAL</a:t>
              </a: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FOR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ff3300"/>
                  </a:solidFill>
                  <a:latin typeface="Arial"/>
                </a:rPr>
                <a:t>SIT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00720" y="6591240"/>
            <a:ext cx="411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FORMATION &amp; PUBLISHING CENTRE «STATISTICS OF RUSSIA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SIC CONCLUSION AND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40000" y="1413000"/>
            <a:ext cx="6264000" cy="47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VISUALIZATION 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         + ANIMATION 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                 + INTERACTIVE 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YNAMIC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UNICIPAL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CCESS TO CENTRAL DATA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ERSONAL INFLATION CALC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00720" y="6591240"/>
            <a:ext cx="411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FORMATION &amp; PUBLISHING CENTRE «STATISTICS OF RUSSIA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SUALIZATION &amp;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989000"/>
            <a:ext cx="2881080" cy="1440000"/>
          </a:xfrm>
          <a:prstGeom prst="rect">
            <a:avLst/>
          </a:prstGeom>
          <a:solidFill>
            <a:srgbClr val="d2df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2005 IMPLEMENTE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POPULA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SUS-2002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3789360"/>
            <a:ext cx="2881080" cy="1368360"/>
          </a:xfrm>
          <a:prstGeom prst="rect">
            <a:avLst/>
          </a:prstGeom>
          <a:solidFill>
            <a:srgbClr val="d2df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VE AGE-SEX PYRAMIDE, DIAGRAMS, GRAPHS, AN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438360" y="1628640"/>
            <a:ext cx="5381640" cy="4427640"/>
            <a:chOff x="3438360" y="1628640"/>
            <a:chExt cx="5381640" cy="4427640"/>
          </a:xfrm>
        </p:grpSpPr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3438360" y="1628640"/>
              <a:ext cx="5381640" cy="4427640"/>
            </a:xfrm>
            <a:prstGeom prst="rect">
              <a:avLst/>
            </a:prstGeom>
            <a:ln w="6480">
              <a:solidFill>
                <a:srgbClr val="000000"/>
              </a:solidFill>
              <a:miter/>
            </a:ln>
          </p:spPr>
        </p:pic>
        <p:sp>
          <p:nvSpPr>
            <p:cNvPr id="72" name=""/>
            <p:cNvSpPr/>
            <p:nvPr/>
          </p:nvSpPr>
          <p:spPr>
            <a:xfrm>
              <a:off x="7093080" y="2128680"/>
              <a:ext cx="1726920" cy="503280"/>
            </a:xfrm>
            <a:prstGeom prst="wedgeRectCallout">
              <a:avLst>
                <a:gd name="adj1" fmla="val -62685"/>
                <a:gd name="adj2" fmla="val 56624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Age-sex composition of popul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00720" y="6591240"/>
            <a:ext cx="411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FORMATION &amp; PUBLISHING CENTRE «STATISTICS OF RUSSIA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ACTIVE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1557360"/>
            <a:ext cx="3097080" cy="93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S FOR POPULATION CENSUS-2002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492360" y="1268280"/>
            <a:ext cx="5427720" cy="5104080"/>
            <a:chOff x="3492360" y="1268280"/>
            <a:chExt cx="5427720" cy="5104080"/>
          </a:xfrm>
        </p:grpSpPr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3492360" y="1557360"/>
              <a:ext cx="5427720" cy="4815000"/>
            </a:xfrm>
            <a:prstGeom prst="rect">
              <a:avLst/>
            </a:prstGeom>
            <a:ln w="6480">
              <a:solidFill>
                <a:srgbClr val="000000"/>
              </a:solidFill>
              <a:miter/>
            </a:ln>
          </p:spPr>
        </p:pic>
        <p:sp>
          <p:nvSpPr>
            <p:cNvPr id="81" name=""/>
            <p:cNvSpPr/>
            <p:nvPr/>
          </p:nvSpPr>
          <p:spPr>
            <a:xfrm>
              <a:off x="5076720" y="1268280"/>
              <a:ext cx="3672000" cy="289080"/>
            </a:xfrm>
            <a:prstGeom prst="wedgeRectCallout">
              <a:avLst>
                <a:gd name="adj1" fmla="val -43125"/>
                <a:gd name="adj2" fmla="val 169782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r capita money income of popul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250920" y="2708280"/>
            <a:ext cx="309708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ED FOR SUBJECT- MATTER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3860640"/>
            <a:ext cx="309708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E TO COMPARE REGION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5013360"/>
            <a:ext cx="309708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AL PUBLICATION WITH RESULT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GRICULTURAL CENSUS-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780000" y="2852640"/>
            <a:ext cx="5219640" cy="3538800"/>
            <a:chOff x="3780000" y="2852640"/>
            <a:chExt cx="5219640" cy="3538800"/>
          </a:xfrm>
        </p:grpSpPr>
        <p:pic>
          <p:nvPicPr>
            <p:cNvPr id="86" name="" descr=""/>
            <p:cNvPicPr/>
            <p:nvPr/>
          </p:nvPicPr>
          <p:blipFill>
            <a:blip r:embed="rId3"/>
            <a:stretch/>
          </p:blipFill>
          <p:spPr>
            <a:xfrm>
              <a:off x="3780000" y="2852640"/>
              <a:ext cx="5219640" cy="3538800"/>
            </a:xfrm>
            <a:prstGeom prst="rect">
              <a:avLst/>
            </a:prstGeom>
            <a:ln w="6480">
              <a:solidFill>
                <a:srgbClr val="000000"/>
              </a:solidFill>
              <a:miter/>
            </a:ln>
          </p:spPr>
        </p:pic>
        <p:sp>
          <p:nvSpPr>
            <p:cNvPr id="87" name=""/>
            <p:cNvSpPr/>
            <p:nvPr/>
          </p:nvSpPr>
          <p:spPr>
            <a:xfrm>
              <a:off x="6732720" y="2925720"/>
              <a:ext cx="2087280" cy="503280"/>
            </a:xfrm>
            <a:prstGeom prst="wedgeRectCallout">
              <a:avLst>
                <a:gd name="adj1" fmla="val -46805"/>
                <a:gd name="adj2" fmla="val 67351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pulation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 of 1-st Janu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00720" y="6591240"/>
            <a:ext cx="411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FORMATION &amp; PUBLISHING CENTRE «STATISTICS OF RUSSIA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YNAMIC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50920" y="2257560"/>
            <a:ext cx="4321080" cy="3951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250920" y="1268280"/>
            <a:ext cx="4321080" cy="8654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ILITIE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MANIPULAT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708360" y="3560760"/>
            <a:ext cx="5192640" cy="2892600"/>
            <a:chOff x="3708360" y="3560760"/>
            <a:chExt cx="5192640" cy="2892600"/>
          </a:xfrm>
        </p:grpSpPr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3708360" y="3560760"/>
              <a:ext cx="5192640" cy="2892600"/>
            </a:xfrm>
            <a:prstGeom prst="rect">
              <a:avLst/>
            </a:prstGeom>
            <a:ln w="6480">
              <a:solidFill>
                <a:srgbClr val="000000"/>
              </a:solidFill>
              <a:miter/>
            </a:ln>
          </p:spPr>
        </p:pic>
        <p:sp>
          <p:nvSpPr>
            <p:cNvPr id="97" name=""/>
            <p:cNvSpPr/>
            <p:nvPr/>
          </p:nvSpPr>
          <p:spPr>
            <a:xfrm>
              <a:off x="5148360" y="4363920"/>
              <a:ext cx="3744720" cy="505080"/>
            </a:xfrm>
            <a:prstGeom prst="rect">
              <a:avLst/>
            </a:prstGeom>
            <a:noFill/>
            <a:ln cap="rnd" w="255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571640" y="2276640"/>
            <a:ext cx="4321440" cy="2376360"/>
            <a:chOff x="4571640" y="2276640"/>
            <a:chExt cx="4321440" cy="2376360"/>
          </a:xfrm>
        </p:grpSpPr>
        <p:sp>
          <p:nvSpPr>
            <p:cNvPr id="99" name=""/>
            <p:cNvSpPr/>
            <p:nvPr/>
          </p:nvSpPr>
          <p:spPr>
            <a:xfrm>
              <a:off x="5651640" y="2276640"/>
              <a:ext cx="3241440" cy="8632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BLE ACCORDING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ER CHO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5400000">
              <a:off x="4196880" y="3298680"/>
              <a:ext cx="1728720" cy="979560"/>
            </a:xfrm>
            <a:custGeom>
              <a:avLst/>
              <a:gdLst>
                <a:gd name="textAreaLeft" fmla="*/ 335520 w 1728720"/>
                <a:gd name="textAreaRight" fmla="*/ 1289520 w 1728720"/>
                <a:gd name="textAreaTop" fmla="*/ 131040 h 979560"/>
                <a:gd name="textAreaBottom" fmla="*/ 848520 h 9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384" hR="21600" stAng="10800000" swAng="5400000"/>
                  <a:lnTo>
                    <a:pt x="11921" y="0"/>
                  </a:lnTo>
                  <a:arcTo wR="8384" hR="21600" stAng="-5400000" swAng="3045336"/>
                  <a:lnTo>
                    <a:pt x="21208" y="15072"/>
                  </a:lnTo>
                  <a:lnTo>
                    <a:pt x="18536" y="21600"/>
                  </a:lnTo>
                  <a:lnTo>
                    <a:pt x="15079" y="15072"/>
                  </a:lnTo>
                  <a:lnTo>
                    <a:pt x="16375" y="15072"/>
                  </a:lnTo>
                  <a:arcTo wR="8384" hR="21600" stAng="-2354664" swAng="-2758061"/>
                  <a:lnTo>
                    <a:pt x="10152" y="486"/>
                  </a:lnTo>
                  <a:arcTo wR="8384" hR="21600" stAng="-5687275" swAng="-5112725"/>
                  <a:close/>
                </a:path>
                <a:path fill="darkenLess" w="21600" h="21600">
                  <a:moveTo>
                    <a:pt x="0" y="21600"/>
                  </a:moveTo>
                  <a:arcTo wR="8384" hR="21600" stAng="10800000" swAng="5400000"/>
                  <a:lnTo>
                    <a:pt x="8384" y="0"/>
                  </a:lnTo>
                  <a:arcTo wR="8384" hR="21600" stAng="-5400000" swAng="287275"/>
                  <a:lnTo>
                    <a:pt x="10152" y="486"/>
                  </a:lnTo>
                  <a:arcTo wR="8384" hR="21600" stAng="-5687275" swAng="-5112725"/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3000" y="2276640"/>
            <a:ext cx="4329000" cy="39574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00720" y="6591240"/>
            <a:ext cx="411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FORMATION &amp; PUBLISHING CENTRE «STATISTICS OF RUSSIA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NICIPAL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268280"/>
            <a:ext cx="4321080" cy="865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 000 MUNICIP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708360" y="3573360"/>
            <a:ext cx="5184720" cy="2889360"/>
            <a:chOff x="3708360" y="3573360"/>
            <a:chExt cx="5184720" cy="2889360"/>
          </a:xfrm>
        </p:grpSpPr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3708360" y="3573360"/>
              <a:ext cx="5184720" cy="2889360"/>
            </a:xfrm>
            <a:prstGeom prst="rect">
              <a:avLst/>
            </a:prstGeom>
            <a:ln w="6480">
              <a:solidFill>
                <a:srgbClr val="000000"/>
              </a:solidFill>
              <a:miter/>
            </a:ln>
          </p:spPr>
        </p:pic>
        <p:sp>
          <p:nvSpPr>
            <p:cNvPr id="110" name=""/>
            <p:cNvSpPr/>
            <p:nvPr/>
          </p:nvSpPr>
          <p:spPr>
            <a:xfrm>
              <a:off x="4572000" y="4508640"/>
              <a:ext cx="4321080" cy="433080"/>
            </a:xfrm>
            <a:prstGeom prst="rect">
              <a:avLst/>
            </a:prstGeom>
            <a:noFill/>
            <a:ln cap="rnd" w="255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571640" y="2276640"/>
            <a:ext cx="4321440" cy="2376360"/>
            <a:chOff x="4571640" y="2276640"/>
            <a:chExt cx="4321440" cy="2376360"/>
          </a:xfrm>
        </p:grpSpPr>
        <p:sp>
          <p:nvSpPr>
            <p:cNvPr id="112" name=""/>
            <p:cNvSpPr/>
            <p:nvPr/>
          </p:nvSpPr>
          <p:spPr>
            <a:xfrm>
              <a:off x="5651640" y="2276640"/>
              <a:ext cx="3241440" cy="863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&gt; 200 INDICATO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5400000">
              <a:off x="4196880" y="3298680"/>
              <a:ext cx="1728720" cy="979560"/>
            </a:xfrm>
            <a:custGeom>
              <a:avLst/>
              <a:gdLst>
                <a:gd name="textAreaLeft" fmla="*/ 335520 w 1728720"/>
                <a:gd name="textAreaRight" fmla="*/ 1289520 w 1728720"/>
                <a:gd name="textAreaTop" fmla="*/ 131040 h 979560"/>
                <a:gd name="textAreaBottom" fmla="*/ 848520 h 9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384" hR="21600" stAng="10800000" swAng="5400000"/>
                  <a:lnTo>
                    <a:pt x="11921" y="0"/>
                  </a:lnTo>
                  <a:arcTo wR="8384" hR="21600" stAng="-5400000" swAng="3045336"/>
                  <a:lnTo>
                    <a:pt x="21208" y="15072"/>
                  </a:lnTo>
                  <a:lnTo>
                    <a:pt x="18536" y="21600"/>
                  </a:lnTo>
                  <a:lnTo>
                    <a:pt x="15079" y="15072"/>
                  </a:lnTo>
                  <a:lnTo>
                    <a:pt x="16375" y="15072"/>
                  </a:lnTo>
                  <a:arcTo wR="8384" hR="21600" stAng="-2354664" swAng="-2758061"/>
                  <a:lnTo>
                    <a:pt x="10152" y="486"/>
                  </a:lnTo>
                  <a:arcTo wR="8384" hR="21600" stAng="-5687275" swAng="-5112725"/>
                  <a:close/>
                </a:path>
                <a:path fill="darkenLess" w="21600" h="21600">
                  <a:moveTo>
                    <a:pt x="0" y="21600"/>
                  </a:moveTo>
                  <a:arcTo wR="8384" hR="21600" stAng="10800000" swAng="5400000"/>
                  <a:lnTo>
                    <a:pt x="8384" y="0"/>
                  </a:lnTo>
                  <a:arcTo wR="8384" hR="21600" stAng="-5400000" swAng="287275"/>
                  <a:lnTo>
                    <a:pt x="10152" y="486"/>
                  </a:lnTo>
                  <a:arcTo wR="8384" hR="21600" stAng="-5687275" swAng="-5112725"/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43000" y="2276640"/>
            <a:ext cx="4329000" cy="39574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6591240"/>
            <a:ext cx="411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FORMATION &amp; PUBLISHING CENTRE «STATISTICS OF RUSSIA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NTRAL DATA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1268280"/>
            <a:ext cx="4321080" cy="865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RIES TO CENTRAL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708360" y="3573360"/>
            <a:ext cx="5184720" cy="2889360"/>
            <a:chOff x="3708360" y="3573360"/>
            <a:chExt cx="5184720" cy="2889360"/>
          </a:xfrm>
        </p:grpSpPr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3708360" y="3573360"/>
              <a:ext cx="5184720" cy="2889360"/>
            </a:xfrm>
            <a:prstGeom prst="rect">
              <a:avLst/>
            </a:prstGeom>
            <a:ln w="6480">
              <a:solidFill>
                <a:srgbClr val="000000"/>
              </a:solidFill>
              <a:miter/>
            </a:ln>
          </p:spPr>
        </p:pic>
        <p:sp>
          <p:nvSpPr>
            <p:cNvPr id="123" name=""/>
            <p:cNvSpPr/>
            <p:nvPr/>
          </p:nvSpPr>
          <p:spPr>
            <a:xfrm>
              <a:off x="5148360" y="4437000"/>
              <a:ext cx="3744720" cy="432000"/>
            </a:xfrm>
            <a:prstGeom prst="rect">
              <a:avLst/>
            </a:prstGeom>
            <a:noFill/>
            <a:ln cap="rnd" w="255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571640" y="2276640"/>
            <a:ext cx="4321440" cy="2376360"/>
            <a:chOff x="4571640" y="2276640"/>
            <a:chExt cx="4321440" cy="2376360"/>
          </a:xfrm>
        </p:grpSpPr>
        <p:sp>
          <p:nvSpPr>
            <p:cNvPr id="125" name=""/>
            <p:cNvSpPr/>
            <p:nvPr/>
          </p:nvSpPr>
          <p:spPr>
            <a:xfrm>
              <a:off x="5651640" y="2276640"/>
              <a:ext cx="3241440" cy="863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500 INDICATORS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OR 1990-20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5400000">
              <a:off x="4196880" y="3298680"/>
              <a:ext cx="1728720" cy="979560"/>
            </a:xfrm>
            <a:custGeom>
              <a:avLst/>
              <a:gdLst>
                <a:gd name="textAreaLeft" fmla="*/ 335520 w 1728720"/>
                <a:gd name="textAreaRight" fmla="*/ 1289520 w 1728720"/>
                <a:gd name="textAreaTop" fmla="*/ 131040 h 979560"/>
                <a:gd name="textAreaBottom" fmla="*/ 848520 h 9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384" hR="21600" stAng="10800000" swAng="5400000"/>
                  <a:lnTo>
                    <a:pt x="11921" y="0"/>
                  </a:lnTo>
                  <a:arcTo wR="8384" hR="21600" stAng="-5400000" swAng="3045336"/>
                  <a:lnTo>
                    <a:pt x="21208" y="15072"/>
                  </a:lnTo>
                  <a:lnTo>
                    <a:pt x="18536" y="21600"/>
                  </a:lnTo>
                  <a:lnTo>
                    <a:pt x="15079" y="15072"/>
                  </a:lnTo>
                  <a:lnTo>
                    <a:pt x="16375" y="15072"/>
                  </a:lnTo>
                  <a:arcTo wR="8384" hR="21600" stAng="-2354664" swAng="-2758061"/>
                  <a:lnTo>
                    <a:pt x="10152" y="486"/>
                  </a:lnTo>
                  <a:arcTo wR="8384" hR="21600" stAng="-5687275" swAng="-5112725"/>
                  <a:close/>
                </a:path>
                <a:path fill="darkenLess" w="21600" h="21600">
                  <a:moveTo>
                    <a:pt x="0" y="21600"/>
                  </a:moveTo>
                  <a:arcTo wR="8384" hR="21600" stAng="10800000" swAng="5400000"/>
                  <a:lnTo>
                    <a:pt x="8384" y="0"/>
                  </a:lnTo>
                  <a:arcTo wR="8384" hR="21600" stAng="-5400000" swAng="287275"/>
                  <a:lnTo>
                    <a:pt x="10152" y="486"/>
                  </a:lnTo>
                  <a:arcTo wR="8384" hR="21600" stAng="-5687275" swAng="-5112725"/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250920" y="1773360"/>
            <a:ext cx="5219640" cy="3538440"/>
            <a:chOff x="250920" y="1773360"/>
            <a:chExt cx="5219640" cy="353844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250920" y="1773360"/>
              <a:ext cx="5219640" cy="3538440"/>
            </a:xfrm>
            <a:prstGeom prst="rect">
              <a:avLst/>
            </a:prstGeom>
            <a:ln w="6480">
              <a:solidFill>
                <a:srgbClr val="000000"/>
              </a:solidFill>
              <a:miter/>
            </a:ln>
          </p:spPr>
        </p:pic>
        <p:sp>
          <p:nvSpPr>
            <p:cNvPr id="129" name=""/>
            <p:cNvSpPr/>
            <p:nvPr/>
          </p:nvSpPr>
          <p:spPr>
            <a:xfrm>
              <a:off x="324000" y="2781360"/>
              <a:ext cx="1223640" cy="2519280"/>
            </a:xfrm>
            <a:prstGeom prst="rect">
              <a:avLst/>
            </a:prstGeom>
            <a:noFill/>
            <a:ln cap="rnd" w="255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00720" y="6591240"/>
            <a:ext cx="411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FORMATION &amp; PUBLISHING CENTRE «STATISTICS OF RUSSIA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NTRAL DATA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1268280"/>
            <a:ext cx="8642160" cy="289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INTERACTIVE GRAPHS AND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6021360"/>
            <a:ext cx="8642160" cy="287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, ZOOM, CHANGE INTERVALS AND COL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12000" y="1773360"/>
            <a:ext cx="2881080" cy="503280"/>
          </a:xfrm>
          <a:prstGeom prst="wedgeRectCallout">
            <a:avLst>
              <a:gd name="adj1" fmla="val -68675"/>
              <a:gd name="adj2" fmla="val 2216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1-st Janu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492360" y="3141720"/>
            <a:ext cx="5399280" cy="2711520"/>
            <a:chOff x="3492360" y="3141720"/>
            <a:chExt cx="5399280" cy="2711520"/>
          </a:xfrm>
        </p:grpSpPr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3492360" y="3141720"/>
              <a:ext cx="5399280" cy="2711520"/>
            </a:xfrm>
            <a:prstGeom prst="rect">
              <a:avLst/>
            </a:prstGeom>
            <a:ln w="6480">
              <a:solidFill>
                <a:srgbClr val="000000"/>
              </a:solidFill>
              <a:miter/>
            </a:ln>
          </p:spPr>
        </p:pic>
        <p:sp>
          <p:nvSpPr>
            <p:cNvPr id="140" name=""/>
            <p:cNvSpPr/>
            <p:nvPr/>
          </p:nvSpPr>
          <p:spPr>
            <a:xfrm>
              <a:off x="3492360" y="3860640"/>
              <a:ext cx="1584360" cy="360360"/>
            </a:xfrm>
            <a:prstGeom prst="rect">
              <a:avLst/>
            </a:prstGeom>
            <a:noFill/>
            <a:ln cap="rnd" w="255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4:25:47Z</dcterms:created>
  <dc:creator>Trenzelev</dc:creator>
  <dc:description/>
  <dc:language>en-US</dc:language>
  <cp:lastModifiedBy>Jessica Gardner</cp:lastModifiedBy>
  <dcterms:modified xsi:type="dcterms:W3CDTF">2008-05-12T07:49:45Z</dcterms:modified>
  <cp:revision>26</cp:revision>
  <dc:subject/>
  <dc:title>Слайд 1</dc:title>
</cp:coreProperties>
</file>