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36D-4B9A-49C4-B8DA-629346D1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462-CE01-4772-A06F-5F7C6335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550-2204-4417-992F-E979EA33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47B-DA77-4FB7-9550-095C250F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844-066B-4077-AD5E-33713F79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DB4-F1BB-45EC-9995-0B620FD8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B4C-4774-43A4-A126-0A11E971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131-00D3-4BC8-BB3D-AA6A5AC0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178-4C19-4182-9925-1F235105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E16-6DD9-4F36-9937-D357E3E0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3B0-E7BF-4A62-AD11-6179DE3F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552-23A7-4C66-B19A-27E68C4A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6529-1B9C-4C73-9C31-2CA09213A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16646"/>
          <a:stretch/>
        </p:blipFill>
        <p:spPr>
          <a:xfrm>
            <a:off x="0" y="8380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514600"/>
            <a:ext cx="9144000" cy="1023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VISUALIZATION AND OTHER TOOLS</a:t>
            </a:r>
            <a:br>
              <a:rPr sz="3600"/>
            </a:br>
            <a:r>
              <a:rPr b="1" lang="en-US" sz="2500" spc="-1" strike="noStrike">
                <a:solidFill>
                  <a:srgbClr val="0000cc"/>
                </a:solidFill>
                <a:latin typeface="Arial"/>
              </a:rPr>
              <a:t>FOR BETTER UNDERSTANDING &amp; DISSEMIN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6080"/>
            <a:ext cx="6629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CE Work Session on Statistical Dissemination and Communication  </a:t>
            </a:r>
            <a:br>
              <a:rPr sz="24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13-15 May 2008, Geneva, Swi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10280" y="152280"/>
            <a:ext cx="1916280" cy="952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791320"/>
            <a:ext cx="9144000" cy="764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Information &amp; Publishing Center 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Statistics of Russia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Federal State Statistics Service (ROSST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SONAL INFLATION CALC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1268280"/>
            <a:ext cx="864216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 KNOW YOUR PERSONAL INFLA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989000"/>
            <a:ext cx="2881080" cy="194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OWN INFLATION RAT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AVERAG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REGION AND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149720"/>
            <a:ext cx="2881080" cy="180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SIT TO IMROVE STATISTICAL LIT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419640" y="1984320"/>
            <a:ext cx="5484600" cy="3965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23920" y="1552680"/>
            <a:ext cx="6894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 THESE TOOLS PROMOTE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TO ATTRACT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ELP THEM TO FIND, UNDERSTAND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AND INTERPRET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NATIONAL COOPERATION ASSIST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TO IMPROVE DISSEMIN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YGW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0" r="0" b="16646"/>
          <a:stretch/>
        </p:blipFill>
        <p:spPr>
          <a:xfrm>
            <a:off x="0" y="8380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2946240"/>
            <a:ext cx="914400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46080"/>
            <a:ext cx="6629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CE Work Session on Statistical Dissemination and Communication  </a:t>
            </a:r>
            <a:br>
              <a:rPr sz="24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13-15 May 2008, Geneva, Swi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010280" y="152280"/>
            <a:ext cx="1916280" cy="952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5791320"/>
            <a:ext cx="9144000" cy="764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Information &amp; Publishing Center 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Statistics of Russia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Federal State Statistics Service (ROSST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7906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ENERAL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PREREQUI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58880" y="1739880"/>
            <a:ext cx="58244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NET ROLE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FOR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CREASING NUMBER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OF INTERNET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SERS ARE NOT QUITE SATISFIED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WITH BARE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0"/>
            <a:ext cx="9144000" cy="1066680"/>
            <a:chOff x="0" y="0"/>
            <a:chExt cx="9144000" cy="106668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9144000" cy="10666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0"/>
              <a:ext cx="9144000" cy="10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790640"/>
                  <a:tab algn="ctr" pos="4848120"/>
                  <a:tab algn="l" pos="60102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GENERAL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FOR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SI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IC CONCLUSION AND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0000" y="1413000"/>
            <a:ext cx="6264000" cy="47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ISUALIZATION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+ ANIMATION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+ INTERACTIVE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YNAMIC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UNICIP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CESS TO CENTRAL DAT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SONAL INFLATION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UALIZATION &amp;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989000"/>
            <a:ext cx="2881080" cy="1440000"/>
          </a:xfrm>
          <a:prstGeom prst="rect">
            <a:avLst/>
          </a:prstGeom>
          <a:solidFill>
            <a:srgbClr val="d2d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2005 IMPLEMENT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POPUL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SUS-2002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789360"/>
            <a:ext cx="2881080" cy="1368360"/>
          </a:xfrm>
          <a:prstGeom prst="rect">
            <a:avLst/>
          </a:prstGeom>
          <a:solidFill>
            <a:srgbClr val="d2d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AGE-SEX PYRAMIDE, DIAGRAMS, GRAPHS, 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438360" y="1628640"/>
            <a:ext cx="5381640" cy="4427640"/>
            <a:chOff x="3438360" y="1628640"/>
            <a:chExt cx="5381640" cy="442764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3438360" y="1628640"/>
              <a:ext cx="5381640" cy="442764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72" name=""/>
            <p:cNvSpPr/>
            <p:nvPr/>
          </p:nvSpPr>
          <p:spPr>
            <a:xfrm>
              <a:off x="7093080" y="2128680"/>
              <a:ext cx="1726920" cy="503280"/>
            </a:xfrm>
            <a:prstGeom prst="wedgeRectCallout">
              <a:avLst>
                <a:gd name="adj1" fmla="val -62685"/>
                <a:gd name="adj2" fmla="val 56624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Age-sex composition of pop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ACTIV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557360"/>
            <a:ext cx="3097080" cy="93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S FOR POPULATION CENSUS-2002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492360" y="1268280"/>
            <a:ext cx="5427720" cy="5104080"/>
            <a:chOff x="3492360" y="1268280"/>
            <a:chExt cx="5427720" cy="510408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3492360" y="1557360"/>
              <a:ext cx="5427720" cy="481500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81" name=""/>
            <p:cNvSpPr/>
            <p:nvPr/>
          </p:nvSpPr>
          <p:spPr>
            <a:xfrm>
              <a:off x="5076720" y="1268280"/>
              <a:ext cx="3672000" cy="289080"/>
            </a:xfrm>
            <a:prstGeom prst="wedgeRectCallout">
              <a:avLst>
                <a:gd name="adj1" fmla="val -43125"/>
                <a:gd name="adj2" fmla="val 1697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 capita money income of pop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50920" y="2708280"/>
            <a:ext cx="30970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D FOR SUBJECT- MATTE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860640"/>
            <a:ext cx="30970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E TO COMPARE REG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5013360"/>
            <a:ext cx="30970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 PUBLICATION WITH RESUL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GRICULTURAL CENSUS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780000" y="2852640"/>
            <a:ext cx="5219640" cy="3538800"/>
            <a:chOff x="3780000" y="2852640"/>
            <a:chExt cx="5219640" cy="353880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3780000" y="2852640"/>
              <a:ext cx="5219640" cy="353880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6732720" y="2925720"/>
              <a:ext cx="2087280" cy="503280"/>
            </a:xfrm>
            <a:prstGeom prst="wedgeRectCallout">
              <a:avLst>
                <a:gd name="adj1" fmla="val -46805"/>
                <a:gd name="adj2" fmla="val 67351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pulation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 of 1-st Janu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2257560"/>
            <a:ext cx="4321080" cy="3951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250920" y="1268280"/>
            <a:ext cx="4321080" cy="865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ILITI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MANIPULAT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708360" y="3560760"/>
            <a:ext cx="5192640" cy="2892600"/>
            <a:chOff x="3708360" y="3560760"/>
            <a:chExt cx="5192640" cy="289260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3708360" y="3560760"/>
              <a:ext cx="5192640" cy="289260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97" name=""/>
            <p:cNvSpPr/>
            <p:nvPr/>
          </p:nvSpPr>
          <p:spPr>
            <a:xfrm>
              <a:off x="5148360" y="4363920"/>
              <a:ext cx="3744720" cy="505080"/>
            </a:xfrm>
            <a:prstGeom prst="rect">
              <a:avLst/>
            </a:prstGeom>
            <a:noFill/>
            <a:ln cap="rnd" w="255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571640" y="2276640"/>
            <a:ext cx="4321440" cy="2376360"/>
            <a:chOff x="4571640" y="2276640"/>
            <a:chExt cx="4321440" cy="2376360"/>
          </a:xfrm>
        </p:grpSpPr>
        <p:sp>
          <p:nvSpPr>
            <p:cNvPr id="99" name=""/>
            <p:cNvSpPr/>
            <p:nvPr/>
          </p:nvSpPr>
          <p:spPr>
            <a:xfrm>
              <a:off x="5651640" y="2276640"/>
              <a:ext cx="3241440" cy="863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BLE ACCORDING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R CHO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5400000">
              <a:off x="4196880" y="3298680"/>
              <a:ext cx="1728720" cy="979560"/>
            </a:xfrm>
            <a:custGeom>
              <a:avLst/>
              <a:gdLst>
                <a:gd name="textAreaLeft" fmla="*/ 335520 w 1728720"/>
                <a:gd name="textAreaRight" fmla="*/ 1289520 w 1728720"/>
                <a:gd name="textAreaTop" fmla="*/ 131040 h 979560"/>
                <a:gd name="textAreaBottom" fmla="*/ 84852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84" hR="21600" stAng="10800000" swAng="5400000"/>
                  <a:lnTo>
                    <a:pt x="11921" y="0"/>
                  </a:lnTo>
                  <a:arcTo wR="8384" hR="21600" stAng="-5400000" swAng="3045336"/>
                  <a:lnTo>
                    <a:pt x="21208" y="15072"/>
                  </a:lnTo>
                  <a:lnTo>
                    <a:pt x="18536" y="21600"/>
                  </a:lnTo>
                  <a:lnTo>
                    <a:pt x="15079" y="15072"/>
                  </a:lnTo>
                  <a:lnTo>
                    <a:pt x="16375" y="15072"/>
                  </a:lnTo>
                  <a:arcTo wR="8384" hR="21600" stAng="-2354664" swAng="-2758061"/>
                  <a:lnTo>
                    <a:pt x="10152" y="486"/>
                  </a:lnTo>
                  <a:arcTo wR="8384" hR="21600" stAng="-5687275" swAng="-5112725"/>
                  <a:close/>
                </a:path>
                <a:path fill="darkenLess" w="21600" h="21600">
                  <a:moveTo>
                    <a:pt x="0" y="21600"/>
                  </a:moveTo>
                  <a:arcTo wR="8384" hR="21600" stAng="10800000" swAng="5400000"/>
                  <a:lnTo>
                    <a:pt x="8384" y="0"/>
                  </a:lnTo>
                  <a:arcTo wR="8384" hR="21600" stAng="-5400000" swAng="287275"/>
                  <a:lnTo>
                    <a:pt x="10152" y="486"/>
                  </a:lnTo>
                  <a:arcTo wR="8384" hR="21600" stAng="-5687275" swAng="-5112725"/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000" y="2276640"/>
            <a:ext cx="4329000" cy="3957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NICIPAL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268280"/>
            <a:ext cx="4321080" cy="865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 000 MUNICIP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708360" y="3573360"/>
            <a:ext cx="5184720" cy="2889360"/>
            <a:chOff x="3708360" y="3573360"/>
            <a:chExt cx="5184720" cy="288936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3708360" y="3573360"/>
              <a:ext cx="5184720" cy="288936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10" name=""/>
            <p:cNvSpPr/>
            <p:nvPr/>
          </p:nvSpPr>
          <p:spPr>
            <a:xfrm>
              <a:off x="4572000" y="4508640"/>
              <a:ext cx="4321080" cy="433080"/>
            </a:xfrm>
            <a:prstGeom prst="rect">
              <a:avLst/>
            </a:prstGeom>
            <a:noFill/>
            <a:ln cap="rnd" w="255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571640" y="2276640"/>
            <a:ext cx="4321440" cy="2376360"/>
            <a:chOff x="4571640" y="2276640"/>
            <a:chExt cx="4321440" cy="2376360"/>
          </a:xfrm>
        </p:grpSpPr>
        <p:sp>
          <p:nvSpPr>
            <p:cNvPr id="112" name=""/>
            <p:cNvSpPr/>
            <p:nvPr/>
          </p:nvSpPr>
          <p:spPr>
            <a:xfrm>
              <a:off x="5651640" y="2276640"/>
              <a:ext cx="3241440" cy="86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gt; 200 INDICA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4196880" y="3298680"/>
              <a:ext cx="1728720" cy="979560"/>
            </a:xfrm>
            <a:custGeom>
              <a:avLst/>
              <a:gdLst>
                <a:gd name="textAreaLeft" fmla="*/ 335520 w 1728720"/>
                <a:gd name="textAreaRight" fmla="*/ 1289520 w 1728720"/>
                <a:gd name="textAreaTop" fmla="*/ 131040 h 979560"/>
                <a:gd name="textAreaBottom" fmla="*/ 84852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84" hR="21600" stAng="10800000" swAng="5400000"/>
                  <a:lnTo>
                    <a:pt x="11921" y="0"/>
                  </a:lnTo>
                  <a:arcTo wR="8384" hR="21600" stAng="-5400000" swAng="3045336"/>
                  <a:lnTo>
                    <a:pt x="21208" y="15072"/>
                  </a:lnTo>
                  <a:lnTo>
                    <a:pt x="18536" y="21600"/>
                  </a:lnTo>
                  <a:lnTo>
                    <a:pt x="15079" y="15072"/>
                  </a:lnTo>
                  <a:lnTo>
                    <a:pt x="16375" y="15072"/>
                  </a:lnTo>
                  <a:arcTo wR="8384" hR="21600" stAng="-2354664" swAng="-2758061"/>
                  <a:lnTo>
                    <a:pt x="10152" y="486"/>
                  </a:lnTo>
                  <a:arcTo wR="8384" hR="21600" stAng="-5687275" swAng="-5112725"/>
                  <a:close/>
                </a:path>
                <a:path fill="darkenLess" w="21600" h="21600">
                  <a:moveTo>
                    <a:pt x="0" y="21600"/>
                  </a:moveTo>
                  <a:arcTo wR="8384" hR="21600" stAng="10800000" swAng="5400000"/>
                  <a:lnTo>
                    <a:pt x="8384" y="0"/>
                  </a:lnTo>
                  <a:arcTo wR="8384" hR="21600" stAng="-5400000" swAng="287275"/>
                  <a:lnTo>
                    <a:pt x="10152" y="486"/>
                  </a:lnTo>
                  <a:arcTo wR="8384" hR="21600" stAng="-5687275" swAng="-5112725"/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3000" y="2276640"/>
            <a:ext cx="4329000" cy="3957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RAL DAT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268280"/>
            <a:ext cx="4321080" cy="865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RIES TO CENTRA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08360" y="3573360"/>
            <a:ext cx="5184720" cy="2889360"/>
            <a:chOff x="3708360" y="3573360"/>
            <a:chExt cx="5184720" cy="288936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3708360" y="3573360"/>
              <a:ext cx="5184720" cy="288936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23" name=""/>
            <p:cNvSpPr/>
            <p:nvPr/>
          </p:nvSpPr>
          <p:spPr>
            <a:xfrm>
              <a:off x="5148360" y="4437000"/>
              <a:ext cx="3744720" cy="432000"/>
            </a:xfrm>
            <a:prstGeom prst="rect">
              <a:avLst/>
            </a:prstGeom>
            <a:noFill/>
            <a:ln cap="rnd" w="255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571640" y="2276640"/>
            <a:ext cx="4321440" cy="2376360"/>
            <a:chOff x="4571640" y="2276640"/>
            <a:chExt cx="4321440" cy="2376360"/>
          </a:xfrm>
        </p:grpSpPr>
        <p:sp>
          <p:nvSpPr>
            <p:cNvPr id="125" name=""/>
            <p:cNvSpPr/>
            <p:nvPr/>
          </p:nvSpPr>
          <p:spPr>
            <a:xfrm>
              <a:off x="5651640" y="2276640"/>
              <a:ext cx="3241440" cy="863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00 INDICATORS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 1990-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4196880" y="3298680"/>
              <a:ext cx="1728720" cy="979560"/>
            </a:xfrm>
            <a:custGeom>
              <a:avLst/>
              <a:gdLst>
                <a:gd name="textAreaLeft" fmla="*/ 335520 w 1728720"/>
                <a:gd name="textAreaRight" fmla="*/ 1289520 w 1728720"/>
                <a:gd name="textAreaTop" fmla="*/ 131040 h 979560"/>
                <a:gd name="textAreaBottom" fmla="*/ 84852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84" hR="21600" stAng="10800000" swAng="5400000"/>
                  <a:lnTo>
                    <a:pt x="11921" y="0"/>
                  </a:lnTo>
                  <a:arcTo wR="8384" hR="21600" stAng="-5400000" swAng="3045336"/>
                  <a:lnTo>
                    <a:pt x="21208" y="15072"/>
                  </a:lnTo>
                  <a:lnTo>
                    <a:pt x="18536" y="21600"/>
                  </a:lnTo>
                  <a:lnTo>
                    <a:pt x="15079" y="15072"/>
                  </a:lnTo>
                  <a:lnTo>
                    <a:pt x="16375" y="15072"/>
                  </a:lnTo>
                  <a:arcTo wR="8384" hR="21600" stAng="-2354664" swAng="-2758061"/>
                  <a:lnTo>
                    <a:pt x="10152" y="486"/>
                  </a:lnTo>
                  <a:arcTo wR="8384" hR="21600" stAng="-5687275" swAng="-5112725"/>
                  <a:close/>
                </a:path>
                <a:path fill="darkenLess" w="21600" h="21600">
                  <a:moveTo>
                    <a:pt x="0" y="21600"/>
                  </a:moveTo>
                  <a:arcTo wR="8384" hR="21600" stAng="10800000" swAng="5400000"/>
                  <a:lnTo>
                    <a:pt x="8384" y="0"/>
                  </a:lnTo>
                  <a:arcTo wR="8384" hR="21600" stAng="-5400000" swAng="287275"/>
                  <a:lnTo>
                    <a:pt x="10152" y="486"/>
                  </a:lnTo>
                  <a:arcTo wR="8384" hR="21600" stAng="-5687275" swAng="-5112725"/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50920" y="1773360"/>
            <a:ext cx="5219640" cy="3538440"/>
            <a:chOff x="250920" y="1773360"/>
            <a:chExt cx="5219640" cy="353844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50920" y="1773360"/>
              <a:ext cx="5219640" cy="353844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29" name=""/>
            <p:cNvSpPr/>
            <p:nvPr/>
          </p:nvSpPr>
          <p:spPr>
            <a:xfrm>
              <a:off x="324000" y="2781360"/>
              <a:ext cx="1223640" cy="2519280"/>
            </a:xfrm>
            <a:prstGeom prst="rect">
              <a:avLst/>
            </a:prstGeom>
            <a:noFill/>
            <a:ln cap="rnd" w="255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659124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 &amp; PUBLISHING CENTRE «STATISTICS OF RUSSIA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RAL DAT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268280"/>
            <a:ext cx="864216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INTERACTIVE GRAPHS AND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6021360"/>
            <a:ext cx="864216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, ZOOM, CHANGE INTERVALS AND CO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1773360"/>
            <a:ext cx="2881080" cy="503280"/>
          </a:xfrm>
          <a:prstGeom prst="wedgeRectCallout">
            <a:avLst>
              <a:gd name="adj1" fmla="val -68675"/>
              <a:gd name="adj2" fmla="val 221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1-st 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492360" y="3141720"/>
            <a:ext cx="5399280" cy="2711520"/>
            <a:chOff x="3492360" y="3141720"/>
            <a:chExt cx="5399280" cy="271152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3492360" y="3141720"/>
              <a:ext cx="5399280" cy="271152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40" name=""/>
            <p:cNvSpPr/>
            <p:nvPr/>
          </p:nvSpPr>
          <p:spPr>
            <a:xfrm>
              <a:off x="3492360" y="3860640"/>
              <a:ext cx="1584360" cy="360360"/>
            </a:xfrm>
            <a:prstGeom prst="rect">
              <a:avLst/>
            </a:prstGeom>
            <a:noFill/>
            <a:ln cap="rnd" w="255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25:47Z</dcterms:created>
  <dc:creator>Trenzelev</dc:creator>
  <dc:description/>
  <dc:language>en-US</dc:language>
  <cp:lastModifiedBy>Jessica Gardner</cp:lastModifiedBy>
  <dcterms:modified xsi:type="dcterms:W3CDTF">2008-05-12T07:49:45Z</dcterms:modified>
  <cp:revision>26</cp:revision>
  <dc:subject/>
  <dc:title>Слайд 1</dc:title>
</cp:coreProperties>
</file>