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2BD-70E0-4316-8BD8-97995BC8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224-D057-4EBC-BD58-9F19F1F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F5B-4FCD-4B3A-A4CD-3AA3895B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20D-8069-4EF2-AE21-9364FFC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C0C-8488-49D7-AD17-A64024F8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12C2-7F77-46F2-B32F-53E600B4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026-C3F3-4A61-AF35-4CB879A1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2324-EAFC-4F88-BDDA-C9D4595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9307-48A0-419A-AF44-569BC5A0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B3EE-490A-4266-8917-93F42CED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A04D-CA00-4021-BF20-8186FE5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D51-14F5-4EC3-B08F-3302E15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E6FB-C07F-4FBE-97CC-0C6D8EE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26A1-9FDC-431E-BD18-E7EFF6B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B7C7-7AC6-49BF-8EC6-705C9853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6EE-46B7-451C-B542-143AEB73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D426-A86C-4DFF-AF42-DE2CEF84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401-3ACB-4829-B31F-79A8EEB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777-4E72-48BC-9622-73A9521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C4E-EE3D-4A29-BF02-0BEA2E26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CE3-FDC7-4863-8622-7569C593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353-252F-4BAE-96C3-65FA881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AF5-68B5-4234-8780-264F5CC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551-EE63-41CD-99A6-B6ED585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8A23-EECD-4299-8E4B-6DC7A1F2B1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EFBD-C8C7-4D8D-812D-2E3F98278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artha.E.Gangi@irs.gov" TargetMode="External"/><Relationship Id="rId2" Type="http://schemas.openxmlformats.org/officeDocument/2006/relationships/hyperlink" Target="mailto:sis@irs.go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Dissemination of Statistical Products: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The IRS’s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0160" y="5486400"/>
            <a:ext cx="759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Martha Eller Ga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imes New Roman"/>
              </a:rPr>
              <a:t>U.S. Internal Revenue Service, Statistics of Income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Times New Roman"/>
              </a:rPr>
              <a:t>~May 13, 2008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OI Mission and Histor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The Revenue Act of 1916 requires the Secretary of the U.S. Treasury to publish statistics on the operations of the tax system, at least ann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satisfies this mandate by collecting, processing, analyzing and disseminating data and information on federal t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First print report published in 19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Dissemination via </a:t>
            </a:r>
            <a:r>
              <a:rPr b="0" i="1" lang="en-US" sz="3800" spc="-1" strike="noStrike">
                <a:solidFill>
                  <a:srgbClr val="666633"/>
                </a:solidFill>
                <a:latin typeface="Times New Roman"/>
              </a:rPr>
              <a:t>SOI Bulletin</a:t>
            </a: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, 1981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3750" t="1539" r="0" b="1539"/>
          <a:stretch/>
        </p:blipFill>
        <p:spPr>
          <a:xfrm>
            <a:off x="2617920" y="1600200"/>
            <a:ext cx="39081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Dissemination via </a:t>
            </a:r>
            <a:r>
              <a:rPr b="0" i="1" lang="en-US" sz="3800" spc="-1" strike="noStrike">
                <a:solidFill>
                  <a:srgbClr val="666633"/>
                </a:solidFill>
                <a:latin typeface="Times New Roman"/>
              </a:rPr>
              <a:t>SOI Bulletin</a:t>
            </a: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, Toda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Text Box 9"/>
          <p:cNvSpPr/>
          <p:nvPr/>
        </p:nvSpPr>
        <p:spPr>
          <a:xfrm>
            <a:off x="6308640" y="18288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029200" y="2057400"/>
            <a:ext cx="396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</a:rPr>
              <a:t>Total Distribution = 800-900 Print Cop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275 copies to S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280 on intra-ag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distribu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300 to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Printing Office for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nd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bout 15 to Library of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IRS Dat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The IRS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IRS Research Bull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ompilation of papers given at the annual IRS                                     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Research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Pap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Research presented at profession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SOI Individual Income Tax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SOI Corporation Income Tax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33"/>
                </a:solidFill>
                <a:latin typeface="Times New Roman"/>
              </a:rPr>
              <a:t>SOI Corporation Sourc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Other SOI Publications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4"/>
          <p:cNvSpPr/>
          <p:nvPr/>
        </p:nvSpPr>
        <p:spPr>
          <a:xfrm>
            <a:off x="2819520" y="3352680"/>
            <a:ext cx="14475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Times New Roman"/>
              </a:rPr>
              <a:t>Tax Stats Web Site, www.irs.gov/taxstats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457200" y="1371600"/>
            <a:ext cx="8229600" cy="5486400"/>
            <a:chOff x="457200" y="1371600"/>
            <a:chExt cx="8229600" cy="5486400"/>
          </a:xfrm>
        </p:grpSpPr>
        <p:pic>
          <p:nvPicPr>
            <p:cNvPr id="131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229600" cy="5486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32" name="Oval 5"/>
            <p:cNvSpPr/>
            <p:nvPr/>
          </p:nvSpPr>
          <p:spPr>
            <a:xfrm>
              <a:off x="2666880" y="3505320"/>
              <a:ext cx="1904760" cy="380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"/>
            <p:cNvSpPr/>
            <p:nvPr/>
          </p:nvSpPr>
          <p:spPr>
            <a:xfrm>
              <a:off x="4572000" y="5943600"/>
              <a:ext cx="2895480" cy="914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Tax Stats Web Site, Continued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Today, offers more than 7,600 publications, statistical files and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ite averages between 300,000 and 400,000 downloads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Nearly 12,000 subscribers to email dispatch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Current and Future Initiatives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Introduced SOI Paper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ontinue to encourage short articles on current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Introduce information-layering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ontinue to work toward full compliance with accessibility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Implement “dynamic tables”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Create web pages for children, students and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</a:rPr>
              <a:t>Expand availability of metadata and use of hyper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30522" t="18753" r="31688" b="16252"/>
          <a:stretch/>
        </p:blipFill>
        <p:spPr>
          <a:xfrm>
            <a:off x="3200400" y="0"/>
            <a:ext cx="556272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609480" y="472428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Simple graphs and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981080" y="5105520"/>
            <a:ext cx="152424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2133720" y="3657240"/>
            <a:ext cx="36576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09480" y="2819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Data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09480" y="19051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Background an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2133720" y="1981080"/>
            <a:ext cx="1371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1905120" y="533520"/>
            <a:ext cx="152388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2133720" y="1371240"/>
            <a:ext cx="121896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0" y="228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Information- Layering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Links to Microsoft Excel </a:t>
            </a:r>
            <a:br>
              <a:rPr sz="3800"/>
            </a:b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Versions of Tables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6564" t="22882" r="6564" b="10001"/>
          <a:stretch/>
        </p:blipFill>
        <p:spPr>
          <a:xfrm>
            <a:off x="152280" y="1523880"/>
            <a:ext cx="868680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Oval 5"/>
          <p:cNvSpPr/>
          <p:nvPr/>
        </p:nvSpPr>
        <p:spPr>
          <a:xfrm>
            <a:off x="4191120" y="1676520"/>
            <a:ext cx="11430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9277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1904760" y="2133720"/>
            <a:ext cx="251460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Challenges Along the Journey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hange of min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hift to new practices and disseminatio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Restrictions on web utilization by parent site, ir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Making accessibility integral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Anticipating the needs of customers, print vs.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mall dissemin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Outline of Presentation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Taxonomy of the U.S. Statistical System, IRS and S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Mission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Print and Web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urrent and Future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hallenges Along the Jou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Conclusion and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Conclusion and Contact Information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Dissemination/communication of data is always a jour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SOI will continue to pursue its historic mandate with exci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30680" y="3809880"/>
            <a:ext cx="761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Martha.E.Gangi@ir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(202) 874-04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sis@irs.gov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 (Statistical Information Serv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www.irs.gov/tax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Statistical System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rcRect l="0" t="7463" r="0" b="1491"/>
          <a:stretch/>
        </p:blipFill>
        <p:spPr>
          <a:xfrm>
            <a:off x="415800" y="1523880"/>
            <a:ext cx="849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Statistical System, Continued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-1846" t="7579" r="0" b="0"/>
          <a:stretch/>
        </p:blipFill>
        <p:spPr>
          <a:xfrm>
            <a:off x="304920" y="1676520"/>
            <a:ext cx="8520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Statistical System, Continued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2760" y="1523880"/>
            <a:ext cx="835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U.S. Internal Revenue Service (IRS)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457200" y="1447920"/>
            <a:ext cx="8229600" cy="5181480"/>
            <a:chOff x="457200" y="1447920"/>
            <a:chExt cx="8229600" cy="5181480"/>
          </a:xfrm>
        </p:grpSpPr>
        <p:pic>
          <p:nvPicPr>
            <p:cNvPr id="108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82296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Oval 4"/>
            <p:cNvSpPr/>
            <p:nvPr/>
          </p:nvSpPr>
          <p:spPr>
            <a:xfrm>
              <a:off x="5791320" y="2590920"/>
              <a:ext cx="2286000" cy="4572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tatistics of Income Division (SOI)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0" y="1523880"/>
            <a:ext cx="8839080" cy="5029200"/>
            <a:chOff x="0" y="1523880"/>
            <a:chExt cx="8839080" cy="502920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tretch/>
          </p:blipFill>
          <p:spPr>
            <a:xfrm>
              <a:off x="304560" y="1523880"/>
              <a:ext cx="85345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Oval 5"/>
            <p:cNvSpPr/>
            <p:nvPr/>
          </p:nvSpPr>
          <p:spPr>
            <a:xfrm>
              <a:off x="0" y="6248520"/>
              <a:ext cx="5943600" cy="304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4 Visual Design Specialists, including Web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1 Writer/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1 Publishing Coordin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tatistical Data Section, </a:t>
            </a:r>
            <a:br>
              <a:rPr sz="3800"/>
            </a:b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OI’s Dissemination Team:</a:t>
            </a:r>
            <a:br>
              <a:rPr sz="3800"/>
            </a:b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Times New Roman"/>
              </a:rPr>
              <a:t>Statistical Information Services (SIS)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A team of 4 economists and statisticians who are available to answer questions from all SOI customers, including media and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Receives and answers phone calls, faxes and e-mail requests, as well as requests via Tax Stats and IRS On-Line Help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Responds to about 2,000 customer requests per calenda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3:42:22Z</dcterms:created>
  <dc:creator>mbelle00</dc:creator>
  <dc:description/>
  <dc:language>en-US</dc:language>
  <cp:lastModifiedBy>mbelle00</cp:lastModifiedBy>
  <dcterms:modified xsi:type="dcterms:W3CDTF">2008-05-09T14:44:50Z</dcterms:modified>
  <cp:revision>22</cp:revision>
  <dc:subject/>
  <dc:title>Dissemination of Statistical Products:</dc:title>
</cp:coreProperties>
</file>