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8E2-2EC2-483D-8874-B7F19EB3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914-E35B-4F8C-B5EF-9C9E30DB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7BC-FC77-4749-B804-A635CB8D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EB9-C25F-49D7-944B-C7175BC7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D0F7-6444-480E-9995-92975EE9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F4EE-D4BE-46BE-9846-268A2407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0233-4CFA-44FA-B483-5B3FEF2F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2C84-5114-40F3-AFC0-518E6791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7C2E-45DC-4CE1-A4DE-10DFFA0B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3140-65B1-4945-B18C-371C3BE6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8AD9-B727-419A-88D1-BECE0FB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19F-6AF8-42B8-8E7B-5C86B58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5CA8-45D5-43A0-8988-41EF9FE6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E61D-6E6A-40F1-9E94-9261E90E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F46C-2F12-43EA-981B-9B50DACB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1460-C788-4A1F-9E6A-D0912B11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CC39-F0EF-425B-848A-9AA0C218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05E-33AE-4279-872F-6E7685C8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5D4-CF5B-4BF2-AF09-6D0D40D3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2F3-E56B-4585-AE63-D48921FD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C4F-B9C0-401B-A168-8EBB02F8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03C-201F-4B58-AFFD-D8797EBE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6EA-9CCD-4EB5-8A13-C196883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B72-5850-4E5C-8E96-A545E9E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0A07-9EDE-42A2-A082-E421A34053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E840-3B59-49E1-B424-F87AA40975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artha.E.Gangi@irs.gov" TargetMode="External"/><Relationship Id="rId2" Type="http://schemas.openxmlformats.org/officeDocument/2006/relationships/hyperlink" Target="mailto:sis@irs.go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Dissemination of Statistical Products: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The IRS’s Jour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0160" y="5486400"/>
            <a:ext cx="759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Martha Eller Ga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U.S. Internal Revenue Service, Statistics of Income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Times New Roman"/>
              </a:rPr>
              <a:t>~May 13, 2008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OI Mission and History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The Revenue Act of 1916 requires the Secretary of the U.S. Treasury to publish statistics on the operations of the tax system, at least ann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OI satisfies this mandate by collecting, processing, analyzing and disseminating data and information on federal tax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First print report published in 19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Dissemination via </a:t>
            </a:r>
            <a:r>
              <a:rPr b="0" i="1" lang="en-US" sz="3800" spc="-1" strike="noStrike">
                <a:solidFill>
                  <a:srgbClr val="666633"/>
                </a:solidFill>
                <a:latin typeface="Times New Roman"/>
              </a:rPr>
              <a:t>SOI Bulletin</a:t>
            </a: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, 1981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rcRect l="3750" t="1539" r="0" b="1539"/>
          <a:stretch/>
        </p:blipFill>
        <p:spPr>
          <a:xfrm>
            <a:off x="2617920" y="1600200"/>
            <a:ext cx="390816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Dissemination via </a:t>
            </a:r>
            <a:r>
              <a:rPr b="0" i="1" lang="en-US" sz="3800" spc="-1" strike="noStrike">
                <a:solidFill>
                  <a:srgbClr val="666633"/>
                </a:solidFill>
                <a:latin typeface="Times New Roman"/>
              </a:rPr>
              <a:t>SOI Bulletin</a:t>
            </a: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, Today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Text Box 9"/>
          <p:cNvSpPr/>
          <p:nvPr/>
        </p:nvSpPr>
        <p:spPr>
          <a:xfrm>
            <a:off x="6308640" y="182880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029200" y="2057400"/>
            <a:ext cx="3962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</a:rPr>
              <a:t>Total Distribution = 800-900 Print Cop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bout 275 copies to S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bout 280 on intra-ag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distributio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bout 300 to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Printing Office for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nd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bout 15 to Library of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IRS Dat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The IRS annu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IRS Research Bull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Compilation of papers given at the annual IRS                                      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Research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OI Paper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Research presented at profession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SOI Individual Income Tax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SOI Corporation Income Tax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SOI Corporation Sourc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Other SOI Publications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4"/>
          <p:cNvSpPr/>
          <p:nvPr/>
        </p:nvSpPr>
        <p:spPr>
          <a:xfrm>
            <a:off x="2819520" y="3352680"/>
            <a:ext cx="14475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33"/>
                </a:solidFill>
                <a:latin typeface="Times New Roman"/>
              </a:rPr>
              <a:t>Tax Stats Web Site, www.irs.gov/taxstats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457200" y="1371600"/>
            <a:ext cx="8229600" cy="5486400"/>
            <a:chOff x="457200" y="1371600"/>
            <a:chExt cx="8229600" cy="5486400"/>
          </a:xfrm>
        </p:grpSpPr>
        <p:pic>
          <p:nvPicPr>
            <p:cNvPr id="131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229600" cy="5486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32" name="Oval 5"/>
            <p:cNvSpPr/>
            <p:nvPr/>
          </p:nvSpPr>
          <p:spPr>
            <a:xfrm>
              <a:off x="2666880" y="3505320"/>
              <a:ext cx="1904760" cy="380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7"/>
            <p:cNvSpPr/>
            <p:nvPr/>
          </p:nvSpPr>
          <p:spPr>
            <a:xfrm>
              <a:off x="4572000" y="5943600"/>
              <a:ext cx="2895480" cy="9144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Tax Stats Web Site, Continued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Today, offers more than 7,600 publications, statistical files and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ite averages between 300,000 and 400,000 downloads per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Nearly 12,000 subscribers to email dispatch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Current and Future Initiatives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Introduced SOI Paper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Continue to encourage short articles on current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Introduce information-layering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Continue to work toward full compliance with accessibility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Implement “dynamic tables”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Create web pages for children, students and tea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Expand availability of metadata and use of hyperl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rcRect l="30522" t="18753" r="31688" b="16252"/>
          <a:stretch/>
        </p:blipFill>
        <p:spPr>
          <a:xfrm>
            <a:off x="3200400" y="0"/>
            <a:ext cx="556272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609480" y="472428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imes New Roman"/>
              </a:rPr>
              <a:t>Simple graphs and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1981080" y="5105520"/>
            <a:ext cx="152424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2133720" y="3657240"/>
            <a:ext cx="36576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09480" y="2819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imes New Roman"/>
              </a:rPr>
              <a:t>Data 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09480" y="1905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imes New Roman"/>
              </a:rPr>
              <a:t>Background and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 flipV="1">
            <a:off x="2133720" y="1981080"/>
            <a:ext cx="137160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1905120" y="533520"/>
            <a:ext cx="152388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2133720" y="1371240"/>
            <a:ext cx="121896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0" y="2286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Information- Layering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Links to Microsoft Excel </a:t>
            </a:r>
            <a:br>
              <a:rPr sz="3800"/>
            </a:b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Versions of Tables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6564" t="22882" r="6564" b="10001"/>
          <a:stretch/>
        </p:blipFill>
        <p:spPr>
          <a:xfrm>
            <a:off x="152280" y="1523880"/>
            <a:ext cx="868680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Oval 5"/>
          <p:cNvSpPr/>
          <p:nvPr/>
        </p:nvSpPr>
        <p:spPr>
          <a:xfrm>
            <a:off x="4191120" y="1676520"/>
            <a:ext cx="11430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92776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1904760" y="2133720"/>
            <a:ext cx="251460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Challenges Along the Journey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Change of min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hift to new practices and disseminatio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Restrictions on web utilization by parent site, ir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Making accessibility integral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Anticipating the needs of customers, print vs.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mall dissemin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Outline of Presentation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Taxonomy of the U.S. Statistical System, IRS and S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OI Mission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Print and Web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Current and Future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Challenges Along the Jour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Conclusion and 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Conclusion and Contact Information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Dissemination/communication of data is always a jour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OI will continue to pursue its historic mandate with exci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030680" y="3809880"/>
            <a:ext cx="761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Martha.E.Gangi@ir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(202) 874-04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sis@irs.gov</a:t>
            </a: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 (Statistical Information Serv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www.irs.gov/taxs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U.S. Statistical System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rcRect l="0" t="7463" r="0" b="1491"/>
          <a:stretch/>
        </p:blipFill>
        <p:spPr>
          <a:xfrm>
            <a:off x="415800" y="1523880"/>
            <a:ext cx="849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U.S. Statistical System, Continued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rcRect l="-1846" t="7579" r="0" b="0"/>
          <a:stretch/>
        </p:blipFill>
        <p:spPr>
          <a:xfrm>
            <a:off x="304920" y="1676520"/>
            <a:ext cx="8520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U.S. Statistical System, Continued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82760" y="1523880"/>
            <a:ext cx="835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U.S. Internal Revenue Service (IRS)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457200" y="1447920"/>
            <a:ext cx="8229600" cy="5181480"/>
            <a:chOff x="457200" y="1447920"/>
            <a:chExt cx="8229600" cy="5181480"/>
          </a:xfrm>
        </p:grpSpPr>
        <p:pic>
          <p:nvPicPr>
            <p:cNvPr id="108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822960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Oval 4"/>
            <p:cNvSpPr/>
            <p:nvPr/>
          </p:nvSpPr>
          <p:spPr>
            <a:xfrm>
              <a:off x="5791320" y="2590920"/>
              <a:ext cx="2286000" cy="4572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tatistics of Income Division (SOI)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0" y="1523880"/>
            <a:ext cx="8839080" cy="5029200"/>
            <a:chOff x="0" y="1523880"/>
            <a:chExt cx="8839080" cy="5029200"/>
          </a:xfrm>
        </p:grpSpPr>
        <p:pic>
          <p:nvPicPr>
            <p:cNvPr id="112" name="Picture 3" descr=""/>
            <p:cNvPicPr/>
            <p:nvPr/>
          </p:nvPicPr>
          <p:blipFill>
            <a:blip r:embed="rId1"/>
            <a:stretch/>
          </p:blipFill>
          <p:spPr>
            <a:xfrm>
              <a:off x="304560" y="1523880"/>
              <a:ext cx="85345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Oval 5"/>
            <p:cNvSpPr/>
            <p:nvPr/>
          </p:nvSpPr>
          <p:spPr>
            <a:xfrm>
              <a:off x="0" y="6248520"/>
              <a:ext cx="5943600" cy="304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4 Visual Design Specialists, including Web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1 Writer/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1 Publishing Coordin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tatistical Data Section, </a:t>
            </a:r>
            <a:br>
              <a:rPr sz="3800"/>
            </a:b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OI’s Dissemination Team:</a:t>
            </a:r>
            <a:br>
              <a:rPr sz="3800"/>
            </a:b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tatistical Information Services (SIS)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A team of 4 economists and statisticians who are available to answer questions from all SOI customers, including media and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Receives and answers phone calls, faxes and e-mail requests, as well as requests via Tax Stats and IRS On-Line Help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Responds to about 2,000 customer requests per calendar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3:42:22Z</dcterms:created>
  <dc:creator>mbelle00</dc:creator>
  <dc:description/>
  <dc:language>en-US</dc:language>
  <cp:lastModifiedBy>mbelle00</cp:lastModifiedBy>
  <dcterms:modified xsi:type="dcterms:W3CDTF">2008-05-09T14:44:50Z</dcterms:modified>
  <cp:revision>22</cp:revision>
  <dc:subject/>
  <dc:title>Dissemination of Statistical Products:</dc:title>
</cp:coreProperties>
</file>