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E1F85-4D20-4D95-A2F8-7F15E38F6D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639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4412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086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EDC6F-A5CB-48E0-8917-B06D3317BE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639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4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44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086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086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622AE-5401-406B-A31F-0984F85A8A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639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4412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4412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4412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086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086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086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34076-D6A0-43FB-AB4E-1B133CD6F2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639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441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CA605-FB8E-4CCE-B77F-83AAA3F5B2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639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441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CCF48-C95B-4616-8563-F7562FF02C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639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412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4412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47EE5-18B1-4E0D-A4BA-57C4C538D5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639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CBBD5-1A60-4056-BC7B-111CFA6D96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639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86674-2353-40C0-B2A2-3BFB7A067E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639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44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4412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086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4CA4A-9A1A-44A9-882A-7024BF6AA9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639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4412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44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086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6ECD5-B04B-40B0-84E6-9E2FB65E9F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639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44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44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086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18775-A0B5-45E6-B556-0B1FF8B106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a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639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utura Md B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441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ECE DISSCO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 Ma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4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E578-6B9C-4A6D-A1F0-9D236EB0C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0" y="0"/>
          <a:ext cx="914400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ankofcanada.ca/en/rates/rss_fx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bwiki.net/wiki/index.php/RSS-CBMain" TargetMode="External"/><Relationship Id="rId2" Type="http://schemas.openxmlformats.org/officeDocument/2006/relationships/hyperlink" Target="http://www.cbwiki.net/wiki/index.php/RSS-CBMain" TargetMode="External"/><Relationship Id="rId3" Type="http://schemas.openxmlformats.org/officeDocument/2006/relationships/hyperlink" Target="mailto:scannon@frb.gov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a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utura Md BT"/>
              </a:rPr>
              <a:t>Snippets of Data at a Glance: </a:t>
            </a:r>
            <a:r>
              <a:rPr b="0" lang="en-US" sz="3600" spc="-1" strike="noStrike">
                <a:solidFill>
                  <a:srgbClr val="000000"/>
                </a:solidFill>
                <a:latin typeface="Futura Md BT"/>
              </a:rPr>
              <a:t>Using RSS to deliver statistics</a:t>
            </a:r>
            <a:endParaRPr b="0" lang="en-US" sz="36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52480" y="3885840"/>
            <a:ext cx="6019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n Can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deral Reserve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CE Work Session on Statistical Dissemination and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May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a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2880" y="639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Md BT"/>
              </a:rPr>
              <a:t>Gory details: an RSS-CB datum</a:t>
            </a:r>
            <a:endParaRPr b="0" lang="en-US" sz="36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6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item rdf:about="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http://www.federalreserve.gov/releases/CP#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6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title&gt;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US: CP 2.01 2008-05-05 FRB Overnight AA nonfinancial commercial paper r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6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link&gt;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http://www.federalreserve.gov/releases/CP#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link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6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description&gt;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Overnigh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AA nonfinancial commercial pape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r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descript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6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dc:date&gt;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2008-05-05T12:00:00-05:0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dc:d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6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dc:language&gt;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e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dc:languag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6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b:statistic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6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b:country&gt;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U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cb:countr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6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b:institutionAbbrev&gt;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FRB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cb:institutionAbbrev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6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b:interestR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6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b:value decimals="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&gt;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2.0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cb:valu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6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b:rateType&gt;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Overnight AA nonfinancial commercial pape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r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cb:rate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6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b:rateName&gt;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CP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cb:rate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6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b:observationPeriod frequency="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busine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&gt;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2008-05-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05T12:00:00-05:0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cb:observationPerio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6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cb:interestR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6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cb:statistic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6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item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a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2880" y="639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Md BT"/>
              </a:rPr>
              <a:t>Actual data feeds in RSS-CB</a:t>
            </a:r>
            <a:r>
              <a:rPr b="0" lang="en-US" sz="4000" spc="-1" strike="noStrike">
                <a:solidFill>
                  <a:srgbClr val="000000"/>
                </a:solidFill>
                <a:latin typeface="Futura Md B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441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Futura Md BT"/>
                <a:hlinkClick r:id="rId1"/>
              </a:rPr>
              <a:t>Bank of 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Md BT"/>
              </a:rPr>
              <a:t>European Central 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Md BT"/>
              </a:rPr>
              <a:t>Bank of Fin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Md BT"/>
              </a:rPr>
              <a:t>Bank Negara Malay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Md BT"/>
              </a:rPr>
              <a:t>Banco de Mex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Md BT"/>
              </a:rPr>
              <a:t>Federal Reserve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Md BT"/>
              </a:rPr>
              <a:t>New York F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a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2880" y="639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Md BT"/>
              </a:rPr>
              <a:t>But we’re not done yet:</a:t>
            </a:r>
            <a:r>
              <a:rPr b="0" lang="en-US" sz="3600" spc="-1" strike="noStrike">
                <a:solidFill>
                  <a:srgbClr val="000000"/>
                </a:solidFill>
                <a:latin typeface="Futura Md B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41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Md BT"/>
              </a:rPr>
              <a:t>Work continues on the specification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Futura Md BT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Futura Md BT"/>
                <a:hlinkClick r:id="rId2"/>
              </a:rPr>
              <a:t>www.cbwiki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Md BT"/>
              </a:rPr>
              <a:t>The Board is increasing its RSS offerings this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Md BT"/>
              </a:rPr>
              <a:t>Questions?  Com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Md BT"/>
              </a:rPr>
              <a:t>Thanks for liste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 Cann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cannon@frb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2) 452-37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a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2880" y="639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Md BT"/>
              </a:rPr>
              <a:t>Data are everywhere!</a:t>
            </a:r>
            <a:endParaRPr b="0" lang="en-US" sz="36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441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Md BT"/>
              </a:rPr>
              <a:t>This information explosion has made it more challenging for data providers to disseminate their information in a “useful” wa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Md BT"/>
              </a:rPr>
              <a:t>This is partly because what is “useful” has changed drastically – printed compendia of data observations are no longer suffici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Md BT"/>
              </a:rPr>
              <a:t>Even electronic distribution channels are undergoing chang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a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2880" y="639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Md BT"/>
              </a:rPr>
              <a:t>Changing world: pull vs. push</a:t>
            </a:r>
            <a:endParaRPr b="0" lang="en-US" sz="36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441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Md BT"/>
              </a:rPr>
              <a:t>The proliferation of gadgets that deliver information means typical delivery methods are no longer suffici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Md BT"/>
              </a:rPr>
              <a:t>Users want their content delivered to them rather than having to go ge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Md BT"/>
              </a:rPr>
              <a:t>Question: how to provide information to people when they wan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a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2880" y="639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Md BT"/>
              </a:rPr>
              <a:t>Data aren’t just for people</a:t>
            </a:r>
            <a:endParaRPr b="0" lang="en-US" sz="36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441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Md BT"/>
              </a:rPr>
              <a:t>It’s no longer the case that a human is sitting at a computer looking at your website to get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Md BT"/>
              </a:rPr>
              <a:t>Many “customers” of our data products are automated processes that “scrape” the pages to repackage the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Md BT"/>
              </a:rPr>
              <a:t>Such repurposing means that data providers have no control over the information, how it is used, or how it is prese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a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639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Md BT"/>
              </a:rPr>
              <a:t>How can RSS help?</a:t>
            </a:r>
            <a:endParaRPr b="0" lang="en-US" sz="36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441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Md BT"/>
              </a:rPr>
              <a:t>Really Simple Syndication (or Rich Site Summary) is XML that allows users to subscribe and then view the information when and where they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Md BT"/>
              </a:rPr>
              <a:t>This mechanism provides an on-demand delivery method:  information is available immediately but users can access it at their conveni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Md BT"/>
              </a:rPr>
              <a:t>It doesn’t do much to address the content control iss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a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639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Md BT"/>
              </a:rPr>
              <a:t>Enter RSS-CB</a:t>
            </a:r>
            <a:r>
              <a:rPr b="0" lang="en-US" sz="4000" spc="-1" strike="noStrike">
                <a:solidFill>
                  <a:srgbClr val="000000"/>
                </a:solidFill>
                <a:latin typeface="Futura Md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441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Md BT"/>
              </a:rPr>
              <a:t>A group of central banks began collaborating in 2005 on common XML representations of central bank information. (Then mostly SDMX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Md BT"/>
              </a:rPr>
              <a:t>We have expanded the scope and have created a technical specification for publishing central bank information in XML via RSS f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a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639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Md BT"/>
              </a:rPr>
              <a:t>Why bother writing a spec?</a:t>
            </a:r>
            <a:r>
              <a:rPr b="0" lang="en-US" sz="4000" spc="-1" strike="noStrike">
                <a:solidFill>
                  <a:srgbClr val="000000"/>
                </a:solidFill>
                <a:latin typeface="Futura Md B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41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Md BT"/>
              </a:rPr>
              <a:t>We wanted to address the two sets of consumers in a way that basic RSS feeds don’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Md BT"/>
              </a:rPr>
              <a:t>We have created specific metadata fields to clearly define the purpose of the inform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Md BT"/>
              </a:rPr>
              <a:t>By providing structured information, we reduce the cost of using the information correctly thereby making it more likely that third party sites will “get it right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a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Md BT"/>
              </a:rPr>
              <a:t>Relevance to data?</a:t>
            </a:r>
            <a:endParaRPr b="0" lang="en-US" sz="36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41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Md BT"/>
              </a:rPr>
              <a:t>RSS provides </a:t>
            </a:r>
            <a:r>
              <a:rPr b="1" lang="en-US" sz="3200" spc="-1" strike="noStrike">
                <a:solidFill>
                  <a:srgbClr val="000000"/>
                </a:solidFill>
                <a:latin typeface="Futura Md BT"/>
              </a:rPr>
              <a:t>timely</a:t>
            </a:r>
            <a:r>
              <a:rPr b="0" lang="en-US" sz="3200" spc="-1" strike="noStrike">
                <a:solidFill>
                  <a:srgbClr val="000000"/>
                </a:solidFill>
                <a:latin typeface="Futura Md BT"/>
              </a:rPr>
              <a:t> access to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Md BT"/>
              </a:rPr>
              <a:t>For many central bank statistics, getting the information right away is impor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Md BT"/>
              </a:rPr>
              <a:t>Why not publish statistics as RSS feeds?  This would provide immediate access to important information without downloading data files, opening PDFs, or using a brows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a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2880" y="639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Md BT"/>
              </a:rPr>
              <a:t>Voila!  RSS-CB for data</a:t>
            </a:r>
            <a:endParaRPr b="0" lang="en-US" sz="36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441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Md BT"/>
              </a:rPr>
              <a:t>Allows simple access to a single observation (e.g. FX rates, CP rate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Md BT"/>
              </a:rPr>
              <a:t>Provides timely delivery without the burden of screen scraping or application develop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Md BT"/>
              </a:rPr>
              <a:t>Novelty:  Feeds violate the general principle that “more data are bett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19:38:04Z</dcterms:created>
  <dc:creator>frbuser</dc:creator>
  <dc:description/>
  <dc:language>en-US</dc:language>
  <cp:lastModifiedBy>m1sac00</cp:lastModifiedBy>
  <dcterms:modified xsi:type="dcterms:W3CDTF">2008-05-08T17:04:39Z</dcterms:modified>
  <cp:revision>19</cp:revision>
  <dc:subject/>
  <dc:title>Snippets of Data at a Glance: Using RSS to deliver statistics</dc:title>
</cp:coreProperties>
</file>