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CFDD-EB37-4C41-A917-E85A8CABC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8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6656-3F24-4F71-AA78-4D494E491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63E8-6447-4BD5-9378-9F7A108F9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4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4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8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08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08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0873-924A-47FA-83BA-2D31B7BC9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5081-BAA8-4E6C-A9E3-783A7065A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F61E-000F-42EA-A184-216A051D6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03D9-C5FB-4C7A-B8EA-7673E1284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BC68-226E-4DDE-9702-DE6B4737A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639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9554-7E53-4CE1-B0E6-425B9A233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6D5E-5740-4D7B-A16F-E5BAFC9C9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EE77-7CA2-4801-AC16-DA7B0716A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8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DE19-49F2-458C-A0E1-B097C8879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CE DISSCO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9076-ABBD-4B04-9E73-CA9FA8DF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91440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ankofcanada.ca/en/rates/rss_f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bwiki.net/wiki/index.php/RSS-CBMain" TargetMode="External"/><Relationship Id="rId2" Type="http://schemas.openxmlformats.org/officeDocument/2006/relationships/hyperlink" Target="http://www.cbwiki.net/wiki/index.php/RSS-CBMain" TargetMode="External"/><Relationship Id="rId3" Type="http://schemas.openxmlformats.org/officeDocument/2006/relationships/hyperlink" Target="mailto:scannon@frb.go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Snippets of Data at a Glance: </a:t>
            </a: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Using RSS to deliver statistics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 Can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Reserv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 Session on Statistical Dissemin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Gory details: an RSS-CB datum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tem rdf:about="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http://www.federalreserve.gov/releases/CP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US: CP 2.01 2008-05-05 FRB Overnight AA nonfinancial commercial paper r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link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http://www.federalreserve.gov/releases/CP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lin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escription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Overnigh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AA nonfinancial commercial pap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r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escrip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c:dat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008-05-05T12:00:00-05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c: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c:languag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e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c:langua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statis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country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U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count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institutionAbbrev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FRB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institutionAbbre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interestR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value decimals="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.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valu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rateTyp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Overnight AA nonfinancial commercial pap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r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rate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rateNam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C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rate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observationPeriod frequency="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busin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008-05-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05T12:00:00-05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observationPeri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interestR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statis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Actual data feeds in RSS-CB</a:t>
            </a: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Futura Md BT"/>
                <a:hlinkClick r:id="rId1"/>
              </a:rPr>
              <a:t>Bank of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European Centr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Bank of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Bank Negara Malay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Banco de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Federal Reserv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New York F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But we’re not done yet:</a:t>
            </a: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Work continues on the specificat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Futura Md BT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Futura Md BT"/>
                <a:hlinkClick r:id="rId2"/>
              </a:rPr>
              <a:t>www.cbwiki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The Board is increasing its RSS offerings this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Questions? 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Thanks for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C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annon@frb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452-3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Data are everywhere!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This information explosion has made it more challenging for data providers to disseminate their information in a “useful” w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This is partly because what is “useful” has changed drastically – printed compendia of data observations are no longer suffic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Even electronic distribution channels are undergoing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Changing world: pull vs. push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The proliferation of gadgets that deliver information means typical delivery methods are no longer su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Users want their content delivered to them rather than having to go ge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Question: how to provide information to people when they wan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Data aren’t just for people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It’s no longer the case that a human is sitting at a computer looking at your website to ge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Many “customers” of our data products are automated processes that “scrape” the pages to repackage th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Such repurposing means that data providers have no control over the information, how it is used, or how it is 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How can RSS help?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Really Simple Syndication (or Rich Site Summary) is XML that allows users to subscribe and then view the information when and where they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This mechanism provides an on-demand delivery method:  information is available immediately but users can access it at their conven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It doesn’t do much to address the content control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Enter RSS-CB</a:t>
            </a: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A group of central banks began collaborating in 2005 on common XML representations of central bank information. (Then mostly SDM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We have expanded the scope and have created a technical specification for publishing central bank information in XML via RSS f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Why bother writing a spec?</a:t>
            </a: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We wanted to address the two sets of consumers in a way that basic RSS feeds don’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We have created specific metadata fields to clearly define the purpose of the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By providing structured information, we reduce the cost of using the information correctly thereby making it more likely that third party sites will “get it righ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Relevance to data?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RSS provides </a:t>
            </a:r>
            <a:r>
              <a:rPr b="1" lang="en-US" sz="3200" spc="-1" strike="noStrike">
                <a:solidFill>
                  <a:srgbClr val="000000"/>
                </a:solidFill>
                <a:latin typeface="Futura Md BT"/>
              </a:rPr>
              <a:t>timely</a:t>
            </a: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 access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For many central bank statistics, getting the information right away is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Why not publish statistics as RSS feeds?  This would provide immediate access to important information without downloading data files, opening PDFs, or using a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Voila!  RSS-CB for data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Allows simple access to a single observation (e.g. FX rates, CP rat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Provides timely delivery without the burden of screen scraping or application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Novelty:  Feeds violate the general principle that “more data are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9:38:04Z</dcterms:created>
  <dc:creator>frbuser</dc:creator>
  <dc:description/>
  <dc:language>en-US</dc:language>
  <cp:lastModifiedBy>m1sac00</cp:lastModifiedBy>
  <dcterms:modified xsi:type="dcterms:W3CDTF">2008-05-08T17:04:39Z</dcterms:modified>
  <cp:revision>19</cp:revision>
  <dc:subject/>
  <dc:title>Snippets of Data at a Glance: Using RSS to deliver statistics</dc:title>
</cp:coreProperties>
</file>