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40AD01-8C76-4BD2-B2E5-555BBD27437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uture Work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71280" y="4365720"/>
            <a:ext cx="7103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CE Work Session on Statistical Dissemin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Future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ducational product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ess License fo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harge or not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ore on managing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ing since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592" t="12856" r="32850" b="36627"/>
          <a:stretch/>
        </p:blipFill>
        <p:spPr>
          <a:xfrm>
            <a:off x="684360" y="2131920"/>
            <a:ext cx="784836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ay 200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Volunteers to host outside of Gene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3128760" cy="450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2444760" cy="3673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27808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226368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79280" y="59500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cc"/>
                </a:solidFill>
                <a:uFillTx/>
                <a:latin typeface="Tahoma"/>
              </a:rPr>
              <a:t>http://www.unece.org/stats/publ.h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92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189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0920" y="189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2560" y="189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197000"/>
          <a:ext cx="914400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Other ideas (1) 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84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w guides / recommendations / inf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ducat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Writing analytical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eveloping interactive graphs and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seminating micro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intaining consistent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mmunicat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venting and minimis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Building relationships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Other ideas (2)…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ussian – English glossary of statis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DissComm Wiki for statis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ethod for sharing of software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Doubts about the usefulness of updating existing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ots of existing material (collection of referenc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hat do you want from this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How will you us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Work starts Satur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mall group from the Steering Group and other interested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im to finalize by the end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5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Gardner</cp:lastModifiedBy>
  <dcterms:modified xsi:type="dcterms:W3CDTF">2008-05-19T11:56:58Z</dcterms:modified>
  <cp:revision>31</cp:revision>
  <dc:subject/>
  <dc:title>Title of the Presentation</dc:title>
</cp:coreProperties>
</file>