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3231-2919-48D8-8001-4576E9A223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you have read the paper, and seen the demonstration yesterday, I’m going to tell more of the context and stuff that wasn’t in th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ble horses, field horses, hobby 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 wins: Simplifying some of the tools without adapting the process or the role of th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to gain support for the project outside the dissemin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 wins: Simplifying some of the tools without adapting the process or the role of th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to gain support for the project outside the dissemin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 wins: Simplifying some of the tools without adapting the process or the role of th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e to gain support for the project outside the dissemin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demo yester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ape, administrative burden by SN in the form of survey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n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 about my brother, owner of a company, complaining about the questionnaires from S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tiliser disposal agre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fa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ianeus, polypatr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ir interp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what is annual turnover, are taxes (like VAT) included, how to define a compan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593-CD58-4941-AC41-F63C29CE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F08-3218-47DD-A226-C06DE098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FDF-CEF4-41F8-AC8A-89FFCFE9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EE9-227F-4511-8CB8-2913CBD0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C300-DDA5-4BDD-9664-BE9C65EE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5A80-5614-4FDB-A422-683716E3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B18-213D-40E8-B647-005CBFC0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82A8-F3F4-43B5-9C10-5A46ADA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EFD9-BD7B-4529-A344-052E8168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577-E1FD-4305-942D-A633F75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946-1A2D-42BD-9F95-EB0EB68D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9CB-30D5-45E4-8192-397E9B2C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7AF7-0F7D-43AF-B31F-F6F6EB8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726-A944-4458-9E8C-67BE19A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875-F538-497D-895C-2E868ED4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0B10-BFED-4C52-B25E-9BDBCFAF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F186-0E52-49AE-B902-3C78C5F6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59B-7637-4D12-87DF-9E34DCC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F74-B722-4C64-98D9-DCB8AC89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6B6-7CA3-428E-BD4E-8B77E3D1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1E8-4FFC-4B9D-8E97-12841D2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F4B-DAD1-4460-B6AC-42AFEE8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85D-37C6-441E-A759-150AD02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A64-2618-4943-97AA-2651089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0FEDA9-9C5A-4F5F-B9E3-723256F87A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9C2C55-4324-4D7F-808C-B9EEC62A71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Improvements to the governance and dissemination process of StatLine, at Statistics Netherland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s. Ran van den B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13-15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</a:t>
            </a:r>
            <a:br>
              <a:rPr sz="3200"/>
            </a:b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Goals not met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anations sometimes too 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idelines not completely appl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inconsistencies still re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statistical departments still busy as a result of other priorities and being understaff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ols less success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halle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ow to keep the focus and attention for quality? And how to improve qua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mproving the Output (dissemination) proces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2204640"/>
            <a:ext cx="691488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to improve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ata was stored i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&gt;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0 pla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consistencies appe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dministration cumberso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ploading data to the website sometimes took too lo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blems maintaining the software in the near fu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Organisation of dissemination at S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60640" y="1773360"/>
            <a:ext cx="24163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51160" y="4437000"/>
            <a:ext cx="229608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27664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4440" y="2565360"/>
            <a:ext cx="16513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Div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227664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46080" y="3573360"/>
            <a:ext cx="2041560" cy="1557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Statis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360" y="3068640"/>
            <a:ext cx="50328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920" y="3573360"/>
            <a:ext cx="18752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95880" y="3573360"/>
            <a:ext cx="209196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068640"/>
            <a:ext cx="100800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068640"/>
            <a:ext cx="252108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4437000"/>
            <a:ext cx="204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.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2880" y="2276640"/>
            <a:ext cx="15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az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.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2775E-006 L 0.10955 -0.27537 E"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mproving the process; approach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9148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ick-wins without adapting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eview of the adapted or new t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sier administ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pying deltas to Internet instead of all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g term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governance mo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process, less ste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roles, quality checks at the begi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 and adapted tooling, only one administration and a minimum number of table storage lo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35280" y="1773360"/>
            <a:ext cx="6840360" cy="21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933720"/>
            <a:ext cx="684036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365720"/>
            <a:ext cx="6840360" cy="86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1989000"/>
            <a:ext cx="6840360" cy="19447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he new proces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676764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nd build me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 table and meta (PR &amp; administ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the table and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, report 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agains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l preview and check by head of department, report ready, publish automa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5661000"/>
            <a:ext cx="21020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15840" y="5661000"/>
            <a:ext cx="1925640" cy="825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661000"/>
            <a:ext cx="4392720" cy="792360"/>
          </a:xfrm>
          <a:prstGeom prst="rightArrow">
            <a:avLst>
              <a:gd name="adj1" fmla="val 50000"/>
              <a:gd name="adj2" fmla="val 138596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responsibility f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hallenges in implementing new governance model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9148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ople, responsibilities, r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help them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cess,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make it acceptable for 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change manag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cilitating, templates,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organise without much budget, resources,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’re still busy, using lessons learned, Agile techniques, colour theory (De Caluwé), Prince2, and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1240" y="260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mproving the Presentation of statistic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Web 5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of the overall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s, colours and layout have a modern looking web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s navigation and adds more explanations for inexperienced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d the Java applet with a more commonly available JavaScript/HTML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ormance and sca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mo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3040" y="260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Web 5 Entranc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82840" y="1733400"/>
            <a:ext cx="5861160" cy="5124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13040" y="260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Web 5 Exampl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791480" cy="36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164360" y="1628640"/>
            <a:ext cx="1979640" cy="863640"/>
          </a:xfrm>
          <a:prstGeom prst="wedgeRoundRectCallout">
            <a:avLst>
              <a:gd name="adj1" fmla="val 18004"/>
              <a:gd name="adj2" fmla="val 88421"/>
              <a:gd name="adj3" fmla="val 166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ear what icons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133720"/>
            <a:ext cx="2051280" cy="503280"/>
          </a:xfrm>
          <a:prstGeom prst="wedgeRoundRectCallout">
            <a:avLst>
              <a:gd name="adj1" fmla="val 12152"/>
              <a:gd name="adj2" fmla="val 145268"/>
              <a:gd name="adj3" fmla="val 166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1628640"/>
            <a:ext cx="2089080" cy="936720"/>
          </a:xfrm>
          <a:prstGeom prst="wedgeRoundRectCallout">
            <a:avLst>
              <a:gd name="adj1" fmla="val 24546"/>
              <a:gd name="adj2" fmla="val 76611"/>
              <a:gd name="adj3" fmla="val 166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nge th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3040" y="260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PR through Statistic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veral “special” dedicated websi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th monitor (Jeugdmonitor – Dutch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BS in your neighbourhood (CBS in uw buurt – Dutch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 development: CBS for companies and organis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 investigation: StatLine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sualisations, such as Business Cycle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 earth (English and Dut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 investigation: banners (using webservi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rting-points, principl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ll figures from Statistics Netherlands (SN) should be published on StatLine, the one-and-only database with all S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al requirements for organisation 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N aims at everyone in The Netherlands and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evel of visitors varies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lso aim at non-vis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Youth monitor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059600" cy="18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ly StatWeb 3 undern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s to migrate to webservices and StatWeb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9487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705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BS in your neighbourhood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55308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Google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43000" y="2565360"/>
            <a:ext cx="710100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Google Earth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6471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40000" y="2781360"/>
            <a:ext cx="5256360" cy="3238560"/>
          </a:xfrm>
          <a:prstGeom prst="rect">
            <a:avLst/>
          </a:prstGeom>
          <a:solidFill>
            <a:srgbClr val="00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852640"/>
            <a:ext cx="3168720" cy="288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Coverage versus level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987640" cy="72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rough ind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 to bridge? By 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2781360"/>
            <a:ext cx="3097080" cy="2952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941720"/>
            <a:ext cx="2881440" cy="936720"/>
          </a:xfrm>
          <a:prstGeom prst="ellipse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s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2781360"/>
            <a:ext cx="0" cy="324000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340000" y="6021360"/>
            <a:ext cx="5472000" cy="0"/>
          </a:xfrm>
          <a:prstGeom prst="line">
            <a:avLst/>
          </a:prstGeom>
          <a:ln w="1015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68400" y="6093000"/>
            <a:ext cx="43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verage of all details of all 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06864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vel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dien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sta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852640"/>
            <a:ext cx="1800360" cy="259236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4076640"/>
            <a:ext cx="1368360" cy="15130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3080" y="5373720"/>
            <a:ext cx="1224000" cy="431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3080" y="5734080"/>
            <a:ext cx="3814560" cy="214200"/>
          </a:xfrm>
          <a:prstGeom prst="ellipse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1844640"/>
            <a:ext cx="1584360" cy="792360"/>
          </a:xfrm>
          <a:prstGeom prst="wedgeRoundRectCallout">
            <a:avLst>
              <a:gd name="adj1" fmla="val -52805"/>
              <a:gd name="adj2" fmla="val 82865"/>
              <a:gd name="adj3" fmla="val 16667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N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916280"/>
            <a:ext cx="1800360" cy="792000"/>
          </a:xfrm>
          <a:prstGeom prst="wedgeRoundRectCallout">
            <a:avLst>
              <a:gd name="adj1" fmla="val -8731"/>
              <a:gd name="adj2" fmla="val 86874"/>
              <a:gd name="adj3" fmla="val 16667"/>
            </a:avLst>
          </a:prstGeom>
          <a:solidFill>
            <a:srgbClr val="ff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dicated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7066800" y="41058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91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Lessons learned: Things to do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ment of th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ment of the end-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d team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most important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is two-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tom-up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-active on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elines, tools ready at the begi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4680" y="5734080"/>
            <a:ext cx="5616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quality and efficiency requ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jus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Discussion, quest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8796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is process and organisation f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uld a “Quality Police” still be requ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keep attention on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increase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uld the results of Achieving level 1 have been better i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ch table was reviewed after it was improve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tatistical departments could have been “ordered” to spend more time on quality? At what co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rting-points, principl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udget reductions and tackling administrative burdens (red tape) makes Public Relations (PR) for SN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 means for PR is StatLine, the database of all statistics of 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rlier improvements (StatLine 4) did not suc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ity was too large: new process, migration of meta and data, new database format, new software for complete process, coordination of terms at a high level in 1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mongst the solut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Line 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mprove quality and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 sure software is working up to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ssons learned from StatLine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 through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visualis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dicated web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Improve quality, efficiency and accessibility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879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Lin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CoOP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hiev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ination leve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comprehensibility and uniformity of the statistics: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put (dissemination)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ign governance of the communication and the dissemination process along with the tools: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ntation of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se layer around the StatLine database (StatWeb 5) to make it more user-friendly: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OP stands for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out it, we would not be success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 Problem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238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lems for understanding table expla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ficialise, difficult, solemn and old-fashioned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chnical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stical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ality attention and procedures were focused on paper articles, webarti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on StatLin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semination department served as Quality Po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oordination level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34920" y="1628640"/>
            <a:ext cx="677052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ckground: Model for levels of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03280" y="2492280"/>
          <a:ext cx="7740720" cy="3451320"/>
        </p:xfrm>
        <a:graphic>
          <a:graphicData uri="http://schemas.openxmlformats.org/drawingml/2006/table">
            <a:tbl>
              <a:tblPr/>
              <a:tblGrid>
                <a:gridCol w="865080"/>
                <a:gridCol w="6875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igures have a clear and correct label and 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l terms = equal definitions and vice ver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 between terms are def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isation of terms, preference for these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isation of terms in tables, embargo on other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stent data between different 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ined 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</a:t>
            </a:r>
            <a:br>
              <a:rPr sz="3200"/>
            </a:b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Project approach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2388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ilita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uidelines (level of audienc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wsview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mmunication, newsletters each month, open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verviews of parts of metadata such as tit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trong cooperation with the seven statistical departments, dissemination department, project tea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ott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up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warding best effort with a pie each we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reach level 1 was (and is) difficult: a lot of stakeholders, communication,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Achieving coordination level 1</a:t>
            </a:r>
            <a:br>
              <a:rPr sz="3200"/>
            </a:b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Project resul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00 tables for which text was reviewed, improved and placed in 6 month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expla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ly any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awareness f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, supported,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viewing a table before pub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verview of meta in StatLin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42880" y="260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36:51Z</dcterms:created>
  <dc:creator>cbmm</dc:creator>
  <dc:description/>
  <dc:language>en-US</dc:language>
  <cp:lastModifiedBy>ONU</cp:lastModifiedBy>
  <dcterms:modified xsi:type="dcterms:W3CDTF">2008-05-14T16:38:05Z</dcterms:modified>
  <cp:revision>26</cp:revision>
  <dc:subject/>
  <dc:title>Statistics Netherlands StatWeb demonstration</dc:title>
</cp:coreProperties>
</file>