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CFD8-3FEA-45F0-89D3-DA2FE11AA1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ing you have read the paper, and seen the demonstration yesterday, I’m going to tell more of the context and stuff that wasn’t in th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able horses, field horses, hobby 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ck wins: Simplifying some of the tools without adapting the process or the role of the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to gain support for the project outside the dissemination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ck wins: Simplifying some of the tools without adapting the process or the role of the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to gain support for the project outside the dissemination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ck wins: Simplifying some of the tools without adapting the process or the role of the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to gain support for the project outside the dissemination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demo yester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tape, administrative burden by SN in the form of surveys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na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 about my brother, owner of a company, complaining about the questionnaires from S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tiliser disposal agre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far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ianeus, polypatr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ir interp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what is annual turnover, are taxes (like VAT) included, how to define a compan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D59-7B56-47AA-AB1F-79EC962C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20F-D2DC-478D-A728-AE3E3782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6D5-C197-4C2A-A89B-DB6E9AB2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9CD-2380-44C3-9E6D-A33DEEFE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2187-9B31-466A-8DE8-CDEC3C9D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B06C-B737-49F7-99A9-CE301DE8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7552-2566-476E-9FE6-3EF6A40A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354D-1B40-470B-B7BB-A02FE8FF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8BC1-80FB-4966-8574-28961400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CA29-6042-445F-91E0-6053F971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0324-FBFD-4C0C-9577-775E1D45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927-7E80-49B2-BF86-988A09D1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7E1E-D28C-4FC9-B387-3327489A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9870-3FFC-4A26-942C-1BB4E681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0B5A-ECA7-41A4-92A1-7237A51A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D38A-2EC4-4232-9156-9C871801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A045-736A-4E5A-9D37-37B9B9D2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D1B-4EB8-453E-B802-E7DD6377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9E9-F30E-4C0E-BFF7-C30FECEE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238-F862-41F9-A241-7C7E2BA0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A8C-07D9-46E1-95EB-D8F5A81B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368-1C73-4381-89BD-F416C48D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E74-2135-46D6-BC89-EC5E8532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B4B-1A26-4906-8BB2-EE9782FA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1D71D9-C273-41FD-B96F-CBCD0FBC5B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61F58D-BB6B-4889-AAD4-534519E510D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Improvements to the governance and dissemination process of StatLine, at Statistics Netherlands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s. Ran van den B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tistics Nether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13-15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Achieving coordination level 1</a:t>
            </a:r>
            <a:br>
              <a:rPr sz="3200"/>
            </a:b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Goals not met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2388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lanations sometimes too 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idelines not completely appl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inconsistencies still re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statistical departments still busy as a result of other priorities and being understaff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ols less success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hallen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ow to keep the focus and attention for quality? And how to improve qual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42880" y="260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6914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Improving the Output (dissemination) proces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5120" y="2204640"/>
            <a:ext cx="691488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sons to improve th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ata was stored in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&gt;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0 pla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consistencies appe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dministration cumberso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Uploading data to the website sometimes took too lo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oblems maintaining the software in the near fu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1240" y="2602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Organisation of dissemination at SN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1240" y="2602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60640" y="1773360"/>
            <a:ext cx="241632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ir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51160" y="4437000"/>
            <a:ext cx="229608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2276640"/>
            <a:ext cx="0" cy="28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14440" y="2565360"/>
            <a:ext cx="165132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Div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2276640"/>
            <a:ext cx="0" cy="28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46080" y="3573360"/>
            <a:ext cx="2041560" cy="1557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Statis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92360" y="3068640"/>
            <a:ext cx="503280" cy="50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7920" y="3573360"/>
            <a:ext cx="18752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95880" y="3573360"/>
            <a:ext cx="209196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3068640"/>
            <a:ext cx="1008000" cy="50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068640"/>
            <a:ext cx="2521080" cy="50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4437000"/>
            <a:ext cx="204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al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. cour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2880" y="2276640"/>
            <a:ext cx="15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az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. cour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2775E-006 L 0.10955 -0.27537 E">
                                      <p:cBhvr>
                                        <p:cTn id="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6914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Improving the process; approach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69148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ick-wins without adapting th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eview of the adapted or new t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asier administ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pying deltas to Internet instead of all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ng term impr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w governance mo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w process, less ste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w roles, quality checks at the begi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w and adapted tooling, only one administration and a minimum number of table storage loc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11240" y="2602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35280" y="1773360"/>
            <a:ext cx="6840360" cy="21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933720"/>
            <a:ext cx="6840360" cy="43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4365720"/>
            <a:ext cx="6840360" cy="863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1989000"/>
            <a:ext cx="6840360" cy="19447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6914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The new proces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676764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and build me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unce table and meta (PR &amp; administ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 the table and 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, report 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against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l preview and check by head of department, report ready, publish automat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1240" y="2602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5661000"/>
            <a:ext cx="210204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15840" y="5661000"/>
            <a:ext cx="1925640" cy="8254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661000"/>
            <a:ext cx="4392720" cy="792360"/>
          </a:xfrm>
          <a:prstGeom prst="rightArrow">
            <a:avLst>
              <a:gd name="adj1" fmla="val 50000"/>
              <a:gd name="adj2" fmla="val 138596"/>
            </a:avLst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responsibility f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Challenges in implementing new governance model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691488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ople, responsibilities, ro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to help them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cess,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to make it acceptable for 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gani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to change manag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cilitating, templates,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to organise without much budget, resources, tim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’re still busy, using lessons learned, Agile techniques, colour theory (De Caluwé), Prince2, and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1240" y="2602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Improving the Presentation of statistic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Web 5 improv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 of the overall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ons, colours and layout have a modern looking web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s navigation and adds more explanations for inexperienced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ced the Java applet with a more commonly available JavaScript/HTML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formance and scal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mor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3040" y="260280"/>
            <a:ext cx="18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cces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tatWeb 5 Entranc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82840" y="1733400"/>
            <a:ext cx="5861160" cy="5124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313040" y="260280"/>
            <a:ext cx="18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cces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tatWeb 5 Exampl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7791480" cy="364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164360" y="1628640"/>
            <a:ext cx="1979640" cy="863640"/>
          </a:xfrm>
          <a:prstGeom prst="wedgeRoundRectCallout">
            <a:avLst>
              <a:gd name="adj1" fmla="val 18004"/>
              <a:gd name="adj2" fmla="val 88421"/>
              <a:gd name="adj3" fmla="val 16667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ear what icons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2133720"/>
            <a:ext cx="2051280" cy="503280"/>
          </a:xfrm>
          <a:prstGeom prst="wedgeRoundRectCallout">
            <a:avLst>
              <a:gd name="adj1" fmla="val 12152"/>
              <a:gd name="adj2" fmla="val 145268"/>
              <a:gd name="adj3" fmla="val 16667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la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0" y="1628640"/>
            <a:ext cx="2089080" cy="936720"/>
          </a:xfrm>
          <a:prstGeom prst="wedgeRoundRectCallout">
            <a:avLst>
              <a:gd name="adj1" fmla="val 24546"/>
              <a:gd name="adj2" fmla="val 76611"/>
              <a:gd name="adj3" fmla="val 16667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ange the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3040" y="260280"/>
            <a:ext cx="18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cces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PR through Statistic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veral “special” dedicated websi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th monitor (Jeugdmonitor – Dutch on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BS in your neighbourhood (CBS in uw buurt – Dutch on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der development: CBS for companies and organis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der investigation: StatLine 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isualisations, such as Business Cycle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ogle 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ogle earth (English and Dut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der investigation: banners (using webservic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tarting-points, principle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ll figures from Statistics Netherlands (SN) should be published on StatLine, the one-and-only database with all S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cial requirements for organisation and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N aims at everyone in The Netherlands and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evel of visitors varies significa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lso aim at non-vis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Youth monitor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7059600" cy="18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tly StatWeb 3 undern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ns to migrate to webservices and StatWeb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69487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705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CBS in your neighbourhood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655308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s Google M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043000" y="2565360"/>
            <a:ext cx="710100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Google Earth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6471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340000" y="2781360"/>
            <a:ext cx="5256360" cy="3238560"/>
          </a:xfrm>
          <a:prstGeom prst="rect">
            <a:avLst/>
          </a:prstGeom>
          <a:solidFill>
            <a:srgbClr val="000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852640"/>
            <a:ext cx="3168720" cy="288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Coverage versus level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987640" cy="72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rough indic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s to bridge? By 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2781360"/>
            <a:ext cx="3097080" cy="295272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4941720"/>
            <a:ext cx="2881440" cy="936720"/>
          </a:xfrm>
          <a:prstGeom prst="ellipse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s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2781360"/>
            <a:ext cx="0" cy="3240000"/>
          </a:xfrm>
          <a:prstGeom prst="line">
            <a:avLst/>
          </a:prstGeom>
          <a:ln w="1015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340000" y="6021360"/>
            <a:ext cx="5472000" cy="0"/>
          </a:xfrm>
          <a:prstGeom prst="line">
            <a:avLst/>
          </a:prstGeom>
          <a:ln w="1015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68400" y="6093000"/>
            <a:ext cx="43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verage of all details of all stat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2920" y="306864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vel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udienc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se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dersta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2852640"/>
            <a:ext cx="1800360" cy="259236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84360" y="4076640"/>
            <a:ext cx="1368360" cy="151308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3080" y="5373720"/>
            <a:ext cx="1224000" cy="431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an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3080" y="5734080"/>
            <a:ext cx="3814560" cy="214200"/>
          </a:xfrm>
          <a:prstGeom prst="ellipse">
            <a:avLst/>
          </a:prstGeom>
          <a:solidFill>
            <a:srgbClr val="ff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6000" y="1844640"/>
            <a:ext cx="1584360" cy="792360"/>
          </a:xfrm>
          <a:prstGeom prst="wedgeRoundRectCallout">
            <a:avLst>
              <a:gd name="adj1" fmla="val -52805"/>
              <a:gd name="adj2" fmla="val 82865"/>
              <a:gd name="adj3" fmla="val 16667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N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1916280"/>
            <a:ext cx="1800360" cy="792000"/>
          </a:xfrm>
          <a:prstGeom prst="wedgeRoundRectCallout">
            <a:avLst>
              <a:gd name="adj1" fmla="val -8731"/>
              <a:gd name="adj2" fmla="val 86874"/>
              <a:gd name="adj3" fmla="val 16667"/>
            </a:avLst>
          </a:prstGeom>
          <a:solidFill>
            <a:srgbClr val="ff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dicated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7066800" y="41058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6914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Lessons learned: Things to do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36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ment of th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ment of the end-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d team l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most important g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is two-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tom-up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-active on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idelines, tools ready at the begi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64680" y="5734080"/>
            <a:ext cx="5616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ing quality and efficiency requ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just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Discussion, question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8796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es this process and organisation f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uld a “Quality Police” still be requi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keep attention on qual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increase qual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uld the results of Achieving level 1 have been better i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ch table was reviewed after it was improve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tatistical departments could have been “ordered” to spend more time on quality? At what co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tarting-points, principle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ffff00"/>
              </a:buClr>
              <a:buFont typeface="Arial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udget reductions and tackling administrative burdens (red tape) makes Public Relations (PR) for SN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of the means for PR is StatLine, the database of all statistics of S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ffff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arlier improvements (StatLine 4) did not succ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xity was too large: new process, migration of meta and data, new database format, new software for complete process, coordination of terms at a high level in 1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Amongst the solution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Line 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Improve quality and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 acces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 sure software is working up to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ssons learned from StatLine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 through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visualis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dicated web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Improve quality, efficiency and accessibility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879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tatLine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CoOP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hiev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ination leve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 comprehensibility and uniformity of the statistics: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ing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put (dissemination)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esign governance of the communication and the dissemination process along with the tools: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ing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ntation of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se layer around the StatLine database (StatWeb 5) to make it more user-friendly: acces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OP stands for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thout it, we would not be success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Achieving Coordination level 1 Problem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723888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blems for understanding table expla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ficialise, difficult, solemn and old-fashioned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chnical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istical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ality attention and procedures were focused on paper articles, webartic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on StatLine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semination department served as Quality Po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42880" y="260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Coordination level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34920" y="1628640"/>
            <a:ext cx="677052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ckground: Model for levels of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03280" y="2492280"/>
          <a:ext cx="7740720" cy="3451320"/>
        </p:xfrm>
        <a:graphic>
          <a:graphicData uri="http://schemas.openxmlformats.org/drawingml/2006/table">
            <a:tbl>
              <a:tblPr/>
              <a:tblGrid>
                <a:gridCol w="865080"/>
                <a:gridCol w="6875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figures have a clear and correct label and 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al terms = equal definitions and vice ver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s between terms are defi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isation of terms, preference for these te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isation of terms in tables, embargo on other te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stent data between different t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bined t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7742880" y="260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Achieving coordination level 1</a:t>
            </a:r>
            <a:br>
              <a:rPr sz="3200"/>
            </a:b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Project approach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723888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cilitat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uidelines (level of audienc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wsviewe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mmunication, newsletters each month, open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verviews of parts of metadata such as tit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trong cooperation with the seven statistical departments, dissemination department, project tea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ott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up approa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warding best effort with a pie each we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reach level 1 was (and is) difficult: a lot of stakeholders, communication, 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42880" y="260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Achieving coordination level 1</a:t>
            </a:r>
            <a:br>
              <a:rPr sz="3200"/>
            </a:b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Project resul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2388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900 tables for which text was reviewed, improved and placed in 6 month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expla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ly any 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awareness f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w, supported,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tex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viewing a table before pub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verview of meta in StatLin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42880" y="260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2:36:51Z</dcterms:created>
  <dc:creator>cbmm</dc:creator>
  <dc:description/>
  <dc:language>en-US</dc:language>
  <cp:lastModifiedBy>ONU</cp:lastModifiedBy>
  <dcterms:modified xsi:type="dcterms:W3CDTF">2008-05-14T16:38:05Z</dcterms:modified>
  <cp:revision>26</cp:revision>
  <dc:subject/>
  <dc:title>Statistics Netherlands StatWeb demonstration</dc:title>
</cp:coreProperties>
</file>