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707760" y="742680"/>
            <a:ext cx="536724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4192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52BD-1284-4EE7-B8F1-4E1C410627D8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7240" cy="371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3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CAA9-F4C5-4EE2-9C9C-A99764C2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7315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09680" y="3645000"/>
            <a:ext cx="7315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D9D2-F93E-4D89-B7F9-397A3A3A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0968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5836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D7953-07A1-4E9A-ACE2-6B9FFE3F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2880" y="304776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56080" y="304776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09680" y="364500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82880" y="364500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56080" y="364500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A9D8D-EE6F-4864-887C-16256AFF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09680" y="3047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09680" y="1828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0968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09680" y="3047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BB2A-8F63-4832-BA38-63DDCE68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5836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09680" y="3645000"/>
            <a:ext cx="7315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7315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9680" y="3645000"/>
            <a:ext cx="7315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0968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5836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2880" y="304776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56080" y="304776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09680" y="364500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82880" y="364500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156080" y="364500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47F5-5681-4A04-9D1C-ECCF4AF2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E7F3-6BB1-4E3F-AE2E-C987FB9F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B85C-E14F-4AC7-888F-BB08BEE6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09680" y="1828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DDB6-52D3-40F4-9520-32E1B8EB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0968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0BCB-170E-4850-92A7-F9491C73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5836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CD00-129C-4577-B650-1EEC91D6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09680" y="3645000"/>
            <a:ext cx="7315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C835-6F49-43C9-A2B0-043C3497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01240" y="6552720"/>
            <a:ext cx="552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185C-B0BA-4307-9457-4F52460C7612}" type="slidenum">
              <a:rPr b="0" lang="fi-FI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409720" y="6552720"/>
            <a:ext cx="221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yhyt%20viiva" descr=""/>
          <p:cNvPicPr/>
          <p:nvPr/>
        </p:nvPicPr>
        <p:blipFill>
          <a:blip r:embed="rId2"/>
          <a:stretch/>
        </p:blipFill>
        <p:spPr>
          <a:xfrm>
            <a:off x="5459400" y="6516720"/>
            <a:ext cx="4446720" cy="36360"/>
          </a:xfrm>
          <a:prstGeom prst="rect">
            <a:avLst/>
          </a:prstGeom>
          <a:ln w="0">
            <a:noFill/>
          </a:ln>
        </p:spPr>
      </p:pic>
      <p:pic>
        <p:nvPicPr>
          <p:cNvPr id="6" name="englanti2" descr=""/>
          <p:cNvPicPr/>
          <p:nvPr/>
        </p:nvPicPr>
        <p:blipFill>
          <a:blip r:embed="rId3"/>
          <a:stretch/>
        </p:blipFill>
        <p:spPr>
          <a:xfrm>
            <a:off x="282600" y="304920"/>
            <a:ext cx="30700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englanti2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267080" cy="760680"/>
          </a:xfrm>
          <a:prstGeom prst="rect">
            <a:avLst/>
          </a:prstGeom>
          <a:ln w="0">
            <a:noFill/>
          </a:ln>
        </p:spPr>
      </p:pic>
      <p:pic>
        <p:nvPicPr>
          <p:cNvPr id="45" name="pitkapaksuviiva3" descr=""/>
          <p:cNvPicPr/>
          <p:nvPr/>
        </p:nvPicPr>
        <p:blipFill>
          <a:blip r:embed="rId3"/>
          <a:stretch/>
        </p:blipFill>
        <p:spPr>
          <a:xfrm>
            <a:off x="0" y="6361200"/>
            <a:ext cx="9926640" cy="573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6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18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2100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" Target="slide16.xm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680" y="2209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Management of stakeholder relationships and communication at Statistics Finland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CE Works Session on Statistical Dissemination an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va, 13-15 May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li Mikkelä, Statistics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42680" y="220932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atic analysis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rget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ordination and standard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gagement of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shing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 and support of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2D00-D97D-40AB-98D8-F57CB760C4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2680" y="10663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of stakeholder co-operation and communication 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2680" y="25909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-level strategic co-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/biannual meetings on to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550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stries, organisations representing economic and business life, parties of th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ational Statistical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sion makers, e.g. meetings with parliamentary groups and Finnish M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EC5B-468A-41A0-9DE1-FD1F5F09EF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of stakeholder co-operation and communication 2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2680" y="2362320"/>
            <a:ext cx="8705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o-operative meetings and co-operativ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ering and co-operative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versities and research organis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ological co-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ees and 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statist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55CC-C448-49B2-939C-92303F214E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of stakeholder co-operation and communication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2680" y="251424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 Relation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operative groups for various statistical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for economic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95AF-52EA-4C7E-BE2C-CCD4C8ED5E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of stakeholder co-operation and communication 4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2680" y="23623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scanning the operatio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essential part of the work of the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ys: corporate image, user, stakeholder, personnel, e.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nymous customer feed back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-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32AD-D2F2-4F01-9A77-199AE0C585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8120" y="3162600"/>
            <a:ext cx="3473280" cy="20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Resul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3BA09-F516-4FA2-913D-4456BFF6988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42680" y="19051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active relations, mutual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7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timacy </a:t>
            </a:r>
            <a:r>
              <a:rPr b="0" lang="en-GB" sz="3000" spc="-1" strike="noStrike" u="sng">
                <a:solidFill>
                  <a:srgbClr val="ffc33d"/>
                </a:solidFill>
                <a:uFillTx/>
                <a:latin typeface="Arial"/>
                <a:hlinkClick r:id="rId1" action="ppaction://hlinksldjump"/>
              </a:rPr>
              <a:t>=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of product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ionalising of statistical production in Finland as a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administrative and register bas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rate discussion about response burden, relatively high respons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ologic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mage of Statistics Finland as an emplo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nel: competencies, understanding,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595720" y="5927040"/>
            <a:ext cx="6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c33d"/>
                </a:solidFill>
                <a:uFillTx/>
                <a:latin typeface="Times New Roman"/>
                <a:hlinkClick r:id="rId2" action="ppaction://hlinksldjump"/>
              </a:rPr>
              <a:t>=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have we ga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CAFDF-9DAD-43C9-BBFA-373BDC3812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33520" y="1693800"/>
          <a:ext cx="8610480" cy="46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93800"/>
                    <a:ext cx="86104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iability of information produced b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s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756D-B820-4A7B-BBC6-89961A517F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vity of information produced b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s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14160" y="2289960"/>
            <a:ext cx="8568000" cy="4023360"/>
            <a:chOff x="614160" y="2289960"/>
            <a:chExt cx="8568000" cy="4023360"/>
          </a:xfrm>
        </p:grpSpPr>
        <p:graphicFrame>
          <p:nvGraphicFramePr>
            <p:cNvPr id="191" name=""/>
            <p:cNvGraphicFramePr/>
            <p:nvPr/>
          </p:nvGraphicFramePr>
          <p:xfrm>
            <a:off x="762120" y="2362320"/>
            <a:ext cx="8420040" cy="3951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362320"/>
                      <a:ext cx="8420040" cy="395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614160" y="2289960"/>
              <a:ext cx="1854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700" spc="-1" strike="noStrike">
                  <a:solidFill>
                    <a:srgbClr val="000000"/>
                  </a:solidFill>
                  <a:latin typeface="Arial"/>
                </a:rPr>
                <a:t>% of respond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C3DC-8128-4E1C-ACFA-35A9964D54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 citizens get enough inform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ut the meaning of statistical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6640" y="2133720"/>
            <a:ext cx="8217000" cy="3803400"/>
            <a:chOff x="836640" y="2133720"/>
            <a:chExt cx="8217000" cy="3803400"/>
          </a:xfrm>
        </p:grpSpPr>
        <p:graphicFrame>
          <p:nvGraphicFramePr>
            <p:cNvPr id="196" name=""/>
            <p:cNvGraphicFramePr/>
            <p:nvPr/>
          </p:nvGraphicFramePr>
          <p:xfrm>
            <a:off x="836640" y="2214720"/>
            <a:ext cx="8217000" cy="3722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6640" y="2214720"/>
                      <a:ext cx="8217000" cy="372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965880" y="2133720"/>
              <a:ext cx="17524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% of respond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191800" y="585108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 u="sng">
                <a:solidFill>
                  <a:srgbClr val="ffc33d"/>
                </a:solidFill>
                <a:uFillTx/>
                <a:latin typeface="Arial"/>
                <a:hlinkClick r:id="rId3" action="ppaction://hlinksldjump"/>
              </a:rPr>
              <a:t>&lt;=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62C36-1810-4C44-A3A6-DFB2F5D7F6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52480" y="2362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55000"/>
              </a:lnSpc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 and its role in Statistics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5000"/>
              </a:lnSpc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ing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5000"/>
              </a:lnSpc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and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5000"/>
              </a:lnSpc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wards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069E-5B5C-42FD-B698-5C90FF3CB9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00200" y="0"/>
            <a:ext cx="830592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owards the fu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457D-5EC0-492D-82F0-8AE1C1F9F3E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43040" y="838080"/>
            <a:ext cx="842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wards profitable communication with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2420280"/>
            <a:ext cx="32004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ublic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rofi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76880" y="685584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2420280"/>
            <a:ext cx="32004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ract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4D7F-0BCB-4D77-8223-5B42043CE73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81080" y="2027160"/>
            <a:ext cx="731520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ank you!</a:t>
            </a:r>
            <a:br>
              <a:rPr sz="36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i Mikkelä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or, Information Servic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s Finland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ail: heli.mikkela@stat.fi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. +358 9 1734 3200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sm +358 50 568 7444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stat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4200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unctions of corporate communic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eif Åbe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27480" y="1569960"/>
            <a:ext cx="3506760" cy="2381400"/>
          </a:xfrm>
          <a:custGeom>
            <a:avLst/>
            <a:gdLst/>
            <a:ahLst/>
            <a:rect l="l" t="t" r="r" b="b"/>
            <a:pathLst>
              <a:path w="2373" h="1661">
                <a:moveTo>
                  <a:pt x="1176" y="1652"/>
                </a:moveTo>
                <a:lnTo>
                  <a:pt x="0" y="436"/>
                </a:lnTo>
                <a:lnTo>
                  <a:pt x="172" y="324"/>
                </a:lnTo>
                <a:lnTo>
                  <a:pt x="244" y="268"/>
                </a:lnTo>
                <a:lnTo>
                  <a:pt x="412" y="184"/>
                </a:lnTo>
                <a:lnTo>
                  <a:pt x="524" y="140"/>
                </a:lnTo>
                <a:lnTo>
                  <a:pt x="648" y="96"/>
                </a:lnTo>
                <a:lnTo>
                  <a:pt x="788" y="44"/>
                </a:lnTo>
                <a:lnTo>
                  <a:pt x="1012" y="0"/>
                </a:lnTo>
                <a:lnTo>
                  <a:pt x="1152" y="0"/>
                </a:lnTo>
                <a:lnTo>
                  <a:pt x="1320" y="12"/>
                </a:lnTo>
                <a:lnTo>
                  <a:pt x="1532" y="28"/>
                </a:lnTo>
                <a:lnTo>
                  <a:pt x="1644" y="56"/>
                </a:lnTo>
                <a:lnTo>
                  <a:pt x="1756" y="96"/>
                </a:lnTo>
                <a:lnTo>
                  <a:pt x="1896" y="152"/>
                </a:lnTo>
                <a:lnTo>
                  <a:pt x="2176" y="308"/>
                </a:lnTo>
                <a:lnTo>
                  <a:pt x="2372" y="476"/>
                </a:lnTo>
                <a:lnTo>
                  <a:pt x="1184" y="1660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92560" y="3956040"/>
            <a:ext cx="3546360" cy="2370240"/>
          </a:xfrm>
          <a:custGeom>
            <a:avLst/>
            <a:gdLst/>
            <a:ahLst/>
            <a:rect l="l" t="t" r="r" b="b"/>
            <a:pathLst>
              <a:path w="2401" h="1653">
                <a:moveTo>
                  <a:pt x="1152" y="48"/>
                </a:moveTo>
                <a:lnTo>
                  <a:pt x="0" y="1200"/>
                </a:lnTo>
                <a:lnTo>
                  <a:pt x="172" y="1328"/>
                </a:lnTo>
                <a:lnTo>
                  <a:pt x="244" y="1384"/>
                </a:lnTo>
                <a:lnTo>
                  <a:pt x="412" y="1468"/>
                </a:lnTo>
                <a:lnTo>
                  <a:pt x="524" y="1512"/>
                </a:lnTo>
                <a:lnTo>
                  <a:pt x="648" y="1556"/>
                </a:lnTo>
                <a:lnTo>
                  <a:pt x="788" y="1608"/>
                </a:lnTo>
                <a:lnTo>
                  <a:pt x="1012" y="1652"/>
                </a:lnTo>
                <a:lnTo>
                  <a:pt x="1152" y="1652"/>
                </a:lnTo>
                <a:lnTo>
                  <a:pt x="1352" y="1652"/>
                </a:lnTo>
                <a:lnTo>
                  <a:pt x="1532" y="1624"/>
                </a:lnTo>
                <a:lnTo>
                  <a:pt x="1644" y="1596"/>
                </a:lnTo>
                <a:lnTo>
                  <a:pt x="1776" y="1584"/>
                </a:lnTo>
                <a:lnTo>
                  <a:pt x="1872" y="1536"/>
                </a:lnTo>
                <a:lnTo>
                  <a:pt x="2160" y="1392"/>
                </a:lnTo>
                <a:lnTo>
                  <a:pt x="2400" y="1152"/>
                </a:lnTo>
                <a:lnTo>
                  <a:pt x="1248" y="0"/>
                </a:ln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2235240"/>
            <a:ext cx="2514600" cy="3373560"/>
          </a:xfrm>
          <a:custGeom>
            <a:avLst/>
            <a:gdLst/>
            <a:ahLst/>
            <a:rect l="l" t="t" r="r" b="b"/>
            <a:pathLst>
              <a:path w="1701" h="2353">
                <a:moveTo>
                  <a:pt x="0" y="1188"/>
                </a:moveTo>
                <a:lnTo>
                  <a:pt x="1172" y="2352"/>
                </a:lnTo>
                <a:lnTo>
                  <a:pt x="1268" y="2304"/>
                </a:lnTo>
                <a:lnTo>
                  <a:pt x="1316" y="2208"/>
                </a:lnTo>
                <a:lnTo>
                  <a:pt x="1460" y="2016"/>
                </a:lnTo>
                <a:lnTo>
                  <a:pt x="1556" y="1872"/>
                </a:lnTo>
                <a:lnTo>
                  <a:pt x="1604" y="1728"/>
                </a:lnTo>
                <a:lnTo>
                  <a:pt x="1652" y="1584"/>
                </a:lnTo>
                <a:lnTo>
                  <a:pt x="1652" y="1392"/>
                </a:lnTo>
                <a:lnTo>
                  <a:pt x="1700" y="1240"/>
                </a:lnTo>
                <a:lnTo>
                  <a:pt x="1688" y="1072"/>
                </a:lnTo>
                <a:lnTo>
                  <a:pt x="1672" y="860"/>
                </a:lnTo>
                <a:lnTo>
                  <a:pt x="1644" y="748"/>
                </a:lnTo>
                <a:lnTo>
                  <a:pt x="1604" y="636"/>
                </a:lnTo>
                <a:lnTo>
                  <a:pt x="1548" y="496"/>
                </a:lnTo>
                <a:lnTo>
                  <a:pt x="1364" y="240"/>
                </a:lnTo>
                <a:lnTo>
                  <a:pt x="1172" y="0"/>
                </a:lnTo>
                <a:lnTo>
                  <a:pt x="0" y="1168"/>
                </a:lnTo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30440" y="2195640"/>
            <a:ext cx="2554200" cy="3470040"/>
          </a:xfrm>
          <a:custGeom>
            <a:avLst/>
            <a:gdLst/>
            <a:ahLst/>
            <a:rect l="l" t="t" r="r" b="b"/>
            <a:pathLst>
              <a:path w="1729" h="2421">
                <a:moveTo>
                  <a:pt x="1728" y="1192"/>
                </a:moveTo>
                <a:lnTo>
                  <a:pt x="516" y="2420"/>
                </a:lnTo>
                <a:lnTo>
                  <a:pt x="360" y="2240"/>
                </a:lnTo>
                <a:lnTo>
                  <a:pt x="304" y="2156"/>
                </a:lnTo>
                <a:lnTo>
                  <a:pt x="208" y="1988"/>
                </a:lnTo>
                <a:lnTo>
                  <a:pt x="152" y="1920"/>
                </a:lnTo>
                <a:lnTo>
                  <a:pt x="96" y="1804"/>
                </a:lnTo>
                <a:lnTo>
                  <a:pt x="56" y="1636"/>
                </a:lnTo>
                <a:lnTo>
                  <a:pt x="12" y="1400"/>
                </a:lnTo>
                <a:lnTo>
                  <a:pt x="0" y="1252"/>
                </a:lnTo>
                <a:lnTo>
                  <a:pt x="12" y="1056"/>
                </a:lnTo>
                <a:lnTo>
                  <a:pt x="52" y="860"/>
                </a:lnTo>
                <a:lnTo>
                  <a:pt x="84" y="748"/>
                </a:lnTo>
                <a:lnTo>
                  <a:pt x="112" y="636"/>
                </a:lnTo>
                <a:lnTo>
                  <a:pt x="180" y="468"/>
                </a:lnTo>
                <a:lnTo>
                  <a:pt x="364" y="196"/>
                </a:lnTo>
                <a:lnTo>
                  <a:pt x="532" y="0"/>
                </a:lnTo>
                <a:lnTo>
                  <a:pt x="1716" y="1188"/>
                </a:lnTo>
              </a:path>
            </a:pathLst>
          </a:cu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7320" y="2075040"/>
            <a:ext cx="3875040" cy="376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35120" y="1569960"/>
            <a:ext cx="5059440" cy="47703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975040" y="1973160"/>
            <a:ext cx="4134960" cy="3966840"/>
            <a:chOff x="2975040" y="1973160"/>
            <a:chExt cx="4134960" cy="3966840"/>
          </a:xfrm>
        </p:grpSpPr>
        <p:sp>
          <p:nvSpPr>
            <p:cNvPr id="101" name=""/>
            <p:cNvSpPr/>
            <p:nvPr/>
          </p:nvSpPr>
          <p:spPr>
            <a:xfrm flipH="1">
              <a:off x="2975040" y="2046240"/>
              <a:ext cx="4106880" cy="3893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97440" y="1973160"/>
              <a:ext cx="4012560" cy="3893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103560" y="3956040"/>
            <a:ext cx="389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65560" y="2104920"/>
            <a:ext cx="0" cy="373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60880" y="2241720"/>
            <a:ext cx="719280" cy="170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79760" y="3359160"/>
            <a:ext cx="1371600" cy="1192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Total</a:t>
            </a:r>
            <a:br>
              <a:rPr sz="2000"/>
            </a:b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communi-</a:t>
            </a:r>
            <a:br>
              <a:rPr sz="2000"/>
            </a:b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581280" y="1152360"/>
            <a:ext cx="3048120" cy="2074320"/>
            <a:chOff x="3581280" y="1152360"/>
            <a:chExt cx="3048120" cy="2074320"/>
          </a:xfrm>
        </p:grpSpPr>
        <p:graphicFrame>
          <p:nvGraphicFramePr>
            <p:cNvPr id="108" name=""/>
            <p:cNvGraphicFramePr/>
            <p:nvPr/>
          </p:nvGraphicFramePr>
          <p:xfrm>
            <a:off x="3581280" y="1152360"/>
            <a:ext cx="3048120" cy="183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81280" y="1152360"/>
                      <a:ext cx="3048120" cy="183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4021920" y="2246400"/>
              <a:ext cx="99216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market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11920" y="2109960"/>
              <a:ext cx="70128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te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ma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ket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08280" y="2384280"/>
              <a:ext cx="112176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struct-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543640" y="2892600"/>
            <a:ext cx="3143160" cy="2205000"/>
            <a:chOff x="5543640" y="2892600"/>
            <a:chExt cx="3143160" cy="2205000"/>
          </a:xfrm>
        </p:grpSpPr>
        <p:graphicFrame>
          <p:nvGraphicFramePr>
            <p:cNvPr id="114" name=""/>
            <p:cNvGraphicFramePr/>
            <p:nvPr/>
          </p:nvGraphicFramePr>
          <p:xfrm>
            <a:off x="5543640" y="2892600"/>
            <a:ext cx="3143160" cy="2205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43640" y="2892600"/>
                      <a:ext cx="3143160" cy="22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5762520" y="3209760"/>
              <a:ext cx="91764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tro-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to 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90160" y="3967200"/>
              <a:ext cx="137304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to organi-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047480" y="4516560"/>
            <a:ext cx="2098080" cy="2112840"/>
            <a:chOff x="4047480" y="4516560"/>
            <a:chExt cx="2098080" cy="2112840"/>
          </a:xfrm>
        </p:grpSpPr>
        <p:graphicFrame>
          <p:nvGraphicFramePr>
            <p:cNvPr id="119" name=""/>
            <p:cNvGraphicFramePr/>
            <p:nvPr/>
          </p:nvGraphicFramePr>
          <p:xfrm>
            <a:off x="4135320" y="5342040"/>
            <a:ext cx="1835280" cy="1287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35320" y="5342040"/>
                      <a:ext cx="1835280" cy="12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5052600" y="4516560"/>
              <a:ext cx="109296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PR &amp;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scan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47480" y="4516560"/>
              <a:ext cx="1092960" cy="9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PR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scan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751040" y="3003480"/>
            <a:ext cx="2596320" cy="1874880"/>
            <a:chOff x="1751040" y="3003480"/>
            <a:chExt cx="2596320" cy="1874880"/>
          </a:xfrm>
        </p:grpSpPr>
        <p:graphicFrame>
          <p:nvGraphicFramePr>
            <p:cNvPr id="124" name=""/>
            <p:cNvGraphicFramePr/>
            <p:nvPr/>
          </p:nvGraphicFramePr>
          <p:xfrm>
            <a:off x="1751040" y="3124080"/>
            <a:ext cx="2359080" cy="1654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51040" y="3124080"/>
                      <a:ext cx="23590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>
              <a:off x="3138120" y="3003480"/>
              <a:ext cx="119772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product/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services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profile &amp; 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surve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38840" y="3967200"/>
              <a:ext cx="120852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corporate/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manager 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profile &amp;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 surve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09480" y="4917600"/>
            <a:ext cx="8384760" cy="1307160"/>
            <a:chOff x="609480" y="4917600"/>
            <a:chExt cx="8384760" cy="1307160"/>
          </a:xfrm>
        </p:grpSpPr>
        <p:sp>
          <p:nvSpPr>
            <p:cNvPr id="129" name=""/>
            <p:cNvSpPr/>
            <p:nvPr/>
          </p:nvSpPr>
          <p:spPr>
            <a:xfrm rot="19920000">
              <a:off x="1981080" y="5029200"/>
              <a:ext cx="627120" cy="608040"/>
            </a:xfrm>
            <a:prstGeom prst="leftArrow">
              <a:avLst>
                <a:gd name="adj1" fmla="val 50000"/>
                <a:gd name="adj2" fmla="val 51573"/>
              </a:avLst>
            </a:prstGeom>
            <a:solidFill>
              <a:srgbClr val="6bc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80000">
              <a:off x="7410240" y="5062320"/>
              <a:ext cx="626760" cy="608040"/>
            </a:xfrm>
            <a:prstGeom prst="rightArrow">
              <a:avLst>
                <a:gd name="adj1" fmla="val 50000"/>
                <a:gd name="adj2" fmla="val 51553"/>
              </a:avLst>
            </a:prstGeom>
            <a:solidFill>
              <a:srgbClr val="6bc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526000"/>
              <a:ext cx="2286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social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92480" y="5526000"/>
              <a:ext cx="1301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br>
                <a:rPr sz="2000"/>
              </a:b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grapev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687680" y="1589040"/>
            <a:ext cx="18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598D-BA54-4458-BCFF-07D88AD31C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861048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sion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s Fin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es data with expertise to produce statistics and information services for the needs of society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es the use of statistic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develops national official statistics.</a:t>
            </a:r>
            <a:br>
              <a:rPr sz="24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ion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s Finland is a top organisation in its field, recognised nationally and internationally for its high-quality data production and expertise, and for its co-operative and service capa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A682-C750-46FB-B69C-C9A86475300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take into account when communicating and disseminating -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perational strategy </a:t>
            </a:r>
            <a:r>
              <a:rPr b="0" lang="en-GB" sz="2200" spc="-1" strike="noStrike" u="sng">
                <a:solidFill>
                  <a:srgbClr val="ffc33d"/>
                </a:solidFill>
                <a:uFillTx/>
                <a:latin typeface="Arial"/>
                <a:hlinkClick r:id="rId1" action="ppaction://hlinksldjump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unication strategy </a:t>
            </a:r>
            <a:r>
              <a:rPr b="0" lang="en-GB" sz="2200" spc="-1" strike="noStrike" u="sng">
                <a:solidFill>
                  <a:srgbClr val="ffc33d"/>
                </a:solidFill>
                <a:uFillTx/>
                <a:latin typeface="Arial"/>
                <a:hlinkClick r:id="rId2" action="ppaction://hlinksldjump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nagement poli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ategy for network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licy for international co-op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CT-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ustomer service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uidelines for releas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2209680"/>
            <a:ext cx="4343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80000" indent="-180000">
              <a:lnSpc>
                <a:spcPct val="100000"/>
              </a:lnSpc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Statistical ethics: guidelines and princip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0000" indent="-180000">
              <a:lnSpc>
                <a:spcPct val="100000"/>
              </a:lnSpc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Quality guidelines for statis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0000" indent="-180000">
              <a:lnSpc>
                <a:spcPct val="100000"/>
              </a:lnSpc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Guidelines for official statistic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0000" indent="-180000">
              <a:lnSpc>
                <a:spcPct val="100000"/>
              </a:lnSpc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ecommendations by the Prime Minister’s Office on the principles and procedure of Central Government commun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0000" indent="-180000">
              <a:lnSpc>
                <a:spcPct val="100000"/>
              </a:lnSpc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Legislation: Statistical Act, Act on Openness, Copyright law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0000" indent="-180000">
              <a:lnSpc>
                <a:spcPct val="100000"/>
              </a:lnSpc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90080" y="57906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 u="sng">
                <a:solidFill>
                  <a:srgbClr val="ffc33d"/>
                </a:solidFill>
                <a:uFillTx/>
                <a:latin typeface="Arial"/>
                <a:hlinkClick r:id="rId3" action="ppaction://hlinksldjump"/>
              </a:rPr>
              <a:t>=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A592C-A827-4823-834E-6C27CC4F7C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986360" y="5156280"/>
            <a:ext cx="0" cy="233280"/>
          </a:xfrm>
          <a:prstGeom prst="line">
            <a:avLst/>
          </a:prstGeom>
          <a:ln w="19080">
            <a:solidFill>
              <a:srgbClr val="1668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92400" y="1368360"/>
            <a:ext cx="3689280" cy="993960"/>
          </a:xfrm>
          <a:prstGeom prst="rect">
            <a:avLst/>
          </a:pr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iable data 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tional and international tr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ic data of high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8520" y="4386240"/>
            <a:ext cx="324000" cy="0"/>
          </a:xfrm>
          <a:prstGeom prst="line">
            <a:avLst/>
          </a:prstGeom>
          <a:ln w="19080">
            <a:solidFill>
              <a:srgbClr val="1668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87880" y="4386240"/>
            <a:ext cx="324000" cy="0"/>
          </a:xfrm>
          <a:prstGeom prst="line">
            <a:avLst/>
          </a:prstGeom>
          <a:ln w="19080">
            <a:solidFill>
              <a:srgbClr val="1668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7621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s Finland's critical success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952880" y="3539880"/>
            <a:ext cx="0" cy="228600"/>
          </a:xfrm>
          <a:prstGeom prst="line">
            <a:avLst/>
          </a:prstGeom>
          <a:ln w="19080">
            <a:solidFill>
              <a:srgbClr val="1668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95560" y="3774960"/>
            <a:ext cx="2133720" cy="1371600"/>
          </a:xfrm>
          <a:prstGeom prst="rect">
            <a:avLst/>
          </a:prstGeom>
          <a:solidFill>
            <a:srgbClr val="ffc3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1040" bIns="410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50000" y="2359080"/>
            <a:ext cx="2880" cy="288720"/>
          </a:xfrm>
          <a:prstGeom prst="line">
            <a:avLst/>
          </a:prstGeom>
          <a:ln w="19080">
            <a:solidFill>
              <a:srgbClr val="1668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92400" y="2548080"/>
            <a:ext cx="3689280" cy="993600"/>
          </a:xfrm>
          <a:prstGeom prst="rect">
            <a:avLst/>
          </a:pr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noAutofit/>
          </a:bodyPr>
          <a:p>
            <a:pPr marL="190440" indent="-190440">
              <a:lnSpc>
                <a:spcPct val="86000"/>
              </a:lnSpc>
              <a:spcAft>
                <a:spcPts val="275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800" spc="-1" strike="noStrike">
                <a:solidFill>
                  <a:srgbClr val="181512"/>
                </a:solidFill>
                <a:latin typeface="Arial"/>
              </a:rPr>
              <a:t>Good service for data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6000"/>
              </a:lnSpc>
              <a:spcAft>
                <a:spcPts val="275"/>
              </a:spcAft>
              <a:buClr>
                <a:srgbClr val="181512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181512"/>
                </a:solidFill>
                <a:latin typeface="Arial"/>
              </a:rPr>
              <a:t>Consistent production of statistics </a:t>
            </a:r>
            <a:br>
              <a:rPr sz="1400"/>
            </a:br>
            <a:r>
              <a:rPr b="0" lang="en-GB" sz="1400" spc="-1" strike="noStrike">
                <a:solidFill>
                  <a:srgbClr val="181512"/>
                </a:solidFill>
                <a:latin typeface="Arial"/>
              </a:rPr>
              <a:t>that meet users’ 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6000"/>
              </a:lnSpc>
              <a:spcAft>
                <a:spcPts val="275"/>
              </a:spcAft>
              <a:buClr>
                <a:srgbClr val="181512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181512"/>
                </a:solidFill>
                <a:latin typeface="Arial"/>
              </a:rPr>
              <a:t>Clear service 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37440" y="3830760"/>
            <a:ext cx="3155760" cy="1198440"/>
          </a:xfrm>
          <a:prstGeom prst="rect">
            <a:avLst/>
          </a:pr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ter and more uniform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reasingly efficient statistical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ion 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rget-oriented an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rolled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73280" y="5413320"/>
            <a:ext cx="3048120" cy="990720"/>
          </a:xfrm>
          <a:prstGeom prst="rect">
            <a:avLst/>
          </a:pr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fess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etent perso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rning organ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lthy work 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6280" y="3830760"/>
            <a:ext cx="3155760" cy="1198440"/>
          </a:xfrm>
          <a:prstGeom prst="rect">
            <a:avLst/>
          </a:pr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f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rovement of produ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013520" y="2286000"/>
            <a:ext cx="1219320" cy="1155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781680" y="5070600"/>
            <a:ext cx="1447920" cy="1042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676520" y="5105520"/>
            <a:ext cx="1373040" cy="100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840880" y="57906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 u="sng">
                <a:solidFill>
                  <a:srgbClr val="ffc33d"/>
                </a:solidFill>
                <a:uFillTx/>
                <a:latin typeface="Arial"/>
                <a:hlinkClick r:id="rId5" action="ppaction://hlinksldjump"/>
              </a:rPr>
              <a:t>&lt;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0A87-1329-4186-B23F-11522AB790C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2680" y="6854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unication strategy of Statistics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52480" y="1828800"/>
          <a:ext cx="695196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28800"/>
                    <a:ext cx="695196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190080" y="57146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 u="sng">
                <a:solidFill>
                  <a:srgbClr val="ffc33d"/>
                </a:solidFill>
                <a:uFillTx/>
                <a:latin typeface="Arial"/>
                <a:hlinkClick r:id="rId3" action="ppaction://hlinksldjump"/>
              </a:rPr>
              <a:t>&lt;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3D17-3041-4137-9659-70B4684AE7B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= bal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038480"/>
            <a:ext cx="259056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4114800"/>
            <a:ext cx="259092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sponse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1752480"/>
            <a:ext cx="259092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276360" y="3200400"/>
            <a:ext cx="3886560" cy="1905120"/>
            <a:chOff x="3276360" y="3200400"/>
            <a:chExt cx="3886560" cy="1905120"/>
          </a:xfrm>
        </p:grpSpPr>
        <p:sp>
          <p:nvSpPr>
            <p:cNvPr id="165" name=""/>
            <p:cNvSpPr/>
            <p:nvPr/>
          </p:nvSpPr>
          <p:spPr>
            <a:xfrm flipH="1">
              <a:off x="3276360" y="3200400"/>
              <a:ext cx="1143000" cy="9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5880" y="3200400"/>
              <a:ext cx="1067040" cy="101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191120" y="5105520"/>
              <a:ext cx="213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276720" y="2819520"/>
            <a:ext cx="4038480" cy="190476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9F4F4-4D6E-49B1-924F-930927085B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s Finland’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8080" y="2039760"/>
            <a:ext cx="6400800" cy="2962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318120" y="5591880"/>
            <a:ext cx="58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hat is the strategic role of various stakehold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hat is the stake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B8C09-69C5-4AA4-8BFD-A5628E091AF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6:04:22Z</dcterms:created>
  <dc:creator>Heli Mikkelä</dc:creator>
  <dc:description/>
  <dc:language>en-US</dc:language>
  <cp:lastModifiedBy>Heli Mikkelä</cp:lastModifiedBy>
  <cp:lastPrinted>2008-05-12T05:32:48Z</cp:lastPrinted>
  <dcterms:modified xsi:type="dcterms:W3CDTF">2008-05-14T20:38:46Z</dcterms:modified>
  <cp:revision>76</cp:revision>
  <dc:subject/>
  <dc:title>Publishing in SF</dc:title>
</cp:coreProperties>
</file>