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8EA0-D861-4864-9116-7EBC1A8C08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292A-EA19-4EB7-AC13-74AFA916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248B-EAD6-4800-B733-A1AD7A49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D694-BCFD-4330-AE25-41907EA1D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78E8-F92D-4791-8FAE-B3C4CF45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D489-5189-45EE-A4D6-C1C84E82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2394-ACCF-4496-AEDE-1919C11A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71ED-D75B-46EB-89BA-94A23974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82C8-C558-40CB-8B8D-35C06444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A4EF5-7DA9-4E8B-B377-CF7FD7C4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0A24-6233-41E9-8763-9536097C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EBAD-12D1-4C61-8341-FE7E3F94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1CAA-069B-4F4F-A0E5-F52AAB1ECD06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24000" cy="446040"/>
          </a:xfrm>
          <a:prstGeom prst="rect">
            <a:avLst/>
          </a:prstGeom>
          <a:ln w="0">
            <a:noFill/>
          </a:ln>
        </p:spPr>
      </p:pic>
      <p:sp>
        <p:nvSpPr>
          <p:cNvPr id="7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24000" cy="44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Governance Models for Communication   in Statistical Institu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Leon Østergaard, Statistics Denmark, loe@dst.d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ECE Work S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Statistical Dissemination and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3-15 May 2008, Gen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rowing out of I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ebsites and databanks                   require I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Governance in the IT area                allready well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T professionals accepted - not necessarily communication pr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nternet communication and dissemination may amalgamate lat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r continue as separate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890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83" idx="0"/>
            <a:endCxn id="185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0" idx="2"/>
            <a:endCxn id="184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1" idx="3"/>
            <a:endCxn id="182" idx="1"/>
          </p:cNvCxnSpPr>
          <p:nvPr/>
        </p:nvCxnSpPr>
        <p:spPr>
          <a:xfrm>
            <a:off x="3744720" y="1736280"/>
            <a:ext cx="898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83" idx="1"/>
            <a:endCxn id="188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6" idx="1"/>
            <a:endCxn id="187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9" idx="1"/>
            <a:endCxn id="184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4" idx="1"/>
            <a:endCxn id="190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1"/>
            <a:endCxn id="191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1" idx="1"/>
            <a:endCxn id="194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2" idx="1"/>
            <a:endCxn id="193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7601040" y="3429000"/>
            <a:ext cx="9396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1" idx="3"/>
            <a:endCxn id="205" idx="1"/>
          </p:cNvCxnSpPr>
          <p:nvPr/>
        </p:nvCxnSpPr>
        <p:spPr>
          <a:xfrm>
            <a:off x="7237440" y="3681000"/>
            <a:ext cx="3643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890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11" idx="0"/>
            <a:endCxn id="213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08" idx="2"/>
            <a:endCxn id="212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09" idx="3"/>
            <a:endCxn id="210" idx="1"/>
          </p:cNvCxnSpPr>
          <p:nvPr/>
        </p:nvCxnSpPr>
        <p:spPr>
          <a:xfrm>
            <a:off x="3744720" y="1736280"/>
            <a:ext cx="898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11" idx="1"/>
            <a:endCxn id="216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14" idx="1"/>
            <a:endCxn id="215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217" idx="1"/>
            <a:endCxn id="212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12" idx="1"/>
            <a:endCxn id="218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13" idx="1"/>
            <a:endCxn id="219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19" idx="1"/>
            <a:endCxn id="222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20" idx="1"/>
            <a:endCxn id="221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7599240" y="4076640"/>
            <a:ext cx="93996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20" idx="3"/>
            <a:endCxn id="233" idx="1"/>
          </p:cNvCxnSpPr>
          <p:nvPr/>
        </p:nvCxnSpPr>
        <p:spPr>
          <a:xfrm>
            <a:off x="7235640" y="4328640"/>
            <a:ext cx="363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rowing out of Press Offic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riented towards polic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laced close to to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ess Office may expand into other fields of communication and grow bi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r more likely: Dissemination will develop elsewhere 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Pres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1" idx="0"/>
            <a:endCxn id="243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38" idx="2"/>
            <a:endCxn id="242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39" idx="3"/>
            <a:endCxn id="240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41" idx="1"/>
            <a:endCxn id="246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44" idx="1"/>
            <a:endCxn id="245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47" idx="1"/>
            <a:endCxn id="242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42" idx="1"/>
            <a:endCxn id="248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3" idx="1"/>
            <a:endCxn id="249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49" idx="1"/>
            <a:endCxn id="252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0" idx="1"/>
            <a:endCxn id="251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Pres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67" idx="0"/>
            <a:endCxn id="269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" name=""/>
          <p:cNvCxnSpPr>
            <a:stCxn id="264" idx="2"/>
            <a:endCxn id="268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65" idx="3"/>
            <a:endCxn id="266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>
            <a:stCxn id="267" idx="1"/>
            <a:endCxn id="272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0" idx="1"/>
            <a:endCxn id="271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273" idx="1"/>
            <a:endCxn id="268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68" idx="1"/>
            <a:endCxn id="274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69" idx="1"/>
            <a:endCxn id="275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75" idx="1"/>
            <a:endCxn id="278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76" idx="1"/>
            <a:endCxn id="277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rowing out of Marketing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nly in commercia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arketing may expand into                   other fields of communic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r the organization may develop         two (competing)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ardly encountered in NS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295" idx="0"/>
            <a:endCxn id="297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2" idx="2"/>
            <a:endCxn id="296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293" idx="3"/>
            <a:endCxn id="294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5" idx="1"/>
            <a:endCxn id="300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298" idx="1"/>
            <a:endCxn id="299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1" idx="1"/>
            <a:endCxn id="296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296" idx="1"/>
            <a:endCxn id="302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297" idx="1"/>
            <a:endCxn id="303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3" idx="1"/>
            <a:endCxn id="306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304" idx="1"/>
            <a:endCxn id="305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7599240" y="4076640"/>
            <a:ext cx="9399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C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4" idx="3"/>
            <a:endCxn id="317" idx="1"/>
          </p:cNvCxnSpPr>
          <p:nvPr/>
        </p:nvCxnSpPr>
        <p:spPr>
          <a:xfrm>
            <a:off x="7235640" y="4328640"/>
            <a:ext cx="363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7594560" y="4076640"/>
            <a:ext cx="93996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"/>
          <p:cNvCxnSpPr>
            <a:stCxn id="324" idx="0"/>
            <a:endCxn id="326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21" idx="2"/>
            <a:endCxn id="325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22" idx="3"/>
            <a:endCxn id="323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24" idx="1"/>
            <a:endCxn id="329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27" idx="1"/>
            <a:endCxn id="328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0" idx="1"/>
            <a:endCxn id="325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25" idx="1"/>
            <a:endCxn id="331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26" idx="1"/>
            <a:endCxn id="332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2" idx="1"/>
            <a:endCxn id="335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3" idx="1"/>
            <a:endCxn id="334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rowing out of Human Resourc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cognizes the need for               intern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ay take responsibility for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R professionals accepted - not necessarily communication pr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nternal and external communication may amalgam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r continue as separate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Organizational issues in statistic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ent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T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uman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hy not communication govern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2" idx="0"/>
            <a:endCxn id="354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49" idx="2"/>
            <a:endCxn id="353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0" idx="3"/>
            <a:endCxn id="351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52" idx="1"/>
            <a:endCxn id="357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55" idx="1"/>
            <a:endCxn id="356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8" idx="1"/>
            <a:endCxn id="353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53" idx="1"/>
            <a:endCxn id="359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54" idx="1"/>
            <a:endCxn id="360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0" idx="1"/>
            <a:endCxn id="363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61" idx="1"/>
            <a:endCxn id="362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7596360" y="5372280"/>
            <a:ext cx="939600" cy="50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In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74" idx="1"/>
            <a:endCxn id="363" idx="3"/>
          </p:cNvCxnSpPr>
          <p:nvPr/>
        </p:nvCxnSpPr>
        <p:spPr>
          <a:xfrm rot="10800000">
            <a:off x="7232040" y="5623920"/>
            <a:ext cx="3643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80" idx="0"/>
            <a:endCxn id="382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"/>
          <p:cNvCxnSpPr>
            <a:stCxn id="377" idx="2"/>
            <a:endCxn id="381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"/>
          <p:cNvCxnSpPr>
            <a:stCxn id="378" idx="3"/>
            <a:endCxn id="379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5" name=""/>
          <p:cNvCxnSpPr>
            <a:stCxn id="380" idx="1"/>
            <a:endCxn id="385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" name=""/>
          <p:cNvCxnSpPr>
            <a:stCxn id="383" idx="1"/>
            <a:endCxn id="384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86" idx="1"/>
            <a:endCxn id="381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81" idx="1"/>
            <a:endCxn id="387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82" idx="1"/>
            <a:endCxn id="388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88" idx="1"/>
            <a:endCxn id="391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1" name=""/>
          <p:cNvCxnSpPr>
            <a:stCxn id="389" idx="1"/>
            <a:endCxn id="390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7599240" y="4076640"/>
            <a:ext cx="9399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C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389" idx="3"/>
            <a:endCxn id="402" idx="1"/>
          </p:cNvCxnSpPr>
          <p:nvPr/>
        </p:nvCxnSpPr>
        <p:spPr>
          <a:xfrm>
            <a:off x="7235640" y="4328640"/>
            <a:ext cx="363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7594560" y="4076640"/>
            <a:ext cx="93996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”</a:t>
            </a: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Centralized” communication?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verall responsibility placed with                  a singl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ctual communication operations         may be very 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Advantages of central responsibility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akes professionalism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epending of course on        management suppo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iversified communication environmen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igger unit makes bigger project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Disadvantages of central responsibility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ig unit with lots of                    operational activit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ence not easy to place close to        to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pensation may be s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Communication in the 21st Century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unication is taught                            in many education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unication skills are required              in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unication operations                  may be carried out at all levels                                of the organiz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eaving the Communication Division  to concentrate on supervision, coach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Why this lack of attention?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s communication un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s there only one sensible way               to organize 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as everybody by intuition found          just that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My main argument: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unication governance may not        be the result of a conscious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ut rather a result of the historical development of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Development of communication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press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huma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rowing out of Dissemination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issemination vs. commun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n appendix to statistic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ceiving low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ofessionals may be seen as a thre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sulting in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890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342900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1" idx="0"/>
            <a:endCxn id="103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98" idx="2"/>
            <a:endCxn id="102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99" idx="3"/>
            <a:endCxn id="100" idx="1"/>
          </p:cNvCxnSpPr>
          <p:nvPr/>
        </p:nvCxnSpPr>
        <p:spPr>
          <a:xfrm>
            <a:off x="3744720" y="1736280"/>
            <a:ext cx="898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01" idx="1"/>
            <a:endCxn id="106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4" idx="1"/>
            <a:endCxn id="105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07" idx="1"/>
            <a:endCxn id="102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02" idx="1"/>
            <a:endCxn id="108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3" idx="1"/>
            <a:endCxn id="109" idx="1"/>
          </p:cNvCxnSpPr>
          <p:nvPr/>
        </p:nvCxnSpPr>
        <p:spPr>
          <a:xfrm flipV="1" rot="10800000">
            <a:off x="5579280" y="2778480"/>
            <a:ext cx="2520" cy="90252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1"/>
            <a:endCxn id="112" idx="1"/>
          </p:cNvCxnSpPr>
          <p:nvPr/>
        </p:nvCxnSpPr>
        <p:spPr>
          <a:xfrm flipV="1" rot="10800000">
            <a:off x="5576040" y="3681000"/>
            <a:ext cx="3960" cy="1944000"/>
          </a:xfrm>
          <a:prstGeom prst="bentConnector3">
            <a:avLst>
              <a:gd name="adj1" fmla="val 73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1"/>
            <a:endCxn id="111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890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Publ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Pr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7" idx="0"/>
            <a:endCxn id="129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24" idx="2"/>
            <a:endCxn id="128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25" idx="3"/>
            <a:endCxn id="126" idx="1"/>
          </p:cNvCxnSpPr>
          <p:nvPr/>
        </p:nvCxnSpPr>
        <p:spPr>
          <a:xfrm>
            <a:off x="3744720" y="1736280"/>
            <a:ext cx="898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27" idx="1"/>
            <a:endCxn id="132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0" idx="1"/>
            <a:endCxn id="131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3" idx="1"/>
            <a:endCxn id="128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28" idx="1"/>
            <a:endCxn id="134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29" idx="1"/>
            <a:endCxn id="135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35" idx="1"/>
            <a:endCxn id="138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6" idx="1"/>
            <a:endCxn id="137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71640" y="907920"/>
            <a:ext cx="8172360" cy="144720"/>
          </a:xfrm>
          <a:prstGeom prst="rect">
            <a:avLst/>
          </a:prstGeom>
          <a:solidFill>
            <a:srgbClr val="d1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40464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1484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872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5080" y="2492280"/>
            <a:ext cx="1944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Statistic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81800" y="2492280"/>
            <a:ext cx="194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Corpor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872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8720" y="429264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3429000"/>
            <a:ext cx="64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3860640"/>
            <a:ext cx="647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C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81800" y="342900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0" y="407664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78560" y="472428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76760" y="537228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Cn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3" idx="0"/>
            <a:endCxn id="155" idx="0"/>
          </p:cNvCxnSpPr>
          <p:nvPr/>
        </p:nvCxnSpPr>
        <p:spPr>
          <a:xfrm flipH="1" rot="16200000">
            <a:off x="4177080" y="115560"/>
            <a:ext cx="2520" cy="4753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0" idx="2"/>
            <a:endCxn id="154" idx="0"/>
          </p:cNvCxnSpPr>
          <p:nvPr/>
        </p:nvCxnSpPr>
        <p:spPr>
          <a:xfrm flipH="1" rot="16200000">
            <a:off x="3421080" y="1734840"/>
            <a:ext cx="1513440" cy="21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3"/>
            <a:endCxn id="152" idx="1"/>
          </p:cNvCxnSpPr>
          <p:nvPr/>
        </p:nvCxnSpPr>
        <p:spPr>
          <a:xfrm>
            <a:off x="3706560" y="1736280"/>
            <a:ext cx="937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53" idx="1"/>
            <a:endCxn id="158" idx="1"/>
          </p:cNvCxnSpPr>
          <p:nvPr/>
        </p:nvCxnSpPr>
        <p:spPr>
          <a:xfrm flipH="1" flipV="1" rot="10800000">
            <a:off x="828360" y="2779200"/>
            <a:ext cx="2160" cy="1658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56" idx="1"/>
            <a:endCxn id="157" idx="1"/>
          </p:cNvCxnSpPr>
          <p:nvPr/>
        </p:nvCxnSpPr>
        <p:spPr>
          <a:xfrm flipH="1" flipV="1" rot="10800000">
            <a:off x="828360" y="35730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59" idx="1"/>
            <a:endCxn id="154" idx="1"/>
          </p:cNvCxnSpPr>
          <p:nvPr/>
        </p:nvCxnSpPr>
        <p:spPr>
          <a:xfrm rot="10800000">
            <a:off x="3204360" y="2778840"/>
            <a:ext cx="143640" cy="794520"/>
          </a:xfrm>
          <a:prstGeom prst="bentConnector3">
            <a:avLst>
              <a:gd name="adj1" fmla="val 2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4" idx="1"/>
            <a:endCxn id="160" idx="1"/>
          </p:cNvCxnSpPr>
          <p:nvPr/>
        </p:nvCxnSpPr>
        <p:spPr>
          <a:xfrm flipH="1" flipV="1" rot="10800000">
            <a:off x="3204000" y="2778480"/>
            <a:ext cx="143640" cy="12265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5" idx="1"/>
            <a:endCxn id="161" idx="1"/>
          </p:cNvCxnSpPr>
          <p:nvPr/>
        </p:nvCxnSpPr>
        <p:spPr>
          <a:xfrm flipH="1" flipV="1" rot="10800000">
            <a:off x="5581440" y="2778480"/>
            <a:ext cx="2160" cy="90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1" idx="1"/>
            <a:endCxn id="164" idx="1"/>
          </p:cNvCxnSpPr>
          <p:nvPr/>
        </p:nvCxnSpPr>
        <p:spPr>
          <a:xfrm flipV="1" rot="10800000">
            <a:off x="5576040" y="3681000"/>
            <a:ext cx="5760" cy="19440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62" idx="1"/>
            <a:endCxn id="163" idx="1"/>
          </p:cNvCxnSpPr>
          <p:nvPr/>
        </p:nvCxnSpPr>
        <p:spPr>
          <a:xfrm flipV="1" rot="10800000">
            <a:off x="5577840" y="4327920"/>
            <a:ext cx="2160" cy="64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7597800" y="4724280"/>
            <a:ext cx="9396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 Cn"/>
              </a:rPr>
              <a:t>Disse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3" idx="3"/>
            <a:endCxn id="175" idx="1"/>
          </p:cNvCxnSpPr>
          <p:nvPr/>
        </p:nvCxnSpPr>
        <p:spPr>
          <a:xfrm>
            <a:off x="7234200" y="4976280"/>
            <a:ext cx="3643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0:19:24Z</dcterms:created>
  <dc:creator>Netværk</dc:creator>
  <dc:description/>
  <dc:language>en-US</dc:language>
  <cp:lastModifiedBy>Netværk</cp:lastModifiedBy>
  <dcterms:modified xsi:type="dcterms:W3CDTF">2008-05-08T09:17:41Z</dcterms:modified>
  <cp:revision>14</cp:revision>
  <dc:subject/>
  <dc:title>Governance Models for Communication   in Statistical Institu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31447456</vt:r8>
  </property>
  <property fmtid="{D5CDD505-2E9C-101B-9397-08002B2CF9AE}" pid="3" name="_AuthorEmail">
    <vt:lpwstr>loe@dst.dk</vt:lpwstr>
  </property>
  <property fmtid="{D5CDD505-2E9C-101B-9397-08002B2CF9AE}" pid="4" name="_AuthorEmailDisplayName">
    <vt:lpwstr>Leon Østergaard</vt:lpwstr>
  </property>
  <property fmtid="{D5CDD505-2E9C-101B-9397-08002B2CF9AE}" pid="5" name="_EmailSubject">
    <vt:lpwstr>Details for dinner on Monday 12 May</vt:lpwstr>
  </property>
</Properties>
</file>