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83200" cy="1003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6" name="PlaceHolder 1"/>
          <p:cNvSpPr>
            <a:spLocks noGrp="1"/>
          </p:cNvSpPr>
          <p:nvPr>
            <p:ph type="sldImg"/>
          </p:nvPr>
        </p:nvSpPr>
        <p:spPr>
          <a:xfrm>
            <a:off x="1099800" y="878040"/>
            <a:ext cx="4684680" cy="3512880"/>
          </a:xfrm>
          <a:prstGeom prst="rect">
            <a:avLst/>
          </a:prstGeom>
          <a:noFill/>
          <a:ln w="12600">
            <a:solidFill>
              <a:srgbClr val="000000"/>
            </a:solidFill>
            <a:miter/>
          </a:ln>
        </p:spPr>
        <p:txBody>
          <a:bodyPr lIns="90000" rIns="90000" tIns="46800" bIns="46800" anchor="ctr">
            <a:noAutofit/>
          </a:bodyPr>
          <a:p>
            <a:r>
              <a:rPr b="1" lang="en-US" sz="3800" spc="-1" strike="noStrike">
                <a:solidFill>
                  <a:srgbClr val="003399"/>
                </a:solidFill>
                <a:latin typeface="Arial"/>
              </a:rPr>
              <a:t>Click to move the slide</a:t>
            </a:r>
            <a:endParaRPr b="1" lang="en-US" sz="3800" spc="-1" strike="noStrike">
              <a:solidFill>
                <a:srgbClr val="003399"/>
              </a:solidFill>
              <a:latin typeface="Arial"/>
            </a:endParaRPr>
          </a:p>
        </p:txBody>
      </p:sp>
      <p:sp>
        <p:nvSpPr>
          <p:cNvPr id="87"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
          <p:cNvSpPr/>
          <p:nvPr/>
        </p:nvSpPr>
        <p:spPr>
          <a:xfrm>
            <a:off x="6157440" y="9625320"/>
            <a:ext cx="934200" cy="304200"/>
          </a:xfrm>
          <a:prstGeom prst="rect">
            <a:avLst/>
          </a:prstGeom>
          <a:noFill/>
          <a:ln w="0">
            <a:noFill/>
          </a:ln>
        </p:spPr>
        <p:style>
          <a:lnRef idx="0"/>
          <a:fillRef idx="0"/>
          <a:effectRef idx="0"/>
          <a:fontRef idx="minor"/>
        </p:style>
        <p:txBody>
          <a:bodyPr wrap="none" lIns="92520" rIns="92520" tIns="45360" bIns="45360" anchor="ctr">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1D73AB7-6B8E-4F3D-87FA-CDA70914C0F5}" type="slidenum">
              <a:rPr b="0" lang="en-US" sz="1400" spc="-1" strike="noStrike">
                <a:solidFill>
                  <a:srgbClr val="003399"/>
                </a:solidFill>
                <a:latin typeface="Times New Roman"/>
              </a:rPr>
              <a:t>&lt;number&gt;</a:t>
            </a:fld>
            <a:endParaRPr b="0" lang="en-US" sz="14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0160" y="878040"/>
            <a:ext cx="4684680" cy="3512880"/>
          </a:xfrm>
          <a:prstGeom prst="rect">
            <a:avLst/>
          </a:prstGeom>
          <a:ln w="0">
            <a:noFill/>
          </a:ln>
        </p:spPr>
      </p:sp>
      <p:sp>
        <p:nvSpPr>
          <p:cNvPr id="107"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y name is Grete Borge. I work in the communication department of Statistics 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y presentation is based on a paper prepared together with Fride Eeg-Henriks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n this presentation, I want to take an ethical look at different strategies for dealing with the media. I will focus on the strategy adoped by Statistics Norway and indeed many other NSI, and will compare this with the strategy which to an increasing extent is used by the Norwegian governme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0160" y="878040"/>
            <a:ext cx="4684680" cy="3512880"/>
          </a:xfrm>
          <a:prstGeom prst="rect">
            <a:avLst/>
          </a:prstGeom>
          <a:ln w="0">
            <a:noFill/>
          </a:ln>
        </p:spPr>
      </p:sp>
      <p:sp>
        <p:nvSpPr>
          <p:cNvPr id="109"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Let me start off with an example of a Norwegan newspaper’s reaction to the government’s PR strategy. The Norwegian government is to an increasing extent granting pre-release access to selected media, at the expense of other m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is is taken from the Norwegian newspaper Klassekampen, 4 March 2008. It shows their editorial, which was left empty apart from this text, which says that ”We were meant to have something on the work of the Men’s Committe, but the government’s PR advisers have once again granted pre-release access to two media, which is in direct conflict with the principle of equal right to information for all citizens irrespective of news m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government information policy is a growing democratic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0160" y="878040"/>
            <a:ext cx="4684680" cy="3512880"/>
          </a:xfrm>
          <a:prstGeom prst="rect">
            <a:avLst/>
          </a:prstGeom>
          <a:ln w="0">
            <a:noFill/>
          </a:ln>
        </p:spPr>
      </p:sp>
      <p:sp>
        <p:nvSpPr>
          <p:cNvPr id="111"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ith regard to equal treatment, national statisticial agencies are ahead of many other public sector bodies. Principles such as democratic, impartiality, entitlement to public information etc. are central principles in the United Nation’s Fundamental Principles of Official Statistics and in the more recent European Code of Practice. Many NSIs have strict internal routines to ensure that the production and release of statistics are in line with these princi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any NSI have adopted the policy of no pre-relerase access – towards both the media and the authorities. Some NSIs follow this principle to the full, others have a partial approach meaning that the authorities have limited pre-release access to some statistics or that the media can get access to some statistics in advance, for instance by using lock-ups. Many NSIs and professional organisation are advocating for looser ties to the authorities. It is my firm impression that once these ties have been loosened, very few want to go back to the old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n Statistics Norway, the principle of no pre-release access was extended to all publications in 2007. Previously this only applied to the release of new statistics, not the release of publications based on published statistics. The media didn’t always understand this difference and some newspapers reacted to our practice of giving pre-release access to such publications, and we therefore decided to ban pre-release access all together.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0160" y="878040"/>
            <a:ext cx="4684680" cy="3512880"/>
          </a:xfrm>
          <a:prstGeom prst="rect">
            <a:avLst/>
          </a:prstGeom>
          <a:ln w="0">
            <a:noFill/>
          </a:ln>
        </p:spPr>
      </p:sp>
      <p:sp>
        <p:nvSpPr>
          <p:cNvPr id="113" name="PlaceHolder 2"/>
          <p:cNvSpPr>
            <a:spLocks noGrp="1"/>
          </p:cNvSpPr>
          <p:nvPr>
            <p:ph type="body"/>
          </p:nvPr>
        </p:nvSpPr>
        <p:spPr>
          <a:xfrm>
            <a:off x="917280" y="4511520"/>
            <a:ext cx="5048280" cy="447840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 central element of the government information policy is that citizens, businesses and organisations should enjoy universal and equal opportunities to participate in the democratic process, and that everyone should have real access to information about government activities. This probably sounds familiary to many of you – these elements are the same as in the information policy of many NSIs. So – all’s well thus f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However, the principles listed in the policy are not always followed in practice. And sadly, the policy is not being followed in an increasing number of cases.  Naturally, i t is in the interest of politicans’ to try to influence the media’s agenda. After all, their ability to be re-elected depends on popularity, which to some extent is affected by how the media portrays their poli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o influence the media,Norwegian ministries use professional information workers who lobby the media. We see that to an increasing extent, the battle for the media’s attention results in less focus on equal treatment of the media. To get maxium media attentioin, they focus on giving the story to a few select media. It is not difficult to spot the ethical dilemmas of such a pract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00160" y="878040"/>
            <a:ext cx="4684680" cy="3512880"/>
          </a:xfrm>
          <a:prstGeom prst="rect">
            <a:avLst/>
          </a:prstGeom>
          <a:ln w="0">
            <a:noFill/>
          </a:ln>
        </p:spPr>
      </p:sp>
      <p:sp>
        <p:nvSpPr>
          <p:cNvPr id="115"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Exclusivity is often given to large, national media, such as NRK and Aftenposten. Often a press release is made available on the ministry’s website several days afterwards. There is no doubt, and no surprise, that large and national newspapers are prioritised at the expense of small and regional newspapers. In Norway this is a big problem because Norway has a large number of local newspapers, and outside the capital region these are the newspapers that are read. Giving exclusivity to a select few therefore may result in less coverage in other newspapers, and possibly fewer readers. It may also result in less variety with regard to how the statistics are used by the media and less journalistic creativity. To put it bluntly – this strategy keeps one or two newspapers happy, but ignores the frustration of several hundred other newspap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Another problem is that the government selects newspapers which they know support their politics. It is no surprise, for instance, that Klassekampen isn’tt granted exclusive pre-release access as it is a radical, left-wing newspaper committed to critical journalis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A third problem is that the use of exclusivity may result in dual roles and conflicts of interest. An important principle of journalism is to provide readers with unbiased information, but is that possible at the same time as being offered exclusivity? Isn’t it likely that that a sort of depedency wil develop in the long  run? And what guarantee do we have that a story is not offered exclusively in exchange for other favours, such as positive coverage or refraining from negative coverage? This may not be the purpose of offering a story exclusively, but widespread use of this practice could result in such dilemmas. Also, and perhaps more important, the system of exclusivity may raise doubts in the public mind about  credibility. Is the story offered exclusively in an attempt to control media coverage, the readers may ask themselves? Can I trust what is being presented in this story? If such suspicions are allowed to get a foothold they can be considerable threat to public trust in govern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00160" y="878040"/>
            <a:ext cx="4684680" cy="3512880"/>
          </a:xfrm>
          <a:prstGeom prst="rect">
            <a:avLst/>
          </a:prstGeom>
          <a:ln w="0">
            <a:noFill/>
          </a:ln>
        </p:spPr>
      </p:sp>
      <p:sp>
        <p:nvSpPr>
          <p:cNvPr id="117"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Let me show you an example of the potential problems of exclusivity. In July 2005, two national newspapers were offered exclusivity provided they did not collect comments from third parties. The first newspaper that was offered the story, turned the offer down, but the other one accepte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story was offered by the Ministry of Children and Family Affairs, and deals with the lack of kindergarten places for children in Norway. This is a matter that the media is VERY interested in because several governments have committed themselves to tough goals and promised to increase the number of kindergarten pl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offer was reported by a third newspaper. In a comment, the ministry claims that they were not trying to control the media, but it is difficult to find any other good reasons for offering exclusivity and at the same time restricting journalistic free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0160" y="878040"/>
            <a:ext cx="4684680" cy="3512880"/>
          </a:xfrm>
          <a:prstGeom prst="rect">
            <a:avLst/>
          </a:prstGeom>
          <a:ln w="0">
            <a:noFill/>
          </a:ln>
        </p:spPr>
      </p:sp>
      <p:sp>
        <p:nvSpPr>
          <p:cNvPr id="119" name="PlaceHolder 2"/>
          <p:cNvSpPr>
            <a:spLocks noGrp="1"/>
          </p:cNvSpPr>
          <p:nvPr>
            <p:ph type="body"/>
          </p:nvPr>
        </p:nvSpPr>
        <p:spPr>
          <a:xfrm>
            <a:off x="917280" y="4770000"/>
            <a:ext cx="5048280" cy="4219560"/>
          </a:xfrm>
          <a:prstGeom prst="rect">
            <a:avLst/>
          </a:prstGeom>
          <a:noFill/>
          <a:ln w="0">
            <a:noFill/>
          </a:ln>
        </p:spPr>
        <p:txBody>
          <a:bodyPr lIns="92520" rIns="9252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t is possible to understand why private companies try to control the media, but higher standards are expected from public sector bodies. After all, politicians serve the people and public sector bodies are financed by the taxpayers’ money. So it is only fair that they get inforrmation that is objectice and complete in retu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have no evidence to suggest that the use of exclusivity generates more media coverage. Statistics Norway has very good media coverage – in national and local media, large newspapers and small newspapers. We strongly believe that there is a strong correlation between the equal treatment policy and the good media coverage. And media coverage did not decrease after we extended the equal treatment policy to all publication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also strongly believe that there is a correlation between the equal treatment policy and public trust in Statistics Norway. In a reputation survey among public sector institutions in Norway, carried out by an independent opinion poll company in July 2007, Statistics Norway was ranked as number four out of 81 institutions on openness and informa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hat Statistics Norway can do? Continue working with the media in the same way. Put pressure on other public sector bodies in joint meeting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r oppmersomhet rundt etikk i Norge – det kan slå positivt u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4F228-C88F-4F6D-801F-45899F0C4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8"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5A74C-25B2-447E-B0E3-DDA2B6D91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1"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9631A-9454-4281-BA93-48E4F10A1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6"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29CCC-98C7-417A-970A-009731F2A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DCE56-9D72-4B16-AD76-FDD5DDE2C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0"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1DA6D-5E6B-466F-83CE-0837EAA63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2"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CFA93-203E-42E2-B130-3B445E78A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4"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CD5CF-69CD-4216-8F6D-1249D6DB4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1D4EE-46D9-4642-9D13-0AF27599A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5AE1A-6A5D-4451-BE43-64FD59704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9"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2CF96-CE62-492A-9D32-17BA51087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867C2-CF33-410D-96B3-0EE2B2D64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3"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BA8F0-5AF4-4735-A848-6636B2B26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7"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7CD85-5C7E-476A-89CF-2508E40BA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1"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CF693-D9BD-4102-AA39-B5916C5AC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DC3DA3-0FC7-41B6-8F1E-BE9D4BD33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9"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1B1975-2E79-4C68-AECB-1AB924A729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9"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BD9BC-151F-472B-A3EB-47860C7BA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1"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B9AF5-9659-4216-9C09-66DB39F21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F9ABD-C06E-4D12-9870-F6C59651F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161D8-4A6E-4862-90CC-F8032B140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6"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439A0-B276-4799-B4F1-9C237A6C7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0"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CBB28-722F-4220-B9B1-65E00D820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BCEE6-67D4-40A3-B5F7-EE9DD8645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1" name="PlaceHolder 2"/>
          <p:cNvSpPr>
            <a:spLocks noGrp="1"/>
          </p:cNvSpPr>
          <p:nvPr>
            <p:ph type="body"/>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3480" indent="-226800">
              <a:spcBef>
                <a:spcPts val="90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49400" indent="-195480">
              <a:spcBef>
                <a:spcPts val="901"/>
              </a:spcBef>
              <a:buClr>
                <a:srgbClr val="00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6040" indent="-282600">
              <a:spcBef>
                <a:spcPts val="90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315200" y="6516360"/>
            <a:ext cx="990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CED0-3C9E-4C93-98F8-1D2EAE5FF260}" type="datetime">
              <a:rPr b="0" lang="en-GB" sz="1000" spc="-1" strike="noStrike">
                <a:solidFill>
                  <a:srgbClr val="000000"/>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5028840" y="6516360"/>
            <a:ext cx="2133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457840" y="6505560"/>
            <a:ext cx="469800" cy="2397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457A-869E-4FCB-A150-A6AAC4B90537}"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 name="" descr=""/>
          <p:cNvPicPr/>
          <p:nvPr/>
        </p:nvPicPr>
        <p:blipFill>
          <a:blip r:embed="rId2"/>
          <a:stretch/>
        </p:blipFill>
        <p:spPr>
          <a:xfrm>
            <a:off x="0" y="0"/>
            <a:ext cx="9144000" cy="46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7238520" y="6477120"/>
            <a:ext cx="114300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D4B9-4431-4799-851C-7876887A2CEB}" type="datetime">
              <a:rPr b="0" lang="en-GB" sz="1000" spc="-1" strike="noStrike">
                <a:solidFill>
                  <a:srgbClr val="000000"/>
                </a:solidFill>
                <a:latin typeface="Arial"/>
              </a:rPr>
              <a:t>30/07/26</a:t>
            </a:fld>
            <a:endParaRPr b="0" lang="en-US" sz="1000" spc="-1" strike="noStrike">
              <a:solidFill>
                <a:srgbClr val="000000"/>
              </a:solidFill>
              <a:latin typeface="Times New Roman"/>
            </a:endParaRPr>
          </a:p>
        </p:txBody>
      </p:sp>
      <p:sp>
        <p:nvSpPr>
          <p:cNvPr id="43" name="PlaceHolder 2"/>
          <p:cNvSpPr>
            <a:spLocks noGrp="1"/>
          </p:cNvSpPr>
          <p:nvPr>
            <p:ph type="ftr" idx="5"/>
          </p:nvPr>
        </p:nvSpPr>
        <p:spPr>
          <a:xfrm>
            <a:off x="4267080" y="6477120"/>
            <a:ext cx="281952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3"/>
          <p:cNvSpPr>
            <a:spLocks noGrp="1"/>
          </p:cNvSpPr>
          <p:nvPr>
            <p:ph type="title"/>
          </p:nvPr>
        </p:nvSpPr>
        <p:spPr>
          <a:xfrm>
            <a:off x="1447920" y="1828800"/>
            <a:ext cx="71625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Click to edit the title text format</a:t>
            </a:r>
            <a:endParaRPr b="1" lang="en-US" sz="3800" spc="-1" strike="noStrike">
              <a:solidFill>
                <a:srgbClr val="003399"/>
              </a:solidFill>
              <a:latin typeface="Arial"/>
            </a:endParaRPr>
          </a:p>
        </p:txBody>
      </p:sp>
      <p:sp>
        <p:nvSpPr>
          <p:cNvPr id="45" name=""/>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32D2-E2B4-4708-B59D-62888D3F8569}" type="slidenum">
              <a:rPr b="1" lang="en-GB" sz="1400" spc="-1" strike="noStrike">
                <a:solidFill>
                  <a:srgbClr val="ffffff"/>
                </a:solidFill>
                <a:latin typeface="Arial"/>
              </a:rPr>
              <a:t>&lt;number&gt;</a:t>
            </a:fld>
            <a:endParaRPr b="0" lang="en-US" sz="1400" spc="-1" strike="noStrike">
              <a:solidFill>
                <a:srgbClr val="003399"/>
              </a:solidFill>
              <a:latin typeface="Times New Roman"/>
            </a:endParaRPr>
          </a:p>
        </p:txBody>
      </p:sp>
      <p:sp>
        <p:nvSpPr>
          <p:cNvPr id="46" name="PlaceHolder 4"/>
          <p:cNvSpPr>
            <a:spLocks noGrp="1"/>
          </p:cNvSpPr>
          <p:nvPr>
            <p:ph type="sldNum" idx="6"/>
          </p:nvPr>
        </p:nvSpPr>
        <p:spPr>
          <a:xfrm>
            <a:off x="8534160" y="6477120"/>
            <a:ext cx="39348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F58A-DC3D-49BE-8C11-9BD930B48E23}"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7" name="" descr=""/>
          <p:cNvPicPr/>
          <p:nvPr/>
        </p:nvPicPr>
        <p:blipFill>
          <a:blip r:embed="rId2"/>
          <a:stretch/>
        </p:blipFill>
        <p:spPr>
          <a:xfrm>
            <a:off x="0" y="0"/>
            <a:ext cx="9144000" cy="46656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366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3920" algn="ctr">
              <a:buClr>
                <a:srgbClr val="003399"/>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33440" algn="ctr">
              <a:buClr>
                <a:srgbClr val="003399"/>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55440" algn="ctr">
              <a:spcBef>
                <a:spcPts val="499"/>
              </a:spcBef>
              <a:buClr>
                <a:srgbClr val="00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47920" y="1828800"/>
            <a:ext cx="71625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Equal treatment, independence and trust – policy and practice in SN</a:t>
            </a:r>
            <a:endParaRPr b="1" lang="en-US" sz="3200" spc="-1" strike="noStrike">
              <a:solidFill>
                <a:srgbClr val="003399"/>
              </a:solidFill>
              <a:latin typeface="Arial"/>
            </a:endParaRPr>
          </a:p>
        </p:txBody>
      </p:sp>
      <p:sp>
        <p:nvSpPr>
          <p:cNvPr id="90" name="PlaceHolder 2"/>
          <p:cNvSpPr>
            <a:spLocks noGrp="1"/>
          </p:cNvSpPr>
          <p:nvPr>
            <p:ph type="subTitle"/>
          </p:nvPr>
        </p:nvSpPr>
        <p:spPr>
          <a:xfrm>
            <a:off x="1447920" y="3428640"/>
            <a:ext cx="7162560" cy="243828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UNECE Work Session on Statistical Dissemination and Communicatio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By Grete Borge, Statistics Norway</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63C7F234-0F32-4395-AF15-2C562035C3C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The Government and its PR strategy</a:t>
            </a:r>
            <a:endParaRPr b="1" lang="en-US" sz="3200" spc="-1" strike="noStrike">
              <a:solidFill>
                <a:srgbClr val="003399"/>
              </a:solidFill>
              <a:latin typeface="Arial"/>
            </a:endParaRPr>
          </a:p>
        </p:txBody>
      </p:sp>
      <p:pic>
        <p:nvPicPr>
          <p:cNvPr id="92" name="" descr=""/>
          <p:cNvPicPr/>
          <p:nvPr/>
        </p:nvPicPr>
        <p:blipFill>
          <a:blip r:embed="rId1"/>
          <a:stretch/>
        </p:blipFill>
        <p:spPr>
          <a:xfrm>
            <a:off x="539640" y="1341360"/>
            <a:ext cx="4824360" cy="5059440"/>
          </a:xfrm>
          <a:prstGeom prst="rect">
            <a:avLst/>
          </a:prstGeom>
          <a:ln w="0">
            <a:noFill/>
          </a:ln>
        </p:spPr>
      </p:pic>
      <p:sp>
        <p:nvSpPr>
          <p:cNvPr id="3" name="PlaceHolder 2"/>
          <p:cNvSpPr>
            <a:spLocks noGrp="1"/>
          </p:cNvSpPr>
          <p:nvPr>
            <p:ph type="sldNum" idx="3"/>
          </p:nvPr>
        </p:nvSpPr>
        <p:spPr/>
        <p:txBody>
          <a:bodyPr/>
          <a:p>
            <a:fld id="{26F95ECD-8422-4B4B-A803-47B72CD378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3399"/>
                </a:solidFill>
                <a:latin typeface="Arial"/>
              </a:rPr>
              <a:t>Building relationships – staying independent</a:t>
            </a:r>
            <a:endParaRPr b="1" lang="en-US" sz="2800" spc="-1" strike="noStrike">
              <a:solidFill>
                <a:srgbClr val="003399"/>
              </a:solidFill>
              <a:latin typeface="Arial"/>
            </a:endParaRPr>
          </a:p>
        </p:txBody>
      </p:sp>
      <p:sp>
        <p:nvSpPr>
          <p:cNvPr id="94"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1049"/>
              </a:spcBef>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 </a:t>
            </a:r>
            <a:r>
              <a:rPr b="0" lang="nb-NO" sz="2800" spc="-1" strike="noStrike">
                <a:solidFill>
                  <a:srgbClr val="000000"/>
                </a:solidFill>
                <a:latin typeface="Arial"/>
              </a:rPr>
              <a:t>Equal treatment of ALL users</a:t>
            </a:r>
            <a:endParaRPr b="0" lang="en-US" sz="28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authorities</a:t>
            </a:r>
            <a:endParaRPr b="0" lang="en-US" sz="20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media</a:t>
            </a:r>
            <a:endParaRPr b="0" lang="en-US" sz="20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Other stakeholders</a:t>
            </a:r>
            <a:endParaRPr b="0" lang="en-US" sz="2000" spc="-1" strike="noStrike">
              <a:solidFill>
                <a:srgbClr val="000000"/>
              </a:solidFill>
              <a:latin typeface="Arial"/>
            </a:endParaRPr>
          </a:p>
          <a:p>
            <a:pPr lvl="1" marL="663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6240" indent="-246240">
              <a:spcBef>
                <a:spcPts val="1049"/>
              </a:spcBef>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0" lang="nb-NO" sz="2800" spc="-1" strike="noStrike">
                <a:solidFill>
                  <a:srgbClr val="000000"/>
                </a:solidFill>
                <a:latin typeface="Arial"/>
              </a:rPr>
              <a:t>No pre-release access</a:t>
            </a:r>
            <a:endParaRPr b="0" lang="en-US" sz="2800" spc="-1" strike="noStrike">
              <a:solidFill>
                <a:srgbClr val="000000"/>
              </a:solidFill>
              <a:latin typeface="Arial"/>
            </a:endParaRPr>
          </a:p>
          <a:p>
            <a:pPr lvl="1" marL="663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246240">
              <a:spcBef>
                <a:spcPts val="1049"/>
              </a:spcBef>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0" lang="nb-NO" sz="2800" spc="-1" strike="noStrike">
                <a:solidFill>
                  <a:srgbClr val="000000"/>
                </a:solidFill>
                <a:latin typeface="Arial"/>
              </a:rPr>
              <a:t>Extended to all publications in 2007</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1A8DA62-3A0B-4729-A38F-0EE97EF92B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The battle for media attention</a:t>
            </a:r>
            <a:endParaRPr b="1" lang="en-US" sz="3200" spc="-1" strike="noStrike">
              <a:solidFill>
                <a:srgbClr val="003399"/>
              </a:solidFill>
              <a:latin typeface="Arial"/>
            </a:endParaRPr>
          </a:p>
        </p:txBody>
      </p:sp>
      <p:sp>
        <p:nvSpPr>
          <p:cNvPr id="96"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2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3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1"/>
          <a:stretch/>
        </p:blipFill>
        <p:spPr>
          <a:xfrm>
            <a:off x="539640" y="1844640"/>
            <a:ext cx="6336000" cy="3889440"/>
          </a:xfrm>
          <a:prstGeom prst="rect">
            <a:avLst/>
          </a:prstGeom>
          <a:ln w="0">
            <a:noFill/>
          </a:ln>
        </p:spPr>
      </p:pic>
      <p:sp>
        <p:nvSpPr>
          <p:cNvPr id="4" name="PlaceHolder 3"/>
          <p:cNvSpPr>
            <a:spLocks noGrp="1"/>
          </p:cNvSpPr>
          <p:nvPr>
            <p:ph type="sldNum" idx="3"/>
          </p:nvPr>
        </p:nvSpPr>
        <p:spPr/>
        <p:txBody>
          <a:bodyPr/>
          <a:p>
            <a:fld id="{7D4744C8-6F25-434B-B13E-78A50DA022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Is there still a need for media exclusivity?</a:t>
            </a:r>
            <a:endParaRPr b="1" lang="en-US" sz="3200" spc="-1" strike="noStrike">
              <a:solidFill>
                <a:srgbClr val="003399"/>
              </a:solidFill>
              <a:latin typeface="Arial"/>
            </a:endParaRPr>
          </a:p>
        </p:txBody>
      </p:sp>
      <p:sp>
        <p:nvSpPr>
          <p:cNvPr id="99" name="PlaceHolder 2"/>
          <p:cNvSpPr>
            <a:spLocks noGrp="1"/>
          </p:cNvSpPr>
          <p:nvPr>
            <p:ph/>
          </p:nvPr>
        </p:nvSpPr>
        <p:spPr>
          <a:xfrm>
            <a:off x="533160" y="1773360"/>
            <a:ext cx="8381880" cy="4627440"/>
          </a:xfrm>
          <a:prstGeom prst="rect">
            <a:avLst/>
          </a:prstGeom>
          <a:noFill/>
          <a:ln w="0">
            <a:noFill/>
          </a:ln>
        </p:spPr>
        <p:txBody>
          <a:bodyPr lIns="0" rIns="0" tIns="0" bIns="0" anchor="t">
            <a:normAutofit/>
          </a:bodyPr>
          <a:p>
            <a:pPr marL="2462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2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0" name="" descr=""/>
          <p:cNvPicPr/>
          <p:nvPr/>
        </p:nvPicPr>
        <p:blipFill>
          <a:blip r:embed="rId1"/>
          <a:stretch/>
        </p:blipFill>
        <p:spPr>
          <a:xfrm>
            <a:off x="539640" y="1916280"/>
            <a:ext cx="6481800" cy="3600360"/>
          </a:xfrm>
          <a:prstGeom prst="rect">
            <a:avLst/>
          </a:prstGeom>
          <a:ln w="0">
            <a:noFill/>
          </a:ln>
        </p:spPr>
      </p:pic>
      <p:sp>
        <p:nvSpPr>
          <p:cNvPr id="4" name="PlaceHolder 3"/>
          <p:cNvSpPr>
            <a:spLocks noGrp="1"/>
          </p:cNvSpPr>
          <p:nvPr>
            <p:ph type="sldNum" idx="3"/>
          </p:nvPr>
        </p:nvSpPr>
        <p:spPr/>
        <p:txBody>
          <a:bodyPr/>
          <a:p>
            <a:fld id="{7A109B49-E5EB-421D-982E-3175DF1776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Potential conflicts of interest</a:t>
            </a:r>
            <a:endParaRPr b="1" lang="en-US" sz="3200" spc="-1" strike="noStrike">
              <a:solidFill>
                <a:srgbClr val="003399"/>
              </a:solidFill>
              <a:latin typeface="Arial"/>
            </a:endParaRPr>
          </a:p>
        </p:txBody>
      </p:sp>
      <p:pic>
        <p:nvPicPr>
          <p:cNvPr id="102" name="" descr=""/>
          <p:cNvPicPr/>
          <p:nvPr/>
        </p:nvPicPr>
        <p:blipFill>
          <a:blip r:embed="rId1"/>
          <a:stretch/>
        </p:blipFill>
        <p:spPr>
          <a:xfrm>
            <a:off x="539640" y="1413000"/>
            <a:ext cx="4537080" cy="4895640"/>
          </a:xfrm>
          <a:prstGeom prst="rect">
            <a:avLst/>
          </a:prstGeom>
          <a:ln w="0">
            <a:noFill/>
          </a:ln>
        </p:spPr>
      </p:pic>
      <p:sp>
        <p:nvSpPr>
          <p:cNvPr id="3" name="PlaceHolder 2"/>
          <p:cNvSpPr>
            <a:spLocks noGrp="1"/>
          </p:cNvSpPr>
          <p:nvPr>
            <p:ph type="sldNum" idx="3"/>
          </p:nvPr>
        </p:nvSpPr>
        <p:spPr/>
        <p:txBody>
          <a:bodyPr/>
          <a:p>
            <a:fld id="{58EAA626-051F-43EA-955D-D4DCB2B129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3399"/>
                </a:solidFill>
                <a:latin typeface="Arial"/>
              </a:rPr>
              <a:t>Percentage of people with ”very good” or ”good” impression of public sector bodies with regard to openness and information. 2007. </a:t>
            </a:r>
            <a:endParaRPr b="1" lang="en-US" sz="2000" spc="-1" strike="noStrike">
              <a:solidFill>
                <a:srgbClr val="003399"/>
              </a:solidFill>
              <a:latin typeface="Arial"/>
            </a:endParaRPr>
          </a:p>
        </p:txBody>
      </p:sp>
      <p:graphicFrame>
        <p:nvGraphicFramePr>
          <p:cNvPr id="104" name=""/>
          <p:cNvGraphicFramePr/>
          <p:nvPr/>
        </p:nvGraphicFramePr>
        <p:xfrm>
          <a:off x="826920" y="2133720"/>
          <a:ext cx="7417080" cy="3600360"/>
        </p:xfrm>
        <a:graphic>
          <a:graphicData uri="http://schemas.openxmlformats.org/presentationml/2006/ole">
            <p:oleObj r:id="rId1" spid="">
              <p:embed/>
              <p:pic>
                <p:nvPicPr>
                  <p:cNvPr id="105" name="" descr=""/>
                  <p:cNvPicPr/>
                  <p:nvPr/>
                </p:nvPicPr>
                <p:blipFill>
                  <a:blip r:embed="rId2"/>
                  <a:stretch/>
                </p:blipFill>
                <p:spPr>
                  <a:xfrm>
                    <a:off x="826920" y="2133720"/>
                    <a:ext cx="7417080" cy="3600360"/>
                  </a:xfrm>
                  <a:prstGeom prst="rect">
                    <a:avLst/>
                  </a:prstGeom>
                  <a:ln w="0">
                    <a:noFill/>
                  </a:ln>
                </p:spPr>
              </p:pic>
            </p:oleObj>
          </a:graphicData>
        </a:graphic>
      </p:graphicFrame>
      <p:sp>
        <p:nvSpPr>
          <p:cNvPr id="3" name="PlaceHolder 2"/>
          <p:cNvSpPr>
            <a:spLocks noGrp="1"/>
          </p:cNvSpPr>
          <p:nvPr>
            <p:ph type="sldNum" idx="3"/>
          </p:nvPr>
        </p:nvSpPr>
        <p:spPr/>
        <p:txBody>
          <a:bodyPr/>
          <a:p>
            <a:fld id="{11D26F7D-82A1-4712-A90F-F27B15789068}"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11:55:51Z</dcterms:created>
  <dc:creator>Grete Borge</dc:creator>
  <dc:description/>
  <dc:language>en-US</dc:language>
  <cp:lastModifiedBy>ONU</cp:lastModifiedBy>
  <cp:lastPrinted>1999-08-31T12:20:00Z</cp:lastPrinted>
  <dcterms:modified xsi:type="dcterms:W3CDTF">2008-05-14T13:17:51Z</dcterms:modified>
  <cp:revision>134</cp:revision>
  <dc:subject/>
  <dc:title>Lysbilde 1</dc:title>
</cp:coreProperties>
</file>