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D49-794C-4D49-B670-B700A587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35F-CDD8-4F58-93A3-82786738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654-AD8E-4A9B-B2A8-01D237D3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AE4-BC2C-41B7-8C36-3B93109F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71EE-DC02-4F2C-A7DA-120DC937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3F99-A941-4313-84B6-B9B55F2F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B56A-B38D-426D-AEB3-5C9CBA33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F7CE-7E6F-4F7B-8198-BF1362C3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0634-6EE1-417A-BA11-38BCC991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AAAC-192F-4237-961F-A7A8F21D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5586-A345-4A23-A4AB-BB9295DE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9F2-BE78-4011-8B2C-72F99354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DEB7-8207-43DE-A44B-EBE3EDE3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84A7-52EC-499C-A06B-F5EB01C5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3FDB-CAC6-4A73-91FA-861B2158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2F0F-E723-47CF-90F7-3195B5DA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9D27-035C-491B-AE7F-2C659D15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8E3-DAD1-413A-9FF2-8B162B22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F1D-4529-45E6-9282-5BE4F34B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77A-8BFE-462F-A558-2D4B2618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F57-CEC9-40F7-B472-F52D84E5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739-1AFC-4E04-8BF8-6AD0D4E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0C5-1936-4ADD-BC96-BACFE4C7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DF1-E862-43CC-A36D-7BD78D5F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2" marL="1182600" indent="-22860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3" marL="1619280" indent="-2462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ADC4-2E9A-4446-8110-F397E9FE4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9ba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17C2-9AB2-4A8E-80D4-42B216C0B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812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2" marL="914400" indent="39600" algn="ctr">
              <a:spcBef>
                <a:spcPts val="499"/>
              </a:spcBef>
              <a:buClr>
                <a:srgbClr val="002d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3" marL="1371600" indent="1440" algn="ctr">
              <a:spcBef>
                <a:spcPts val="451"/>
              </a:spcBef>
              <a:buClr>
                <a:srgbClr val="002d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d4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2349360"/>
            <a:ext cx="777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dependence and a matter of tru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avid M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ad of Media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NS, United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Views of ‘opinion-formers’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Opinion-formers say the quality of UK official statistics is up there with the best in the worl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he problem of mistrust as they see it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current political climate of mistrus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politicisation of official statistic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prior access by Minister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pin = political marketing ("it's my job to create the truth" - Peter Mandelson)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Ipsos-MORI - Official Statistics: Perception and Trust (May 2006)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The spiral of distrus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ivergence syndrom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omething expected to be positive turned out to be negativ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omething thought be constant turns out to be finit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disconnect between expectations and experien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oesn't connect with 'me and my world'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hoot the messenger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media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tatistics make easy and powerful stori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... But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taken out of context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exaggerated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misrepresented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effect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kews trus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creates misunderstanding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Media – most powerful stakeholder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d46"/>
                </a:solidFill>
                <a:latin typeface="Arial"/>
              </a:rPr>
              <a:t>Media v. statistics – the battle zone:</a:t>
            </a:r>
            <a:endParaRPr b="0" lang="en-US" sz="32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never let the facts get in the way of the stor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f it's not interesting - it's not new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no change = no new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Build bridges with the media to create less ambiguous coverag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How can you gain trust?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o earn trust . . . first you have to give trus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mutual respec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ccessible inform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dult-to-adul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Behaviours that are trustworth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human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engaging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New kinds of influ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social influencer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charismatic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no apparent agenda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not patronising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ccessibl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ppears to know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engaging and likeabl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personal and relevan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represents  . . . the truth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tanding in the sho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tand in the shoes of the audience and ask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'What does this mean to me?'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'Do I trust these people?'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A voice from the pas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. . . facts are essential to the formation of view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. . . prejudice is combatted by reason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. . . policies are explained to be understoo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Sir Kenneth Grubb, Ministry of Information 1941-46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Transparency, accessibility and clarit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ndependence is not a magic bulle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tatisticians must not only act independently but be seen to be independent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Probity is not sufficient in itself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ransparency, accessibility and clarity are all equally important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Clearer explanation of the information produced is probably even more useful to users than increasing the range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earching the depth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A sceptical audi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ndependence and ethical behaviour must be at the core of any platform to build trust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t is a simple truth that to be trusted you must show that you are trustworthy and you must also show trust in others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n the UK, however, the level of scepticism has reached such a depth that institutional change in itself will not achieve the desired shift in attitud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Public confidence 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 third of people (33 per cent) thought figures were not generally accurat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Nearly six in ten (57 per cent) disagreed that figures were produced without political interferenc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 similar proportion (58 per cent) disagreed that the government uses figures honestl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Of those that disagreed that figures were accurate nearly half (47 per cent) included a view that figures were manipulated for political purpos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46"/>
                </a:solidFill>
                <a:latin typeface="Arial"/>
              </a:rPr>
              <a:t>Public confidence in official statistics, ONS 2008</a:t>
            </a:r>
            <a:endParaRPr b="0" lang="en-US" sz="1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d46"/>
                </a:solidFill>
                <a:latin typeface="Arial"/>
              </a:rPr>
              <a:t>The Statistics and Registration Service Act 2007</a:t>
            </a:r>
            <a:endParaRPr b="1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reates a new independent authority accountable direct to the UK Parliament and whose objective is to promote and safeguard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The production and publication of official statistics that serve the public good; and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The quality, good practice and comprehensiveness of official statistics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Leaders in independ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67280" y="1484280"/>
            <a:ext cx="4024080" cy="482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3645000"/>
            <a:ext cx="3166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 Michael Scholar – Chair of the new UK Statistic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Dunnell – National Statis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ome key point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A new Code of Practi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Independent assessment rol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A new look at pre-release acces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ata-sharing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tatistical publication hub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. . . But how do we deliver ‘the public good’, confidence and trust . . .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Earning trus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Where there is no trust . . .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Rise of influence of single issue group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Rejection of the official voi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Erosion of civic societ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Trust in Government (Opinion Leader Research) April 2006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What happened to trust?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We don't trust less, we trust differentl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No longer an age of deferen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We've moved to an age of referen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Who is trusted?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Authority of institution has been eroded and switched to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people we know, who know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'my media'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We choose PEOPLE we can trust and then find the CONTEXT in which we can trust them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15:28Z</dcterms:created>
  <dc:creator>Jan Tasker</dc:creator>
  <dc:description/>
  <dc:language>en-US</dc:language>
  <cp:lastModifiedBy>Marder</cp:lastModifiedBy>
  <dcterms:modified xsi:type="dcterms:W3CDTF">2008-05-09T07:43:07Z</dcterms:modified>
  <cp:revision>30</cp:revision>
  <dc:subject/>
  <dc:title>Slide 1</dc:title>
</cp:coreProperties>
</file>