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6FC-F356-4576-9F5D-CFE54976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FB2-31EE-43CA-88C5-727D5AC2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5BD-951E-496A-A826-69A0DAE9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D5F-61B3-4315-83EB-4036C030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DB63-2592-497C-9D9E-834B619B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3896-0490-4D8C-BA96-30CCA511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9F93-A2D9-40E8-9078-731B9A87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690D-AC4D-420A-BB16-249766C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D7D5-FA01-42E7-AA78-2001DA35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4080-12F0-45E1-8974-03472432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8040-11C0-401F-B9DD-3159D23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D2A-61D1-41A3-8E04-DAE11FEC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2824-402D-4315-BB03-4E56BFA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D468-076A-4538-BFBC-9E8F9E2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3C56-DFEE-4619-B91C-671A659C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640C-80E4-44D8-92D8-BB62381D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1EA8-95DB-49D2-BDBA-EAACD6D5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4DC-076B-4943-8EDC-C8D2FF62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44C-8577-4B3E-A498-42F6251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CFA-F8E5-41F2-901D-185BA4CA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240-CAB2-42AB-9226-C3A4376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506-78D4-4489-8780-BE3D836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1A1-C8D4-4046-AD45-4FB956A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8ED-AFAA-47FA-B165-0CE7333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2" marL="1182600" indent="-22860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3" marL="1619280" indent="-2462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2344-1078-445F-BE69-BE4927078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9ba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A559-912C-4AB3-B70B-62FAB5AED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812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2" marL="914400" indent="39600" algn="ctr">
              <a:spcBef>
                <a:spcPts val="499"/>
              </a:spcBef>
              <a:buClr>
                <a:srgbClr val="002d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3" marL="1371600" indent="1440" algn="ctr">
              <a:spcBef>
                <a:spcPts val="451"/>
              </a:spcBef>
              <a:buClr>
                <a:srgbClr val="002d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d4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2349360"/>
            <a:ext cx="777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dependence and a matter of tru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avid M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ad of Media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NS,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Views of ‘opinion-formers’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Opinion-formers say the quality of UK official statistics is up there with the best in the worl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he problem of mistrust as they see it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current political climate of mistrus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politicisation of official statistic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prior access by Minister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pin = political marketing ("it's my job to create the truth" - Peter Mandelson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Ipsos-MORI - Official Statistics: Perception and Trust (May 2006)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The spiral of distrus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ivergence syndrom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omething expected to be positive turned out to be negativ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omething thought be constant turns out to be finit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disconnect between expectations and experien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oesn't connect with 'me and my world'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hoot the messenger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media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tatistics make easy and powerful stori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... But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taken out of context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exaggerated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misrepresented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effect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kews trus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reates misunderstanding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Media – most powerful stakeholder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d46"/>
                </a:solidFill>
                <a:latin typeface="Arial"/>
              </a:rPr>
              <a:t>Media v. statistics – the battle zone:</a:t>
            </a:r>
            <a:endParaRPr b="0" lang="en-US" sz="32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ever let the facts get in the way of the stor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f it's not interesting - it's not new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o change = no new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Build bridges with the media to create less ambiguous coverag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How can you gain trust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o earn trust . . . first you have to give trus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mutual respec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ccessible inform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dult-to-adul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Behaviours that are trustworth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human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engaging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New kinds of influ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social influencer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harismatic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no apparent agenda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not patronising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ccessibl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ppears to know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engaging and likeabl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personal and relevan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represents  . . . the truth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tanding in the sho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tand in the shoes of the audience and ask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'What does this mean to me?'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'Do I trust these people?'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A voice from the pas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. . . facts are essential to the formation of view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. . . prejudice is combatted by reason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. . . policies are explained to be understoo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Sir Kenneth Grubb, Ministry of Information 1941-46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Transparency, accessibility and clarit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ndependence is not a magic bulle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tatisticians must not only act independently but be seen to be independent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Probity is not sufficient in itself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ransparency, accessibility and clarity are all equally important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learer explanation of the information produced is probably even more useful to users than increasing the range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earching the depth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A sceptical audi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ndependence and ethical behaviour must be at the core of any platform to build trust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t is a simple truth that to be trusted you must show that you are trustworthy and you must also show trust in others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n the UK, however, the level of scepticism has reached such a depth that institutional change in itself will not achieve the desired shift in attitud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Public confidence 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 third of people (33 per cent) thought figures were not generally accurat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Nearly six in ten (57 per cent) disagreed that figures were produced without political interferenc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 similar proportion (58 per cent) disagreed that the government uses figures honestl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Of those that disagreed that figures were accurate nearly half (47 per cent) included a view that figures were manipulated for political purpos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46"/>
                </a:solidFill>
                <a:latin typeface="Arial"/>
              </a:rPr>
              <a:t>Public confidence in official statistics, ONS 2008</a:t>
            </a:r>
            <a:endParaRPr b="0" lang="en-US" sz="1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d46"/>
                </a:solidFill>
                <a:latin typeface="Arial"/>
              </a:rPr>
              <a:t>The Statistics and Registration Service Act 2007</a:t>
            </a:r>
            <a:endParaRPr b="1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reates a new independent authority accountable direct to the UK Parliament and whose objective is to promote and safeguard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The production and publication of official statistics that serve the public good; and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The quality, good practice and comprehensiveness of official statistics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Leaders in independ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67280" y="1484280"/>
            <a:ext cx="4024080" cy="482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3645000"/>
            <a:ext cx="3166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 Michael Scholar – Chair of the new UK Statistic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Dunnell – National Statis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ome key point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A new Code of Practi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ndependent assessment rol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A new look at pre-release acces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ata-sharing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tatistical publication hub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. . . But how do we deliver ‘the public good’, confidence and trust . . .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Earning trus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here there is no trust . . .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Rise of influence of single issue group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Rejection of the official voi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Erosion of civic societ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Trust in Government (Opinion Leader Research) April 2006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What happened to trust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e don't trust less, we trust differentl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o longer an age of deferen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e've moved to an age of referen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Who is trusted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Authority of institution has been eroded and switched to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people we know, who know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'my media'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e choose PEOPLE we can trust and then find the CONTEXT in which we can trust them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15:28Z</dcterms:created>
  <dc:creator>Jan Tasker</dc:creator>
  <dc:description/>
  <dc:language>en-US</dc:language>
  <cp:lastModifiedBy>Marder</cp:lastModifiedBy>
  <dcterms:modified xsi:type="dcterms:W3CDTF">2008-05-09T07:43:07Z</dcterms:modified>
  <cp:revision>30</cp:revision>
  <dc:subject/>
  <dc:title>Slide 1</dc:title>
</cp:coreProperties>
</file>