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6D0-EC8E-492E-BC6E-1331D3DE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32-730A-4AFC-8E1F-927B697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B91-B2AC-4D13-9E74-404B5F6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2B1-1D44-45E8-931C-7065828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EAC-21E9-4E68-AB9B-4A6A7F1B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FFD-74AE-41A6-BE52-84BB710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410-3745-4539-870C-7258148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A0D-3BA5-4150-839F-26D8B8C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D97-8946-47C9-BA4E-5F837A3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341-9C8D-498A-8ACC-FCF04C6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B51-727C-4D7C-8569-045D6C88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EDE-B8C2-4EEF-9757-DDCCA00A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2C49-ADB4-4A9F-94A2-D6DE4D16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32A-68A7-452A-BF20-C7D7CF07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C57B-32EA-41AA-A48D-17851AF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01C-5BA2-4D7F-89D9-3528508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D168-8DC0-4357-9E76-63F8D9E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F4D8-DE95-4C01-895C-542B505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2ADB-C155-4DFC-9A86-64E12F6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7E29-1959-40DC-B951-1044EE1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6FA-E04D-427E-A505-64855A7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AAF4-0AE2-4CF0-BF5E-4D3658E0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DDC-2C59-4518-AD65-BD37CED8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C212-F69F-4B26-BF9D-07DB78B0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5803560" y="637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18E-E7FD-4A5A-B471-E533513B20CC}" type="datetime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291600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B35-7E6B-4200-A21C-6CCA68D2FD3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372360" y="6381360"/>
            <a:ext cx="242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51C7-9D5A-45F2-B00B-749F4801D058}" type="datetime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91600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BAB-C447-4DA1-9D56-F650783D3EF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692360" y="1844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547640" y="1700280"/>
            <a:ext cx="612000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COMMUNICATING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IS OUR ETHICAL DUTY,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BUT LET’S GET IT RIGHT</a:t>
            </a:r>
            <a:br>
              <a:rPr sz="2400"/>
            </a:br>
            <a:r>
              <a:rPr b="1" lang="en-CA" sz="2400" spc="-1" strike="noStrike">
                <a:solidFill>
                  <a:srgbClr val="800080"/>
                </a:solidFill>
                <a:latin typeface="Arial"/>
              </a:rPr>
              <a:t>IN THE FIRST PLAC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MARTINE GRE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ASSISTANT DIRECTOR, 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800080"/>
                </a:solidFill>
                <a:latin typeface="Arial"/>
              </a:rPr>
              <a:t>AND LIBRARY SERVICES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47640" y="5516640"/>
            <a:ext cx="6193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UNECE WORK SESSION ON STATISTICAL DISSEMINATION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13 TO 16 MAY, 2008,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8666-9BC7-4043-AA32-C8CE276675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Daily subscriber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600200" y="1792440"/>
            <a:ext cx="53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image_FINAL1"/>
          <p:cNvPicPr/>
          <p:nvPr/>
        </p:nvPicPr>
        <p:blipFill>
          <a:blip r:embed="rId2"/>
          <a:stretch/>
        </p:blipFill>
        <p:spPr>
          <a:xfrm>
            <a:off x="468360" y="1341360"/>
            <a:ext cx="73612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CAA-73E4-4CF9-8E21-091C28B5762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design of the Daily system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interfac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A new interactive tool to be offe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author divisions to aid quality assura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streamline processes: the “Smart Dai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7030a0"/>
                </a:solidFill>
                <a:latin typeface="Arial"/>
              </a:rPr>
              <a:t>Integrat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7030a0"/>
                </a:solidFill>
                <a:latin typeface="Arial"/>
              </a:rPr>
              <a:t>Preview of draft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7030a0"/>
                </a:solidFill>
                <a:latin typeface="Arial"/>
              </a:rPr>
              <a:t>Comp/Tex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39CC-7008-460D-B6B2-5B6352677EA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CLU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Arial"/>
              </a:rPr>
              <a:t>Communicating errors is our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Arial"/>
              </a:rPr>
              <a:t>Getting it right in the first place is our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62673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30a0"/>
                </a:solidFill>
                <a:latin typeface="Arial"/>
              </a:rPr>
              <a:t>Martine.grenier@statca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D2BE-628D-4C32-BD59-A59F49B58C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6994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Why communicat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Release of erroneou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Lates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6333-196A-4D83-B35C-85E3D34831E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603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WHY</a:t>
            </a:r>
            <a:r>
              <a:rPr b="0" lang="fr-CA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COMMUNICATE ERRORS?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---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Faith in the prov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Values, policy and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9CD5-EE89-4A36-A648-00BA1BE9BE2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lease of erroneous info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Quality Secretariat and the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assurance practices review: sev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Training program on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Formal quality incident respons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80"/>
                </a:solidFill>
                <a:latin typeface="Arial"/>
              </a:rPr>
              <a:t>Ongoing quality assurance review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Investigation into corrections of</a:t>
            </a:r>
            <a:br>
              <a:rPr sz="2800"/>
            </a:br>
            <a:r>
              <a:rPr b="1" lang="fr-CA" sz="2800" spc="-1" strike="noStrike">
                <a:solidFill>
                  <a:srgbClr val="800080"/>
                </a:solidFill>
                <a:latin typeface="Arial"/>
              </a:rPr>
              <a:t>data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0080"/>
                </a:solidFill>
                <a:latin typeface="Arial"/>
              </a:rPr>
              <a:t>The goals: analyse why corrections that affect accuracy are made; identify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re-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ost-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B7E-DC9D-4FFB-8917-D50E7BF3779B}" type="datetime">
              <a:rPr b="0" lang="en-CA" sz="1200" spc="-1" strike="noStrike">
                <a:solidFill>
                  <a:srgbClr val="000000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B813-B5B6-42C9-A4F8-322CB6D39BF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lease of erroneou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fo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535-CB73-4F0F-8925-CBC024195E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LATEST INITIATIVES 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Quality assurance protocol is a reminder and a standard approach that author divisions can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Erro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aper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AE67-9DEE-4ADF-BF39-540AA5F7EFA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Review of corrections process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----------------------------------------------------</a:t>
            </a: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hen corrections are made to the data, communicating promptly is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 media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Notification of register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y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Daily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879F-A4FA-472B-85DD-98F5B5E85C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Notification of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registered produ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54" name="Picture 7" descr="image_FINAL2"/>
          <p:cNvPicPr/>
          <p:nvPr/>
        </p:nvPicPr>
        <p:blipFill>
          <a:blip r:embed="rId2"/>
          <a:stretch/>
        </p:blipFill>
        <p:spPr>
          <a:xfrm>
            <a:off x="684360" y="1484280"/>
            <a:ext cx="7200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e la date 3"/>
          <p:cNvSpPr/>
          <p:nvPr/>
        </p:nvSpPr>
        <p:spPr>
          <a:xfrm>
            <a:off x="580392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pied de page 4"/>
          <p:cNvSpPr/>
          <p:nvPr/>
        </p:nvSpPr>
        <p:spPr>
          <a:xfrm>
            <a:off x="291636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c8c93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095-CEF7-4AD0-BCE4-63BF6D38FAC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 Black"/>
              </a:rPr>
              <a:t>My accoun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59" name="Picture 8" descr="image_FINAL3"/>
          <p:cNvPicPr/>
          <p:nvPr/>
        </p:nvPicPr>
        <p:blipFill>
          <a:blip r:embed="rId2"/>
          <a:stretch/>
        </p:blipFill>
        <p:spPr>
          <a:xfrm>
            <a:off x="324000" y="930240"/>
            <a:ext cx="75690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3:26:49Z</dcterms:created>
  <dc:creator>Administrator</dc:creator>
  <dc:description/>
  <dc:language>en-US</dc:language>
  <cp:lastModifiedBy>Gardner</cp:lastModifiedBy>
  <dcterms:modified xsi:type="dcterms:W3CDTF">2008-05-12T12:46:17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3323145</vt:r8>
  </property>
  <property fmtid="{D5CDD505-2E9C-101B-9397-08002B2CF9AE}" pid="3" name="_AuthorEmail">
    <vt:lpwstr>Martine.Grenier@a.statcan.ca</vt:lpwstr>
  </property>
  <property fmtid="{D5CDD505-2E9C-101B-9397-08002B2CF9AE}" pid="4" name="_AuthorEmailDisplayName">
    <vt:lpwstr>Grenier, Martine - CLSD/DCSB</vt:lpwstr>
  </property>
  <property fmtid="{D5CDD505-2E9C-101B-9397-08002B2CF9AE}" pid="5" name="_EmailSubject">
    <vt:lpwstr>Your presentation next week</vt:lpwstr>
  </property>
  <property fmtid="{D5CDD505-2E9C-101B-9397-08002B2CF9AE}" pid="6" name="_PreviousAdHocReviewCycleID">
    <vt:r8>-247266684</vt:r8>
  </property>
  <property fmtid="{D5CDD505-2E9C-101B-9397-08002B2CF9AE}" pid="7" name="_ReviewingToolsShownOnce">
    <vt:lpwstr/>
  </property>
</Properties>
</file>