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3BE4-AB2E-4D72-8EF4-7CD386E2FC54}" type="datetime3">
              <a:rPr b="1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EE4D6AC-815C-4752-8E97-EA55F471B6C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многомерные кубы с данными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инар ЕЭК ООН на тему «Разработка систем распространения данных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многомерный куб с данны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мерная структура, содержащ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е точки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представляют собой комбинацию нескольких классиф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ный способ хранения и распространения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85ED8-E7CC-4158-8533-7ED25B3C075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ухмерный ку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752480"/>
          <a:ext cx="7924680" cy="42372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 4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 5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 6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7 654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 654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89 654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9 654</a:t>
                      </a:r>
                      <a:r>
                        <a:rPr b="0" lang="en-US" sz="2800" spc="-1" strike="noStrike">
                          <a:solidFill>
                            <a:srgbClr val="cccccc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658D2-9295-4117-A6D1-1CF02B4654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086600" cy="5792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152388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Трёхмерный ку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CD321-6FAB-4685-87E4-8ED55F6FF4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е измерений возможн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600"/>
            </a:br>
            <a:br>
              <a:rPr sz="1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не просто отрази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CA55E-B6B9-4102-BC55-0AF6ABC568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важны кубы с данны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кубы находятся в основе многих современных моделей и систем обработки статистически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и могут выбирать только те данные, которые для них интерес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убы с легкостью можно добавить информаци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е год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угие катег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крайней мере теоретиче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ы могут иметь неограниченное количество изме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6F5D3-85F3-40E7-8EC8-839F1FC0C8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7467480" cy="55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B9087-1576-47E8-AFA6-DA99D50F332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88920"/>
            <a:ext cx="7467840" cy="623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15F6C-61ED-4676-B7FF-96D5673583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8-25T14:36:49Z</dcterms:modified>
  <cp:revision>34</cp:revision>
  <dc:subject/>
  <dc:title>Quality Framework</dc:title>
</cp:coreProperties>
</file>