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F288-DB97-441F-A17A-399BA921239D}" type="datetime3">
              <a:rPr b="1" lang="en-GB" sz="12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CEEC868-466D-44B3-971F-0E8A785CC6C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многомерные кубы с данными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4952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инар ЕЭК ООН на тему «Разработка систем распространения данных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многомерный куб с данны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мерная структура, содержащ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е точки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представляют собой комбинацию нескольких классиф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бный способ хранения и распространения да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0F7AC-04D3-473C-91AE-567E1D28E72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ухмерный ку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752480"/>
          <a:ext cx="7924680" cy="42372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 4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 5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 6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7 654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8 654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989 654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9 654</a:t>
                      </a:r>
                      <a:r>
                        <a:rPr b="0" lang="en-US" sz="2800" spc="-1" strike="noStrike">
                          <a:solidFill>
                            <a:srgbClr val="cccccc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4D9FD-DFD8-460C-BCB4-5DE36DB668C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086600" cy="5792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67280" y="152388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Трёхмерный ку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C419F-9E78-4080-87C1-6D05C803CF4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е измерений возможн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600"/>
            </a:br>
            <a:br>
              <a:rPr sz="1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не просто отрази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36590-0606-4E75-AB0A-1E3D274AB5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важны кубы с данны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кубы находятся в основе многих современных моделей и систем обработки статистических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и могут выбирать только те данные, которые для них интерес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убы с легкостью можно добавить информаци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ие год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угие катег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крайней мере теоретиче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бы могут иметь неограниченное количество изме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D6655-8998-4EB7-84AD-02D93CE4470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7467480" cy="55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0CA8F-693C-423D-98F3-2CF8E84F5CC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88920"/>
            <a:ext cx="7467840" cy="623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B9F32-A06C-4112-B9E8-0763FA1D1D5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8-25T14:36:49Z</dcterms:modified>
  <cp:revision>34</cp:revision>
  <dc:subject/>
  <dc:title>Quality Framework</dc:title>
</cp:coreProperties>
</file>