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0E4D-DCC8-4214-833A-53EC6DD5DACE}" type="datetime3">
              <a:rPr b="1" lang="en-GB" sz="12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13C3FB3-4AB8-45CF-B3B5-3B7965C780F5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153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Data Cub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720" y="5257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CE Workshop on Developing Data Dissemination Systems – Geneva, 12 May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data cub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lti-dimensional structure containing data points that represent unique combinations of several class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lexible way of storing and disseminat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3AFF6-4185-4117-9F28-14409897A20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-dimensional cu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752480"/>
          <a:ext cx="7924680" cy="42372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 4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 5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 6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7 654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8 654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989 654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9 654</a:t>
                      </a:r>
                      <a:r>
                        <a:rPr b="0" lang="en-US" sz="2800" spc="-1" strike="noStrike">
                          <a:solidFill>
                            <a:srgbClr val="cccccc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CF380-3029-4DB9-963C-2B98BF082A8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086600" cy="5792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867280" y="1523880"/>
            <a:ext cx="289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ree-dimensional cu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EA2D9-B59D-4A48-B92D-A22C82A5694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dimensions are possible,</a:t>
            </a:r>
            <a:br>
              <a:rPr sz="4000"/>
            </a:br>
            <a:br>
              <a:rPr sz="2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not easy to display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1F381-59E6-4134-BC0E-48C99EB2B63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are data cubes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ecent statistical data management models and systems are based on c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can select just those data that are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es can easily be expanded, e.g. for extra years, countries, or other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in theory, cubes can have an infinite number of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4FAE8-AC35-435A-A1CD-E9408BD9596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7467480" cy="558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966BE-B950-431E-91E1-8E06D82866B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88920"/>
            <a:ext cx="7467840" cy="623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6030E-D408-4055-A178-EF3E3C20C80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9:52:23Z</dcterms:created>
  <dc:creator>vale</dc:creator>
  <dc:description/>
  <dc:language>en-US</dc:language>
  <cp:lastModifiedBy>Vale</cp:lastModifiedBy>
  <dcterms:modified xsi:type="dcterms:W3CDTF">2008-05-16T07:19:18Z</dcterms:modified>
  <cp:revision>30</cp:revision>
  <dc:subject/>
  <dc:title>Quality Framework</dc:title>
</cp:coreProperties>
</file>