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DF28-C427-4CB3-A282-1D10C6E4EA59}" type="datetime3">
              <a:rPr b="1" lang="en-GB" sz="12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59E7B5A-4211-4521-824E-0C1828550B1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Data Cu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5257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Workshop on Developing Data Dissemination Systems – Geneva, 12 Ma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data cub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-dimensional structure containing data points that represent unique combinations of several class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lexible way of storing and disseminat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03F6E-1DD7-4B59-8C5E-27B4B0296EB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-dimensional cu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752480"/>
          <a:ext cx="7924680" cy="42372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 4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 5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 6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7 654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8 654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989 654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9 654</a:t>
                      </a:r>
                      <a:r>
                        <a:rPr b="0" lang="en-US" sz="2800" spc="-1" strike="noStrike">
                          <a:solidFill>
                            <a:srgbClr val="cccccc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6CB09-2232-4D6C-A97C-ECE1C458248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086600" cy="5792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67280" y="1523880"/>
            <a:ext cx="28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ree-dimensional cu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6D25F-F72B-4CE1-B76D-05995F4E0AD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dimensions are possible,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not easy to display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4B36B-CCF6-48EB-ACEE-5F8DE3A104B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are data cubes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cent statistical data management models and systems are based on c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can select just those data that are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es can easily be expanded, e.g. for extra years, countries, or other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in theory, cubes can have an infinite number of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D5FF9-FDCE-4346-BB94-CDF8AD60F90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7467480" cy="55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696AA-C582-4B69-BEED-B09E2DC7A3C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88920"/>
            <a:ext cx="7467840" cy="623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15092-1D53-4C2D-96E6-42932EC2734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5-16T07:19:18Z</dcterms:modified>
  <cp:revision>30</cp:revision>
  <dc:subject/>
  <dc:title>Quality Framework</dc:title>
</cp:coreProperties>
</file>