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3423-D91E-4F7D-B5C7-4D0A972113EB}" type="datetime3">
              <a:rPr b="1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286F10A-C6C6-4355-A974-CE142FF4B7D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подходы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 распространению данных через Интерне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ина ЕЭК ООН на тему «Разработка систем распространения данных» - Женева, 12 мая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ое программное обеспечение для баз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ировано к национальным  нуж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гая разработка и под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уже сделанного другими статистическими агент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FB405-017F-498E-A2EF-F31C4AD82F9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239240" cy="52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AEF53-982B-4B02-9AF9-717BF8C0EC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популярное программное обеспечение для баз распространения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пользовател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ор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е сообщество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опционные расширительные модул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-on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большая ежегодная лицензионная плата за базово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перевода пользовательских интерфейсов на собственный язы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B5E5C-5AC7-4432-A7AB-A0941F857A2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оп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bank / PC-Axis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и используется некоторыми Скандинавскими статистическими агент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WEB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рческое программное обеспечение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-Time Research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nfo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CE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мониторин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й развития тысячеле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CDSta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ы открытого кода, используемые несколькими статистическими агентств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82A23-576F-45DA-900B-D44119BDED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го хотят пользовател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т от типа 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ый доступ к ключевым парамет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ыбора и манипулирования да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экспортирование данных в собственные аналитические п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ая визуализ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кватные мета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языч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05EE4-9DCC-4331-9D9D-DA71400B853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ие подх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ческие таблицы могут быть использов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ключевых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етализированных или круп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ов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м предоставляется возмож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свои собственные таблицы и манипул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хранятся в многомерных куб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ются графические визу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м предоставляется возможность загружать данные в нескольких формат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D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8F54E-6444-4460-A2C0-A394C97F86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ие подход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ие данных и мета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ые разработ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бществе или сети открытого к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использованием электронных форумов для обсуждений и во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ытайтесь изобрести колесо зано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622D7-D82F-4008-9CF9-E834C55CE7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28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DF72B-0AE2-4A39-B770-826DB7C19B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 настоящее время распространяется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а и недостатки различных под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хотят пользовате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е под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0632E-E8EA-426E-86A3-155FB41E7B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следование современных подход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ы статистических агент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-членов ЕЭК О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и исследованы весной 2008 г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 создан реестр систем и форматов распространения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ыло возможности исследовать все версии веб-сайтов на национальных язык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139EE-03EA-4267-8AD7-F51EA3C2F3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676520"/>
          <a:ext cx="8610480" cy="4340160"/>
        </p:xfrm>
        <a:graphic>
          <a:graphicData uri="http://schemas.openxmlformats.org/drawingml/2006/table">
            <a:tbl>
              <a:tblPr/>
              <a:tblGrid>
                <a:gridCol w="4876920"/>
                <a:gridCol w="2279520"/>
                <a:gridCol w="14540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распространения данных в Интер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стр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тическ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html / pdf / wor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блиц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ое программное обеспечение для баз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-Ax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bank / PC-Ax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W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439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B520C-B307-42BB-ABF0-F29F7ED422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ическ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tml / pdf / wor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9773A-D1D1-4967-9906-022059CCBC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ическ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tml / pdf / wor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ая и дешев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бельность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скомбинировать табл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и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df viewer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картин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не может с легкостью загружать данные и манипул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овления делаются вруч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0FBDA-99EC-4E9A-A34C-18D4F2F440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блиц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174680"/>
            <a:ext cx="8763120" cy="51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13A8A-248E-4871-9A35-E90222A68C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блиц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и могут загружать данные и манипул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распространенный формат для базового анализ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ше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овления делаются вруч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должен загружать целый фай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A99E2-3D37-4B4A-9053-2E2E0005B3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ое программное обеспечение для баз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10080" cy="222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373800">
            <a:off x="304560" y="3885840"/>
            <a:ext cx="5029200" cy="635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1272400">
            <a:off x="228240" y="4952880"/>
            <a:ext cx="5334120" cy="9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rot="734400">
            <a:off x="4572000" y="4723920"/>
            <a:ext cx="4352760" cy="11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12FE7-C274-43D4-8B2D-C34292DD40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8-25T14:39:47Z</dcterms:modified>
  <cp:revision>42</cp:revision>
  <dc:subject/>
  <dc:title>Quality Framework</dc:title>
</cp:coreProperties>
</file>