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25C1-B86B-4838-B292-62971CC03139}" type="datetime3">
              <a:rPr b="1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98E9888-E8A3-4674-85D5-DE3D6DA4456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подходы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 распространению данных через Интерне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ина ЕЭК ООН на тему «Разработка систем распространения данных» - Женева, 12 мая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ое программное обеспечение для баз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ировано к национальным  нуж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гая разработка и под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уже сделанного другими статистическими агент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E486C-E399-4807-9365-09AED18553B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239240" cy="52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C883B-DE01-47A0-80A7-D2B525C9726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популярное программное обеспечение для баз распространения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пользовател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ор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е сообщество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опционные расширительные модул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-on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большая ежегодная лицензионная плата за базово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перевода пользовательских интерфейсов на собственный язы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323E0-30F3-47EE-813C-E5B9BAF972B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оп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bank / PC-Axis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и используется некоторыми Скандинавскими статистическими агент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WEB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рческое программное обеспечение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-Time Research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nfo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CE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мониторин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й развития тысячеле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CDSta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ы открытого кода, используемые несколькими статистическими агентств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D7AA9-FE67-4FCC-BD20-F1FA707A90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го хотят пользовател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т от типа 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ый доступ к ключевым парамет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ыбора и манипулирования да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экспортирование данных в собственные аналитические п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ая визуализ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кватные мета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языч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2F215-2BEB-4E38-BD4F-88B4964499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ие подх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ческие таблицы могут быть использов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ключевых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етализированных или круп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ов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м предоставляется возмож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свои собственные таблицы и манипул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хранятся в многомерных куб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ются графические визу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м предоставляется возможность загружать данные в нескольких формат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D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CC050-6C1F-4254-BBCC-24AC77939FA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ие подход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ие данных и мета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ые разработ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бществе или сети открытого к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использованием электронных форумов для обсуждений и во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ытайтесь изобрести колесо зано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436D2-964B-4B33-97EB-03F04CDF8A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28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15DEB-1C74-4E4B-BE85-84E3B86F798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 настоящее время распространяется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а и недостатки различных под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хотят пользовате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е под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631B9-F7EE-42E8-B36A-32DED540723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следование современных подход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ы статистических агент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-членов ЕЭК О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и исследованы весной 2008 г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 создан реестр систем и форматов распространения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ыло возможности исследовать все версии веб-сайтов на национальных язык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E8308-66E7-47B9-9310-48484BA1BB8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676520"/>
          <a:ext cx="8610480" cy="4340160"/>
        </p:xfrm>
        <a:graphic>
          <a:graphicData uri="http://schemas.openxmlformats.org/drawingml/2006/table">
            <a:tbl>
              <a:tblPr/>
              <a:tblGrid>
                <a:gridCol w="4876920"/>
                <a:gridCol w="2279520"/>
                <a:gridCol w="14540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распространения данных в Интер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стр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тическ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html / pdf / wor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блиц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ое программное обеспечение для баз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-Ax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bank / PC-Ax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W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439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17F0E-575F-4780-AEEB-82D84A9513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ическ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tml / pdf / wor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F5A62-E720-45AF-88DA-05851BCF8A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ическ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tml / pdf / wor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ая и дешев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бельность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скомбинировать табл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и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df viewer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картин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не может с легкостью загружать данные и манипул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овления делаются вруч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EE055-3D7B-41C9-8FD5-499EEC6F83C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блиц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174680"/>
            <a:ext cx="8763120" cy="51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87D03-C31C-48F0-AD2A-C0E30FEA796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блиц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и могут загружать данные и манипул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распространенный формат для базового анализ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ше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овления делаются вруч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должен загружать целый фай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65EF3-9F39-429E-A037-62618BB76F0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ое программное обеспечение для баз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10080" cy="222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373800">
            <a:off x="304560" y="3885840"/>
            <a:ext cx="5029200" cy="635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1272400">
            <a:off x="228240" y="4952880"/>
            <a:ext cx="5334120" cy="9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rot="734400">
            <a:off x="4572000" y="4723920"/>
            <a:ext cx="4352760" cy="11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18281-A5E5-4748-BAF4-9C434C11536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Vale</cp:lastModifiedBy>
  <dcterms:modified xsi:type="dcterms:W3CDTF">2008-08-25T14:39:47Z</dcterms:modified>
  <cp:revision>42</cp:revision>
  <dc:subject/>
  <dc:title>Quality Framework</dc:title>
</cp:coreProperties>
</file>