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CE68-04F5-4D37-8495-97C0F0661B02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F536E9-9C6A-4486-918D-F4436FBD0CF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Practices in Data Dissemination via the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database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lored to na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develop and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on of effort in other statist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0D08F-373B-43A8-845A-62436BA50A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23924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B2483-1C9F-454C-9F5E-B7B2EC7A92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data dissemin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user-driven data ex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tional add-ons are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nual license fee for cor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late user interfaces to ow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6806F-C2FB-4868-8A6F-C384B2CA80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bank / PC-Axis – developed and used by some Nordic statistic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WEB – commercial software from Space-Time Research (Austra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nfo – developed by UNICEF for monitoring millennium developmen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DStat – open source tools used by several international statistic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98622-B22E-4C2C-B274-A60652231A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type of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access to 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o select and manipul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port to own analysis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visualizations (maps, charts,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87D8D-4192-4E88-8E52-FBB213A707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tables can be useful for 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tailed or large datasets, allow users to create and manipulate their ow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data as multi-dimensional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graphic visu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download data in a range of formats (including SDM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F4FD-BC75-4ED0-8B49-54DE5BB048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practic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data and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development in an open-source environment or network, with an electronic forum for discussions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ry to re-invent the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C34C-365A-409C-85EE-DF50CEA3F3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listening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0FA5A-EE83-48C3-93F1-A4AB6BFB75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data currently dissemin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and disadvantages of different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3FE6A-DFD3-4F27-B230-D43E7548DE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of current pract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s of statistical agencies for all 56 UNECE member countries checked during spring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semination systems and formats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ossible to check all national language versions of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CFF0D-5259-40F9-B5CE-433EB0268F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76520"/>
          <a:ext cx="8610480" cy="4348080"/>
        </p:xfrm>
        <a:graphic>
          <a:graphicData uri="http://schemas.openxmlformats.org/drawingml/2006/table">
            <a:tbl>
              <a:tblPr/>
              <a:tblGrid>
                <a:gridCol w="4876920"/>
                <a:gridCol w="2279520"/>
                <a:gridCol w="14540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et Dissemination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 html / pdf / word p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 spreadshe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database soft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-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bank / PC-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W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705F8-32F7-47CC-AB6B-750CF29DCF4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html / pdf / word p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73AA5-0EF0-4C98-A0A1-9766E2029F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html / pdf / word p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, easy and cheap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t a g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 combine tables, graphics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pdf viewers are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picture - users can not easily download or manipul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E8E9-0B9F-4E68-96DE-AF5538A444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74680"/>
            <a:ext cx="87631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7E727-C529-4EF5-9207-4A9CC285CC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spreadshe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download and custom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format for basic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software is not chea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has to download the whol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36FBD-E060-4262-A708-C6ABA681EE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database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222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373800">
            <a:off x="304560" y="3885840"/>
            <a:ext cx="5029200" cy="635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1272400">
            <a:off x="228240" y="4952880"/>
            <a:ext cx="533412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734400">
            <a:off x="4572000" y="4723920"/>
            <a:ext cx="4352760" cy="11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3A8C5-8677-4182-ACB2-A7077F07DA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16T07:18:32Z</dcterms:modified>
  <cp:revision>29</cp:revision>
  <dc:subject/>
  <dc:title>Quality Framework</dc:title>
</cp:coreProperties>
</file>