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1264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9248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316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1264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9248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6840" y="609480"/>
            <a:ext cx="7086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1264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89248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16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1264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89248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609480"/>
            <a:ext cx="7086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324480"/>
            <a:ext cx="8381880" cy="0"/>
          </a:xfrm>
          <a:prstGeom prst="line">
            <a:avLst/>
          </a:prstGeom>
          <a:ln w="1908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016A1-9B8D-46C1-8DC3-055F6DC6C72A}" type="datetime3">
              <a:rPr b="1" lang="en-GB" sz="1200" spc="-1" strike="noStrike">
                <a:solidFill>
                  <a:srgbClr val="000000"/>
                </a:solidFill>
                <a:latin typeface="Arial"/>
              </a:rPr>
              <a:t>31 July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590920" y="6324480"/>
            <a:ext cx="441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 - UNECE Statistical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0E01DE29-1C24-42BF-99C3-63868253EC12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718400" y="228600"/>
            <a:ext cx="1044720" cy="11174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28600" y="380880"/>
            <a:ext cx="722952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7718400" y="228600"/>
            <a:ext cx="1044720" cy="111744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228600" y="380880"/>
            <a:ext cx="722952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0" r="0" b="18196"/>
          <a:stretch/>
        </p:blipFill>
        <p:spPr>
          <a:xfrm>
            <a:off x="533520" y="533520"/>
            <a:ext cx="1044360" cy="914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752480" y="60948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Book Antiqua"/>
              </a:rPr>
              <a:t>United Nations Economic Commission for Europe</a:t>
            </a:r>
            <a:br>
              <a:rPr sz="1800"/>
            </a:br>
            <a:r>
              <a:rPr b="1" lang="fr-CH" sz="1800" spc="-1" strike="noStrike">
                <a:solidFill>
                  <a:srgbClr val="000000"/>
                </a:solidFill>
                <a:latin typeface="Book Antiqua"/>
              </a:rPr>
              <a:t>Statistical Di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562720" y="6477120"/>
            <a:ext cx="335268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686800" y="5791320"/>
            <a:ext cx="0" cy="91440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52480" y="533520"/>
            <a:ext cx="205740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rcRect l="0" t="0" r="0" b="18196"/>
          <a:stretch/>
        </p:blipFill>
        <p:spPr>
          <a:xfrm>
            <a:off x="533520" y="533520"/>
            <a:ext cx="1044360" cy="914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752480" y="60948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Book Antiqua"/>
              </a:rPr>
              <a:t>United Nations Economic Commission for Europe</a:t>
            </a:r>
            <a:br>
              <a:rPr sz="1800"/>
            </a:br>
            <a:r>
              <a:rPr b="1" lang="fr-CH" sz="1800" spc="-1" strike="noStrike">
                <a:solidFill>
                  <a:srgbClr val="000000"/>
                </a:solidFill>
                <a:latin typeface="Book Antiqua"/>
              </a:rPr>
              <a:t>Statistical Di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562720" y="6477120"/>
            <a:ext cx="335268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686800" y="5791320"/>
            <a:ext cx="0" cy="91440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533520"/>
            <a:ext cx="205740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2438280"/>
            <a:ext cx="8153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urrent Practices in Data Dissemination via the Interne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90720" y="52574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ECE Workshop on Developing Data Dissemination Systems – Geneva, 12 May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ational database softwa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ilored to national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 to develop and main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plication of effort in other statistical a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B7B5F4-2100-403D-80F2-BC783837045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C-Axi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7239240" cy="522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6C93C8-BA24-4233-B54D-E39A7171E1A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C-Axi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popular data dissemination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, user-driven data ext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 user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optional add-ons are 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nual license fee for core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translate user interfaces to own langu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EF7F98-E375-44DA-8E43-B7CE333856B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ther op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bank / PC-Axis – developed and used by some Nordic statistical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WEB – commercial software from Space-Time Research (Austral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Info – developed by UNICEF for monitoring millennium development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ECDStat – open source tools used by several international statistical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DB9073-79ED-4A47-AA0B-6AE994437B5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do users want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s on the type of u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ck access to key fig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 to select and manipulat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export to own analysis pack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ic visualizations (maps, charts, 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priate meta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F237A6-0C33-4EDE-9CFA-4C084AFF4B1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od practic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c tables can be useful for key fig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detailed or large datasets, allow users to create and manipulate their ow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e data as multi-dimensional cu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fer graphic visualiz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users to download data in a range of formats (including SDM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73292F-2FAE-42EB-BCC4-BF91ED1FAF8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od practices (2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 data and meta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 development in an open-source environment or network, with an electronic forum for discussions and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try to re-invent the whee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BCD2AD-9765-40E0-9549-E4F444EA0E3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182844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ank you for listening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480B33-5B06-499A-8C82-9B75BE29B4F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re data currently dissemin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and disadvantages of different approa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users w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prac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E989D1-459E-4FA6-9043-EE93CAE6BEA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rvey of current practic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 sites of statistical agencies for all 56 UNECE member countries checked during spring 200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dissemination systems and formats recor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possible to check all national language versions of websi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281E28-17ED-4687-BE83-6ED75289429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28600" y="1676520"/>
          <a:ext cx="8610480" cy="4348080"/>
        </p:xfrm>
        <a:graphic>
          <a:graphicData uri="http://schemas.openxmlformats.org/drawingml/2006/table">
            <a:tbl>
              <a:tblPr/>
              <a:tblGrid>
                <a:gridCol w="4876920"/>
                <a:gridCol w="2279520"/>
                <a:gridCol w="14540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net Dissemination Too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ber of Countr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tic html / pdf / word pag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.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cel spreadshee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.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tional database softwa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.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C-Ax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.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tbank / PC-Ax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perWE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0" y="439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59105B-B3DA-49C7-A764-134D8E2F9B9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ic html / pdf / word pag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077320" cy="514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4D58B3-541A-46DA-BDCB-503A018CB20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ic html / pdf / word pag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ck, easy and cheap to prep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at a gl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to combine tables, graphics and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 and pdf viewers are 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a picture - users can not easily download or manipulat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ual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1649CF-E6DE-4DA9-8483-C274B22EB70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cel spreadshee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28600" y="1174680"/>
            <a:ext cx="8763120" cy="512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EE2989-B02F-4841-99E9-52CD8E8EDA9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cel spreadshee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can download and customiz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common format for basic data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l software is not cheap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ual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has to download the whole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6AA2A8-56D2-436C-B9A5-48A93DE8DA4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ational database softwa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5410080" cy="22208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 rot="21373800">
            <a:off x="304560" y="3885840"/>
            <a:ext cx="5029200" cy="6350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 rot="21272400">
            <a:off x="228240" y="4952880"/>
            <a:ext cx="5334120" cy="933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 rot="734400">
            <a:off x="4572000" y="4723920"/>
            <a:ext cx="4352760" cy="1105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76CA23-DBDC-47AA-91DE-7C2BB1605E8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9T09:52:23Z</dcterms:created>
  <dc:creator>vale</dc:creator>
  <dc:description/>
  <dc:language>en-US</dc:language>
  <cp:lastModifiedBy>Vale</cp:lastModifiedBy>
  <dcterms:modified xsi:type="dcterms:W3CDTF">2008-05-16T07:18:32Z</dcterms:modified>
  <cp:revision>29</cp:revision>
  <dc:subject/>
  <dc:title>Quality Framework</dc:title>
</cp:coreProperties>
</file>