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5360-2574-45C2-AAB3-71DA5CFFAB79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38EBCB4-888F-4852-A0A1-9E5B12C70A0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ussion:</a:t>
            </a:r>
            <a:br>
              <a:rPr sz="4000"/>
            </a:br>
            <a:br>
              <a:rPr sz="2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cope for future joint development of data management and dissemination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5257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Workshop on Developing Data Dissemination Systems – Geneva, 12 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ECE / Eurostat / OECD Meeting on the Management of Statistical Information Systems has set up a Task Force on Sharing Statistica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velopment of systems and tools for data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wards collaborative development to reduc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FDF6E-3AC3-4601-AC6E-088019EFDD5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demand (and expect) more interactive data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quires a databas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ly and end-to-end statistical business process model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CE / Statistics New Zealand are leading development of a gener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9ADFC-81B4-429F-8B3F-9220A30CE3C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ft Generic Statistical Business Process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162560" cy="501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A9DAB-C453-43D5-B4E4-D0FCC7AC80B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issues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/ licensing issues – national laws and policies may make sharing of technology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– develop a model public license (see the European Union Public Licens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ec.europa.eu/idabc/en/document/7330/59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6D18A-73D2-47A9-AE98-B3F3D8B6365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issue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– networks and sub/groups based on common languages, e.g. Russian for CIS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14651-AEFF-4A84-A3EA-BED3C26CB4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issues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– sharing development costs allows much better solutions for a given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1C118-860C-4FDC-B4F3-71E3E15ED9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issues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– join an existing network (e.g. PC-Axis), or start a new one. UNECE can help to facilitat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DC34B-A868-49E2-B0CA-81401E816E2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epends on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s for Data Dissemination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for exchange of ideas, experiences and software – UNECE wik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s for sharing develop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public lice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hops / task forces on specific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92249-877A-45A2-BF57-3C31C9B7CDF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5-06T14:10:18Z</dcterms:modified>
  <cp:revision>32</cp:revision>
  <dc:subject/>
  <dc:title>Quality Framework</dc:title>
</cp:coreProperties>
</file>