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87F6-712D-4F7F-BCA1-942677ADDFFC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87A7F26-B7C4-4FA8-BD53-E0FE6A5F0779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:</a:t>
            </a:r>
            <a:br>
              <a:rPr sz="4000"/>
            </a:br>
            <a:br>
              <a:rPr sz="2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cope for future joint development of data management and dissemination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5257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shop on Developing Data Dissemination Systems – Geneva, 12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ECE / Eurostat / OECD Meeting on the Management of Statistical Information Systems has set up a Task Force on Sharing Statistica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 of systems and tools for data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wards collaborative development to reduc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5E165-8F32-4E76-9715-9759D6FEF0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demand (and expect) more interactive data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quires a databas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ly and end-to-end statistical business process model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CE / Statistics New Zealand are leading development of a gener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F9688-240D-4F6E-9B42-ECF97710E1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ft Generic Statistical Business Process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162560" cy="501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19F11-91FE-4CDD-8F15-5AA3F972D48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issue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/ licensing issues – national laws and policies may make sharing of technology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– develop a model public license (see the European Union Public Licens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ec.europa.eu/idabc/en/document/7330/59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2918A-46C8-4E1A-933C-65962E54FC5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issue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– networks and sub/groups based on common languages, e.g. Russian for CIS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971C7-AE92-4195-B9C2-CBA221F3DC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issues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– sharing development costs allows much better solutions for a given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6F904-AB22-40A4-9027-E6111A070C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issues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– join an existing network (e.g. PC-Axis), or start a new one. UNECE can help to facilitat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994BE-4B15-43CF-B9BA-C2F430FA255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epends on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 for Data Dissemination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for exchange of ideas, experiences and software – UNECE wik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 for sharing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public lice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hops / task forces on specific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711E5-C296-4ADC-9CD6-1339A9F810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5-06T14:10:18Z</dcterms:modified>
  <cp:revision>32</cp:revision>
  <dc:subject/>
  <dc:title>Quality Framework</dc:title>
</cp:coreProperties>
</file>