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02FF-C19F-42D3-B2D7-47C84AF98F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Vprašaj še njih, če imajo izkušnje z enim in drug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CD, remote access, safe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558200" y="81000"/>
            <a:ext cx="1519200" cy="201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504720"/>
            <a:ext cx="9112320" cy="0"/>
          </a:xfrm>
          <a:prstGeom prst="line">
            <a:avLst/>
          </a:prstGeom>
          <a:ln w="31680">
            <a:solidFill>
              <a:srgbClr val="186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62560"/>
            <a:ext cx="9201240" cy="613080"/>
          </a:xfrm>
          <a:prstGeom prst="rect">
            <a:avLst/>
          </a:prstGeom>
          <a:solidFill>
            <a:srgbClr val="2a6b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1440"/>
            <a:ext cx="4699080" cy="43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35280" y="2130120"/>
            <a:ext cx="518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50920" y="907560"/>
            <a:ext cx="504036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SLOVENIAN  EXPERIENCE IN IMPLEMENTATION AND MAINTENANCE OF DISSEMINATION DATABASE FROM USER'S AND PRODUCER'S PERSPECTIVE AT 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50920" y="4653000"/>
            <a:ext cx="4537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Tomaz Smrekar, Statistical Office of the Republic of Slove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3357720"/>
            <a:ext cx="5329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0000"/>
                </a:solidFill>
                <a:latin typeface="Verdana"/>
              </a:rPr>
              <a:t>TIPICAL PRODUCTS FOR USE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Tourists  (Do not miss, key indicators, first release, pocket books, yearbook, …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Harvestors (first release, analitical publications, </a:t>
            </a:r>
            <a:r>
              <a:rPr b="0" lang="sl-SI" sz="3200" spc="-1" strike="noStrike">
                <a:solidFill>
                  <a:srgbClr val="ff0000"/>
                </a:solidFill>
                <a:latin typeface="Arial Narrow"/>
              </a:rPr>
              <a:t>database</a:t>
            </a: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Miners (</a:t>
            </a:r>
            <a:r>
              <a:rPr b="0" lang="sl-SI" sz="3200" spc="-1" strike="noStrike">
                <a:solidFill>
                  <a:srgbClr val="ff0000"/>
                </a:solidFill>
                <a:latin typeface="Arial Narrow"/>
              </a:rPr>
              <a:t>database</a:t>
            </a: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, first release,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sl-SI" sz="3400" spc="-1" strike="noStrike">
                <a:solidFill>
                  <a:srgbClr val="000000"/>
                </a:solidFill>
                <a:latin typeface="Verdana"/>
              </a:rPr>
              <a:t>COMMUNICATION PYRAMID AT SO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First relea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Dissemination database (mass of outpu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Multithematic publica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Analitical repor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Conferences, seminar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Microdata for research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0000"/>
                </a:solidFill>
                <a:latin typeface="Verdana"/>
              </a:rPr>
              <a:t>IMPORTANCE OF CLEAR COMMUN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 Narrow"/>
              </a:rPr>
              <a:t>Decreases data mis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 Narrow"/>
              </a:rPr>
              <a:t>Increases accurattely and fairley reported statistic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 Narrow"/>
              </a:rPr>
              <a:t>Increase awerness and interest in statistic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 Narrow"/>
              </a:rPr>
              <a:t>Increases survey response rate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sl-SI" sz="3400" spc="-1" strike="noStrike">
                <a:solidFill>
                  <a:srgbClr val="000000"/>
                </a:solidFill>
                <a:latin typeface="Verdana"/>
              </a:rPr>
              <a:t>FIRST RELEASE PYRAMID AT SO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Head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Short introductory/abs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Body tex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Simple table/grap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 Narrow"/>
              </a:rPr>
              <a:t>Links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 Narrow"/>
              </a:rPr>
              <a:t>metadat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 Narrow"/>
              </a:rPr>
              <a:t>detailed tables, SI-STAT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 Narrow"/>
              </a:rPr>
              <a:t>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0000"/>
                </a:solidFill>
                <a:latin typeface="Verdana"/>
              </a:rPr>
              <a:t>2. SI-STAT DATABAS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sl-SI" sz="38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File ser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Microdata 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Time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2003 (2 census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2004 (regular produc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2008 (1200 tables, majority of fields of statistic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6 months of outsourcing (3 IT specialis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Verdana"/>
              </a:rPr>
              <a:t>STATISTICAL PROCESS-S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People invol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80 subject matter specialis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Electronic dissemination un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Train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Resources:  manual 60 p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16h group work + 4 h individu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First selec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On will to work principe for production specialis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Major suport from disse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Help desk and central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Connection with First rele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Bonu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0000"/>
                </a:solidFill>
                <a:latin typeface="Verdana"/>
              </a:rPr>
              <a:t>STATISTICIANS-REACTIONS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General opin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Too dema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Young/o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Critical issues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Multidimensional 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ommon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Help desk and central supp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sl-SI" sz="3800" spc="-1" strike="noStrike">
                <a:solidFill>
                  <a:srgbClr val="000000"/>
                </a:solidFill>
                <a:latin typeface="Verdana"/>
              </a:rPr>
              <a:t>USERS-REACTION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Us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Positive re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Government ana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Some media: Slovene FT, Reu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International organizations: OEC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General us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Too dema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Dissemination database is </a:t>
            </a:r>
            <a:r>
              <a:rPr b="0" lang="sl-SI" sz="3200" spc="-1" strike="noStrike">
                <a:solidFill>
                  <a:srgbClr val="ff0000"/>
                </a:solidFill>
                <a:latin typeface="Verdana"/>
              </a:rPr>
              <a:t>one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 of dissemination products and is </a:t>
            </a:r>
            <a:r>
              <a:rPr b="0" lang="sl-SI" sz="3200" spc="-1" strike="noStrike">
                <a:solidFill>
                  <a:srgbClr val="ff0000"/>
                </a:solidFill>
                <a:latin typeface="Verdana"/>
              </a:rPr>
              <a:t>important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 element in the communication pyramid. It is designed for the most </a:t>
            </a:r>
            <a:r>
              <a:rPr b="0" lang="sl-SI" sz="3200" spc="-1" strike="noStrike">
                <a:solidFill>
                  <a:srgbClr val="ff0000"/>
                </a:solidFill>
                <a:latin typeface="Verdana"/>
              </a:rPr>
              <a:t>demanding users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 od statistical dat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Dissemination at S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Vision and val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SI-STAT data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Organization of statistical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Statisticians-re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Users-re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 algn="ctr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000" spc="-1" strike="noStrike">
                <a:solidFill>
                  <a:srgbClr val="000000"/>
                </a:solidFill>
                <a:latin typeface="Verdana"/>
              </a:rPr>
              <a:t>DISSEMINATION AT SORS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l-SI" sz="3800" spc="-1" strike="noStrike">
                <a:solidFill>
                  <a:srgbClr val="000000"/>
                </a:solidFill>
                <a:latin typeface="Verdana"/>
              </a:rPr>
              <a:t>SORS 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sl-SI" sz="3800" spc="-1" strike="noStrike">
                <a:solidFill>
                  <a:srgbClr val="000000"/>
                </a:solidFill>
                <a:latin typeface="Verdana"/>
              </a:rPr>
              <a:t>ISION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-orien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of the elements of the quality of national stat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ed and motivated employ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-to-date coordination with international standards, EU standards in particu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rn systems of collection, processing and dissemination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rveys and inno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ment of working cond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200" spc="-1" strike="noStrike">
                <a:solidFill>
                  <a:srgbClr val="000000"/>
                </a:solidFill>
                <a:latin typeface="Verdana"/>
              </a:rPr>
              <a:t>SORS </a:t>
            </a:r>
            <a:r>
              <a:rPr b="1" lang="en-US" sz="4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sl-SI" sz="4200" spc="-1" strike="noStrike">
                <a:solidFill>
                  <a:srgbClr val="000000"/>
                </a:solidFill>
                <a:latin typeface="Verdana"/>
              </a:rPr>
              <a:t>ALUES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ce of us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ust between users and employ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ce of the institution and profe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ect of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-how an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of statistical products and ser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 in interdisciplinary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imulating the working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DISSEMINATION AND COMMUNICATION STRATE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purpose 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of th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ategy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ill be achieved with the following goal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isfied us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provement of statistical liter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ognisability and good reputation of the SORS trade mark, trust of users and actual use of statistical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fficient preparation, promotion and transmission of data and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0000"/>
                </a:solidFill>
                <a:latin typeface="Verdana"/>
              </a:rPr>
              <a:t>RELEASE POLICY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First release of all data in First release series-detailed data in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Release calend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All releases at 10 30 ho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No outside prior access to data (4 excep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Web information is free of char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Bilinguality of all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Microdata for research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l-SI" sz="2900" spc="-1" strike="noStrike">
                <a:solidFill>
                  <a:srgbClr val="000000"/>
                </a:solidFill>
                <a:latin typeface="Verdana"/>
              </a:rPr>
              <a:t>GROUPS OF USERS (Inmon 1997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 Narrow"/>
              </a:rPr>
              <a:t>Tourists (very occasional users: general publics, student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 Narrow"/>
              </a:rPr>
              <a:t>Harvestors (government for informed decision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 Narrow"/>
              </a:rPr>
              <a:t>Miners (researchers, financial analists, economist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0000"/>
                </a:solidFill>
                <a:latin typeface="Verdana"/>
              </a:rPr>
              <a:t>IDENTIFICATION OF USERS’ NEEDS AT S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 Narrow"/>
              </a:rPr>
              <a:t>User satisfaction surveys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 Narrow"/>
              </a:rPr>
              <a:t>Statistical advisory committe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 Narrow"/>
              </a:rPr>
              <a:t>Statistical confere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 Narrow"/>
              </a:rPr>
              <a:t>ESS requirem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4:09:06Z</dcterms:created>
  <dc:creator>Sektor za skupne statistične storitve</dc:creator>
  <dc:description/>
  <dc:language>en-US</dc:language>
  <cp:lastModifiedBy>Vale</cp:lastModifiedBy>
  <dcterms:modified xsi:type="dcterms:W3CDTF">2008-05-09T09:21:44Z</dcterms:modified>
  <cp:revision>154</cp:revision>
  <dc:subject/>
  <dc:title>Standardno poročilo o kakovost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pis">
    <vt:lpwstr>Kodeks ravnanja evropske statistike, definicija kakovosti v statističnih raziskovanjih, dokumentacija statističnih raziskovanj - Metka Zaletel</vt:lpwstr>
  </property>
  <property fmtid="{D5CDD505-2E9C-101B-9397-08002B2CF9AE}" pid="3" name="Version">
    <vt:r8>4</vt:r8>
  </property>
</Properties>
</file>