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58560" y="6524640"/>
            <a:ext cx="53290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UNECE </a:t>
            </a:r>
            <a:r>
              <a:rPr b="0" lang="en-GB" sz="1200" spc="-1" strike="noStrike">
                <a:solidFill>
                  <a:srgbClr val="003951"/>
                </a:solidFill>
                <a:latin typeface="Times New Roman"/>
              </a:rPr>
              <a:t>Workshop on Developing Data Dissemination Systems, 12 May 2008</a:t>
            </a: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D00D-1D9E-4BA6-9A33-02ADE75FD15E}" type="slidenum">
              <a:rPr b="0" lang="en-GB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137160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951"/>
                </a:solidFill>
                <a:latin typeface="Arial"/>
              </a:rPr>
              <a:t>Estonian experience in implementation and maintenance of statistical database using PX-Web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14400" y="3429000"/>
            <a:ext cx="44956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3951"/>
                </a:solidFill>
                <a:latin typeface="Arial"/>
              </a:rPr>
              <a:t>Eda Fro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3951"/>
                </a:solidFill>
                <a:latin typeface="Arial"/>
              </a:rPr>
              <a:t>Statistics Estonia 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951"/>
                </a:solidFill>
                <a:latin typeface="Arial"/>
              </a:rPr>
              <a:t>UNECE Workshop on Developing Data Dissemination System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951"/>
                </a:solidFill>
                <a:latin typeface="Arial"/>
              </a:rPr>
              <a:t>12 May 2008, Geneva, Switzerla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1066680"/>
            <a:ext cx="69530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951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Estonian public databas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Common principl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Why PC-Axis software?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User feedback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Some important aspect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Developments regarding databas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Short demonstration of databas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Statistical Databas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Contains official statistics, including official regional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statistic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collected with official statistical surveys confirmed by th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Government of th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Republic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Available since April 2001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Regional Development Databas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Contains regional official statistics and data received from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administrativ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data sources which have not been collected with official statistical survey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Available since April 200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stonian </a:t>
            </a:r>
            <a:r>
              <a:rPr b="1" lang="en-GB" sz="3200" spc="-1" strike="noStrike">
                <a:solidFill>
                  <a:srgbClr val="003951"/>
                </a:solidFill>
                <a:latin typeface="Arial"/>
              </a:rPr>
              <a:t>public databas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18960" y="21333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  <a:ea typeface="Times New Roman"/>
              </a:rPr>
              <a:t>The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  <a:ea typeface="Times New Roman"/>
              </a:rPr>
              <a:t>tatistical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  <a:ea typeface="Times New Roman"/>
              </a:rPr>
              <a:t>atabase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is meant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  <a:ea typeface="Times New Roman"/>
              </a:rPr>
              <a:t> for all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  <a:ea typeface="Times New Roman"/>
              </a:rPr>
              <a:t>official statistics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  <a:ea typeface="Times New Roman"/>
              </a:rPr>
              <a:t>published by Statistics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  <a:ea typeface="Times New Roman"/>
              </a:rPr>
              <a:t>Estonia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All official statistics should be first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disseminated in the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statistical database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In case a news release is issued, the data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are published simultaneously in the news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release and statistical databas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6953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ommon principl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18960" y="2133360"/>
            <a:ext cx="7745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Statistics Estonia informs the users about the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statistics being released in release calendar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Updates in databases are made public at 9.00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a.m. on the day announced in advanc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Both databases can be accessed free of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charg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All data are published in Estonian and English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6953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951"/>
                </a:solidFill>
                <a:latin typeface="Arial"/>
              </a:rPr>
              <a:t>Common principles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751536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Use of PC-Axis main module since 1998 for </a:t>
            </a:r>
            <a:br>
              <a:rPr sz="2800"/>
            </a:b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 presentation of tables on CD-ROM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Simple structure of PC-Axis file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PX-Web is easy to adapt and maintain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Good solution for the presentation of </a:t>
            </a:r>
            <a:br>
              <a:rPr sz="2800"/>
            </a:b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 multidimensional tabl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Use of the software in neighbouring countri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Existence of the PC-Axis reference group to </a:t>
            </a:r>
            <a:br>
              <a:rPr sz="2800"/>
            </a:b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 influence further development of the product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951"/>
                </a:solidFill>
                <a:latin typeface="Arial"/>
              </a:rPr>
              <a:t>Why PC-Axis software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(PX-Web)?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6920" y="1052640"/>
            <a:ext cx="695340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User feedbac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Need for training cours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Need for instructions how to use database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Need for promotion of databas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The most popular format for downloading is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Excel tabl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Harmonisation over all subject area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The structure of statistical indicator and the </a:t>
            </a:r>
            <a:br>
              <a:rPr sz="2800"/>
            </a:b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 structure of database table (cube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No hierarchical variables (every value of </a:t>
            </a:r>
            <a:br>
              <a:rPr sz="2800"/>
            </a:b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 variable must be separately understandable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Centrally managed databases to guarantee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quality of databas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ome important aspect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Presentation of statistical tables on CD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Release Calendar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Statistical table presentation standard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Automatic updating of predefined tables on </a:t>
            </a:r>
            <a:br>
              <a:rPr sz="2800"/>
            </a:b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 the web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Archiving of database tables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Generation of the list of statistical indicator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Developments regarding database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0:30:13Z</dcterms:created>
  <dc:creator>uku</dc:creator>
  <dc:description/>
  <dc:language>en-US</dc:language>
  <cp:lastModifiedBy>Vale</cp:lastModifiedBy>
  <cp:lastPrinted>2001-03-09T09:19:09Z</cp:lastPrinted>
  <dcterms:modified xsi:type="dcterms:W3CDTF">2008-05-07T14:29:40Z</dcterms:modified>
  <cp:revision>90</cp:revision>
  <dc:subject/>
  <dc:title>PowerPoint Presentation</dc:title>
</cp:coreProperties>
</file>