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58560" y="6524640"/>
            <a:ext cx="5329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UNECE </a:t>
            </a:r>
            <a:r>
              <a:rPr b="0" lang="en-GB" sz="1200" spc="-1" strike="noStrike">
                <a:solidFill>
                  <a:srgbClr val="003951"/>
                </a:solidFill>
                <a:latin typeface="Times New Roman"/>
              </a:rPr>
              <a:t>Workshop on Developing Data Dissemination Systems, 12 May 2008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3FB-963B-4040-9063-E33C553A2B15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Estonian experience in implementation and maintenance of statistical database using PX-Web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3951"/>
                </a:solidFill>
                <a:latin typeface="Arial"/>
              </a:rPr>
              <a:t>Eda Fro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3951"/>
                </a:solidFill>
                <a:latin typeface="Arial"/>
              </a:rPr>
              <a:t>Statistics Estonia 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951"/>
                </a:solidFill>
                <a:latin typeface="Arial"/>
              </a:rPr>
              <a:t>UNECE Workshop on Developing Data Dissemination System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951"/>
                </a:solidFill>
                <a:latin typeface="Arial"/>
              </a:rPr>
              <a:t>12 May 2008, Geneva, Switzerla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stonian public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Why PC-Axis software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r feedbac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ome important aspect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evelopments regarding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hort demonstration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ntains official statistics, including official regional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statistic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llected with official statistical surveys confirmed by th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Government of th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Republic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vailable since April 200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gional Development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Contains regional official statistics and data received from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dministrat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data sources which have not been collected with official statistical survey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vailable since April 200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stonian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ublic databas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8960" y="21333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cal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atabase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is meant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for all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published by Statistic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  <a:ea typeface="Times New Roman"/>
              </a:rPr>
              <a:t>Estoni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ll official statistics should be first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disseminated in th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database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In case a news release is issued, the data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re published simultaneously in the new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lease and statistical databas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18960" y="2133360"/>
            <a:ext cx="7745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s Estonia informs the users about th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statistics being released in release calendar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pdates in databases are made public at 9.00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.m. on the day announced in advanc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Both databases can be accessed free of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harg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ll data are published in Estonian and English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Common principle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75153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 of PC-Axis main module since 1998 for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presentation of tables on CD-RO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imple structure of PC-Axis file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PX-Web is easy to adapt and maintain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Good solution for the presentation of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multidimensional tabl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Use of the software in neighbouring countri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xistence of the PC-Axis reference group to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influence further development of the produc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Why PC-Axis softwar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(PX-Web)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95340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ser feedbac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training cour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instructions how to use databas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eed for promotion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The most popular format for downloading is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Excel tab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Harmonisation over all subject area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The structure of statistical indicator and the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structure of database table (cube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No hierarchical variables (every value of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variable must be separately understandabl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Centrally managed databases to guarantee </a:t>
            </a:r>
            <a:br>
              <a:rPr sz="2800"/>
            </a:b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quality of databas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ome important aspect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Presentation of statistical tables on C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Release Calendar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Statistical table presentation standar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utomatic updating of predefined tables on </a:t>
            </a:r>
            <a:br>
              <a:rPr sz="2800"/>
            </a:b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 the web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Archiving of database table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951"/>
                </a:solidFill>
                <a:latin typeface="Arial"/>
              </a:rPr>
              <a:t>Generation of the list of statistical indicator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Developments regarding database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Vale</cp:lastModifiedBy>
  <cp:lastPrinted>2001-03-09T09:19:09Z</cp:lastPrinted>
  <dcterms:modified xsi:type="dcterms:W3CDTF">2008-05-07T14:29:40Z</dcterms:modified>
  <cp:revision>90</cp:revision>
  <dc:subject/>
  <dc:title>PowerPoint Presentation</dc:title>
</cp:coreProperties>
</file>