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949-CAB3-4318-ACD7-A95D8368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483-3140-48F9-AAB0-45FB35DA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74B-2B25-4B18-8C99-8F641FA1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35B-E816-4C4F-BF7F-F8ACDDFB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05D-3EAB-47F8-A4D0-2C47E34E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27B-387F-4FCD-B31F-F33D57BC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2E1-B9DD-40C4-85F9-2F77C785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372-0C96-46A5-89E1-24929DFA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868-1BFD-46F1-9302-309DCCED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607A-BE56-46B2-B0FE-12861A78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F7D-6963-4FC8-99D4-D8CA7D49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B24-D1F9-46BA-908A-18DB1C5A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9362-2811-4F35-81B1-ED8C12597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erepis2002.r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perepis2002.ru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093080" y="115920"/>
            <a:ext cx="1890720" cy="1800000"/>
            <a:chOff x="7093080" y="115920"/>
            <a:chExt cx="1890720" cy="1800000"/>
          </a:xfrm>
        </p:grpSpPr>
        <p:sp>
          <p:nvSpPr>
            <p:cNvPr id="42" name=""/>
            <p:cNvSpPr/>
            <p:nvPr/>
          </p:nvSpPr>
          <p:spPr>
            <a:xfrm>
              <a:off x="7093080" y="135360"/>
              <a:ext cx="1873080" cy="178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11" descr=""/>
            <p:cNvPicPr/>
            <p:nvPr/>
          </p:nvPicPr>
          <p:blipFill>
            <a:blip r:embed="rId1"/>
            <a:srcRect l="8548" t="8201" r="5849" b="10504"/>
            <a:stretch/>
          </p:blipFill>
          <p:spPr>
            <a:xfrm>
              <a:off x="7110360" y="115920"/>
              <a:ext cx="1873440" cy="170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0" y="19749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447"/>
                </a:solidFill>
                <a:latin typeface="Tahoma"/>
              </a:rPr>
              <a:t>Dissemination of Population</a:t>
            </a:r>
            <a:r>
              <a:rPr b="1" lang="ru-RU" sz="44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447"/>
                </a:solidFill>
                <a:latin typeface="Tahoma"/>
              </a:rPr>
              <a:t>Census Results and</a:t>
            </a:r>
            <a:r>
              <a:rPr b="1" lang="ru-RU" sz="44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447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8447"/>
                </a:solidFill>
                <a:latin typeface="Tahoma"/>
              </a:rPr>
              <a:t>Cooperation with Mass Media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5530680"/>
            <a:ext cx="903600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8447"/>
                </a:solidFill>
                <a:latin typeface="Tahoma"/>
              </a:rPr>
              <a:t>Irina Zbarskaya</a:t>
            </a:r>
            <a:r>
              <a:rPr b="1" i="1" lang="ru-RU" sz="35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8447"/>
                </a:solidFill>
                <a:latin typeface="Tahoma"/>
              </a:rPr>
              <a:t>Federal State Statistics Service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03280" y="260280"/>
            <a:ext cx="6264360" cy="119124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9c2b"/>
                </a:solidFill>
                <a:latin typeface="Tahoma"/>
              </a:rPr>
              <a:t>PUBLICITY AND INFORMATION CAMPAIGN FOR POPULATION CENSUS</a:t>
            </a:r>
            <a:r>
              <a:rPr b="0" lang="ru-RU" sz="2400" spc="-1" strike="noStrike">
                <a:solidFill>
                  <a:srgbClr val="e99c2b"/>
                </a:solidFill>
                <a:latin typeface="Tahoma"/>
              </a:rPr>
              <a:t>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30280" y="1768320"/>
            <a:ext cx="4392720" cy="91692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tion and explanatory work  for 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reparation and conduct of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pilot population census-2008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4267080"/>
            <a:ext cx="4464000" cy="91692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tion and explanatory work  for 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reparation and conduct of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All-Russia population census-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30280" y="2819520"/>
            <a:ext cx="4392720" cy="642600"/>
          </a:xfrm>
          <a:prstGeom prst="rect">
            <a:avLst/>
          </a:prstGeom>
          <a:gradFill rotWithShape="0">
            <a:gsLst>
              <a:gs pos="0">
                <a:srgbClr val="000068"/>
              </a:gs>
              <a:gs pos="100000">
                <a:srgbClr val="000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alysis of information and explanatory work and its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4319280" y="367920"/>
            <a:ext cx="431640" cy="208908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3333cc"/>
              </a:gs>
              <a:gs pos="100000">
                <a:srgbClr val="8f8f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4320720" y="2917800"/>
            <a:ext cx="457200" cy="208908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3333cc"/>
              </a:gs>
              <a:gs pos="100000">
                <a:srgbClr val="8f8f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4560" y="3666960"/>
            <a:ext cx="5978520" cy="9144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hematic volumes with final results of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ll-Russia Population census -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002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pu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30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housand hard copies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, 7,3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housand CD-ROM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4560" y="4724280"/>
            <a:ext cx="5978520" cy="574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sults of Population census on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Web-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perepis2002.ru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5445000"/>
            <a:ext cx="5977080" cy="792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ini CD-ROM with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sult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ll-Russia Population census -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002 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n Russian and English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692280"/>
            <a:ext cx="5977080" cy="57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ublication of Population census-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002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eliminary resul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n the government newspaper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ussian newspaper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413000"/>
            <a:ext cx="5977080" cy="792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pecial reports with basic results of population census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o be published in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ore than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00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ublish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d electronic iss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349360"/>
            <a:ext cx="5977080" cy="717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ooklets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sult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ll-Russia Population census -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002 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100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housand copies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5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447"/>
                </a:solidFill>
                <a:latin typeface="Tahoma"/>
              </a:rPr>
              <a:t>DISSEMINATION OF ALL-RUSSIA POPULATION CENSUS</a:t>
            </a:r>
            <a:r>
              <a:rPr b="1" lang="ru-RU" sz="18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8447"/>
                </a:solidFill>
                <a:latin typeface="Tahoma"/>
              </a:rPr>
              <a:t>-</a:t>
            </a:r>
            <a:r>
              <a:rPr b="1" lang="ru-RU" sz="1800" spc="-1" strike="noStrike">
                <a:solidFill>
                  <a:srgbClr val="ff8447"/>
                </a:solidFill>
                <a:latin typeface="Tahoma"/>
              </a:rPr>
              <a:t> 200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765000"/>
            <a:ext cx="647640" cy="2376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8f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9c2b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811680"/>
            <a:ext cx="647640" cy="24256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8f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9c2b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9c2b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1040" y="766800"/>
            <a:ext cx="431640" cy="23763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3333cc"/>
              </a:gs>
              <a:gs pos="100000">
                <a:srgbClr val="8f8fff"/>
              </a:gs>
            </a:gsLst>
            <a:lin ang="108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1040" y="3811680"/>
            <a:ext cx="431640" cy="242568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3333cc"/>
              </a:gs>
              <a:gs pos="100000">
                <a:srgbClr val="8f8fff"/>
              </a:gs>
            </a:gsLst>
            <a:lin ang="108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020000" y="1916280"/>
            <a:ext cx="19396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4367" b="7695"/>
          <a:stretch/>
        </p:blipFill>
        <p:spPr>
          <a:xfrm>
            <a:off x="5796000" y="4440240"/>
            <a:ext cx="3348000" cy="2417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76360" y="1316160"/>
            <a:ext cx="1582920" cy="6476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xhibitions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hoto fairs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94200" y="696960"/>
            <a:ext cx="1944360" cy="79380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ess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ours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Roundt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ess-con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2560" y="3357720"/>
            <a:ext cx="2089080" cy="79056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reative compet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(«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est comics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»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est poster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, etc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1052640"/>
            <a:ext cx="1943280" cy="86508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ociolog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nterview of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8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POPULARISATION OF ALL-RUSSIA</a:t>
            </a:r>
            <a:r>
              <a:rPr b="1" lang="ru-RU" sz="16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POPULATIN CENSUS-2002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276640"/>
            <a:ext cx="1801800" cy="72072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eb-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perepis2002.ru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00240" y="4289400"/>
            <a:ext cx="1873440" cy="93492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grams and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roadcasting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y radio and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79960" y="4305240"/>
            <a:ext cx="1789200" cy="83844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ouvenir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ooklets, calendars,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adges, etc.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2060640"/>
            <a:ext cx="2448000" cy="100800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nternational symposi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Russians in the mi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f statistics: All-Russ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opulation census -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2002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44840" y="1484280"/>
            <a:ext cx="3043080" cy="2840760"/>
            <a:chOff x="2544840" y="1484280"/>
            <a:chExt cx="3043080" cy="2840760"/>
          </a:xfrm>
        </p:grpSpPr>
        <p:grpSp>
          <p:nvGrpSpPr>
            <p:cNvPr id="75" name=""/>
            <p:cNvGrpSpPr/>
            <p:nvPr/>
          </p:nvGrpSpPr>
          <p:grpSpPr>
            <a:xfrm>
              <a:off x="3167280" y="3222360"/>
              <a:ext cx="1173600" cy="1102680"/>
              <a:chOff x="3167280" y="3222360"/>
              <a:chExt cx="1173600" cy="1102680"/>
            </a:xfrm>
          </p:grpSpPr>
          <p:sp>
            <p:nvSpPr>
              <p:cNvPr id="76" name=""/>
              <p:cNvSpPr/>
              <p:nvPr/>
            </p:nvSpPr>
            <p:spPr>
              <a:xfrm rot="6652200">
                <a:off x="3430080" y="358020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33cdbe"/>
                  </a:gs>
                  <a:gs pos="100000">
                    <a:srgbClr val="007a5a"/>
                  </a:gs>
                </a:gsLst>
                <a:lin ang="162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2052200">
                <a:off x="3214080" y="3399120"/>
                <a:ext cx="1079280" cy="46404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594160" y="2688120"/>
              <a:ext cx="1186200" cy="1246680"/>
              <a:chOff x="2594160" y="2688120"/>
              <a:chExt cx="1186200" cy="1246680"/>
            </a:xfrm>
          </p:grpSpPr>
          <p:sp>
            <p:nvSpPr>
              <p:cNvPr id="79" name=""/>
              <p:cNvSpPr/>
              <p:nvPr/>
            </p:nvSpPr>
            <p:spPr>
              <a:xfrm rot="8888400">
                <a:off x="2781720" y="306756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33cdbe"/>
                  </a:gs>
                  <a:gs pos="100000">
                    <a:srgbClr val="007a5a"/>
                  </a:gs>
                </a:gsLst>
                <a:lin ang="162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4288400">
                <a:off x="2758680" y="3036600"/>
                <a:ext cx="107928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3757680" y="3281760"/>
              <a:ext cx="1165680" cy="1042200"/>
              <a:chOff x="3757680" y="3281760"/>
              <a:chExt cx="1165680" cy="1042200"/>
            </a:xfrm>
          </p:grpSpPr>
          <p:sp>
            <p:nvSpPr>
              <p:cNvPr id="82" name=""/>
              <p:cNvSpPr/>
              <p:nvPr/>
            </p:nvSpPr>
            <p:spPr>
              <a:xfrm rot="4427400">
                <a:off x="4259520" y="360612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33cdbe"/>
                  </a:gs>
                  <a:gs pos="100000">
                    <a:srgbClr val="007a5a"/>
                  </a:gs>
                </a:gsLst>
                <a:lin ang="162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9827400">
                <a:off x="3800520" y="3423240"/>
                <a:ext cx="107928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327920" y="2744280"/>
              <a:ext cx="1217520" cy="1236240"/>
              <a:chOff x="4327920" y="2744280"/>
              <a:chExt cx="1217520" cy="1236240"/>
            </a:xfrm>
          </p:grpSpPr>
          <p:sp>
            <p:nvSpPr>
              <p:cNvPr id="85" name=""/>
              <p:cNvSpPr/>
              <p:nvPr/>
            </p:nvSpPr>
            <p:spPr>
              <a:xfrm rot="2093400">
                <a:off x="4948200" y="3116160"/>
                <a:ext cx="396720" cy="82476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33cdbe"/>
                  </a:gs>
                  <a:gs pos="100000">
                    <a:srgbClr val="007a5a"/>
                  </a:gs>
                </a:gsLst>
                <a:lin ang="162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7493400">
                <a:off x="4286880" y="3087720"/>
                <a:ext cx="107964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626720" y="2204640"/>
              <a:ext cx="961200" cy="1143000"/>
              <a:chOff x="4626720" y="2204640"/>
              <a:chExt cx="961200" cy="1143000"/>
            </a:xfrm>
          </p:grpSpPr>
          <p:sp>
            <p:nvSpPr>
              <p:cNvPr id="88" name=""/>
              <p:cNvSpPr/>
              <p:nvPr/>
            </p:nvSpPr>
            <p:spPr>
              <a:xfrm rot="21008400">
                <a:off x="5123520" y="2286720"/>
                <a:ext cx="396720" cy="82476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33cdbe"/>
                  </a:gs>
                  <a:gs pos="100000">
                    <a:srgbClr val="007a5a"/>
                  </a:gs>
                </a:gsLst>
                <a:lin ang="162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4808400">
                <a:off x="4407480" y="2544120"/>
                <a:ext cx="107964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544840" y="2150280"/>
              <a:ext cx="1006560" cy="1155600"/>
              <a:chOff x="2544840" y="2150280"/>
              <a:chExt cx="1006560" cy="1155600"/>
            </a:xfrm>
          </p:grpSpPr>
          <p:sp>
            <p:nvSpPr>
              <p:cNvPr id="91" name=""/>
              <p:cNvSpPr/>
              <p:nvPr/>
            </p:nvSpPr>
            <p:spPr>
              <a:xfrm rot="11572800">
                <a:off x="2631600" y="224172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33cdbe"/>
                  </a:gs>
                  <a:gs pos="100000">
                    <a:srgbClr val="007a5a"/>
                  </a:gs>
                </a:gsLst>
                <a:lin ang="162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6972800">
                <a:off x="2665080" y="2496240"/>
                <a:ext cx="1079280" cy="46368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2832120" y="1543320"/>
              <a:ext cx="1257480" cy="1211760"/>
              <a:chOff x="2832120" y="1543320"/>
              <a:chExt cx="1257480" cy="1211760"/>
            </a:xfrm>
          </p:grpSpPr>
          <p:sp>
            <p:nvSpPr>
              <p:cNvPr id="94" name=""/>
              <p:cNvSpPr/>
              <p:nvPr/>
            </p:nvSpPr>
            <p:spPr>
              <a:xfrm rot="14019600">
                <a:off x="3083040" y="153504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33cdbe"/>
                  </a:gs>
                  <a:gs pos="100000">
                    <a:srgbClr val="007a5a"/>
                  </a:gs>
                </a:gsLst>
                <a:lin ang="162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9419600">
                <a:off x="2977560" y="2016360"/>
                <a:ext cx="1079280" cy="46404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4093200" y="1554120"/>
              <a:ext cx="1241280" cy="1233000"/>
              <a:chOff x="4093200" y="1554120"/>
              <a:chExt cx="1241280" cy="1233000"/>
            </a:xfrm>
          </p:grpSpPr>
          <p:sp>
            <p:nvSpPr>
              <p:cNvPr id="97" name=""/>
              <p:cNvSpPr/>
              <p:nvPr/>
            </p:nvSpPr>
            <p:spPr>
              <a:xfrm rot="18481200">
                <a:off x="4689000" y="155196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33cdbe"/>
                  </a:gs>
                  <a:gs pos="100000">
                    <a:srgbClr val="007a5a"/>
                  </a:gs>
                </a:gsLst>
                <a:lin ang="162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281200">
                <a:off x="4121640" y="2040120"/>
                <a:ext cx="1078920" cy="46404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3541320" y="1484280"/>
              <a:ext cx="1079280" cy="812520"/>
              <a:chOff x="3541320" y="1484280"/>
              <a:chExt cx="1079280" cy="812520"/>
            </a:xfrm>
          </p:grpSpPr>
          <p:sp>
            <p:nvSpPr>
              <p:cNvPr id="100" name=""/>
              <p:cNvSpPr/>
              <p:nvPr/>
            </p:nvSpPr>
            <p:spPr>
              <a:xfrm rot="16200000">
                <a:off x="3871080" y="1270440"/>
                <a:ext cx="396720" cy="824400"/>
              </a:xfrm>
              <a:prstGeom prst="rightArrow">
                <a:avLst>
                  <a:gd name="adj1" fmla="val 83278"/>
                  <a:gd name="adj2" fmla="val 84560"/>
                </a:avLst>
              </a:prstGeom>
              <a:gradFill rotWithShape="0">
                <a:gsLst>
                  <a:gs pos="0">
                    <a:srgbClr val="33cdbe"/>
                  </a:gs>
                  <a:gs pos="100000">
                    <a:srgbClr val="007a5a"/>
                  </a:gs>
                </a:gsLst>
                <a:lin ang="162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41320" y="1832760"/>
                <a:ext cx="1079280" cy="464040"/>
              </a:xfrm>
              <a:prstGeom prst="ellipse">
                <a:avLst/>
              </a:prstGeom>
              <a:solidFill>
                <a:srgbClr val="000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95560" y="1865160"/>
              <a:ext cx="2160000" cy="2016360"/>
            </a:xfrm>
            <a:prstGeom prst="ellipse">
              <a:avLst/>
            </a:prstGeom>
            <a:gradFill rotWithShape="0">
              <a:gsLst>
                <a:gs pos="0">
                  <a:srgbClr val="007a5a"/>
                </a:gs>
                <a:gs pos="100000">
                  <a:srgbClr val="000068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e99c2b"/>
                  </a:solidFill>
                  <a:latin typeface="Tahoma"/>
                </a:rPr>
                <a:t>«</a:t>
              </a:r>
              <a:r>
                <a:rPr b="1" i="1" lang="en-US" sz="1800" spc="-1" strike="noStrike">
                  <a:solidFill>
                    <a:srgbClr val="e99c2b"/>
                  </a:solidFill>
                  <a:latin typeface="Tahoma"/>
                </a:rPr>
                <a:t>GET TO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e99c2b"/>
                  </a:solidFill>
                  <a:latin typeface="Tahoma"/>
                </a:rPr>
                <a:t>KNOW</a:t>
              </a:r>
              <a:r>
                <a:rPr b="1" i="1" lang="ru-RU" sz="1800" spc="-1" strike="noStrike">
                  <a:solidFill>
                    <a:srgbClr val="e99c2b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99c2b"/>
                  </a:solidFill>
                  <a:latin typeface="Tahoma"/>
                </a:rPr>
                <a:t>RUSSIA</a:t>
              </a:r>
              <a:r>
                <a:rPr b="1" i="1" lang="ru-RU" sz="1800" spc="-1" strike="noStrike">
                  <a:solidFill>
                    <a:srgbClr val="e99c2b"/>
                  </a:solidFill>
                  <a:latin typeface="Tahoma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435640" y="3357720"/>
            <a:ext cx="2016000" cy="792000"/>
          </a:xfrm>
          <a:prstGeom prst="roundRect">
            <a:avLst>
              <a:gd name="adj" fmla="val 9593"/>
            </a:avLst>
          </a:prstGeom>
          <a:gradFill rotWithShape="0">
            <a:gsLst>
              <a:gs pos="0">
                <a:srgbClr val="cc00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illboards advertising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11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largest cit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rot="16200000">
            <a:off x="4383000" y="1269360"/>
            <a:ext cx="431640" cy="136872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3333cc"/>
              </a:gs>
              <a:gs pos="100000">
                <a:srgbClr val="8f8fff"/>
              </a:gs>
            </a:gsLst>
            <a:lin ang="16200000"/>
          </a:gra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716280"/>
            <a:ext cx="2449440" cy="115272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ults pres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publis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electronic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ss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11200"/>
            <a:ext cx="2232360" cy="115272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ults pres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brochure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klets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ectronic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836640"/>
            <a:ext cx="2089080" cy="86364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matic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99280" y="1555920"/>
            <a:ext cx="2376360" cy="115236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las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graphical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atio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f census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4940280"/>
            <a:ext cx="2376360" cy="93492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 free acce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-site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2203560"/>
            <a:ext cx="3276720" cy="2160360"/>
          </a:xfrm>
          <a:prstGeom prst="hexagon">
            <a:avLst>
              <a:gd name="adj" fmla="val 37919"/>
              <a:gd name="vf" fmla="val 115470"/>
            </a:avLst>
          </a:prstGeom>
          <a:gradFill rotWithShape="0">
            <a:gsLst>
              <a:gs pos="0">
                <a:srgbClr val="6161ff"/>
              </a:gs>
              <a:gs pos="100000">
                <a:srgbClr val="00009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39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POPULARISATION OF </a:t>
            </a:r>
            <a:br>
              <a:rPr sz="1600"/>
            </a:b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 ALL-RUSSIA</a:t>
            </a:r>
            <a:r>
              <a:rPr b="1" lang="ru-RU" sz="16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POPULATION</a:t>
            </a:r>
            <a:br>
              <a:rPr sz="1600"/>
            </a:br>
            <a:r>
              <a:rPr b="1" lang="en-US" sz="1600" spc="-1" strike="noStrike">
                <a:solidFill>
                  <a:srgbClr val="ff8447"/>
                </a:solidFill>
                <a:latin typeface="Tahoma"/>
              </a:rPr>
              <a:t> CEN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8447"/>
                </a:solidFill>
                <a:latin typeface="Tahoma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383000" y="3928680"/>
            <a:ext cx="431640" cy="136872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3333cc"/>
              </a:gs>
              <a:gs pos="100000">
                <a:srgbClr val="8f8fff"/>
              </a:gs>
            </a:gsLst>
            <a:lin ang="5400000"/>
          </a:gra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3021800">
            <a:off x="2987640" y="1853640"/>
            <a:ext cx="432000" cy="13683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3333cc"/>
              </a:gs>
              <a:gs pos="100000">
                <a:srgbClr val="8f8fff"/>
              </a:gs>
            </a:gsLst>
            <a:lin ang="19380000"/>
          </a:gra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197200">
            <a:off x="5829480" y="3303720"/>
            <a:ext cx="431640" cy="13683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3333cc"/>
              </a:gs>
              <a:gs pos="100000">
                <a:srgbClr val="8f8fff"/>
              </a:gs>
            </a:gsLst>
            <a:lin ang="8604000"/>
          </a:gra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369200">
            <a:off x="5819760" y="1882440"/>
            <a:ext cx="431640" cy="13683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3333cc"/>
              </a:gs>
              <a:gs pos="100000">
                <a:srgbClr val="8f8fff"/>
              </a:gs>
            </a:gsLst>
            <a:lin ang="13032000"/>
          </a:gra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8576400">
            <a:off x="2953800" y="3293640"/>
            <a:ext cx="432000" cy="1368360"/>
          </a:xfrm>
          <a:prstGeom prst="rightArrow">
            <a:avLst>
              <a:gd name="adj1" fmla="val 83287"/>
              <a:gd name="adj2" fmla="val 88972"/>
            </a:avLst>
          </a:prstGeom>
          <a:gradFill rotWithShape="0">
            <a:gsLst>
              <a:gs pos="0">
                <a:srgbClr val="3333cc"/>
              </a:gs>
              <a:gs pos="100000">
                <a:srgbClr val="8f8fff"/>
              </a:gs>
            </a:gsLst>
            <a:lin ang="2226000"/>
          </a:gra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3933720"/>
            <a:ext cx="2376360" cy="1270080"/>
          </a:xfrm>
          <a:prstGeom prst="rect">
            <a:avLst/>
          </a:prstGeom>
          <a:gradFill rotWithShape="0">
            <a:gsLst>
              <a:gs pos="0">
                <a:srgbClr val="6161ff"/>
              </a:gs>
              <a:gs pos="100000">
                <a:srgbClr val="0000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atio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f census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 internationa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42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9c2b"/>
                </a:solidFill>
                <a:latin typeface="Tahoma"/>
              </a:rPr>
              <a:t>Thanks for your attention!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4:38:39Z</dcterms:created>
  <dc:creator>User</dc:creator>
  <dc:description/>
  <dc:language>en-US</dc:language>
  <cp:lastModifiedBy>Nata</cp:lastModifiedBy>
  <dcterms:modified xsi:type="dcterms:W3CDTF">2008-05-07T07:41:44Z</dcterms:modified>
  <cp:revision>58</cp:revision>
  <dc:subject/>
  <dc:title>Презентация PowerPoint</dc:title>
</cp:coreProperties>
</file>