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14B-AD53-47DB-BFEE-D5123141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073-DE24-49A3-B37A-33943CD1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519-2893-410A-A893-BE50783A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6C1-621A-4B8C-8B98-0C2BEE70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11A4-DB98-45F9-A083-6E224046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ACA0-2C2B-4642-8DD6-4081DB98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BC89-FC21-437C-8B30-D9506DE3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1D97-D197-4E9C-AB57-B4EB64DC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0C2C-1264-4726-B70A-78FA1A2D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8AC2-86EA-4015-AE3E-020E4399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540A-D6E2-4367-919A-4E1FFE56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8C0-A9E9-4EB7-93CA-CEC7ED09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3ADC-3DC5-4E6A-B05A-3E9CFC87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D244-8878-4B68-B74D-DBF078C7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8E69-7EBA-4FE7-9ADB-7830BC15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575F-1C1F-4551-BDA4-2BAD5226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0174-B17C-4A12-8122-794DE77E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307-A302-4FFC-B254-D0664460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6E2-E309-42C2-BAAA-89C80EBD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8B7-8C0B-40B9-896B-D2F0A4F6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76EF-FE5F-41C2-9EF0-E5F2B707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97C-2A1F-4BEE-82DF-78447DD9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40A-5A9C-419B-B077-EBAF3EA0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F5DA-2F15-4F8B-B5F8-0C8E6EB2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700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2" marL="1182600" indent="-22860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3" marL="1619280" indent="-246240">
              <a:spcBef>
                <a:spcPts val="700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AC31-42A6-4802-8439-01384E2C2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8458200" cy="0"/>
          </a:xfrm>
          <a:prstGeom prst="line">
            <a:avLst/>
          </a:prstGeom>
          <a:ln w="9360">
            <a:solidFill>
              <a:srgbClr val="9ba9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FDDA-212E-4AE3-ACF0-8EB0D4B33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3048120" cy="1218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2" marL="914400" indent="39600" algn="ctr">
              <a:spcBef>
                <a:spcPts val="499"/>
              </a:spcBef>
              <a:buClr>
                <a:srgbClr val="002d4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d4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  <a:p>
            <a:pPr lvl="3" marL="1371600" indent="1440" algn="ctr">
              <a:spcBef>
                <a:spcPts val="451"/>
              </a:spcBef>
              <a:buClr>
                <a:srgbClr val="002d4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d4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2d4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2349360"/>
            <a:ext cx="77724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 term ‘accuracy’ could be a hostage to fortun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avid M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Head of Media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ONS, United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Communicating quality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e example underlines two key points about the communication of quality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Firstly, preparation; we had no clear, simple and believable explanation about why there was a substantial apparent shortfall in the number of young men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econdly, key spokespeople have to be trained and drilled about the wily ways of the media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Managing the media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e media have a very large part to play in communicating findings to the public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e Media Relations Office strategy for getting acceptance of the quality and importance of these data involved managing the expectations of the media and engaging at local level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Briefing the media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Dark whisper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e most dangerous undermining of confidence in the quality of the 2001 Census count began with a particular local authority council claiming their population was being substantially underestimated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ONS stuck to its guns and stood by the Census count – believing its own mantra that, with the adoption of a one-number census approach, 2001 was ‘the best census ever’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Dark whispers - response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Soon clear that it was important for ONS to respond to criticisms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Not be perceived to be responding to those Authorities who were shouting the loudes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ONS set up an evaluation programme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Communication fall-ou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Across the media, in many user groups and among influential stakeholders there was a perception that the 2001 Count had been substantially flawed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e evidence though showed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limited number of flaws in areas of high-population density and very mobile populations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in the main, the quality of the census was high 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Three key lesson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Address lists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More targeted use of field staff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Working more closely with local authoritie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Local authoritie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It was clear when talking to local authorities that chief executives did not understand what ONS had done 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Be transparent and ‘up front’ about the methodology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Get this understood by local authorities in advance 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Opening up our work and working closely with local authorities 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The message becomes not one of accuracy but one of integrity and impartiality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d46"/>
                </a:solidFill>
                <a:latin typeface="Arial"/>
              </a:rPr>
              <a:t>our only interest was in understanding the quality of the estimates, rather than in defending the position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Some other lesson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Recognition that some areas (if only a few) were undercounted in 2001 beyond expectation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ensus Coverage Survey not designed to deal with extreme instances of localised census failure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he term ‘one number Census’ did not help - it was widely misunderstood and came back to haunt us when we had to revise some population estimates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Most were happy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No challenges from the vast majority of users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Data continue to be widely used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Everyone wants ONS to do the Census again in 2011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in more or less the same way!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One-number strategy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One-number’ approach to the Census,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ensus figures adjusted to account for numbers and characteristics of the population estimated to have been missed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omparing with alternative and independent data sources, principally a large scale post-enumeration survey (the Census Coverage Survey)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Fundamental quality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ommunicating the quality of the 2001 Census proved a bumpy-ride but . . .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ONS never lost sight of the fact that the fundamental quality of its product was good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Lessons were there to be learned and new tactics have been put in to place to ensure an even better quality Census in 2011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Spurious’ accuracy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One of the key issues to emerge was that the Census can no longer be relied on to provide a ‘count’ in the traditional sens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should serve more to provide the basis for the best possible estimat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Having big media events with slogans and a branding that implies that we know the exact number of people on a particular day does not help to send the right message as to what the Census is about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One number – many hostages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Communicating the coun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onsiderable planning, thought and effort went in to the communication plan for Census 2001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Largely traditional publicity campaign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Letters and leaflets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TV and poster advertising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Plus other ideas weaved in to make use of the Internet and events to attract free publicity through media coverage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Count me in – part of the TV campaign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00240" y="2019240"/>
            <a:ext cx="49435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Post-count surprise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Reassurance on quality and avoidance of disclosur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But . . . the big ‘surprise’ 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Overall population smaller than anticipated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Not in line with the yearly rolling population estimates based on the 1991 Census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Explaining the anomaly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Doubt about accuracy of the 1991 coun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2001 count much more robust and more likely to be accurat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Doubt about mid-year population estimate system 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accounted for high inward migration but underestimated outward migration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Delays in delivery of the processed data meant this picture emerged close to publication date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80000"/>
              </a:lnSpc>
              <a:spcBef>
                <a:spcPts val="499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contingency time used making up lost time in data processing</a:t>
            </a:r>
            <a:r>
              <a:rPr b="0" lang="en-US" sz="2000" spc="-1" strike="noStrike">
                <a:solidFill>
                  <a:srgbClr val="002d4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Where have all the young men gone?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Cracks were appearing in our ability to communicate our belief in the robustness and accuracy of the 2001 coun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d46"/>
                </a:solidFill>
                <a:latin typeface="Arial"/>
              </a:rPr>
              <a:t>Particularly in respect to the phenomenon of the apparent lack of young men in the 2001 count</a:t>
            </a:r>
            <a:endParaRPr b="0" lang="en-US" sz="28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Historically, males outnumber females in the population at all ages up to around 40 when the sex-ratio altered in favour of females in later life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2d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46"/>
                </a:solidFill>
                <a:latin typeface="Arial"/>
              </a:rPr>
              <a:t>The 2001 Census showed the switch to more females present in the early-20s age-group </a:t>
            </a:r>
            <a:endParaRPr b="0" lang="en-US" sz="2400" spc="-1" strike="noStrike">
              <a:solidFill>
                <a:srgbClr val="002d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d46"/>
                </a:solidFill>
                <a:latin typeface="Arial"/>
              </a:rPr>
              <a:t>Hard to count</a:t>
            </a:r>
            <a:endParaRPr b="1" lang="en-US" sz="3200" spc="-1" strike="noStrike">
              <a:solidFill>
                <a:srgbClr val="002d4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2:15:28Z</dcterms:created>
  <dc:creator>Jan Tasker</dc:creator>
  <dc:description/>
  <dc:language>en-US</dc:language>
  <cp:lastModifiedBy>Marder</cp:lastModifiedBy>
  <dcterms:modified xsi:type="dcterms:W3CDTF">2008-05-09T10:45:34Z</dcterms:modified>
  <cp:revision>27</cp:revision>
  <dc:subject/>
  <dc:title>Slide 1</dc:title>
</cp:coreProperties>
</file>