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1268280"/>
            <a:ext cx="74628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1852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1760" y="213336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1852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1760" y="4220640"/>
            <a:ext cx="240264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268280"/>
            <a:ext cx="74628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9560" y="422064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9560" y="2133360"/>
            <a:ext cx="364176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220640"/>
            <a:ext cx="7462800" cy="19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640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57120" indent="-177840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177480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720720" indent="-182520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720720" indent="-18252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205680"/>
            <a:ext cx="226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49C3-B039-4271-BFD9-E42061A0A25B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5440" y="6140520"/>
            <a:ext cx="7232760" cy="4309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active visualization from a user and producer perspectiv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| UNECE May 2008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Grossenbac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285560" y="616284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Home Affairs FDHA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Statistical Office F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927000" y="387360"/>
            <a:ext cx="1979640" cy="75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87360"/>
            <a:ext cx="358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Home Affairs FDHA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Statistical Office F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42960"/>
            <a:ext cx="662040" cy="621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27000" y="387360"/>
            <a:ext cx="1979640" cy="75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79280" algn="ctr">
              <a:lnSpc>
                <a:spcPts val="2599"/>
              </a:lnSpc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58920" algn="ctr">
              <a:lnSpc>
                <a:spcPts val="2599"/>
              </a:lnSpc>
              <a:buClr>
                <a:srgbClr val="b2b2b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538200" algn="ctr">
              <a:lnSpc>
                <a:spcPts val="2599"/>
              </a:lnSpc>
              <a:buClr>
                <a:srgbClr val="c0c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538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bfs.admin.ch/bfs/portal/en/index/themen/03/04/blank/key/lohnstruktur/nach_branche.html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"Making data be understood – and easily produced"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active visualization from a user and producer perspective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5218200"/>
            <a:ext cx="742968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Grossenbacher, Statistics Switzerlan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May 2008 UNECE Workshop on Communication and Dissemination of Census Resul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User-side intera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Populating graphs with data in an automated way. Interactivity is restricted to building a graph on the basis of predefined tables or online databa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result: ad hoc graphs for a first analysis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60920" y="3451320"/>
            <a:ext cx="4248000" cy="314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User-side intera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Giving users the possibility of changing the appearance of graphs. Choosing bar or pie chart presentation, colours and size are part of this interactivity. A playground for adapting presentation aspects to user preferences.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74800" y="3594240"/>
            <a:ext cx="6218280" cy="2427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User-side intera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78144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Offer an interactive choice in informatio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 predefined graphs variables can be changed and new information elements display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21160" y="1987560"/>
            <a:ext cx="3643560" cy="3889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3660840" y="5877000"/>
            <a:ext cx="55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bfs.admin.ch/bfs/portal/en/index/themen/03/04/blank/key/lohnstruktur/nach_branche.html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User-side intera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651672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ll of these graphic types can also be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sers can decide to let variables or developments in time be presented in a film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uch films are attractive but usually difficult to follow..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User-side intera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392436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A combination of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interactivity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ynamic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xplanation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t is interactivity conceived, controlled and presented with commentary to the users by intermediate person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is television-like presentation leads to fascinating statistics courses for a wide public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35640" y="2133720"/>
            <a:ext cx="3322440" cy="276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724360" y="5013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Hans Ros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roducer-side intera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30908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The number of graphics tools is quite larg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How do we find the best and fastest way to produc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roducer-side intera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utomated production of graphs with software like Excel 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or some Online-Databases) leads to “working graphs” but not necessarily to “publishing graphs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igh-quality graphs need authoring. But this becomes increasingly difficul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o we observe an increasingly important trend in making the publishing of high quality graphs and maps both cheaper and....faster.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 How to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ollowing this approach authors have to be provided with all the necessary interactive tools to publish graph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step further would be to use more advanced specific procedures so as to ensure (semi-)automatic productio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mplate-driven graphics p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pecialists can use semi-automatic tools to build templates for graphics and to introduce data via i.e. Excel files or xml/SDMX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is technique allows for the fast and easy updating of an application: it is kid's play to add an additional year to a graphic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79760" y="3716280"/>
            <a:ext cx="5124600" cy="2895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214280" y="3789360"/>
            <a:ext cx="1917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 and graphics power to the author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ranting authors the direct publishing power in the field of visualizations is a further approach. Here, Web Content Management Systems (CMS) open new possibilities. Authors can edit texts and introduce data for graph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96000" y="3529080"/>
            <a:ext cx="3186000" cy="2592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43280" y="3573360"/>
            <a:ext cx="29401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 and graphics power to the author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edefined CMS templates for author usage and the central activation service ensure quality before publishin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 a future step these graphs will be exported via xml to other publishing tools, opening in this way all sorts of cross media opportunities..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36003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335240"/>
            <a:ext cx="746280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ll ag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46280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izing data, creating images out of data is the beeline in bringing statistical information to the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3645000"/>
            <a:ext cx="4464000" cy="0"/>
          </a:xfrm>
          <a:prstGeom prst="line">
            <a:avLst/>
          </a:prstGeom>
          <a:ln w="381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3860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many dangers and open questions lurking alongside this ro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ally generated high-quality graph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2241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last step i.e. the automatic production of high quality graphs is not yet achieved in Statistics Switzerlan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rough this process, quality controlled templates would be filled and updated with data via a direct database access. So graphs presented in a web page or pdf-reports could be produced and presented easily and rapid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ojects aiming to achieve this and to combine graphic templates and databases are underw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’re working on it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241360"/>
            <a:ext cx="687708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 international discussion about generating high-quality visualizations of data is of fundamental interest for us al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Images carry messages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78339" b="0"/>
          <a:stretch/>
        </p:blipFill>
        <p:spPr>
          <a:xfrm>
            <a:off x="2411280" y="2060640"/>
            <a:ext cx="1105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Images carry messages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70016" t="0" r="0" b="0"/>
          <a:stretch/>
        </p:blipFill>
        <p:spPr>
          <a:xfrm>
            <a:off x="5168880" y="2060640"/>
            <a:ext cx="1562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Images carry messages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5254560" cy="3268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92360" y="5300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is is true for (photo)jour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Images carry messages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ut also for statistical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53345" b="0"/>
          <a:stretch/>
        </p:blipFill>
        <p:spPr>
          <a:xfrm>
            <a:off x="2556000" y="2708280"/>
            <a:ext cx="2016000" cy="29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12000" y="2421000"/>
            <a:ext cx="2808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riminality and its development from 1988 to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 authentic history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7480" y="564840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nces against the Criminal Justice 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Images carry messages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ut also for statistical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3345" t="0" r="0" b="0"/>
          <a:stretch/>
        </p:blipFill>
        <p:spPr>
          <a:xfrm>
            <a:off x="2484360" y="2708280"/>
            <a:ext cx="2016360" cy="2938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12000" y="2421000"/>
            <a:ext cx="2808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riminality and its development from 1988 to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 authentic history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7480" y="564840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nces against the Criminal Justice 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Images carry messages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4628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ut also for statistical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2421000"/>
            <a:ext cx="2808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riminality and its development from 1988 to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 authentic history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7480" y="564840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nces against the Criminal Justice 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53345" b="0"/>
          <a:stretch/>
        </p:blipFill>
        <p:spPr>
          <a:xfrm>
            <a:off x="1547640" y="2708280"/>
            <a:ext cx="2016360" cy="2938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53345" t="0" r="0" b="0"/>
          <a:stretch/>
        </p:blipFill>
        <p:spPr>
          <a:xfrm>
            <a:off x="3635280" y="2708280"/>
            <a:ext cx="20163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1268280"/>
            <a:ext cx="7462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Offering graphs:User-side intera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85920" y="2133720"/>
            <a:ext cx="7462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User-created graphs are increasingly offer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Statistical Institutions use a large set of graphical information typ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Bottlenecks in dissemination services, advanced technologies and demands from users push </a:t>
            </a:r>
            <a:r>
              <a:rPr b="1" lang="de-CH" sz="2100" spc="-1" strike="noStrike">
                <a:solidFill>
                  <a:srgbClr val="000000"/>
                </a:solidFill>
                <a:latin typeface="Arial"/>
              </a:rPr>
              <a:t>interactive graphs</a:t>
            </a: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Arial"/>
              </a:rPr>
              <a:t>There are several types of interactive graph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4:53:45Z</dcterms:created>
  <dc:creator>Armin Grossenbacher</dc:creator>
  <dc:description/>
  <dc:language>en-US</dc:language>
  <cp:lastModifiedBy>Armin Grossenbacher</cp:lastModifiedBy>
  <cp:lastPrinted>2003-11-14T16:51:38Z</cp:lastPrinted>
  <dcterms:modified xsi:type="dcterms:W3CDTF">2008-05-18T18:42:21Z</dcterms:modified>
  <cp:revision>47</cp:revision>
  <dc:subject/>
  <dc:title>Title of presentation Subtitle (not in bold)</dc:title>
</cp:coreProperties>
</file>