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985080" cy="92710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69">
                <a:moveTo>
                  <a:pt x="4" y="0"/>
                </a:moveTo>
                <a:arcTo wR="4" hR="4" stAng="16200000" swAng="-5400000"/>
                <a:lnTo>
                  <a:pt x="0" y="28665"/>
                </a:lnTo>
                <a:arcTo wR="4" hR="4" stAng="10800000" swAng="-5400000"/>
                <a:lnTo>
                  <a:pt x="21596" y="2866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985080" cy="92710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69">
                <a:moveTo>
                  <a:pt x="4" y="0"/>
                </a:moveTo>
                <a:arcTo wR="4" hR="4" stAng="16200000" swAng="-5400000"/>
                <a:lnTo>
                  <a:pt x="0" y="28665"/>
                </a:lnTo>
                <a:arcTo wR="4" hR="4" stAng="10800000" swAng="-5400000"/>
                <a:lnTo>
                  <a:pt x="21596" y="2866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985080" cy="92710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69">
                <a:moveTo>
                  <a:pt x="4" y="0"/>
                </a:moveTo>
                <a:arcTo wR="4" hR="4" stAng="16200000" swAng="-5400000"/>
                <a:lnTo>
                  <a:pt x="0" y="28665"/>
                </a:lnTo>
                <a:arcTo wR="4" hR="4" stAng="10800000" swAng="-5400000"/>
                <a:lnTo>
                  <a:pt x="21596" y="2866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985080" cy="927108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69">
                <a:moveTo>
                  <a:pt x="4" y="0"/>
                </a:moveTo>
                <a:arcTo wR="4" hR="4" stAng="16200000" swAng="-5400000"/>
                <a:lnTo>
                  <a:pt x="0" y="28665"/>
                </a:lnTo>
                <a:arcTo wR="4" hR="4" stAng="10800000" swAng="-5400000"/>
                <a:lnTo>
                  <a:pt x="21596" y="2866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95604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2924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2040" y="4403520"/>
            <a:ext cx="5114880" cy="4165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880740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956040" y="880740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F651F-DE28-4711-93EC-3D704BEDA5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457200"/>
            <a:ext cx="4635360" cy="34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457200" y="4403880"/>
            <a:ext cx="559584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74680" y="69372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32040" y="44020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600" y="3981600"/>
            <a:ext cx="5962680" cy="15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ssissippi Development Autho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sus Regional Off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sus State Data C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y different state, county, city agenci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2) Data Ferret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a) Data Librarian searches for right data by comparis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b) Data manipulation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c) Advanced Tabulation and discriptive statistic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d) Mapping and business graphics that use the statistical rul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e) Adding regressions and other advanced statis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2) Data Ferret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a) Data Librarian searches for right data by comparis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b) Data manipulation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c) Advanced Tabulation and discriptive statistic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d) Mapping and business graphics that use the statistical rul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e) Adding regressions and other advanced statis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74680" y="69372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73240" y="693720"/>
            <a:ext cx="463536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73240" y="693720"/>
            <a:ext cx="463536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74680" y="695160"/>
            <a:ext cx="46339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74680" y="69372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74680" y="69372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119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sers of DataFerret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deral and State government  (.gov) - 7876 users and (.us) - 5923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Government Accountability Office (GAO) -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Congressional Budget Office (CBO) - 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Congressional Research Service (CRS) -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Senate (.senate.gov) - 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Federal Reserve System Board (frb.gov) -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ducation (.edu) - 42,828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Harvard - 8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Columbia - 6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Berkeley - 8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University of Pennsylvania - 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UCLA - 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on-profit (.org) - 10,792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AA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Health organizations (*health*.org) - 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Children's issues (*child*.org) - 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Federal Reserve Bank Branches (frb.org) - 2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ivate Companies (.com) - 100,3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News - e.g NY Times -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Consul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McKinsey Co. - 1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Abt Associates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Lewin Group (health) -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Lockheed Martin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Mathematica -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those with *consult* as part of their domain name - 3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Retail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JC Pen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S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Marketing - those with *marketing* as part of their domain name -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Insurance and Fina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Citico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Northwestern Mu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Paine We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State F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Met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Pharmaceut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Mer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AstraZene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B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Novar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ramework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) Access to network of many kinds of data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a) Capacity to handle different kinds of data in the same environment or framework (timeseries, hierarchical relational microdata files, Data Cubes, complex geographical files, stat files, etc.)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b) empowered by intelligence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    i) document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    ii) statistical usage rul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    iii) data integration rul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c) stores the data one time, use it many tim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d) the more data in the network the mor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74680" y="695160"/>
            <a:ext cx="46339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Hot Repor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a) Designed around topics for lay public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b) Can be designed to support decision making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    i) guided use of statistical data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    ii) updates as data updates</a:t>
            </a:r>
            <a:br>
              <a:rPr sz="1200"/>
            </a:b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c) Designed to re-use data for different topic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d) Designed to relatively quickly build a website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    e) Creates new opportunity for analysts to bring data together to produce useful inform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74680" y="695160"/>
            <a:ext cx="46357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32040" y="4403880"/>
            <a:ext cx="5116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A061-1CC5-42BD-A469-45F9A694B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9E10-36B5-45D5-BBA2-56CCD5C77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A292-1624-49CF-850C-65D08F441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7756-6729-400B-8530-62663EFD5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09AF-136A-4372-B858-7B9E391533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6577-C4E4-410D-8644-57ABE5DFA0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2967-68AE-44AB-9B9B-3432AAE072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2E39-9C7F-4BB7-B274-CA6CE18C36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8667-C8B0-4E09-945E-5C3030EFC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48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03D8-9EB0-4CB0-B410-FAFCAD6CE9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E314-4469-41A4-B6C9-BCA8998A4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B216-217C-42C3-9D9E-2B0F2CF28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F5A4-94C1-4C60-BF5E-6D4E19B8E6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86AB-AF51-42DE-88E9-C5FFD18DA8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9B68-8DBF-4B58-BB41-FD3297ED0D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6CEA-C26D-41D0-87CA-78E18C372B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8107-1170-4FA1-9786-1657DD533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D31E-2F82-41D6-B1B0-AAC899C5C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B899-2641-4D5E-AA88-55E27D7A3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CB31-C02B-4354-860F-3981B34C4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48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1CEA-71D0-40D2-8BDE-A56EEEAFD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3BFA-B059-4017-98CC-D41CEDF05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2345-2A9C-44FE-860F-5203758F3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BC51-B49B-4734-89A6-3B0607B10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ts val="294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ts val="294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43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BBD74-2B11-447B-90E7-E7BBED6427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68328-1A74-4153-AD74-373A057EA4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ts val="2948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ts val="294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ts val="294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ataferrett.census.gov/" TargetMode="External"/><Relationship Id="rId3" Type="http://schemas.openxmlformats.org/officeDocument/2006/relationships/hyperlink" Target="http://www.thedataweb.org/" TargetMode="External"/><Relationship Id="rId4" Type="http://schemas.openxmlformats.org/officeDocument/2006/relationships/hyperlink" Target="http://www.thedataweb.org/twiki" TargetMode="External"/><Relationship Id="rId5" Type="http://schemas.openxmlformats.org/officeDocument/2006/relationships/hyperlink" Target="http://www.thedataweb.org/forum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cavan.paul.capps@census.gov" TargetMode="External"/><Relationship Id="rId3" Type="http://schemas.openxmlformats.org/officeDocument/2006/relationships/hyperlink" Target="mailto:cavan.paul.capps@census.gov" TargetMode="External"/><Relationship Id="rId4" Type="http://schemas.openxmlformats.org/officeDocument/2006/relationships/hyperlink" Target="mailto:dsd_ferrett@census.gov" TargetMode="External"/><Relationship Id="rId5" Type="http://schemas.openxmlformats.org/officeDocument/2006/relationships/hyperlink" Target="mailto:dsd_ferrett@census.gov" TargetMode="External"/><Relationship Id="rId6" Type="http://schemas.openxmlformats.org/officeDocument/2006/relationships/hyperlink" Target="mailto:dsd_ferrett@census.gov" TargetMode="External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55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d627"/>
                </a:solidFill>
                <a:latin typeface="Arial"/>
                <a:ea typeface="Times New Roman"/>
              </a:rPr>
              <a:t>TheDataWeb: a New Framework for Data</a:t>
            </a:r>
            <a:r>
              <a:rPr b="0" lang="en-GB" sz="4800" spc="-1" strike="noStrike">
                <a:solidFill>
                  <a:srgbClr val="ffd627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740040"/>
            <a:ext cx="792468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d627"/>
                </a:solidFill>
                <a:latin typeface="Arial"/>
              </a:rPr>
              <a:t>Cavan Capps, Chie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d627"/>
                </a:solidFill>
                <a:latin typeface="Arial"/>
              </a:rPr>
              <a:t>TheDataWeb Applications Bran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d627"/>
                </a:solidFill>
                <a:latin typeface="Arial"/>
              </a:rPr>
              <a:t>Data Integration 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d627"/>
                </a:solidFill>
                <a:latin typeface="Arial"/>
              </a:rPr>
              <a:t>Howard Hogan, Dir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d627"/>
                </a:solidFill>
                <a:latin typeface="Arial"/>
              </a:rPr>
              <a:t>Demographic Programs Directo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6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atively Quick to Buil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581120"/>
            <a:ext cx="3792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g &amp; drop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ly sm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an analyst a chance to layout data for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60920" y="1600200"/>
            <a:ext cx="4330800" cy="457200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E78C-2590-4CCF-BB5C-EC17D3BDB1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04200"/>
            <a:ext cx="7767720" cy="6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atively Quick to Buil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6772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% of time is designing HotReport (finding right data and laying it out)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of time is creating HotRe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 of time is reviewing and fact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FEBD-70A9-416C-83CE-8326670FEA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58080"/>
            <a:ext cx="7767720" cy="6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ical HotReport Use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7320" y="1676160"/>
            <a:ext cx="7767720" cy="40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 economic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planning and coord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elig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2772-627C-4D0C-AE96-D372818F26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Ferrett: a data brows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3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ed at sophisticated data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s together multiple data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d dynam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s data context along with the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22F8-A8EC-4517-BC49-3288EE9B15A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Ferrett: a data brows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660320"/>
            <a:ext cx="7696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ed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563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manip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0">
              <a:lnSpc>
                <a:spcPts val="2563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563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vanced tabulation and descriptive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0">
              <a:lnSpc>
                <a:spcPts val="2563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563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pping and business graphics using statistical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0">
              <a:lnSpc>
                <a:spcPts val="2563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563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ing regressions and other advanced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5E25-AC78-496D-9691-914CBA903F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227160"/>
            <a:ext cx="6629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Brows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280" y="1219320"/>
          <a:ext cx="8610840" cy="54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19320"/>
                    <a:ext cx="8610840" cy="54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324480" y="1371600"/>
            <a:ext cx="243864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set collections are in fol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19320" y="2133720"/>
            <a:ext cx="5495760" cy="182880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89C6-19A3-4E1B-A3CF-D706AE6C8C3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227160"/>
            <a:ext cx="6019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Brows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447920"/>
          <a:ext cx="8751960" cy="52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447920"/>
                    <a:ext cx="87519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095880" y="1371600"/>
            <a:ext cx="274320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sets can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952880" y="2209680"/>
            <a:ext cx="2362320" cy="60984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952880"/>
            <a:ext cx="160020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6FBE-03BA-4A46-9F6D-5DAB4BB2EDD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227160"/>
            <a:ext cx="6172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Brows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280" y="1371600"/>
          <a:ext cx="8751960" cy="52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371600"/>
                    <a:ext cx="87519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172200" y="1371600"/>
            <a:ext cx="297180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s retur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109760" y="3048120"/>
            <a:ext cx="2824200" cy="129528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886200"/>
            <a:ext cx="3810240" cy="266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5F0E-377F-4A4E-843F-813CFB86143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7160"/>
            <a:ext cx="6248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Brows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3440" y="1371600"/>
          <a:ext cx="8751960" cy="52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440" y="1371600"/>
                    <a:ext cx="87519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170760" y="1371600"/>
            <a:ext cx="29718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kinds of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sets sup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295280" y="1905120"/>
            <a:ext cx="5486400" cy="53316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600200"/>
            <a:ext cx="1600200" cy="198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46AE-9E0E-473A-B98B-9CAAB470177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4280" y="928800"/>
          <a:ext cx="8751960" cy="52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928800"/>
                    <a:ext cx="87519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121320"/>
            <a:ext cx="6324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Brows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914400"/>
            <a:ext cx="297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838080"/>
            <a:ext cx="297180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efore selecting,  examine variable  documentation with questions, universes and response labels or rang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0" y="2971800"/>
          <a:ext cx="3666960" cy="377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971800"/>
                    <a:ext cx="3666960" cy="37720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 flipH="1">
            <a:off x="5334120" y="2819520"/>
            <a:ext cx="1838160" cy="114300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024160" y="2895480"/>
            <a:ext cx="2214360" cy="327672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4724280"/>
            <a:ext cx="17524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AEDD-D79E-4829-A26B-E7E3285DF20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5181480"/>
            <a:ext cx="74674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447920"/>
            <a:ext cx="5245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In God we Trus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--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438280"/>
            <a:ext cx="71899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--  for everything else we need data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657680"/>
            <a:ext cx="716256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ichael Bloomberg .... on making decis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 business or gover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21320"/>
            <a:ext cx="7162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Brows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0880" y="914400"/>
          <a:ext cx="8694720" cy="52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69472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28600" y="914400"/>
            <a:ext cx="25146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ulated in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eadsh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6525-2A47-4534-9EFC-28A3182F85B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21320"/>
            <a:ext cx="7010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Brows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914400"/>
          <a:ext cx="8694720" cy="52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14400"/>
                    <a:ext cx="869472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28600" y="914400"/>
            <a:ext cx="2286000" cy="16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ic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for 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257800" y="1809720"/>
          <a:ext cx="3838680" cy="161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1809720"/>
                    <a:ext cx="38386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752480" y="2743200"/>
          <a:ext cx="2600280" cy="159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2743200"/>
                    <a:ext cx="26002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876920" y="4800600"/>
          <a:ext cx="2457360" cy="1847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4800600"/>
                    <a:ext cx="24573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7E1E-29C5-4922-81AE-0768D3EE307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41000"/>
            <a:ext cx="776772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Ferret User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8720" y="1636560"/>
            <a:ext cx="776772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ederal and state govern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563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.gov) = 7,876 us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563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.us) = 5,923 user 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ion (.edu) = 42,828 user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profit (.org) = 10,792 user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vate companies (.com) = 100,3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563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Consulting Ret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563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et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nsurance and Fina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ts val="2563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armaceuticals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E1DE-D9B1-4D1D-B6E2-A962D71D8A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018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21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DataWeb” is the software engineering that make DataFerrett and HotReport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45D4-B96E-4586-B6BE-1963D990CF4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00320"/>
            <a:ext cx="7772400" cy="124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Smart Data-Networking Framewor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apacity to handle different kinds of data in the same environment or frame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mpowered by statistical intellig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al usage r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integration r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tores the data one time, use it many ti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ore data in the network the more usefu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100E-D585-456D-836A-0DC789A064B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732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Framewor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04920" y="1414440"/>
            <a:ext cx="8381880" cy="468648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6742-1A1D-4F3C-82E1-D6607A8B174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4992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Framewor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1444680"/>
            <a:ext cx="8153280" cy="463860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10F3-B432-4C48-A046-B140586A241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4992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Framewor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1444680"/>
            <a:ext cx="8229600" cy="463860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48B9-FE23-4DB9-8DA7-5970BAEDDCF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4992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Framewor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0880" y="1444680"/>
            <a:ext cx="8305920" cy="468612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3A58-0B7C-48A7-9240-D312AFF518D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4992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DataWeb Framewor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3520" y="1444680"/>
            <a:ext cx="8076960" cy="459108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638A-16BF-4592-8984-6821F13C575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8800"/>
            <a:ext cx="7770960" cy="134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=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number in a contex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752480"/>
            <a:ext cx="76201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%” is NO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2005 poverty rate for the U.S. is 10.0%” is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2006 poverty rate for the U.S. as collected by the ACS for the housing unit population is 10.0%” is mo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on questionnaire, sample size, rotation, imputation, weighting, etc., is still mo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018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d on Collabor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Source” statistical partnership with Australian Bureau of Statistics and other interested a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tatistical analysts providing statistical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analysts creating a presentation and analytical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904A-F29B-45D6-BABE-9A78C36FF94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018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seful Li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563868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dataferrett.census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thedataweb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thedataweb.org/tw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thedataweb.org/fo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99F9-3F24-4476-87E7-8028E54EE1B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act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van Capps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avan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paul.capps@censu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1-763-3778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66-437-0171 toll f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1-908-6216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294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Ferrett HelpDesk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:</a:t>
            </a:r>
            <a:br>
              <a:rPr sz="2400"/>
            </a:b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 Toll Free: 866-437-0171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294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FerrettTeam Email: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dsd_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ferret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@census.gov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Wider Contex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atum is seldom us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requires putting the data point in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geograph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ime peri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52E7-D7A4-440F-954D-BBED1DDEA4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018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ssemination Challeng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21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present the right data with the right context to meet users actual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ensure that the most recent and most correct data are displa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3B53-DDA4-47BD-99FE-22037E774F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1342800"/>
            <a:ext cx="3733560" cy="18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aud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small_katrina" descr=""/>
          <p:cNvPicPr/>
          <p:nvPr/>
        </p:nvPicPr>
        <p:blipFill>
          <a:blip r:embed="rId2"/>
          <a:stretch/>
        </p:blipFill>
        <p:spPr>
          <a:xfrm>
            <a:off x="3666960" y="4176720"/>
            <a:ext cx="2276640" cy="2071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3" name="small_saipe" descr=""/>
          <p:cNvPicPr/>
          <p:nvPr/>
        </p:nvPicPr>
        <p:blipFill>
          <a:blip r:embed="rId3"/>
          <a:srcRect l="0" t="0" r="0" b="1964"/>
          <a:stretch/>
        </p:blipFill>
        <p:spPr>
          <a:xfrm>
            <a:off x="5181480" y="1020600"/>
            <a:ext cx="3810240" cy="2637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15880" y="3321000"/>
            <a:ext cx="69516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olution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fferent views of the sam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65920" cy="11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ssemination Challeng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6" name="small_housing" descr=""/>
          <p:cNvPicPr/>
          <p:nvPr/>
        </p:nvPicPr>
        <p:blipFill>
          <a:blip r:embed="rId4"/>
          <a:stretch/>
        </p:blipFill>
        <p:spPr>
          <a:xfrm>
            <a:off x="6172200" y="3962520"/>
            <a:ext cx="2743200" cy="234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908A-CFA7-4083-9D82-CCCEFBEADF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018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Three Part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720" y="1980720"/>
            <a:ext cx="4419360" cy="27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t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Fer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Data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lnSpc>
                <a:spcPts val="2948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8FDD-9653-414F-8126-D3DAF84478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4992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tRepor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ed a local decision-makers with limited time and statistical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together relevant variables for local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ally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d dynam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designed to support decision-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ts val="2948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ided use of statistic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B45A-C7EF-4867-A6C3-27F7D1C43F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292640" cy="593424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313160" cy="594360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740C-AC39-443D-A85A-3AE4F4541DA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lann001</cp:lastModifiedBy>
  <cp:lastPrinted>2007-10-29T18:29:37Z</cp:lastPrinted>
  <dcterms:modified xsi:type="dcterms:W3CDTF">2008-04-29T19:14:13Z</dcterms:modified>
  <cp:revision>18</cp:revision>
  <dc:subject/>
  <dc:title>The DataWeb: a new framework for data </dc:title>
</cp:coreProperties>
</file>