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167A-F118-4A2F-AA22-EC70E057F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D35B-F772-476C-A5CC-E301C91C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F674-B59B-4168-81EB-53846309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1FE9-7D32-49BB-937C-56194527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AF45-76C2-4AC0-947F-105F5AED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3451-1A1B-4492-871A-018A12B1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16C5-0F02-431B-85BF-C146C482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FDD5-5C92-4DAA-BAA9-8074B13C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0697-6D4F-4CB6-8C33-2EEC3EAD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E156-0E49-46E2-ADE8-3E012D4A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5B8A-07BD-42F5-97C7-66673A6D4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1FC5-72F4-4379-8B0A-4B37119E9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29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170820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0" y="618156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270000" y="6481800"/>
            <a:ext cx="1866600" cy="2286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6"/>
          <a:stretch/>
        </p:blipFill>
        <p:spPr>
          <a:xfrm>
            <a:off x="7658280" y="6392880"/>
            <a:ext cx="1244520" cy="317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7"/>
          <a:stretch/>
        </p:blipFill>
        <p:spPr>
          <a:xfrm>
            <a:off x="392040" y="246240"/>
            <a:ext cx="1568520" cy="1242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2039760"/>
            <a:ext cx="8737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29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170820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618156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270000" y="6481800"/>
            <a:ext cx="1866600" cy="228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7658280" y="6392880"/>
            <a:ext cx="1244520" cy="317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9C5F-65EE-4667-8103-7509B7A5999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629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170820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0" y="618156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270000" y="6481800"/>
            <a:ext cx="186660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658280" y="6392880"/>
            <a:ext cx="1244520" cy="317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392040" y="246240"/>
            <a:ext cx="1568520" cy="1242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28600" y="2039760"/>
            <a:ext cx="8737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douglas.newson@statcan.ca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ndara"/>
              </a:rPr>
              <a:t>DISSEMINATING CENSUS RESULTS TO SPECIFIC POTENTIAL US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ndara"/>
              </a:rPr>
              <a:t>A Statistics Canada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Douglas Newson, Director – Central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CONTACT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0840" y="2104920"/>
            <a:ext cx="827388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ndara"/>
              </a:rPr>
              <a:t>Douglas New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Candara"/>
                <a:hlinkClick r:id="rId1"/>
              </a:rPr>
              <a:t>douglas.newson@statcan.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ndara"/>
              </a:rPr>
              <a:t>www.statcan.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338120" y="0"/>
          <a:ext cx="67327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8120" y="0"/>
                    <a:ext cx="6732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32040"/>
            <a:ext cx="8229600" cy="42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ndar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Canadian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- 5 year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- high immigration/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- web sit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ndar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- multi-language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-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ndar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Lessons Lea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Census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89000" y="2901960"/>
            <a:ext cx="3265560" cy="1133640"/>
          </a:xfrm>
          <a:custGeom>
            <a:avLst/>
            <a:gdLst>
              <a:gd name="textAreaLeft" fmla="*/ 0 w 3265560"/>
              <a:gd name="textAreaRight" fmla="*/ 3265920 w 3265560"/>
              <a:gd name="textAreaTop" fmla="*/ 0 h 1133640"/>
              <a:gd name="textAreaBottom" fmla="*/ 1134000 h 1133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25880" y="2936880"/>
            <a:ext cx="3265560" cy="1133640"/>
          </a:xfrm>
          <a:custGeom>
            <a:avLst/>
            <a:gdLst>
              <a:gd name="textAreaLeft" fmla="*/ 0 w 3265560"/>
              <a:gd name="textAreaRight" fmla="*/ 3265920 w 3265560"/>
              <a:gd name="textAreaTop" fmla="*/ 0 h 1133640"/>
              <a:gd name="textAreaBottom" fmla="*/ 1134000 h 1133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2040" y="3774960"/>
            <a:ext cx="167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ndara"/>
              </a:rPr>
              <a:t>20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87920" y="3381480"/>
            <a:ext cx="1842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89360" y="3789360"/>
            <a:ext cx="177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ndara"/>
              </a:rPr>
              <a:t>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994440" y="3789360"/>
            <a:ext cx="15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ndara"/>
              </a:rPr>
              <a:t>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55720" y="5514840"/>
            <a:ext cx="3628800" cy="493920"/>
          </a:xfrm>
          <a:prstGeom prst="rightArrow">
            <a:avLst>
              <a:gd name="adj1" fmla="val 50000"/>
              <a:gd name="adj2" fmla="val 18367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98960" y="4881600"/>
            <a:ext cx="3629160" cy="493560"/>
          </a:xfrm>
          <a:prstGeom prst="rightArrow">
            <a:avLst>
              <a:gd name="adj1" fmla="val 50000"/>
              <a:gd name="adj2" fmla="val 183826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64520" y="4314960"/>
            <a:ext cx="1582560" cy="493560"/>
          </a:xfrm>
          <a:prstGeom prst="rightArrow">
            <a:avLst>
              <a:gd name="adj1" fmla="val 50000"/>
              <a:gd name="adj2" fmla="val 8016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365200"/>
            <a:ext cx="320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Commun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9000" y="4905360"/>
            <a:ext cx="28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Disse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000080" y="1533600"/>
          <a:ext cx="7605720" cy="476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533600"/>
                    <a:ext cx="7605720" cy="47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Population of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8960" y="2060640"/>
            <a:ext cx="8593200" cy="22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ndara"/>
              </a:rPr>
              <a:t>CANADA</a:t>
            </a:r>
            <a:r>
              <a:rPr b="1" lang="en-US" sz="3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ndara"/>
              </a:rPr>
              <a:t>31,241,0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ndara"/>
              </a:rPr>
              <a:t>ONTARIO</a:t>
            </a:r>
            <a:r>
              <a:rPr b="0" lang="en-US" sz="3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ndara"/>
              </a:rPr>
              <a:t>12,028,900</a:t>
            </a:r>
            <a:r>
              <a:rPr b="0" lang="en-US" sz="3600" spc="-1" strike="noStrike">
                <a:solidFill>
                  <a:srgbClr val="000000"/>
                </a:solidFill>
                <a:latin typeface="Candar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TORONTO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5,072,07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362480" y="2448000"/>
          <a:ext cx="5305320" cy="474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2480" y="2448000"/>
                    <a:ext cx="5305320" cy="47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ndara"/>
              </a:rPr>
              <a:t>Multi-Language Medi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ndara"/>
              </a:rPr>
              <a:t>– Lessons Learn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80720" y="1788840"/>
            <a:ext cx="89629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Senior Manag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- Mainstream import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- 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ndara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Language ?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Need for metr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- process vs. outc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Media               community gro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Staff capacity requi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Census an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andara"/>
              </a:rPr>
              <a:t>non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-census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Focus/ lever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andara"/>
              </a:rPr>
              <a:t>Key issue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– CAPACITY BUIL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755720" y="4033800"/>
            <a:ext cx="627120" cy="4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ndara"/>
              </a:rPr>
              <a:t>Community Outreach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ndara"/>
              </a:rPr>
              <a:t>– Lessons Learn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7596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ar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More than government –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ar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Core needs simi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ar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Lack of knowledge about Censu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ar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Sharing of costs for detailed, custom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ar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Community focal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ar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Metrics – process vs.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ar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ndara"/>
              </a:rPr>
              <a:t>Key issue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 – CAPACITY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CAPACITY BUIL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0040" y="2340000"/>
            <a:ext cx="8229600" cy="30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ar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ndara"/>
              </a:rPr>
              <a:t>Fits in continuous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ar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ndara"/>
              </a:rPr>
              <a:t>Metric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ar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ndara"/>
              </a:rPr>
              <a:t>We have the tools – need the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ar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ndara"/>
              </a:rPr>
              <a:t>Managing 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ar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ndara"/>
              </a:rPr>
              <a:t>Increasing data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6T16:36:05Z</dcterms:created>
  <dc:creator>Brian Levesque</dc:creator>
  <dc:description/>
  <dc:language>en-US</dc:language>
  <cp:lastModifiedBy>SCSD BUSC</cp:lastModifiedBy>
  <cp:lastPrinted>2002-03-11T18:33:17Z</cp:lastPrinted>
  <dcterms:modified xsi:type="dcterms:W3CDTF">2008-05-05T14:43:43Z</dcterms:modified>
  <cp:revision>99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58863883</vt:r8>
  </property>
  <property fmtid="{D5CDD505-2E9C-101B-9397-08002B2CF9AE}" pid="3" name="_AuthorEmail">
    <vt:lpwstr>Karen.Richards@a.statcan.ca</vt:lpwstr>
  </property>
  <property fmtid="{D5CDD505-2E9C-101B-9397-08002B2CF9AE}" pid="4" name="_AuthorEmailDisplayName">
    <vt:lpwstr>Richards, Karen - TOR/TOR</vt:lpwstr>
  </property>
  <property fmtid="{D5CDD505-2E9C-101B-9397-08002B2CF9AE}" pid="5" name="_EmailSubject">
    <vt:lpwstr>Doug Newson - Presentation</vt:lpwstr>
  </property>
  <property fmtid="{D5CDD505-2E9C-101B-9397-08002B2CF9AE}" pid="6" name="_PreviousAdHocReviewCycleID">
    <vt:r8>587144225</vt:r8>
  </property>
</Properties>
</file>