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F7CD-6DA0-45D9-A5CB-B0B726BC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26A-57B2-40F8-8137-CABA12F2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076-B7B4-44B5-AF32-31948F20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07F5-F784-4A4A-9407-0F1934B4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4E94-631B-4268-8108-C3808785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560F-39D2-44B9-A635-4CBB2BBC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23AF-90B7-4BE8-9DBA-873B289F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C285-C5D2-49CE-9836-C4A6DCB8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0630-09ED-4C1B-9E82-8C760B3D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BB8C-ABDC-4BA9-9194-72B4F9E8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9439-6746-4D12-92F0-3E93122E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9BFF-586A-4D13-973B-A4497F77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C0EF-D722-43D5-B12F-0F53E0EF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7EF5-08D1-438A-8F93-77C3FE4C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DB74-04DD-4FF2-BA90-FB29FC4A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049B-6897-4442-A0C9-BCA095AC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EF76-3029-4312-92D2-C17A7902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391-3CFD-48B3-A086-9A6E96EB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C241-5FCC-40D7-A100-16AD6FAF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D3EE-7882-4C2B-BCCE-155532D2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0B3C-A3F6-425C-9513-BE6028D8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616-518D-46ED-8ACB-D66B4728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36E3-C17B-471D-8F8E-DADDFD7D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B11D-1E4D-49D6-90A3-7A7F7242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8db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8920" y="6400800"/>
            <a:ext cx="15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808080"/>
                </a:solidFill>
                <a:latin typeface="Times New Roman"/>
              </a:rPr>
              <a:t>12-June-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907640" y="6400800"/>
            <a:ext cx="518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5aed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5aed2"/>
                </a:solidFill>
                <a:latin typeface="Times New Roman"/>
              </a:rPr>
              <a:t>Measurement of Social Ca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5ae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DEFD-5EB7-45FF-8D75-635A44F59A50}" type="slidenum">
              <a:rPr b="1" lang="en-US" sz="1400" spc="-1" strike="noStrike">
                <a:solidFill>
                  <a:srgbClr val="85aed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8db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78920" y="6400800"/>
            <a:ext cx="15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808080"/>
                </a:solidFill>
                <a:latin typeface="Times New Roman"/>
              </a:rPr>
              <a:t>12-June-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1907640" y="6400800"/>
            <a:ext cx="518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5aed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5aed2"/>
                </a:solidFill>
                <a:latin typeface="Times New Roman"/>
              </a:rPr>
              <a:t>Measurement of Social Ca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5ae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F2AA-49A2-4ED4-B85B-0DC3952F32B3}" type="slidenum">
              <a:rPr b="1" lang="en-US" sz="1400" spc="-1" strike="noStrike">
                <a:solidFill>
                  <a:srgbClr val="85aed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f327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38dbe"/>
                </a:solidFill>
                <a:latin typeface="Arial"/>
              </a:rPr>
              <a:t>              </a:t>
            </a:r>
            <a:r>
              <a:rPr b="1" lang="en-GB" sz="3200" spc="-1" strike="noStrike">
                <a:solidFill>
                  <a:srgbClr val="538dbe"/>
                </a:solidFill>
                <a:latin typeface="Arial"/>
              </a:rPr>
              <a:t>Measurement</a:t>
            </a:r>
            <a:r>
              <a:rPr b="1" lang="fr-FR" sz="3200" spc="-1" strike="noStrike">
                <a:solidFill>
                  <a:srgbClr val="538dbe"/>
                </a:solidFill>
                <a:latin typeface="Arial"/>
              </a:rPr>
              <a:t> of Social Capital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538dbe"/>
                </a:solidFill>
                <a:latin typeface="Arial"/>
              </a:rPr>
              <a:t>                      </a:t>
            </a:r>
            <a:r>
              <a:rPr b="1" lang="fr-FR" sz="2400" spc="-1" strike="noStrike">
                <a:solidFill>
                  <a:srgbClr val="538dbe"/>
                </a:solidFill>
                <a:latin typeface="Arial"/>
              </a:rPr>
              <a:t>CES 2007 </a:t>
            </a:r>
            <a:r>
              <a:rPr b="1" lang="en-GB" sz="2400" spc="-1" strike="noStrike">
                <a:solidFill>
                  <a:srgbClr val="538dbe"/>
                </a:solidFill>
                <a:latin typeface="Arial"/>
              </a:rPr>
              <a:t>Seminar</a:t>
            </a:r>
            <a:r>
              <a:rPr b="1" lang="fr-FR" sz="2400" spc="-1" strike="noStrike">
                <a:solidFill>
                  <a:srgbClr val="538dbe"/>
                </a:solidFill>
                <a:latin typeface="Arial"/>
              </a:rPr>
              <a:t>:</a:t>
            </a:r>
            <a:br>
              <a:rPr sz="2400"/>
            </a:br>
            <a:r>
              <a:rPr b="1" lang="fr-FR" sz="2400" spc="-1" strike="noStrike">
                <a:solidFill>
                  <a:srgbClr val="538dbe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538dbe"/>
                </a:solidFill>
                <a:latin typeface="Arial"/>
              </a:rPr>
              <a:t>Measurement of Capital-Beyond the traditional measures</a:t>
            </a:r>
            <a:endParaRPr b="1" lang="en-US" sz="24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                        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Michel GLAUDE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Director “Social and Information Society statistics”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                           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EUROST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B5D9-AE34-425C-AFB8-E3BEB54334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38dbe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538dbe"/>
                </a:solidFill>
                <a:latin typeface="Arial"/>
              </a:rPr>
              <a:t>Three</a:t>
            </a:r>
            <a:r>
              <a:rPr b="1" lang="fr-FR" sz="2400" spc="-1" strike="noStrike">
                <a:solidFill>
                  <a:srgbClr val="538dbe"/>
                </a:solidFill>
                <a:latin typeface="Arial"/>
              </a:rPr>
              <a:t> Contributions</a:t>
            </a:r>
            <a:endParaRPr b="1" lang="en-US" sz="24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« Social Capital – Ways ahead and ways blocked in national and international comparisons »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      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By Laura Iisakka and Jussi Simpura (Finland)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« Social Capital: Measurement and meaning »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      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By  Tom Schuller and Enrico Giovannini  (OECD) 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« From measuring social capital to measuring societal well-being: some early thoughts from UK »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By Paul Allin (UK)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6BE4-39A5-4ED6-B460-1B359607FF4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38dbe"/>
                </a:solidFill>
                <a:latin typeface="Arial"/>
              </a:rPr>
              <a:t>What is Social Capital?</a:t>
            </a: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Several “Fathers”: Coleman, Bourdieu, Putnam, Fukuyama…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Three dimensions: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      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- Network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      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- Norms of reciprocity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      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- Trus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The OECD definition: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   “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Networks together with shared norms, values and understandings that facilitate cooperation within or among groups”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341-170B-4FFB-B714-027C8354CD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38dbe"/>
                </a:solidFill>
                <a:latin typeface="Arial"/>
              </a:rPr>
              <a:t>Three main issues</a:t>
            </a: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The concept of Social Capita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What kind of uses?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Future challenge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081-289B-4166-A780-E72759E479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38dbe"/>
                </a:solidFill>
                <a:latin typeface="Arial"/>
              </a:rPr>
              <a:t>Is Social Capital a form of Capital?</a:t>
            </a: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Not obvious from a purely economic point of view (Ownership, accumulation…)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Nevertheless, some kind of asset that provides benefits to individuals and communities even by enhancing the benefits of other forms of capital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The weaknesses of a “carry all” concept relying on a functional definition.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C2D-4936-4601-BB15-C3181D2D03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38dbe"/>
                </a:solidFill>
                <a:latin typeface="Arial"/>
              </a:rPr>
              <a:t>Best uses</a:t>
            </a: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777240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No new magic independent variable which would explain macroeconomic performance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Promising uses in regional economics and neighbourhood and social inclusion policies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The difficulties in assessing the volume of SC at national level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International comparisons biased by the “cultural” effect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3CC5-84DB-40E8-8404-6E25A0CFD7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38dbe"/>
                </a:solidFill>
                <a:latin typeface="Arial"/>
              </a:rPr>
              <a:t>Future challenges</a:t>
            </a: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Some pessimism concerning the future theoretical developments…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    …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but the Human Capital concept also took much time to be expanded and refined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Include SC indicators in the new framework of Societal Well Being?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Continue to develop data collection in a cost-effective way…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    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.. and data analysis by researchers applying multivariate analysis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Harmonise definition and data collection at international level like the work done on “Measuring Volunteer Activities”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7F80-9A9B-4876-91DB-9DDDD495C7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38dbe"/>
                </a:solidFill>
                <a:latin typeface="Arial"/>
              </a:rPr>
              <a:t>Some questions</a:t>
            </a: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Governance as part of SC?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The success of SC within regional economics?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First results of ABS data collection on SC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How to go deeper into “cultural factors”?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SC indictors to monitor social inclusion policies?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Which links between SC and Societal Well Being?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Better understanding the multidimensional approach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Information Society and SC?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136-DC0D-4218-8013-E6E091F931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5:23:22Z</dcterms:created>
  <dc:creator>wielaul</dc:creator>
  <dc:description/>
  <dc:language>en-US</dc:language>
  <cp:lastModifiedBy>glaudmi</cp:lastModifiedBy>
  <dcterms:modified xsi:type="dcterms:W3CDTF">2007-06-01T14:49:44Z</dcterms:modified>
  <cp:revision>13</cp:revision>
  <dc:subject/>
  <dc:title>Human health issues related  to food safety New 2007 Task force</dc:title>
</cp:coreProperties>
</file>