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406-9233-40F8-A6EB-2002154E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C86-8668-449A-B384-395131CA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A19-7DD8-498D-B437-FDC851A5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0CB-F749-4FED-86E6-74DE6AAA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D802-829A-4C5B-A4CC-B2357854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7E22-DCCB-4C36-B913-2F1FA962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04A0-9AEF-49D1-8E66-0173DBF4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FBB0-F1BA-45C5-9F7B-400329C1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927B-334E-445F-A682-00C8CC8F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F6E-ED0E-4A32-86D8-290CC1E8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1C0C-2ABF-445D-B899-0C0DD80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329-A38E-4220-9A4C-8D4D2D4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3FB6-C5F0-49AF-B3BF-58C5B34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8719-92E9-455F-99F1-F2FBF27B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7704-2CFC-4B5A-A49B-E4B7FA30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1CAF-A122-4D98-B2B9-25983815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E3AE-1E20-4563-9FE6-0894B60D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39D-C2F5-47C3-BA9C-AF3CC504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E99-87A4-4733-BAB2-8CD313B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46E-63BA-4C0B-AC4A-6D0EBD3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CF4-9BF3-4410-97D4-129020D8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BBA-0B41-4091-8150-F553B90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205-0E0D-4BD6-8E51-B0B13984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B17-3649-4795-9721-0BBB4A58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8920" y="640080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808080"/>
                </a:solidFill>
                <a:latin typeface="Times New Roman"/>
              </a:rPr>
              <a:t>12-June-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907640" y="640080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5aed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5aed2"/>
                </a:solidFill>
                <a:latin typeface="Times New Roman"/>
              </a:rPr>
              <a:t>Measurement of Social 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5ae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4461-BED4-434F-9DA2-B8DAE36C146F}" type="slidenum">
              <a:rPr b="1" lang="en-US" sz="1400" spc="-1" strike="noStrike">
                <a:solidFill>
                  <a:srgbClr val="85ae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8db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40080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808080"/>
                </a:solidFill>
                <a:latin typeface="Times New Roman"/>
              </a:rPr>
              <a:t>12-June-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907640" y="640080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5aed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5aed2"/>
                </a:solidFill>
                <a:latin typeface="Times New Roman"/>
              </a:rPr>
              <a:t>Measurement of Social 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5ae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6C24-764D-421B-85EE-EFF524A18539}" type="slidenum">
              <a:rPr b="1" lang="en-US" sz="1400" spc="-1" strike="noStrike">
                <a:solidFill>
                  <a:srgbClr val="85ae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38dbe"/>
                </a:solidFill>
                <a:latin typeface="Arial"/>
              </a:rPr>
              <a:t>              </a:t>
            </a:r>
            <a:r>
              <a:rPr b="1" lang="en-GB" sz="3200" spc="-1" strike="noStrike">
                <a:solidFill>
                  <a:srgbClr val="538dbe"/>
                </a:solidFill>
                <a:latin typeface="Arial"/>
              </a:rPr>
              <a:t>Measurement</a:t>
            </a:r>
            <a:r>
              <a:rPr b="1" lang="fr-FR" sz="3200" spc="-1" strike="noStrike">
                <a:solidFill>
                  <a:srgbClr val="538dbe"/>
                </a:solidFill>
                <a:latin typeface="Arial"/>
              </a:rPr>
              <a:t> of Social Capital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538dbe"/>
                </a:solidFill>
                <a:latin typeface="Arial"/>
              </a:rPr>
              <a:t>                      </a:t>
            </a: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CES 2007 </a:t>
            </a:r>
            <a:r>
              <a:rPr b="1" lang="en-GB" sz="2400" spc="-1" strike="noStrike">
                <a:solidFill>
                  <a:srgbClr val="538dbe"/>
                </a:solidFill>
                <a:latin typeface="Arial"/>
              </a:rPr>
              <a:t>Seminar</a:t>
            </a: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:</a:t>
            </a:r>
            <a:br>
              <a:rPr sz="2400"/>
            </a:b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538dbe"/>
                </a:solidFill>
                <a:latin typeface="Arial"/>
              </a:rPr>
              <a:t>Measurement of Capital-Beyond the traditional measures</a:t>
            </a:r>
            <a:endParaRPr b="1" lang="en-US" sz="24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           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Michel GLAUD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Director “Social and Information Society statistics”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              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EUROST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B420-878A-4461-BFD5-269DE1E54B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538dbe"/>
                </a:solidFill>
                <a:latin typeface="Arial"/>
              </a:rPr>
              <a:t>Three</a:t>
            </a:r>
            <a:r>
              <a:rPr b="1" lang="fr-FR" sz="2400" spc="-1" strike="noStrike">
                <a:solidFill>
                  <a:srgbClr val="538dbe"/>
                </a:solidFill>
                <a:latin typeface="Arial"/>
              </a:rPr>
              <a:t> Contributions</a:t>
            </a:r>
            <a:endParaRPr b="1" lang="en-US" sz="24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« Social Capital – Ways ahead and ways blocked in national and international comparisons »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y Laura Iisakka and Jussi Simpura (Finland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« Social Capital: Measurement and meaning »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y  Tom Schuller and Enrico Giovannini  (OECD) 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« From measuring social capital to measuring societal well-being: some early thoughts from UK »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y Paul Allin (UK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E5F-7E94-4EBD-AC97-2182BA4F10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What is Social Capital?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Several “Fathers”: Coleman, Bourdieu, Putnam, Fukuyama…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ree dimensions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- Network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- Norms of reciprocity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- Trus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OECD definition: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“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etworks together with shared norms, values and understandings that facilitate cooperation within or among groups”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4CB-E51A-4D48-83B3-680F9EE0D5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Three main issue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concept of Social Capita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What kind of uses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Future challenge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9BD-B33D-4EE7-8840-6556CA7634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Is Social Capital a form of Capital?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ot obvious from a purely economic point of view (Ownership, accumulation…)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evertheless, some kind of asset that provides benefits to individuals and communities even by enhancing the benefits of other forms of capital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weaknesses of a “carry all” concept relying on a functional definition.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F92-A18C-431D-AF71-E6129D6EC6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Best use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777240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o new magic independent variable which would explain macroeconomic performance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Promising uses in regional economics and neighbourhood and social inclusion policies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difficulties in assessing the volume of SC at national level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International comparisons biased by the “cultural” effect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D6D-D2AB-499E-992E-B6C52FFB5D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Future challenge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Some pessimism concerning the future theoretical developments…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…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ut the Human Capital concept also took much time to be expanded and refined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Include SC indicators in the new framework of Societal Well Being?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Continue to develop data collection in a cost-effective way…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.. and data analysis by researchers applying multivariate analysis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Harmonise definition and data collection at international level like the work done on “Measuring Volunteer Activities”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711-52F5-4D72-8F6C-E0A774866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38dbe"/>
                </a:solidFill>
                <a:latin typeface="Arial"/>
              </a:rPr>
              <a:t>Some question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Governance as part of SC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e success of SC within regional economics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First results of ABS data collection on SC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How to go deeper into “cultural factors”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SC indictors to monitor social inclusion policies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Which links between SC and Societal Well Being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Better understanding the multidimensional approach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Information Society and SC?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590-B914-47C1-8F27-A9ECEC0E3C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5:23:22Z</dcterms:created>
  <dc:creator>wielaul</dc:creator>
  <dc:description/>
  <dc:language>en-US</dc:language>
  <cp:lastModifiedBy>glaudmi</cp:lastModifiedBy>
  <dcterms:modified xsi:type="dcterms:W3CDTF">2007-06-01T14:49:44Z</dcterms:modified>
  <cp:revision>13</cp:revision>
  <dc:subject/>
  <dc:title>Human health issues related  to food safety New 2007 Task force</dc:title>
</cp:coreProperties>
</file>