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B9DD-482E-454C-AEF8-0FFF4FCC2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CB94-66CA-4C4C-8CA9-C1CD6B98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3308-0CF6-460D-8AAA-530B3C70C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708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100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708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100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8D0E-34D5-45BE-BC2B-D7101DEA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1F51-8131-4FE9-AFAF-7B3CA97F2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87A1-D131-4544-AF61-A6FBDE17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282B-71EC-4D75-BF7D-067400B8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3640-3B7A-49CF-B400-9FC3446C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C759-54AE-4625-B93D-BF50B905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3160" y="76212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3584-D531-41DD-94AA-35F512EA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2A5B-41D6-4CC3-A25A-1ADF9C0C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0F5B-9A86-4EE4-AC79-F1B0BEC4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6DAF-946C-4B4B-8AA7-B4C05298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D5B2-632F-493D-B9EC-FC0C936C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A1EB-38E6-4B43-8446-6AECB37E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23F0-63C9-4B5E-8E82-494238B3D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708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0100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16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708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0100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BE4E-2F11-42DC-B66C-742CDBEEA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073C-468E-4527-A919-BBA33AD5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91B6-B9F3-482A-A2D7-42F32631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2109-F24E-4AE8-94A9-D9955604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160" y="76212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CA7F-D45F-4C2B-8B81-96761C70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B7F5-658C-40F8-B75E-99C7B3DA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AB8E-3376-456B-95AC-E5E7B213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CB3D-3ADF-491B-9468-A8B9E3BF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9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9400" indent="-195480">
              <a:spcBef>
                <a:spcPts val="901"/>
              </a:spcBef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6040" indent="-282600">
              <a:spcBef>
                <a:spcPts val="9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2840" indent="-228600"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2840" indent="-228600"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2840" indent="-228600"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315200" y="651636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028840" y="65163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6505560"/>
            <a:ext cx="46980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3973-07DA-4198-9AED-64D9B8322B86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723852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4267080" y="6477120"/>
            <a:ext cx="28195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05920" y="763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3A0F-CD2B-48AA-B768-949BCD46A67C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8534160" y="6477120"/>
            <a:ext cx="39348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08EB-A6D4-41F0-BAB2-4E94E8A3FEBA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66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algn="ctr"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3440" algn="ctr">
              <a:buClr>
                <a:srgbClr val="003399"/>
              </a:buClr>
              <a:buSzPct val="9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544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 indent="55440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 indent="55440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7920" y="25146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800" spc="-1" strike="noStrike">
                <a:solidFill>
                  <a:srgbClr val="003399"/>
                </a:solidFill>
                <a:latin typeface="Arial"/>
              </a:rPr>
              <a:t>Measurement of Human Capital and Official Statistics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47280" y="4114440"/>
            <a:ext cx="71629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Øystein Ol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tatistics No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838080"/>
            <a:ext cx="7162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Conference of European Statisticans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55th plenary sessio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Geneva 11-13 June 2007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he Jorgenson-Fraumeni Approach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0920" y="1752480"/>
            <a:ext cx="83041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ased on human capital the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utput of the education sector in a year is the increment in human capital stock of the population, i.e. the increase in productive capacity over the life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distribution of individual productivity is measured by the corresponding wage different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lies upon the assumption that market wages reflect the productivity gains attributable to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measure does not capture possible externalities from investments in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The JF Approach: Strengths and some critical questions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209376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uncover underlying structural changes, lik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5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mograph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f cohorts entering the labor market are smaller than cohorts leaving, human capital measured by the JF approach wil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eteris parib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cl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5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ducational attain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f cohorts entering the labor market have chosen types of education with on average lower market value than cohorts leaving, human capital measured by the JF approach wil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eteris parib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c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32360" y="2093760"/>
            <a:ext cx="39830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 relative wages reflect the output of the education sect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Can we neglect the value of leisure time? (the Australian paper vs. Fraume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How to deal with the value of basic educ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n the complicated calculations be implemented on a regular basis – ie. as official statistic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Human capital measuring: What should be the role and ambitions of NSOs?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2349000"/>
            <a:ext cx="83757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ree possible strate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ing databases on human capital for research and analy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ing methods for output measures in the Government sector (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ull integration of capital measures in the National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3399"/>
                </a:solidFill>
                <a:latin typeface="Arial"/>
              </a:rPr>
              <a:t>Measurement of human capital: 3 paper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896840"/>
            <a:ext cx="7920000" cy="37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Arial"/>
              </a:rPr>
              <a:t>Measuring Australias Human Capital Development: The Role of Post-school Education and the Impact of Population Ageing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 (A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3399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Arial"/>
              </a:rPr>
              <a:t>Measuring the Education Output of Government Using a Human Capital Approach: What might Estimates Show?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 (Fraumeni and N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3399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Arial"/>
              </a:rPr>
              <a:t>The Measurement of Human Capital Development, also with Reference to Elderly Population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 (IST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3399"/>
                </a:solidFill>
                <a:latin typeface="Arial"/>
              </a:rPr>
              <a:t>Why measure human capital?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137440" cy="45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5360" indent="-49536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Key concept in analysing central issues, such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41256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Productivity and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41256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Impacts of an ageing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41256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Sustainab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41256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The returns to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OK – but do we need the capital approa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41256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Estimates of human capital may be </a:t>
            </a:r>
            <a:r>
              <a:rPr b="0" i="1" lang="nb-NO" sz="2000" spc="-1" strike="noStrike">
                <a:solidFill>
                  <a:srgbClr val="cc0000"/>
                </a:solidFill>
                <a:latin typeface="Arial"/>
              </a:rPr>
              <a:t>compared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to other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41256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Enables analyses of </a:t>
            </a:r>
            <a:r>
              <a:rPr b="0" i="1" lang="nb-NO" sz="2000" spc="-1" strike="noStrike">
                <a:solidFill>
                  <a:srgbClr val="000000"/>
                </a:solidFill>
                <a:latin typeface="Arial"/>
              </a:rPr>
              <a:t>policy measures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in important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2400" spc="-1" strike="noStrike">
                <a:solidFill>
                  <a:srgbClr val="cc0000"/>
                </a:solidFill>
                <a:latin typeface="Arial"/>
              </a:rPr>
              <a:t>Even so – what should be the role for NS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3399"/>
                </a:solidFill>
                <a:latin typeface="Arial"/>
              </a:rPr>
              <a:t>Human capital is an intangible asset!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000" y="1752480"/>
            <a:ext cx="80643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Human capital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Wide: Productive capacity of indiv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More narrow: Productive capacity related  to knowledge and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Improvements in labour quality may take many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Health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Learning in families and neigbourh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Formal schoo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On-the-job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mpirical studies typically focus on formal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But stock figures include social capital as we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3399"/>
                </a:solidFill>
                <a:latin typeface="Arial"/>
              </a:rPr>
              <a:t>Human capital theory in a nutshel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0920" y="1805040"/>
            <a:ext cx="83041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ducation is regarded as an </a:t>
            </a:r>
            <a:r>
              <a:rPr b="0" i="1" lang="nb-NO" sz="24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Investment entails </a:t>
            </a:r>
            <a:r>
              <a:rPr b="0" i="1" lang="nb-NO" sz="2400" spc="-1" strike="noStrike">
                <a:solidFill>
                  <a:srgbClr val="000000"/>
                </a:solidFill>
                <a:latin typeface="Arial"/>
              </a:rPr>
              <a:t>costs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 – direct costs and opportunity costs of forgone ear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o be willing to undertake the investments, individuals must be compensated with </a:t>
            </a:r>
            <a:r>
              <a:rPr b="0" i="1" lang="nb-NO" sz="2400" spc="-1" strike="noStrike">
                <a:solidFill>
                  <a:srgbClr val="000000"/>
                </a:solidFill>
                <a:latin typeface="Arial"/>
              </a:rPr>
              <a:t>higher wages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 ex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For employers to be willing to pay higher wages, individuals with higher education must have </a:t>
            </a:r>
            <a:r>
              <a:rPr b="0" i="1" lang="nb-NO" sz="2400" spc="-1" strike="noStrike">
                <a:solidFill>
                  <a:srgbClr val="000000"/>
                </a:solidFill>
                <a:latin typeface="Arial"/>
              </a:rPr>
              <a:t>higher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1500"/>
              </a:spcBef>
              <a:buClr>
                <a:srgbClr val="003399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Arial"/>
              </a:rPr>
              <a:t>Individuals make optimal choices based on net present value of investment – in income or utility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3399"/>
                </a:solidFill>
                <a:latin typeface="Arial"/>
              </a:rPr>
              <a:t>Approaches to human capital estimation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835344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43720" indent="-24372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irect volume measures in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640" indent="-22428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Volume indicators for types of education weighted together by unit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720" indent="-24372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he National Wealth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640" indent="-22428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Implies a ”wide” definition of human 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720" indent="-24372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he Jorgenson-Fraumeni approach to measuring output of the education sector (the Australian and the US pap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640" indent="-22428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More ”narrow”: Analysing the contribution to national wealth from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720" indent="-24372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he ”indicator approach” (the Italian pap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640" indent="-22428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Human capital as a multidimensional phenomen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640" indent="-22428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A broad set of human capital-related indicators (OECD: ”Education at a Glance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3399"/>
                </a:solidFill>
                <a:latin typeface="Arial"/>
              </a:rPr>
              <a:t>The National Wealth Approach: Calculating human capital residually</a:t>
            </a:r>
            <a:br>
              <a:rPr sz="3200"/>
            </a:b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000" y="2209320"/>
            <a:ext cx="8165880" cy="38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Three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Calculate resource rents from all natural resources (renewable and non-renew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compose Net National Income (NNI) into the returns from the inputs i.e. physical capital, natural resources etc. Human capital is calculated as the res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Capitalize the income stream from the human capital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560" y="620280"/>
            <a:ext cx="81378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Estimates of National Wealth - a Norwegian example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68520" y="1562040"/>
          <a:ext cx="6006960" cy="373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8520" y="1562040"/>
                    <a:ext cx="600696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849240" y="1700280"/>
            <a:ext cx="74678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8231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The NW Approach: Strengths and weaknesses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280" y="2060280"/>
            <a:ext cx="38876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ing the “intangible” comparable to other (measurable)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(mostly) existing national account fig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rather simple methods and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32360" y="2060280"/>
            <a:ext cx="39830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methods are not (necessarily) forward loo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5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particular: demographic trends are not taken into 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human capital estimate is a residua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(usually) no attempt to isolate the contribution to human capital from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07:38:26Z</dcterms:created>
  <dc:creator>Mads Greaker</dc:creator>
  <dc:description/>
  <dc:language>en-US</dc:language>
  <cp:lastModifiedBy>onu</cp:lastModifiedBy>
  <dcterms:modified xsi:type="dcterms:W3CDTF">2007-06-12T15:00:27Z</dcterms:modified>
  <cp:revision>98</cp:revision>
  <dc:subject/>
  <dc:title>PowerPoint-presentasj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57088951</vt:r8>
  </property>
  <property fmtid="{D5CDD505-2E9C-101B-9397-08002B2CF9AE}" pid="3" name="_AuthorEmail">
    <vt:lpwstr>Oystein.Olsen@ssb.no</vt:lpwstr>
  </property>
  <property fmtid="{D5CDD505-2E9C-101B-9397-08002B2CF9AE}" pid="4" name="_AuthorEmailDisplayName">
    <vt:lpwstr>Olsen, Øystein</vt:lpwstr>
  </property>
  <property fmtid="{D5CDD505-2E9C-101B-9397-08002B2CF9AE}" pid="5" name="_EmailSubject">
    <vt:lpwstr>CES Plenary session: Discussants' presentations and questions to authors</vt:lpwstr>
  </property>
  <property fmtid="{D5CDD505-2E9C-101B-9397-08002B2CF9AE}" pid="6" name="_NewReviewCycle">
    <vt:lpwstr/>
  </property>
</Properties>
</file>