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8FA5-F61D-4616-BD1B-E4CEF378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849-434F-48FE-8140-E5DB857A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108-3341-4B1E-8264-D8B5F61A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C6D-AE95-410B-9303-8DD0A3DA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F6AA-40EB-40EA-A84C-C53AF3AF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3BDD-FD87-4DE0-A74E-EE182FA4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C471-F86A-4B31-A9A7-7CC15427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8CF2-5CE7-45BE-A12F-8501BBC3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D57F-F342-4990-83BA-9DBF9596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B99E-22A0-49C0-8911-3FC08ECA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6440-4C63-4936-95BC-2C6298C3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C4C-259E-4FC9-B0D4-700EAB3A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94EF-D30B-4095-AD69-9E866126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1736-48C8-4684-BD7B-582FC780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4CA9-67B6-489B-9197-710A798E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248E-389C-476C-9638-81F9586D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FE06-7FAA-403A-ABC5-8B1F3940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ECC-B605-4C10-915E-BF7F275C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4901-97FB-428E-832E-DA113940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953-9C4B-438B-8C06-665AEE8B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4BC2-C222-4D81-A339-09CA5131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984C-6ABF-4454-9435-A1C71D63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343-40A4-4450-AC93-390F8E7D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A455-B639-48B3-9097-9793B956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spcBef>
                <a:spcPts val="901"/>
              </a:spcBef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26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0" y="65163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8840" y="6516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6505560"/>
            <a:ext cx="469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19A5-E12E-42A7-B73C-9476AC02F0F3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23852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4267080" y="6477120"/>
            <a:ext cx="2819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76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81C3-F9A2-4FD2-97F3-4FBAF30D4FCC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53416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9223-902C-48FF-88A1-92F4976C3CF0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algn="ctr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buClr>
                <a:srgbClr val="003399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25146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800" spc="-1" strike="noStrike">
                <a:solidFill>
                  <a:srgbClr val="003399"/>
                </a:solidFill>
                <a:latin typeface="Arial"/>
              </a:rPr>
              <a:t>Measurement of Human Capital and Official Statistic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47280" y="411444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Øystein Ol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tatistics N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838080"/>
            <a:ext cx="7162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onference of European Statisticans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55th plenary sess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Geneva 11-13 June 2007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Jorgenson-Fraumeni Approach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752480"/>
            <a:ext cx="8304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sed on human capital the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utput of the education sector in a year is the increment in human capital stock of the population, i.e. the increase in productive capacity over the life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distribution of individual productivity is measured by the corresponding wage differ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ies upon the assumption that market wages reflect the productivity gains attributable to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easure does not capture possible externalities from investments in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he JF Approach: Strengths and some critical question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209376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uncover underlying structural changes, li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mograph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f cohorts entering the labor market are smaller than cohorts leaving, human capital measured by the JF approach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teris parib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ducational attain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f cohorts entering the labor market have chosen types of education with on average lower market value than cohorts leaving, human capital measured by the JF approach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teris parib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32360" y="2093760"/>
            <a:ext cx="3983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 relative wages reflect the output of the education sect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Can we neglect the value of leisure time? (the Australian paper vs. Fraume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How to deal with the value of basic edu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 the complicated calculations be implemented on a regular basis – ie. as official statistic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Human capital measuring: What should be the role and ambitions of NSOs?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3757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ree possible strate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databases on human capital for research and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methods for output measures in the Government sector (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ll integration of capital measures in the National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Measurement of human capital: 3 paper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896840"/>
            <a:ext cx="79200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Arial"/>
              </a:rPr>
              <a:t>Measuring Australias Human Capital Development: The Role of Post-school Education and the Impact of Population Ageing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(A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Arial"/>
              </a:rPr>
              <a:t>Measuring the Education Output of Government Using a Human Capital Approach: What might Estimates Show?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(Fraumeni and N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Arial"/>
              </a:rPr>
              <a:t>The Measurement of Human Capital Development, also with Reference to Elderly Population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(IST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Why measure human capital?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137440" cy="45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5360" indent="-49536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Key concept in analysing central issues, such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41256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Productivity and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41256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Impacts of an ageing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41256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ustainab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41256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The returns to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OK – but do we need the capital appro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41256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Estimates of human capital may be </a:t>
            </a:r>
            <a:r>
              <a:rPr b="0" i="1" lang="nb-NO" sz="2000" spc="-1" strike="noStrike">
                <a:solidFill>
                  <a:srgbClr val="cc0000"/>
                </a:solidFill>
                <a:latin typeface="Arial"/>
              </a:rPr>
              <a:t>compared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to othe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41256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Enables analyses of </a:t>
            </a:r>
            <a:r>
              <a:rPr b="0" i="1" lang="nb-NO" sz="2000" spc="-1" strike="noStrike">
                <a:solidFill>
                  <a:srgbClr val="000000"/>
                </a:solidFill>
                <a:latin typeface="Arial"/>
              </a:rPr>
              <a:t>policy measures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in important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400" spc="-1" strike="noStrike">
                <a:solidFill>
                  <a:srgbClr val="cc0000"/>
                </a:solidFill>
                <a:latin typeface="Arial"/>
              </a:rPr>
              <a:t>Even so – what should be the role for NS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Human capital is an intangible asset!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75248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Human capital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Wide: Productive capacity of 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More narrow: Productive capacity related  to knowledge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mprovements in labour quality may take many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Health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Learning in families and neigbourh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Formal scho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On-the-job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mpirical studies typically focus on formal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But stock figures include social capital as we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Human capital theory in a nutshel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0920" y="1805040"/>
            <a:ext cx="8304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ducation is regarded as an </a:t>
            </a:r>
            <a:r>
              <a:rPr b="0" i="1" lang="nb-NO" sz="2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nvestment entails </a:t>
            </a:r>
            <a:r>
              <a:rPr b="0" i="1" lang="nb-NO" sz="2400" spc="-1" strike="noStrike">
                <a:solidFill>
                  <a:srgbClr val="000000"/>
                </a:solidFill>
                <a:latin typeface="Arial"/>
              </a:rPr>
              <a:t>costs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– direct costs and opportunity costs of forgone e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o be willing to undertake the investments, individuals must be compensated with </a:t>
            </a:r>
            <a:r>
              <a:rPr b="0" i="1" lang="nb-NO" sz="2400" spc="-1" strike="noStrike">
                <a:solidFill>
                  <a:srgbClr val="000000"/>
                </a:solidFill>
                <a:latin typeface="Arial"/>
              </a:rPr>
              <a:t>higher wages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ex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For employers to be willing to pay higher wages, individuals with higher education must have </a:t>
            </a:r>
            <a:r>
              <a:rPr b="0" i="1" lang="nb-NO" sz="2400" spc="-1" strike="noStrike">
                <a:solidFill>
                  <a:srgbClr val="000000"/>
                </a:solidFill>
                <a:latin typeface="Arial"/>
              </a:rPr>
              <a:t>highe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1500"/>
              </a:spcBef>
              <a:buClr>
                <a:srgbClr val="003399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Arial"/>
              </a:rPr>
              <a:t>Individuals make optimal choices based on net present value of investment – in income or utility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Approaches to human capital estimatio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43720" indent="-24372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irect volume measures in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-22428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Volume indicators for types of education weighted together by uni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he National Wealth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-22428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Implies a ”wide” definition of human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he Jorgenson-Fraumeni approach to measuring output of the education sector (the Australian and the US pap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-22428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More ”narrow”: Analysing the contribution to national wealth from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he ”indicator approach” (the Italian pap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-22428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Human capital as a multidimensional phenome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-22428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A broad set of human capital-related indicators (OECD: ”Education at a Glanc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The National Wealth Approach: Calculating human capital residually</a:t>
            </a:r>
            <a:br>
              <a:rPr sz="3200"/>
            </a:b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2209320"/>
            <a:ext cx="816588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Three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alculate resource rents from all natural resources (renewable and non-renew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compose Net National Income (NNI) into the returns from the inputs i.e. physical capital, natural resources etc. Human capital is calculated as the 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apitalize the income stream from the human capital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560" y="620280"/>
            <a:ext cx="8137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stimates of National Wealth - a Norwegian example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68520" y="1562040"/>
          <a:ext cx="600696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8520" y="1562040"/>
                    <a:ext cx="60069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49240" y="1700280"/>
            <a:ext cx="7467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8231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he NW Approach: Strengths and weaknesse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38876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the “intangible” comparable to other (measurable)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(mostly) existing national account 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rather simple methods and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2360" y="2060280"/>
            <a:ext cx="3983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methods are not (necessarily) forward loo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particular: demographic trends are not taken into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human capital estimate is a residu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(usually) no attempt to isolate the contribution to human capital from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7:38:26Z</dcterms:created>
  <dc:creator>Mads Greaker</dc:creator>
  <dc:description/>
  <dc:language>en-US</dc:language>
  <cp:lastModifiedBy>onu</cp:lastModifiedBy>
  <dcterms:modified xsi:type="dcterms:W3CDTF">2007-06-12T15:00:27Z</dcterms:modified>
  <cp:revision>98</cp:revision>
  <dc:subject/>
  <dc:title>PowerPoint-presentasj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57088951</vt:r8>
  </property>
  <property fmtid="{D5CDD505-2E9C-101B-9397-08002B2CF9AE}" pid="3" name="_AuthorEmail">
    <vt:lpwstr>Oystein.Olsen@ssb.no</vt:lpwstr>
  </property>
  <property fmtid="{D5CDD505-2E9C-101B-9397-08002B2CF9AE}" pid="4" name="_AuthorEmailDisplayName">
    <vt:lpwstr>Olsen, Øystein</vt:lpwstr>
  </property>
  <property fmtid="{D5CDD505-2E9C-101B-9397-08002B2CF9AE}" pid="5" name="_EmailSubject">
    <vt:lpwstr>CES Plenary session: Discussants' presentations and questions to authors</vt:lpwstr>
  </property>
  <property fmtid="{D5CDD505-2E9C-101B-9397-08002B2CF9AE}" pid="6" name="_NewReviewCycle">
    <vt:lpwstr/>
  </property>
</Properties>
</file>