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7E24-4223-4BD0-B6B7-C1A19213F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EB01-D6F1-41F8-915C-FF644AC9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CA10-3C26-4295-83DD-CC4FA57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1F5B-2EDD-4DD9-9717-F6D072F4F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D88A-D76A-4A94-8C42-5ADC9590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67F9-F89D-40D6-A888-A25101A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364B-B860-4F4D-BE47-A56D2CC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0913-2943-45F4-BFED-E1278F71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2AA5-3671-45A1-B11D-1893510E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EAF8-FDF3-406D-B1E6-BAC78A2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DE6F-AA98-4C95-855B-846CC22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6490-F7C5-4895-9379-89465FB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D5CB44-6E97-474C-AA41-63D4CC0FF4E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11280" y="632772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© Walter Radermacher, President Federal Statistical Office, Germany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© Walter Radermacher, President Federal Statistical Office, Germany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440" y="1403280"/>
            <a:ext cx="827712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5000" spc="-1" strike="noStrike">
                <a:solidFill>
                  <a:srgbClr val="666666"/>
                </a:solidFill>
                <a:latin typeface="Arial"/>
              </a:rPr>
              <a:t>Capital Boundaries</a:t>
            </a:r>
            <a:endParaRPr b="1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1440" y="3357360"/>
            <a:ext cx="8277120" cy="26082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S semin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ASURING CAPITAL – BEYOND THE TRADITIONAL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ssion II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ital boundaries in the revision of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f National Accounts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lter Raderma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va 12 June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The Large Hadron Collider (LHC) - a particle accelerator at CERN near Geneva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7680" y="2492280"/>
            <a:ext cx="4064040" cy="316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works in these months to switch on in 2007 –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7 km circumferen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far away from here (literally under our fee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for basic research that would be classified as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free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" y="2311560"/>
            <a:ext cx="3809880" cy="33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580536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: CERN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B343-003A-413C-AFD4-3246C29B0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43640" y="1052640"/>
            <a:ext cx="1728720" cy="201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19871400">
            <a:off x="324360" y="3357360"/>
            <a:ext cx="102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1080" y="2973240"/>
            <a:ext cx="95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6" name=""/>
          <p:cNvSpPr/>
          <p:nvPr/>
        </p:nvSpPr>
        <p:spPr>
          <a:xfrm rot="2036400">
            <a:off x="3060000" y="335736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3645000"/>
            <a:ext cx="151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Nature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2160" y="3429000"/>
            <a:ext cx="13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Human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being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51664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0" name=""/>
          <p:cNvSpPr/>
          <p:nvPr/>
        </p:nvSpPr>
        <p:spPr>
          <a:xfrm rot="1055400">
            <a:off x="8029440" y="3284640"/>
            <a:ext cx="91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1" name=""/>
          <p:cNvSpPr/>
          <p:nvPr/>
        </p:nvSpPr>
        <p:spPr>
          <a:xfrm rot="20278200">
            <a:off x="5582880" y="320472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2" name=""/>
          <p:cNvSpPr/>
          <p:nvPr/>
        </p:nvSpPr>
        <p:spPr>
          <a:xfrm rot="20511600">
            <a:off x="5724720" y="465300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3" name=""/>
          <p:cNvSpPr/>
          <p:nvPr/>
        </p:nvSpPr>
        <p:spPr>
          <a:xfrm rot="1315200">
            <a:off x="7525080" y="4660920"/>
            <a:ext cx="145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551664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5" name=""/>
          <p:cNvSpPr/>
          <p:nvPr/>
        </p:nvSpPr>
        <p:spPr>
          <a:xfrm rot="1411800">
            <a:off x="2266200" y="4522680"/>
            <a:ext cx="177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 rot="20494200">
            <a:off x="468720" y="443664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516640"/>
            <a:ext cx="1224000" cy="11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1080" y="5229360"/>
            <a:ext cx="38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4880" y="1484280"/>
            <a:ext cx="160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133720"/>
            <a:ext cx="2089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1584360" cy="172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47640" y="5516640"/>
            <a:ext cx="12970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551664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5516640"/>
            <a:ext cx="1657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bour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6636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E62F-C763-40A3-990B-4DC310C9B6DC}" type="slidenum">
              <a:t>11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59640" y="5157720"/>
            <a:ext cx="100800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neral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157720"/>
            <a:ext cx="125892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ildings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5157720"/>
            <a:ext cx="100800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5157720"/>
            <a:ext cx="936720" cy="57636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ultivated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5157720"/>
            <a:ext cx="136836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tertainment,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iterary or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tistic original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5157720"/>
            <a:ext cx="110808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4292640"/>
            <a:ext cx="2284560" cy="47304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angible fix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292640"/>
            <a:ext cx="2284560" cy="473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ngible fix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3141720"/>
            <a:ext cx="1270080" cy="8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entorie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16360" y="3141720"/>
            <a:ext cx="1152720" cy="8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3141720"/>
            <a:ext cx="1476360" cy="86364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Valuabl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Precious metal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Antiqu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068640"/>
            <a:ext cx="1726920" cy="92376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angibl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produc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Patented entiti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Leas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2276640"/>
            <a:ext cx="2135160" cy="52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2276640"/>
            <a:ext cx="2133360" cy="527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nproduc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068640"/>
            <a:ext cx="1727280" cy="9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nproduc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663300"/>
                </a:solidFill>
                <a:latin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663300"/>
                </a:solidFill>
                <a:latin typeface="Arial"/>
              </a:rPr>
              <a:t>Subsoil assets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5157720"/>
            <a:ext cx="1152720" cy="585720"/>
          </a:xfrm>
          <a:prstGeom prst="rec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700280"/>
            <a:ext cx="540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" y="33321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6633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" y="4965840"/>
            <a:ext cx="4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907920"/>
            <a:ext cx="12970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90792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907920"/>
            <a:ext cx="1657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bour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1341360"/>
            <a:ext cx="2880000" cy="5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financial Asset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060640"/>
            <a:ext cx="403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08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2924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924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78136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9242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964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278136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14972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4149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400536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4149720"/>
            <a:ext cx="13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32720" y="4149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94172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4941720"/>
            <a:ext cx="25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4941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8360" y="29242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94172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2924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7177-2323-4ED7-97E9-D4C099D63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553080" y="0"/>
          <a:ext cx="2248200" cy="7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0"/>
                    <a:ext cx="2248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04920" y="1066680"/>
            <a:ext cx="383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Software?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349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R&amp;D?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1557360"/>
            <a:ext cx="2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6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81360"/>
            <a:ext cx="40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icatio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052640"/>
            <a:ext cx="237636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scientific innovation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ssets (brands…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on and managemen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869000"/>
            <a:ext cx="432000" cy="504720"/>
          </a:xfrm>
          <a:prstGeom prst="lightningBol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4E5E-202B-4888-ADF3-D26C5761CA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Identification, Valuation, Depreciation: Difficulti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917360"/>
            <a:ext cx="8201160" cy="41036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dentification and Classification of the produ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Valuation of the gross fixed capital formation (GFCF) of different types of R&amp;D - imputations like capital services of the stock of current knowledg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stimation of mortality tables and expected service lives on an objective basi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vailability of long series of GFCF as precondition of the perpetual inventory metho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vailability of deflators – price indices for never standardised R&amp;D servic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Valuation of a specific contribution of R&amp;D to production, (based on the accumulation of knowledg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E5D3-7EF8-4211-AF6E-8AADBB0C4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88080" cy="4551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vestigate via satellite accou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Bridging R&amp;D statistics to national account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mputation of yearly (and quarterly) SNA data without yearly R&amp;D survey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flators and long time seri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ervice lives and mortality/retirement func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tellite accounts should be applied to examine the effects of different solutions of the identification problem (e.g. public goo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55A9-C920-4F2A-A689-3D9258142D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Measuring wealth and productivity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The concept of capital servic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852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637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3429000"/>
            <a:ext cx="504720" cy="431640"/>
          </a:xfrm>
          <a:prstGeom prst="rightArrow">
            <a:avLst>
              <a:gd name="adj1" fmla="val 50000"/>
              <a:gd name="adj2" fmla="val 292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5084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566100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06064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2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2852640"/>
            <a:ext cx="1800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ss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3300"/>
                </a:solidFill>
                <a:latin typeface="Arial"/>
              </a:rPr>
              <a:t>Tradit.: Capacity Potenti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1989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ntegrated system of capital flow and stock statistic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3429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tiremen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5229360"/>
            <a:ext cx="144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33"/>
                </a:solidFill>
                <a:latin typeface="Arial"/>
              </a:rPr>
              <a:t>Wealth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57340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5084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566100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4221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33"/>
                </a:solidFill>
                <a:latin typeface="Arial"/>
              </a:rPr>
              <a:t>Productive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4221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33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422100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Return to Capit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7640" y="558972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Capital service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501336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AE20-E338-474A-A71A-5791259CB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Questions to the author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8278560" cy="476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Netherlands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ineation of knowledge capital creation by R&amp;D and the creation of  human capital and other forms of “intangibles” – conceptual level and implementation in practi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Netherlands and Austral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see the interdependence of capital services for non-market producers and the valuation of R&amp;D according to non-market prod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al for the further treatment of technical issues – a new forum, new project, new revision or what el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Switzerl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 of the national accounts data including R&amp;D from your first estimates for political purpo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n level and growth rate of GDP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11CD-2136-46B2-92A3-D9937CA65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Questions to the authors (2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278560" cy="46940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Eurost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s for the work of the Eurostat Task Force on the development of satellite accounts for R&amp;D in the light of the OECD Task Force working in parall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quality of primary statistics on R&amp;D appropriate? Do national R&amp;D-figures adequately reflect the shift in economy towards globalised ways of production and towards a higher importance of service indust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66ff"/>
                </a:solidFill>
                <a:latin typeface="Arial"/>
              </a:rPr>
              <a:t>Austral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hat extent is the concept of capital services necessary for the analysis of productivity? How far does it help to show the productivity effects of “intangibles” better than n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E09D-37B7-4395-9F41-A4CD0A0CDE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Questions for the general discussi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278560" cy="48384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&amp;D – difficult to measure in any cas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75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ough estimate or no estimate at all?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75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ery rough estimates may mislead use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ejection of estimation may damage the macroeconomic quality of the accou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hould national accounts data be based on statistically measurable variables, focused on observable market transactions rather than imputations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tension of the capital boundary </a:t>
            </a:r>
            <a:r>
              <a:rPr b="1" lang="en-G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Switching over to 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net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domestic product for international comparisons?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7D00-CE40-4A00-8596-282C263BC0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836280"/>
            <a:ext cx="82771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Papers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28280"/>
            <a:ext cx="8278560" cy="4622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apital Measurement in the Netherland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M. de Haan, D. van den Bergen and M. van Rooijen-Horsten,    </a:t>
            </a:r>
            <a:br>
              <a:rPr sz="2100"/>
            </a:b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 CBS-N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he Capital Boundary in the 1993 SNA, Rev. 1 – Challenges for National Statistical Offic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P. Sollberger, Ph. Stauffer and R. Meier, SFO-C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apitalisation of research and development expenditure: points of view and experiences in the European Unio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G. Gueye and F. Malherbe, Eurost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n Integrated System of Capital Flow and Stock Statistic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P. Harper, ABS-AU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02F6-CDCE-43C7-BD52-3AF19ADBA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763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421000"/>
            <a:ext cx="3384360" cy="1584360"/>
          </a:xfrm>
          <a:prstGeom prst="flowChartExtra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90920" y="30384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Statistic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789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„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You have to have facts. Theories are not good unless you have facts to back them.“ (Wassilij Leontief)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18795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4720" y="3753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abilit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3753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79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THANK YOU VERY MUCH FOR YOUR ATTENTION !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4F25-9466-489E-92CD-31A95C43E3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Focus of the Papers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9640" y="2133720"/>
          <a:ext cx="8278560" cy="3786120"/>
        </p:xfrm>
        <a:graphic>
          <a:graphicData uri="http://schemas.openxmlformats.org/drawingml/2006/table">
            <a:tbl>
              <a:tblPr/>
              <a:tblGrid>
                <a:gridCol w="2525760"/>
                <a:gridCol w="2665080"/>
                <a:gridCol w="308772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isation of R&amp;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lth &amp; Productivity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Capital Measur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AA6F-A92C-4FF7-8008-6CC4C60FB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The dictum: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844280"/>
            <a:ext cx="4182840" cy="4248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e only statistics you can trust are those you falsified yourself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rchill’s authorship has not been proved to this da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lander campaign in the propaganda w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author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rchill’s arch-enem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 Goeb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2997360"/>
            <a:ext cx="1511280" cy="260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178272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156360" y="234936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>
                    <a:alpha val="73000"/>
                  </a:srgbClr>
                </a:solidFill>
                <a:latin typeface="MetaNormalLF-Roman"/>
              </a:rPr>
              <a:t>?</a:t>
            </a:r>
            <a:endParaRPr b="0" lang="en-US" sz="96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>
                  <a:alpha val="73000"/>
                </a:srgbClr>
              </a:solidFill>
              <a:latin typeface="MetaNormalLF-Roman"/>
              <a:ea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D693-73DB-4C65-9CFC-817F51093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This is what Winston Churchill really said: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73720" y="1752480"/>
            <a:ext cx="3375000" cy="449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2722680"/>
            <a:ext cx="432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must look at the facts because they look at you!”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ch in the British House of Commons, 7 May 1925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111F-C392-4A26-9BE0-54384E7DC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This is ascribed to Kennedy: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91628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 are like a bikini, what they reveal is suggestive, but what they conceal is vital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716280"/>
            <a:ext cx="46083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aron Levenstein (1901-1986), economics professor  in New York, is the real author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8520" y="1844640"/>
            <a:ext cx="3492360" cy="388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940360" y="1413000"/>
            <a:ext cx="25923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>
                    <a:alpha val="73000"/>
                  </a:srgbClr>
                </a:solidFill>
                <a:latin typeface="MetaNormalLF-Roman"/>
              </a:rPr>
              <a:t>/</a:t>
            </a:r>
            <a:endParaRPr b="0" lang="en-US" sz="96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>
                  <a:alpha val="73000"/>
                </a:srgbClr>
              </a:solidFill>
              <a:latin typeface="MetaNormalLF-Roman"/>
              <a:ea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C9C8-4C77-4B0C-9C5F-B4B879E50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Goodhart‘s Law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8278560" cy="26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 observed statistical regularity will tend to collapse once pressure is placed upon it for control purpos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harles Goodhar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measure becomes a target, it ceases to be a good measure (Keith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oskin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CEB2-FB80-4C97-A527-4EA8B5D43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763560"/>
            <a:ext cx="88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Good policy needs good statistics” (Tony Blair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527200"/>
            <a:ext cx="5040360" cy="2516400"/>
          </a:xfrm>
          <a:prstGeom prst="flowChartExtra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357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Statistic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84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oretical Consistency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45385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irical Measurability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3852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Relevance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4" name=""/>
          <p:cNvSpPr/>
          <p:nvPr/>
        </p:nvSpPr>
        <p:spPr>
          <a:xfrm rot="19096200">
            <a:off x="2268360" y="321264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2440" y="515772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6" name=""/>
          <p:cNvSpPr/>
          <p:nvPr/>
        </p:nvSpPr>
        <p:spPr>
          <a:xfrm rot="2851200">
            <a:off x="5360040" y="328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5D3D-9DDF-44F1-9D08-9EACBCCC24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78920" cy="51260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ic Asse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ntities functioning as a store of valu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over which ownership rights are enforced by institutional units, individually or collectively, an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from which economic benefits may be derived by their owners by holding them or using them over a period of ti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public goods and infrastructure resulting from an 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       accumulation of knowledg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797360"/>
            <a:ext cx="576360" cy="432000"/>
          </a:xfrm>
          <a:prstGeom prst="lightningBol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7A51-B784-4144-80AD-B32080600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5:21:30Z</dcterms:created>
  <dc:creator>Brugger-P</dc:creator>
  <dc:description/>
  <dc:language>en-US</dc:language>
  <cp:lastModifiedBy>Schmalwasser-O</cp:lastModifiedBy>
  <cp:lastPrinted>2002-05-22T15:37:50Z</cp:lastPrinted>
  <dcterms:modified xsi:type="dcterms:W3CDTF">2007-06-05T07:30:35Z</dcterms:modified>
  <cp:revision>129</cp:revision>
  <dc:subject/>
  <dc:title>Kurzvorstellung</dc:title>
</cp:coreProperties>
</file>