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AECC4-4F03-49F3-A251-D88C552D3A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7856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4102200"/>
            <a:ext cx="827856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E478D-3645-44DD-AE20-7CF82F048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75760" y="17521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410220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75760" y="410220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A6BBD-26A8-405D-88C4-77EFA5CD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32520" y="17521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1880" y="17521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410220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32520" y="410220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1880" y="410220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C9110-CF94-439F-A988-BAE471C162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33520" y="1752120"/>
            <a:ext cx="827856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78560" cy="44989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75760" y="175212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41440" y="1133640"/>
            <a:ext cx="827712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75760" y="175212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3520" y="410220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752120"/>
            <a:ext cx="827856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325A9-1A8D-48FF-BB2A-190EB71D8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75760" y="17521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75760" y="410220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75760" y="17521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520" y="4102200"/>
            <a:ext cx="827856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7856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3520" y="4102200"/>
            <a:ext cx="827856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75760" y="17521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520" y="410220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75760" y="410220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32520" y="17521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31880" y="17521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3520" y="410220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32520" y="410220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31880" y="410220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78560" cy="44989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E362C-52D3-4DD4-AF90-D4A78E1CA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75760" y="175212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E61CE-4817-4875-8EA3-37DD7AFDC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062D4-C77D-4888-B606-1E8B408C2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41440" y="1133640"/>
            <a:ext cx="827712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84467-364B-4ED4-929D-344AA8BB9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75760" y="175212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410220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CA93B-0E03-4E80-8F15-E894495D2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75760" y="17521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75760" y="410220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2F5DA-7CA6-445F-B30E-F02563DFD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75760" y="17521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4102200"/>
            <a:ext cx="827856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8E246-C902-4D45-9645-09D732FB5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2560" cy="81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600" spc="-1" strike="noStrike">
                <a:solidFill>
                  <a:srgbClr val="66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1752120"/>
            <a:ext cx="8278560" cy="44989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298440">
              <a:spcBef>
                <a:spcPts val="575"/>
              </a:spcBef>
              <a:buClr>
                <a:srgbClr val="cc0033"/>
              </a:buClr>
              <a:buSzPct val="80000"/>
              <a:buFont typeface="Wingdings" charset="2"/>
              <a:buChar char="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39760">
              <a:spcBef>
                <a:spcPts val="575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773360" indent="-239760">
              <a:spcBef>
                <a:spcPts val="575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11480" indent="-238320">
              <a:spcBef>
                <a:spcPts val="575"/>
              </a:spcBef>
              <a:buClr>
                <a:srgbClr val="990033"/>
              </a:buClr>
              <a:buFont typeface="Arial"/>
              <a:buChar char="•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211480" indent="-2383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211480" indent="-2383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17840" y="6400800"/>
            <a:ext cx="107820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77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202600" y="6400800"/>
            <a:ext cx="70488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77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F24F7B7-0166-47EE-A1B3-DC3EF4C929EB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57280" y="6351480"/>
            <a:ext cx="612144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77280" anchor="b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45705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8000" rIns="0" tIns="0" bIns="756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Statistisches Bundesamt</a:t>
            </a:r>
            <a:endParaRPr b="0" lang="en-US" sz="2100" spc="-1" strike="noStrike">
              <a:solidFill>
                <a:srgbClr val="000000"/>
              </a:solidFill>
              <a:latin typeface="MetaNormalLF-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015320" y="0"/>
            <a:ext cx="2128680" cy="8128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611280" y="6327720"/>
            <a:ext cx="575604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77280" anchor="b">
            <a:no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© Walter Radermacher, President Federal Statistical Office, Germany</a:t>
            </a:r>
            <a:endParaRPr b="0" lang="en-US" sz="11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41440" y="1402920"/>
            <a:ext cx="8277120" cy="18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5000" spc="-1" strike="noStrike">
                <a:solidFill>
                  <a:srgbClr val="666666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41440" y="6351480"/>
            <a:ext cx="575604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77280" anchor="b">
            <a:no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© Walter Radermacher, President Federal Statistical Office, Germany</a:t>
            </a:r>
            <a:endParaRPr b="0" lang="en-US" sz="11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2560" cy="81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05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8000" rIns="0" tIns="0" bIns="756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Statistisches Bundesamt</a:t>
            </a:r>
            <a:endParaRPr b="0" lang="en-US" sz="2100" spc="-1" strike="noStrike">
              <a:solidFill>
                <a:srgbClr val="000000"/>
              </a:solidFill>
              <a:latin typeface="MetaNormalLF-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015320" y="0"/>
            <a:ext cx="2128680" cy="8128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79520" indent="0" algn="ctr">
              <a:spcBef>
                <a:spcPts val="4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57240" indent="136440" algn="ctr">
              <a:spcBef>
                <a:spcPts val="476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436760" indent="96840" algn="ctr">
              <a:spcBef>
                <a:spcPts val="476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1916280" indent="56880" algn="ctr">
              <a:spcBef>
                <a:spcPts val="374"/>
              </a:spcBef>
              <a:buClr>
                <a:srgbClr val="990033"/>
              </a:buClr>
              <a:buFont typeface="Arial"/>
              <a:buChar char="•"/>
              <a:tabLst>
                <a:tab algn="l" pos="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916280" indent="568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916280" indent="568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41440" y="1403280"/>
            <a:ext cx="827712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5000" spc="-1" strike="noStrike">
                <a:solidFill>
                  <a:srgbClr val="666666"/>
                </a:solidFill>
                <a:latin typeface="Arial"/>
              </a:rPr>
              <a:t>Capital Boundaries</a:t>
            </a:r>
            <a:endParaRPr b="1" lang="en-US" sz="5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41440" y="3357360"/>
            <a:ext cx="8277120" cy="260820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ES semin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ASURING CAPITAL – BEYOND THE TRADITIONAL MEAS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ession II: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pital boundaries in the revision of the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f National Accounts 199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alter Radermac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eneva 12 June 200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400" spc="-1" strike="noStrike">
                <a:solidFill>
                  <a:srgbClr val="666666"/>
                </a:solidFill>
                <a:latin typeface="Arial"/>
              </a:rPr>
              <a:t>The Large Hadron Collider (LHC) - a particle accelerator at CERN near Geneva</a:t>
            </a: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747680" y="2492280"/>
            <a:ext cx="4064040" cy="31687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inal works in these months to switch on in 2007 –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27 km circumferenc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ot far away from here (literally under our fee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xample for basic research that would be classified as </a:t>
            </a:r>
            <a:r>
              <a:rPr b="1" lang="en-GB" sz="2000" spc="-1" strike="noStrike">
                <a:solidFill>
                  <a:srgbClr val="3366cc"/>
                </a:solidFill>
                <a:latin typeface="Arial"/>
              </a:rPr>
              <a:t>freely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58800" y="2311560"/>
            <a:ext cx="3809880" cy="33811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84360" y="5805360"/>
            <a:ext cx="194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ource: CERN</a:t>
            </a: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FFB64-72BE-46BB-A330-AD911676E32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443640" y="1052640"/>
            <a:ext cx="1728720" cy="2016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 rot="19871400">
            <a:off x="324360" y="3357360"/>
            <a:ext cx="102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Land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21080" y="2973240"/>
            <a:ext cx="95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26" name=""/>
          <p:cNvSpPr/>
          <p:nvPr/>
        </p:nvSpPr>
        <p:spPr>
          <a:xfrm rot="2036400">
            <a:off x="3060000" y="3357360"/>
            <a:ext cx="567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58920" y="3645000"/>
            <a:ext cx="1512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990033"/>
                </a:solidFill>
                <a:latin typeface="Arial"/>
              </a:rPr>
              <a:t>Nature</a:t>
            </a:r>
            <a:endParaRPr b="0" lang="en-US" sz="27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662160" y="3429000"/>
            <a:ext cx="134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990033"/>
                </a:solidFill>
                <a:latin typeface="Arial"/>
              </a:rPr>
              <a:t>Human</a:t>
            </a:r>
            <a:endParaRPr b="0" lang="en-US" sz="27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990033"/>
                </a:solidFill>
                <a:latin typeface="Arial"/>
              </a:rPr>
              <a:t>being</a:t>
            </a:r>
            <a:endParaRPr b="0" lang="en-US" sz="27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24360" y="5516640"/>
            <a:ext cx="183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30" name=""/>
          <p:cNvSpPr/>
          <p:nvPr/>
        </p:nvSpPr>
        <p:spPr>
          <a:xfrm rot="1055400">
            <a:off x="8029440" y="3284640"/>
            <a:ext cx="910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Skills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31" name=""/>
          <p:cNvSpPr/>
          <p:nvPr/>
        </p:nvSpPr>
        <p:spPr>
          <a:xfrm rot="20278200">
            <a:off x="5582880" y="3204720"/>
            <a:ext cx="1669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32" name=""/>
          <p:cNvSpPr/>
          <p:nvPr/>
        </p:nvSpPr>
        <p:spPr>
          <a:xfrm rot="20511600">
            <a:off x="5724720" y="4653000"/>
            <a:ext cx="144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Abilities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33" name=""/>
          <p:cNvSpPr/>
          <p:nvPr/>
        </p:nvSpPr>
        <p:spPr>
          <a:xfrm rot="1315200">
            <a:off x="7525080" y="4660920"/>
            <a:ext cx="1453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Creativity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443640" y="5516640"/>
            <a:ext cx="1843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35" name=""/>
          <p:cNvSpPr/>
          <p:nvPr/>
        </p:nvSpPr>
        <p:spPr>
          <a:xfrm rot="1411800">
            <a:off x="2266200" y="4522680"/>
            <a:ext cx="177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Biodiversity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36" name=""/>
          <p:cNvSpPr/>
          <p:nvPr/>
        </p:nvSpPr>
        <p:spPr>
          <a:xfrm rot="20494200">
            <a:off x="468720" y="4436640"/>
            <a:ext cx="1398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ineral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08000" y="5516640"/>
            <a:ext cx="1224000" cy="11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1080" y="5229360"/>
            <a:ext cx="381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ff"/>
                </a:solidFill>
                <a:latin typeface="Arial"/>
              </a:rPr>
              <a:t>S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ff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ff"/>
                </a:solidFill>
                <a:latin typeface="Arial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54880" y="1484280"/>
            <a:ext cx="1608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Interaction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35280" y="2133720"/>
            <a:ext cx="20890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851280" y="2852640"/>
            <a:ext cx="1584360" cy="17272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547640" y="5516640"/>
            <a:ext cx="129708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ff"/>
                </a:solidFill>
                <a:latin typeface="Arial"/>
              </a:rPr>
              <a:t>Land</a:t>
            </a:r>
            <a:endParaRPr b="0" lang="en-US" sz="30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24360" y="5516640"/>
            <a:ext cx="158436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ff"/>
                </a:solidFill>
                <a:latin typeface="Arial"/>
              </a:rPr>
              <a:t>Capital</a:t>
            </a:r>
            <a:endParaRPr b="0" lang="en-US" sz="30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516720" y="5516640"/>
            <a:ext cx="165744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ff"/>
                </a:solidFill>
                <a:latin typeface="Arial"/>
              </a:rPr>
              <a:t>Labour</a:t>
            </a:r>
            <a:endParaRPr b="0" lang="en-US" sz="3000" spc="-1" strike="noStrike">
              <a:solidFill>
                <a:srgbClr val="000000"/>
              </a:solidFill>
              <a:latin typeface="MetaNormalLF-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468360" y="907920"/>
            <a:ext cx="2663640" cy="194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A2C5B-9176-4B67-97BD-CE92C34538BC}" type="slidenum">
              <a:t>11</a:t>
            </a:fld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9" dur="1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3" dur="1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7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659640" y="5157720"/>
            <a:ext cx="1008000" cy="585720"/>
          </a:xfrm>
          <a:prstGeom prst="rect">
            <a:avLst/>
          </a:prstGeom>
          <a:solidFill>
            <a:srgbClr val="00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00200"/>
                <a:tab algn="l" pos="1400040"/>
                <a:tab algn="l" pos="2100240"/>
                <a:tab algn="l" pos="2800440"/>
                <a:tab algn="l" pos="3500280"/>
                <a:tab algn="l" pos="4200480"/>
                <a:tab algn="l" pos="4900680"/>
                <a:tab algn="l" pos="5600880"/>
                <a:tab algn="l" pos="6300720"/>
                <a:tab algn="l" pos="7000920"/>
                <a:tab algn="l" pos="7701120"/>
                <a:tab algn="l" pos="8400960"/>
                <a:tab algn="l" pos="9101160"/>
                <a:tab algn="l" pos="9801360"/>
                <a:tab algn="l" pos="105012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Mineral</a:t>
            </a: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0200"/>
                <a:tab algn="l" pos="1400040"/>
                <a:tab algn="l" pos="2100240"/>
                <a:tab algn="l" pos="2800440"/>
                <a:tab algn="l" pos="3500280"/>
                <a:tab algn="l" pos="4200480"/>
                <a:tab algn="l" pos="4900680"/>
                <a:tab algn="l" pos="5600880"/>
                <a:tab algn="l" pos="6300720"/>
                <a:tab algn="l" pos="7000920"/>
                <a:tab algn="l" pos="7701120"/>
                <a:tab algn="l" pos="8400960"/>
                <a:tab algn="l" pos="9101160"/>
                <a:tab algn="l" pos="9801360"/>
                <a:tab algn="l" pos="105012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exploration</a:t>
            </a: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5157720"/>
            <a:ext cx="1258920" cy="57636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0680" bIns="406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00200"/>
                <a:tab algn="l" pos="1400040"/>
                <a:tab algn="l" pos="2100240"/>
                <a:tab algn="l" pos="2800440"/>
                <a:tab algn="l" pos="3500280"/>
                <a:tab algn="l" pos="4200480"/>
                <a:tab algn="l" pos="4900680"/>
                <a:tab algn="l" pos="5600880"/>
                <a:tab algn="l" pos="6300720"/>
                <a:tab algn="l" pos="7000920"/>
                <a:tab algn="l" pos="7701120"/>
                <a:tab algn="l" pos="8400960"/>
                <a:tab algn="l" pos="9101160"/>
                <a:tab algn="l" pos="9801360"/>
                <a:tab algn="l" pos="105012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uildings </a:t>
            </a: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00200"/>
                <a:tab algn="l" pos="1400040"/>
                <a:tab algn="l" pos="2100240"/>
                <a:tab algn="l" pos="2800440"/>
                <a:tab algn="l" pos="3500280"/>
                <a:tab algn="l" pos="4200480"/>
                <a:tab algn="l" pos="4900680"/>
                <a:tab algn="l" pos="5600880"/>
                <a:tab algn="l" pos="6300720"/>
                <a:tab algn="l" pos="7000920"/>
                <a:tab algn="l" pos="7701120"/>
                <a:tab algn="l" pos="8400960"/>
                <a:tab algn="l" pos="9101160"/>
                <a:tab algn="l" pos="9801360"/>
                <a:tab algn="l" pos="105012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00200"/>
                <a:tab algn="l" pos="1400040"/>
                <a:tab algn="l" pos="2100240"/>
                <a:tab algn="l" pos="2800440"/>
                <a:tab algn="l" pos="3500280"/>
                <a:tab algn="l" pos="4200480"/>
                <a:tab algn="l" pos="4900680"/>
                <a:tab algn="l" pos="5600880"/>
                <a:tab algn="l" pos="6300720"/>
                <a:tab algn="l" pos="7000920"/>
                <a:tab algn="l" pos="7701120"/>
                <a:tab algn="l" pos="8400960"/>
                <a:tab algn="l" pos="9101160"/>
                <a:tab algn="l" pos="9801360"/>
                <a:tab algn="l" pos="105012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763640" y="5157720"/>
            <a:ext cx="1008000" cy="57636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0680" bIns="406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00200"/>
                <a:tab algn="l" pos="1400040"/>
                <a:tab algn="l" pos="2100240"/>
                <a:tab algn="l" pos="2800440"/>
                <a:tab algn="l" pos="3500280"/>
                <a:tab algn="l" pos="4200480"/>
                <a:tab algn="l" pos="4900680"/>
                <a:tab algn="l" pos="5600880"/>
                <a:tab algn="l" pos="6300720"/>
                <a:tab algn="l" pos="7000920"/>
                <a:tab algn="l" pos="7701120"/>
                <a:tab algn="l" pos="8400960"/>
                <a:tab algn="l" pos="9101160"/>
                <a:tab algn="l" pos="9801360"/>
                <a:tab algn="l" pos="105012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achinery</a:t>
            </a: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00200"/>
                <a:tab algn="l" pos="1400040"/>
                <a:tab algn="l" pos="2100240"/>
                <a:tab algn="l" pos="2800440"/>
                <a:tab algn="l" pos="3500280"/>
                <a:tab algn="l" pos="4200480"/>
                <a:tab algn="l" pos="4900680"/>
                <a:tab algn="l" pos="5600880"/>
                <a:tab algn="l" pos="6300720"/>
                <a:tab algn="l" pos="7000920"/>
                <a:tab algn="l" pos="7701120"/>
                <a:tab algn="l" pos="8400960"/>
                <a:tab algn="l" pos="9101160"/>
                <a:tab algn="l" pos="9801360"/>
                <a:tab algn="l" pos="105012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00200"/>
                <a:tab algn="l" pos="1400040"/>
                <a:tab algn="l" pos="2100240"/>
                <a:tab algn="l" pos="2800440"/>
                <a:tab algn="l" pos="3500280"/>
                <a:tab algn="l" pos="4200480"/>
                <a:tab algn="l" pos="4900680"/>
                <a:tab algn="l" pos="5600880"/>
                <a:tab algn="l" pos="6300720"/>
                <a:tab algn="l" pos="7000920"/>
                <a:tab algn="l" pos="7701120"/>
                <a:tab algn="l" pos="8400960"/>
                <a:tab algn="l" pos="9101160"/>
                <a:tab algn="l" pos="9801360"/>
                <a:tab algn="l" pos="105012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quipment</a:t>
            </a: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43280" y="5157720"/>
            <a:ext cx="936720" cy="576360"/>
          </a:xfrm>
          <a:prstGeom prst="rect">
            <a:avLst/>
          </a:prstGeom>
          <a:solidFill>
            <a:srgbClr val="00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00200"/>
                <a:tab algn="l" pos="1400040"/>
                <a:tab algn="l" pos="2100240"/>
                <a:tab algn="l" pos="2800440"/>
                <a:tab algn="l" pos="3500280"/>
                <a:tab algn="l" pos="4200480"/>
                <a:tab algn="l" pos="4900680"/>
                <a:tab algn="l" pos="5600880"/>
                <a:tab algn="l" pos="6300720"/>
                <a:tab algn="l" pos="7000920"/>
                <a:tab algn="l" pos="7701120"/>
                <a:tab algn="l" pos="8400960"/>
                <a:tab algn="l" pos="9101160"/>
                <a:tab algn="l" pos="9801360"/>
                <a:tab algn="l" pos="105012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ultivated </a:t>
            </a: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0200"/>
                <a:tab algn="l" pos="1400040"/>
                <a:tab algn="l" pos="2100240"/>
                <a:tab algn="l" pos="2800440"/>
                <a:tab algn="l" pos="3500280"/>
                <a:tab algn="l" pos="4200480"/>
                <a:tab algn="l" pos="4900680"/>
                <a:tab algn="l" pos="5600880"/>
                <a:tab algn="l" pos="6300720"/>
                <a:tab algn="l" pos="7000920"/>
                <a:tab algn="l" pos="7701120"/>
                <a:tab algn="l" pos="8400960"/>
                <a:tab algn="l" pos="9101160"/>
                <a:tab algn="l" pos="9801360"/>
                <a:tab algn="l" pos="105012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ssets</a:t>
            </a: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48360" y="5157720"/>
            <a:ext cx="1368360" cy="585720"/>
          </a:xfrm>
          <a:prstGeom prst="rect">
            <a:avLst/>
          </a:prstGeom>
          <a:solidFill>
            <a:srgbClr val="00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00200"/>
                <a:tab algn="l" pos="1400040"/>
                <a:tab algn="l" pos="2100240"/>
                <a:tab algn="l" pos="2800440"/>
                <a:tab algn="l" pos="3500280"/>
                <a:tab algn="l" pos="4200480"/>
                <a:tab algn="l" pos="4900680"/>
                <a:tab algn="l" pos="5600880"/>
                <a:tab algn="l" pos="6300720"/>
                <a:tab algn="l" pos="7000920"/>
                <a:tab algn="l" pos="7701120"/>
                <a:tab algn="l" pos="8400960"/>
                <a:tab algn="l" pos="9101160"/>
                <a:tab algn="l" pos="9801360"/>
                <a:tab algn="l" pos="105012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Entertainment, </a:t>
            </a: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0200"/>
                <a:tab algn="l" pos="1400040"/>
                <a:tab algn="l" pos="2100240"/>
                <a:tab algn="l" pos="2800440"/>
                <a:tab algn="l" pos="3500280"/>
                <a:tab algn="l" pos="4200480"/>
                <a:tab algn="l" pos="4900680"/>
                <a:tab algn="l" pos="5600880"/>
                <a:tab algn="l" pos="6300720"/>
                <a:tab algn="l" pos="7000920"/>
                <a:tab algn="l" pos="7701120"/>
                <a:tab algn="l" pos="8400960"/>
                <a:tab algn="l" pos="9101160"/>
                <a:tab algn="l" pos="9801360"/>
                <a:tab algn="l" pos="105012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literary or</a:t>
            </a: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0200"/>
                <a:tab algn="l" pos="1400040"/>
                <a:tab algn="l" pos="2100240"/>
                <a:tab algn="l" pos="2800440"/>
                <a:tab algn="l" pos="3500280"/>
                <a:tab algn="l" pos="4200480"/>
                <a:tab algn="l" pos="4900680"/>
                <a:tab algn="l" pos="5600880"/>
                <a:tab algn="l" pos="6300720"/>
                <a:tab algn="l" pos="7000920"/>
                <a:tab algn="l" pos="7701120"/>
                <a:tab algn="l" pos="8400960"/>
                <a:tab algn="l" pos="9101160"/>
                <a:tab algn="l" pos="9801360"/>
                <a:tab algn="l" pos="105012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rtistic originals</a:t>
            </a: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24360" y="5157720"/>
            <a:ext cx="1108080" cy="585720"/>
          </a:xfrm>
          <a:prstGeom prst="rect">
            <a:avLst/>
          </a:prstGeom>
          <a:solidFill>
            <a:srgbClr val="00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00200"/>
                <a:tab algn="l" pos="1400040"/>
                <a:tab algn="l" pos="2100240"/>
                <a:tab algn="l" pos="2800440"/>
                <a:tab algn="l" pos="3500280"/>
                <a:tab algn="l" pos="4200480"/>
                <a:tab algn="l" pos="4900680"/>
                <a:tab algn="l" pos="5600880"/>
                <a:tab algn="l" pos="6300720"/>
                <a:tab algn="l" pos="7000920"/>
                <a:tab algn="l" pos="7701120"/>
                <a:tab algn="l" pos="8400960"/>
                <a:tab algn="l" pos="9101160"/>
                <a:tab algn="l" pos="9801360"/>
                <a:tab algn="l" pos="105012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uter</a:t>
            </a: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0200"/>
                <a:tab algn="l" pos="1400040"/>
                <a:tab algn="l" pos="2100240"/>
                <a:tab algn="l" pos="2800440"/>
                <a:tab algn="l" pos="3500280"/>
                <a:tab algn="l" pos="4200480"/>
                <a:tab algn="l" pos="4900680"/>
                <a:tab algn="l" pos="5600880"/>
                <a:tab algn="l" pos="6300720"/>
                <a:tab algn="l" pos="7000920"/>
                <a:tab algn="l" pos="7701120"/>
                <a:tab algn="l" pos="8400960"/>
                <a:tab algn="l" pos="9101160"/>
                <a:tab algn="l" pos="9801360"/>
                <a:tab algn="l" pos="105012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ftware</a:t>
            </a: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24360" y="4292640"/>
            <a:ext cx="2284560" cy="473040"/>
          </a:xfrm>
          <a:prstGeom prst="rect">
            <a:avLst/>
          </a:prstGeom>
          <a:solidFill>
            <a:srgbClr val="00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00200"/>
                <a:tab algn="l" pos="1400040"/>
                <a:tab algn="l" pos="2100240"/>
                <a:tab algn="l" pos="2800440"/>
                <a:tab algn="l" pos="3500280"/>
                <a:tab algn="l" pos="4200480"/>
                <a:tab algn="l" pos="4900680"/>
                <a:tab algn="l" pos="5600880"/>
                <a:tab algn="l" pos="6300720"/>
                <a:tab algn="l" pos="7000920"/>
                <a:tab algn="l" pos="7701120"/>
                <a:tab algn="l" pos="8400960"/>
                <a:tab algn="l" pos="9101160"/>
                <a:tab algn="l" pos="9801360"/>
                <a:tab algn="l" pos="105012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ntangible fixed assets</a:t>
            </a: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403280" y="4292640"/>
            <a:ext cx="2284560" cy="47304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00200"/>
                <a:tab algn="l" pos="1400040"/>
                <a:tab algn="l" pos="2100240"/>
                <a:tab algn="l" pos="2800440"/>
                <a:tab algn="l" pos="3500280"/>
                <a:tab algn="l" pos="4200480"/>
                <a:tab algn="l" pos="4900680"/>
                <a:tab algn="l" pos="5600880"/>
                <a:tab algn="l" pos="6300720"/>
                <a:tab algn="l" pos="7000920"/>
                <a:tab algn="l" pos="7701120"/>
                <a:tab algn="l" pos="8400960"/>
                <a:tab algn="l" pos="9101160"/>
                <a:tab algn="l" pos="9801360"/>
                <a:tab algn="l" pos="105012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ngible fixed assets</a:t>
            </a:r>
            <a:endParaRPr b="0" lang="en-US" sz="16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84720" y="3141720"/>
            <a:ext cx="1270080" cy="839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00200"/>
                <a:tab algn="l" pos="1400040"/>
                <a:tab algn="l" pos="2100240"/>
                <a:tab algn="l" pos="2800440"/>
                <a:tab algn="l" pos="3500280"/>
                <a:tab algn="l" pos="4200480"/>
                <a:tab algn="l" pos="4900680"/>
                <a:tab algn="l" pos="5600880"/>
                <a:tab algn="l" pos="6300720"/>
                <a:tab algn="l" pos="7000920"/>
                <a:tab algn="l" pos="7701120"/>
                <a:tab algn="l" pos="8400960"/>
                <a:tab algn="l" pos="9101160"/>
                <a:tab algn="l" pos="9801360"/>
                <a:tab algn="l" pos="105012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ventories</a:t>
            </a:r>
            <a:endParaRPr b="0" lang="en-US" sz="16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716360" y="3141720"/>
            <a:ext cx="1152720" cy="839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00200"/>
                <a:tab algn="l" pos="1400040"/>
                <a:tab algn="l" pos="2100240"/>
                <a:tab algn="l" pos="2800440"/>
                <a:tab algn="l" pos="3500280"/>
                <a:tab algn="l" pos="4200480"/>
                <a:tab algn="l" pos="4900680"/>
                <a:tab algn="l" pos="5600880"/>
                <a:tab algn="l" pos="6300720"/>
                <a:tab algn="l" pos="7000920"/>
                <a:tab algn="l" pos="7701120"/>
                <a:tab algn="l" pos="8400960"/>
                <a:tab algn="l" pos="9101160"/>
                <a:tab algn="l" pos="9801360"/>
                <a:tab algn="l" pos="105012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xed</a:t>
            </a:r>
            <a:endParaRPr b="0" lang="en-US" sz="16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0200"/>
                <a:tab algn="l" pos="1400040"/>
                <a:tab algn="l" pos="2100240"/>
                <a:tab algn="l" pos="2800440"/>
                <a:tab algn="l" pos="3500280"/>
                <a:tab algn="l" pos="4200480"/>
                <a:tab algn="l" pos="4900680"/>
                <a:tab algn="l" pos="5600880"/>
                <a:tab algn="l" pos="6300720"/>
                <a:tab algn="l" pos="7000920"/>
                <a:tab algn="l" pos="7701120"/>
                <a:tab algn="l" pos="8400960"/>
                <a:tab algn="l" pos="9101160"/>
                <a:tab algn="l" pos="9801360"/>
                <a:tab algn="l" pos="105012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ssets</a:t>
            </a:r>
            <a:endParaRPr b="0" lang="en-US" sz="16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451640" y="3141720"/>
            <a:ext cx="1476360" cy="863640"/>
          </a:xfrm>
          <a:prstGeom prst="rect">
            <a:avLst/>
          </a:prstGeom>
          <a:solidFill>
            <a:srgbClr val="00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00200"/>
                <a:tab algn="l" pos="1400040"/>
                <a:tab algn="l" pos="2100240"/>
                <a:tab algn="l" pos="2800440"/>
                <a:tab algn="l" pos="3500280"/>
                <a:tab algn="l" pos="4200480"/>
                <a:tab algn="l" pos="4900680"/>
                <a:tab algn="l" pos="5600880"/>
                <a:tab algn="l" pos="6300720"/>
                <a:tab algn="l" pos="7000920"/>
                <a:tab algn="l" pos="7701120"/>
                <a:tab algn="l" pos="8400960"/>
                <a:tab algn="l" pos="9101160"/>
                <a:tab algn="l" pos="9801360"/>
                <a:tab algn="l" pos="10501200"/>
              </a:tabLst>
            </a:pP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0200"/>
                <a:tab algn="l" pos="1400040"/>
                <a:tab algn="l" pos="2100240"/>
                <a:tab algn="l" pos="2800440"/>
                <a:tab algn="l" pos="3500280"/>
                <a:tab algn="l" pos="4200480"/>
                <a:tab algn="l" pos="4900680"/>
                <a:tab algn="l" pos="5600880"/>
                <a:tab algn="l" pos="6300720"/>
                <a:tab algn="l" pos="7000920"/>
                <a:tab algn="l" pos="7701120"/>
                <a:tab algn="l" pos="8400960"/>
                <a:tab algn="l" pos="9101160"/>
                <a:tab algn="l" pos="9801360"/>
                <a:tab algn="l" pos="10501200"/>
              </a:tabLst>
            </a:pP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0200"/>
                <a:tab algn="l" pos="1400040"/>
                <a:tab algn="l" pos="2100240"/>
                <a:tab algn="l" pos="2800440"/>
                <a:tab algn="l" pos="3500280"/>
                <a:tab algn="l" pos="4200480"/>
                <a:tab algn="l" pos="4900680"/>
                <a:tab algn="l" pos="5600880"/>
                <a:tab algn="l" pos="6300720"/>
                <a:tab algn="l" pos="7000920"/>
                <a:tab algn="l" pos="7701120"/>
                <a:tab algn="l" pos="8400960"/>
                <a:tab algn="l" pos="9101160"/>
                <a:tab algn="l" pos="9801360"/>
                <a:tab algn="l" pos="105012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Valuables</a:t>
            </a: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0200"/>
                <a:tab algn="l" pos="1400040"/>
                <a:tab algn="l" pos="2100240"/>
                <a:tab algn="l" pos="2800440"/>
                <a:tab algn="l" pos="3500280"/>
                <a:tab algn="l" pos="4200480"/>
                <a:tab algn="l" pos="4900680"/>
                <a:tab algn="l" pos="5600880"/>
                <a:tab algn="l" pos="6300720"/>
                <a:tab algn="l" pos="7000920"/>
                <a:tab algn="l" pos="7701120"/>
                <a:tab algn="l" pos="8400960"/>
                <a:tab algn="l" pos="9101160"/>
                <a:tab algn="l" pos="9801360"/>
                <a:tab algn="l" pos="10501200"/>
              </a:tabLst>
            </a:pPr>
            <a:endParaRPr b="0" lang="en-US" sz="8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0200"/>
                <a:tab algn="l" pos="1400040"/>
                <a:tab algn="l" pos="2100240"/>
                <a:tab algn="l" pos="2800440"/>
                <a:tab algn="l" pos="3500280"/>
                <a:tab algn="l" pos="4200480"/>
                <a:tab algn="l" pos="4900680"/>
                <a:tab algn="l" pos="5600880"/>
                <a:tab algn="l" pos="6300720"/>
                <a:tab algn="l" pos="7000920"/>
                <a:tab algn="l" pos="7701120"/>
                <a:tab algn="l" pos="8400960"/>
                <a:tab algn="l" pos="9101160"/>
                <a:tab algn="l" pos="9801360"/>
                <a:tab algn="l" pos="10501200"/>
              </a:tabLst>
            </a:pPr>
            <a:r>
              <a:rPr b="1" lang="en-GB" sz="1400" spc="-1" strike="noStrike">
                <a:solidFill>
                  <a:srgbClr val="cccccc"/>
                </a:solidFill>
                <a:latin typeface="Arial"/>
              </a:rPr>
              <a:t>Precious metals</a:t>
            </a: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0200"/>
                <a:tab algn="l" pos="1400040"/>
                <a:tab algn="l" pos="2100240"/>
                <a:tab algn="l" pos="2800440"/>
                <a:tab algn="l" pos="3500280"/>
                <a:tab algn="l" pos="4200480"/>
                <a:tab algn="l" pos="4900680"/>
                <a:tab algn="l" pos="5600880"/>
                <a:tab algn="l" pos="6300720"/>
                <a:tab algn="l" pos="7000920"/>
                <a:tab algn="l" pos="7701120"/>
                <a:tab algn="l" pos="8400960"/>
                <a:tab algn="l" pos="9101160"/>
                <a:tab algn="l" pos="9801360"/>
                <a:tab algn="l" pos="10501200"/>
              </a:tabLst>
            </a:pPr>
            <a:r>
              <a:rPr b="1" lang="en-GB" sz="1400" spc="-1" strike="noStrike">
                <a:solidFill>
                  <a:srgbClr val="cccccc"/>
                </a:solidFill>
                <a:latin typeface="Arial"/>
              </a:rPr>
              <a:t>Antiques</a:t>
            </a: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0200"/>
                <a:tab algn="l" pos="1400040"/>
                <a:tab algn="l" pos="2100240"/>
                <a:tab algn="l" pos="2800440"/>
                <a:tab algn="l" pos="3500280"/>
                <a:tab algn="l" pos="4200480"/>
                <a:tab algn="l" pos="4900680"/>
                <a:tab algn="l" pos="5600880"/>
                <a:tab algn="l" pos="6300720"/>
                <a:tab algn="l" pos="7000920"/>
                <a:tab algn="l" pos="7701120"/>
                <a:tab algn="l" pos="8400960"/>
                <a:tab algn="l" pos="9101160"/>
                <a:tab algn="l" pos="9801360"/>
                <a:tab algn="l" pos="10501200"/>
              </a:tabLst>
            </a:pP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0200"/>
                <a:tab algn="l" pos="1400040"/>
                <a:tab algn="l" pos="2100240"/>
                <a:tab algn="l" pos="2800440"/>
                <a:tab algn="l" pos="3500280"/>
                <a:tab algn="l" pos="4200480"/>
                <a:tab algn="l" pos="4900680"/>
                <a:tab algn="l" pos="5600880"/>
                <a:tab algn="l" pos="6300720"/>
                <a:tab algn="l" pos="7000920"/>
                <a:tab algn="l" pos="7701120"/>
                <a:tab algn="l" pos="8400960"/>
                <a:tab algn="l" pos="9101160"/>
                <a:tab algn="l" pos="9801360"/>
                <a:tab algn="l" pos="10501200"/>
              </a:tabLst>
            </a:pP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56000" y="3068640"/>
            <a:ext cx="1726920" cy="923760"/>
          </a:xfrm>
          <a:prstGeom prst="rect">
            <a:avLst/>
          </a:prstGeom>
          <a:solidFill>
            <a:srgbClr val="00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00200"/>
                <a:tab algn="l" pos="1400040"/>
                <a:tab algn="l" pos="2100240"/>
                <a:tab algn="l" pos="2800440"/>
                <a:tab algn="l" pos="3500280"/>
                <a:tab algn="l" pos="4200480"/>
                <a:tab algn="l" pos="4900680"/>
                <a:tab algn="l" pos="5600880"/>
                <a:tab algn="l" pos="6300720"/>
                <a:tab algn="l" pos="7000920"/>
                <a:tab algn="l" pos="7701120"/>
                <a:tab algn="l" pos="8400960"/>
                <a:tab algn="l" pos="9101160"/>
                <a:tab algn="l" pos="9801360"/>
                <a:tab algn="l" pos="105012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ntangible</a:t>
            </a: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0200"/>
                <a:tab algn="l" pos="1400040"/>
                <a:tab algn="l" pos="2100240"/>
                <a:tab algn="l" pos="2800440"/>
                <a:tab algn="l" pos="3500280"/>
                <a:tab algn="l" pos="4200480"/>
                <a:tab algn="l" pos="4900680"/>
                <a:tab algn="l" pos="5600880"/>
                <a:tab algn="l" pos="6300720"/>
                <a:tab algn="l" pos="7000920"/>
                <a:tab algn="l" pos="7701120"/>
                <a:tab algn="l" pos="8400960"/>
                <a:tab algn="l" pos="9101160"/>
                <a:tab algn="l" pos="9801360"/>
                <a:tab algn="l" pos="105012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produced assets</a:t>
            </a: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0200"/>
                <a:tab algn="l" pos="1400040"/>
                <a:tab algn="l" pos="2100240"/>
                <a:tab algn="l" pos="2800440"/>
                <a:tab algn="l" pos="3500280"/>
                <a:tab algn="l" pos="4200480"/>
                <a:tab algn="l" pos="4900680"/>
                <a:tab algn="l" pos="5600880"/>
                <a:tab algn="l" pos="6300720"/>
                <a:tab algn="l" pos="7000920"/>
                <a:tab algn="l" pos="7701120"/>
                <a:tab algn="l" pos="8400960"/>
                <a:tab algn="l" pos="9101160"/>
                <a:tab algn="l" pos="9801360"/>
                <a:tab algn="l" pos="10501200"/>
              </a:tabLst>
            </a:pPr>
            <a:r>
              <a:rPr b="1" lang="en-GB" sz="1400" spc="-1" strike="noStrike">
                <a:solidFill>
                  <a:srgbClr val="cccccc"/>
                </a:solidFill>
                <a:latin typeface="Arial"/>
              </a:rPr>
              <a:t>Patented entities</a:t>
            </a: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0200"/>
                <a:tab algn="l" pos="1400040"/>
                <a:tab algn="l" pos="2100240"/>
                <a:tab algn="l" pos="2800440"/>
                <a:tab algn="l" pos="3500280"/>
                <a:tab algn="l" pos="4200480"/>
                <a:tab algn="l" pos="4900680"/>
                <a:tab algn="l" pos="5600880"/>
                <a:tab algn="l" pos="6300720"/>
                <a:tab algn="l" pos="7000920"/>
                <a:tab algn="l" pos="7701120"/>
                <a:tab algn="l" pos="8400960"/>
                <a:tab algn="l" pos="9101160"/>
                <a:tab algn="l" pos="9801360"/>
                <a:tab algn="l" pos="10501200"/>
              </a:tabLst>
            </a:pPr>
            <a:r>
              <a:rPr b="1" lang="en-GB" sz="1400" spc="-1" strike="noStrike">
                <a:solidFill>
                  <a:srgbClr val="cccccc"/>
                </a:solidFill>
                <a:latin typeface="Arial"/>
              </a:rPr>
              <a:t>Leases</a:t>
            </a: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96000" y="2276640"/>
            <a:ext cx="2135160" cy="5270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duced assets</a:t>
            </a:r>
            <a:endParaRPr b="0" lang="en-US" sz="16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35280" y="2276640"/>
            <a:ext cx="2133360" cy="52704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onproduced assets</a:t>
            </a:r>
            <a:endParaRPr b="0" lang="en-US" sz="16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9640" y="3068640"/>
            <a:ext cx="1727280" cy="9349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0680" bIns="406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00200"/>
                <a:tab algn="l" pos="1400040"/>
                <a:tab algn="l" pos="2100240"/>
                <a:tab algn="l" pos="2800440"/>
                <a:tab algn="l" pos="3500280"/>
                <a:tab algn="l" pos="4200480"/>
                <a:tab algn="l" pos="4900680"/>
                <a:tab algn="l" pos="5600880"/>
                <a:tab algn="l" pos="6300720"/>
                <a:tab algn="l" pos="7000920"/>
                <a:tab algn="l" pos="7701120"/>
                <a:tab algn="l" pos="8400960"/>
                <a:tab algn="l" pos="9101160"/>
                <a:tab algn="l" pos="9801360"/>
                <a:tab algn="l" pos="10501200"/>
              </a:tabLst>
            </a:pP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0200"/>
                <a:tab algn="l" pos="1400040"/>
                <a:tab algn="l" pos="2100240"/>
                <a:tab algn="l" pos="2800440"/>
                <a:tab algn="l" pos="3500280"/>
                <a:tab algn="l" pos="4200480"/>
                <a:tab algn="l" pos="4900680"/>
                <a:tab algn="l" pos="5600880"/>
                <a:tab algn="l" pos="6300720"/>
                <a:tab algn="l" pos="7000920"/>
                <a:tab algn="l" pos="7701120"/>
                <a:tab algn="l" pos="8400960"/>
                <a:tab algn="l" pos="9101160"/>
                <a:tab algn="l" pos="9801360"/>
                <a:tab algn="l" pos="10501200"/>
              </a:tabLst>
            </a:pP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0200"/>
                <a:tab algn="l" pos="1400040"/>
                <a:tab algn="l" pos="2100240"/>
                <a:tab algn="l" pos="2800440"/>
                <a:tab algn="l" pos="3500280"/>
                <a:tab algn="l" pos="4200480"/>
                <a:tab algn="l" pos="4900680"/>
                <a:tab algn="l" pos="5600880"/>
                <a:tab algn="l" pos="6300720"/>
                <a:tab algn="l" pos="7000920"/>
                <a:tab algn="l" pos="7701120"/>
                <a:tab algn="l" pos="8400960"/>
                <a:tab algn="l" pos="9101160"/>
                <a:tab algn="l" pos="9801360"/>
                <a:tab algn="l" pos="10501200"/>
              </a:tabLst>
            </a:pP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0200"/>
                <a:tab algn="l" pos="1400040"/>
                <a:tab algn="l" pos="2100240"/>
                <a:tab algn="l" pos="2800440"/>
                <a:tab algn="l" pos="3500280"/>
                <a:tab algn="l" pos="4200480"/>
                <a:tab algn="l" pos="4900680"/>
                <a:tab algn="l" pos="5600880"/>
                <a:tab algn="l" pos="6300720"/>
                <a:tab algn="l" pos="7000920"/>
                <a:tab algn="l" pos="7701120"/>
                <a:tab algn="l" pos="8400960"/>
                <a:tab algn="l" pos="9101160"/>
                <a:tab algn="l" pos="9801360"/>
                <a:tab algn="l" pos="10501200"/>
              </a:tabLst>
            </a:pPr>
            <a:endParaRPr b="0" lang="en-US" sz="12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0200"/>
                <a:tab algn="l" pos="1400040"/>
                <a:tab algn="l" pos="2100240"/>
                <a:tab algn="l" pos="2800440"/>
                <a:tab algn="l" pos="3500280"/>
                <a:tab algn="l" pos="4200480"/>
                <a:tab algn="l" pos="4900680"/>
                <a:tab algn="l" pos="5600880"/>
                <a:tab algn="l" pos="6300720"/>
                <a:tab algn="l" pos="7000920"/>
                <a:tab algn="l" pos="7701120"/>
                <a:tab algn="l" pos="8400960"/>
                <a:tab algn="l" pos="9101160"/>
                <a:tab algn="l" pos="9801360"/>
                <a:tab algn="l" pos="105012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angible</a:t>
            </a: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0200"/>
                <a:tab algn="l" pos="1400040"/>
                <a:tab algn="l" pos="2100240"/>
                <a:tab algn="l" pos="2800440"/>
                <a:tab algn="l" pos="3500280"/>
                <a:tab algn="l" pos="4200480"/>
                <a:tab algn="l" pos="4900680"/>
                <a:tab algn="l" pos="5600880"/>
                <a:tab algn="l" pos="6300720"/>
                <a:tab algn="l" pos="7000920"/>
                <a:tab algn="l" pos="7701120"/>
                <a:tab algn="l" pos="8400960"/>
                <a:tab algn="l" pos="9101160"/>
                <a:tab algn="l" pos="9801360"/>
                <a:tab algn="l" pos="105012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nproduced assets</a:t>
            </a: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0200"/>
                <a:tab algn="l" pos="1400040"/>
                <a:tab algn="l" pos="2100240"/>
                <a:tab algn="l" pos="2800440"/>
                <a:tab algn="l" pos="3500280"/>
                <a:tab algn="l" pos="4200480"/>
                <a:tab algn="l" pos="4900680"/>
                <a:tab algn="l" pos="5600880"/>
                <a:tab algn="l" pos="6300720"/>
                <a:tab algn="l" pos="7000920"/>
                <a:tab algn="l" pos="7701120"/>
                <a:tab algn="l" pos="8400960"/>
                <a:tab algn="l" pos="9101160"/>
                <a:tab algn="l" pos="9801360"/>
                <a:tab algn="l" pos="10501200"/>
              </a:tabLst>
            </a:pPr>
            <a:r>
              <a:rPr b="1" lang="en-GB" sz="1400" spc="-1" strike="noStrike">
                <a:solidFill>
                  <a:srgbClr val="663300"/>
                </a:solidFill>
                <a:latin typeface="Arial"/>
              </a:rPr>
              <a:t>Land</a:t>
            </a: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0200"/>
                <a:tab algn="l" pos="1400040"/>
                <a:tab algn="l" pos="2100240"/>
                <a:tab algn="l" pos="2800440"/>
                <a:tab algn="l" pos="3500280"/>
                <a:tab algn="l" pos="4200480"/>
                <a:tab algn="l" pos="4900680"/>
                <a:tab algn="l" pos="5600880"/>
                <a:tab algn="l" pos="6300720"/>
                <a:tab algn="l" pos="7000920"/>
                <a:tab algn="l" pos="7701120"/>
                <a:tab algn="l" pos="8400960"/>
                <a:tab algn="l" pos="9101160"/>
                <a:tab algn="l" pos="9801360"/>
                <a:tab algn="l" pos="10501200"/>
              </a:tabLst>
            </a:pPr>
            <a:r>
              <a:rPr b="1" lang="en-GB" sz="1400" spc="-1" strike="noStrike">
                <a:solidFill>
                  <a:srgbClr val="663300"/>
                </a:solidFill>
                <a:latin typeface="Arial"/>
              </a:rPr>
              <a:t>Subsoil assets </a:t>
            </a: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0200"/>
                <a:tab algn="l" pos="1400040"/>
                <a:tab algn="l" pos="2100240"/>
                <a:tab algn="l" pos="2800440"/>
                <a:tab algn="l" pos="3500280"/>
                <a:tab algn="l" pos="4200480"/>
                <a:tab algn="l" pos="4900680"/>
                <a:tab algn="l" pos="5600880"/>
                <a:tab algn="l" pos="6300720"/>
                <a:tab algn="l" pos="7000920"/>
                <a:tab algn="l" pos="7701120"/>
                <a:tab algn="l" pos="8400960"/>
                <a:tab algn="l" pos="9101160"/>
                <a:tab algn="l" pos="9801360"/>
                <a:tab algn="l" pos="10501200"/>
              </a:tabLst>
            </a:pP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0200"/>
                <a:tab algn="l" pos="1400040"/>
                <a:tab algn="l" pos="2100240"/>
                <a:tab algn="l" pos="2800440"/>
                <a:tab algn="l" pos="3500280"/>
                <a:tab algn="l" pos="4200480"/>
                <a:tab algn="l" pos="4900680"/>
                <a:tab algn="l" pos="5600880"/>
                <a:tab algn="l" pos="6300720"/>
                <a:tab algn="l" pos="7000920"/>
                <a:tab algn="l" pos="7701120"/>
                <a:tab algn="l" pos="8400960"/>
                <a:tab algn="l" pos="9101160"/>
                <a:tab algn="l" pos="9801360"/>
                <a:tab algn="l" pos="10501200"/>
              </a:tabLst>
            </a:pP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0200"/>
                <a:tab algn="l" pos="1400040"/>
                <a:tab algn="l" pos="2100240"/>
                <a:tab algn="l" pos="2800440"/>
                <a:tab algn="l" pos="3500280"/>
                <a:tab algn="l" pos="4200480"/>
                <a:tab algn="l" pos="4900680"/>
                <a:tab algn="l" pos="5600880"/>
                <a:tab algn="l" pos="6300720"/>
                <a:tab algn="l" pos="7000920"/>
                <a:tab algn="l" pos="7701120"/>
                <a:tab algn="l" pos="8400960"/>
                <a:tab algn="l" pos="9101160"/>
                <a:tab algn="l" pos="9801360"/>
                <a:tab algn="l" pos="10501200"/>
              </a:tabLst>
            </a:pP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0200"/>
                <a:tab algn="l" pos="1400040"/>
                <a:tab algn="l" pos="2100240"/>
                <a:tab algn="l" pos="2800440"/>
                <a:tab algn="l" pos="3500280"/>
                <a:tab algn="l" pos="4200480"/>
                <a:tab algn="l" pos="4900680"/>
                <a:tab algn="l" pos="5600880"/>
                <a:tab algn="l" pos="6300720"/>
                <a:tab algn="l" pos="7000920"/>
                <a:tab algn="l" pos="7701120"/>
                <a:tab algn="l" pos="8400960"/>
                <a:tab algn="l" pos="9101160"/>
                <a:tab algn="l" pos="9801360"/>
                <a:tab algn="l" pos="10501200"/>
              </a:tabLst>
            </a:pP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812000" y="5157720"/>
            <a:ext cx="1152720" cy="585720"/>
          </a:xfrm>
          <a:prstGeom prst="rect">
            <a:avLst/>
          </a:prstGeom>
          <a:solidFill>
            <a:srgbClr val="cc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0680" bIns="406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00200"/>
                <a:tab algn="l" pos="1400040"/>
                <a:tab algn="l" pos="2100240"/>
                <a:tab algn="l" pos="2800440"/>
                <a:tab algn="l" pos="3500280"/>
                <a:tab algn="l" pos="4200480"/>
                <a:tab algn="l" pos="4900680"/>
                <a:tab algn="l" pos="5600880"/>
                <a:tab algn="l" pos="6300720"/>
                <a:tab algn="l" pos="7000920"/>
                <a:tab algn="l" pos="7701120"/>
                <a:tab algn="l" pos="8400960"/>
                <a:tab algn="l" pos="9101160"/>
                <a:tab algn="l" pos="9801360"/>
                <a:tab algn="l" pos="105012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Research </a:t>
            </a: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00200"/>
                <a:tab algn="l" pos="1400040"/>
                <a:tab algn="l" pos="2100240"/>
                <a:tab algn="l" pos="2800440"/>
                <a:tab algn="l" pos="3500280"/>
                <a:tab algn="l" pos="4200480"/>
                <a:tab algn="l" pos="4900680"/>
                <a:tab algn="l" pos="5600880"/>
                <a:tab algn="l" pos="6300720"/>
                <a:tab algn="l" pos="7000920"/>
                <a:tab algn="l" pos="7701120"/>
                <a:tab algn="l" pos="8400960"/>
                <a:tab algn="l" pos="9101160"/>
                <a:tab algn="l" pos="9801360"/>
                <a:tab algn="l" pos="105012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00200"/>
                <a:tab algn="l" pos="1400040"/>
                <a:tab algn="l" pos="2100240"/>
                <a:tab algn="l" pos="2800440"/>
                <a:tab algn="l" pos="3500280"/>
                <a:tab algn="l" pos="4200480"/>
                <a:tab algn="l" pos="4900680"/>
                <a:tab algn="l" pos="5600880"/>
                <a:tab algn="l" pos="6300720"/>
                <a:tab algn="l" pos="7000920"/>
                <a:tab algn="l" pos="7701120"/>
                <a:tab algn="l" pos="8400960"/>
                <a:tab algn="l" pos="9101160"/>
                <a:tab algn="l" pos="9801360"/>
                <a:tab algn="l" pos="105012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9280" y="1700280"/>
            <a:ext cx="54000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2000" spc="-1" strike="noStrike">
                <a:solidFill>
                  <a:srgbClr val="ffffcc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cc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cc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20" y="333216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33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6633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80" y="4965840"/>
            <a:ext cx="429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cc0033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33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cc0033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33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cc0033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33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cc0033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124000" y="907920"/>
            <a:ext cx="129708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ff"/>
                </a:solidFill>
                <a:latin typeface="Arial"/>
              </a:rPr>
              <a:t>Land</a:t>
            </a:r>
            <a:endParaRPr b="0" lang="en-US" sz="30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067280" y="907920"/>
            <a:ext cx="158436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ff"/>
                </a:solidFill>
                <a:latin typeface="Arial"/>
              </a:rPr>
              <a:t>Capital</a:t>
            </a:r>
            <a:endParaRPr b="0" lang="en-US" sz="30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00720" y="907920"/>
            <a:ext cx="165744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ff"/>
                </a:solidFill>
                <a:latin typeface="Arial"/>
              </a:rPr>
              <a:t>Labour</a:t>
            </a:r>
            <a:endParaRPr b="0" lang="en-US" sz="30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32000" y="1341360"/>
            <a:ext cx="2880000" cy="5763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onfinancial Assets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843280" y="2060640"/>
            <a:ext cx="4033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77080" y="206064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43280" y="206064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43280" y="191628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63640" y="2924280"/>
            <a:ext cx="1079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63640" y="292428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780000" y="292428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43280" y="2781360"/>
            <a:ext cx="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51640" y="2924280"/>
            <a:ext cx="1296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51640" y="2924280"/>
            <a:ext cx="0" cy="21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459640" y="2924280"/>
            <a:ext cx="0" cy="21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948360" y="2924280"/>
            <a:ext cx="0" cy="21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948360" y="2781360"/>
            <a:ext cx="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71640" y="4149720"/>
            <a:ext cx="259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71640" y="4149720"/>
            <a:ext cx="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64000" y="400536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64000" y="4149720"/>
            <a:ext cx="1368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732720" y="4149720"/>
            <a:ext cx="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187280" y="4941720"/>
            <a:ext cx="129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187280" y="494172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68360" y="494172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492360" y="494172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484360" y="4724280"/>
            <a:ext cx="0" cy="21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43280" y="4941720"/>
            <a:ext cx="252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588000" y="4724280"/>
            <a:ext cx="0" cy="21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43280" y="494172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494172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164360" y="494172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164360" y="4941720"/>
            <a:ext cx="122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88360" y="494172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948360" y="2924280"/>
            <a:ext cx="1511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484360" y="4941720"/>
            <a:ext cx="1008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843280" y="2924280"/>
            <a:ext cx="936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BE5F2-6F34-406D-896D-CE92EF8AC0D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2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9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8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5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0" y="838080"/>
          <a:ext cx="9144000" cy="601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914400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6553080" y="0"/>
          <a:ext cx="2248200" cy="74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53080" y="0"/>
                    <a:ext cx="224820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304920" y="1066680"/>
            <a:ext cx="38354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at is Software? </a:t>
            </a: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2349360"/>
            <a:ext cx="36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at is R&amp;D?</a:t>
            </a: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26920" y="1557360"/>
            <a:ext cx="21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endParaRPr b="0" lang="en-US" sz="60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643280" y="4581360"/>
            <a:ext cx="40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dentification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43640" y="1052640"/>
            <a:ext cx="2376360" cy="31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uman capital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n-scientific innovations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rketing assets (brands…)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ganisation and management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869000"/>
            <a:ext cx="432000" cy="504720"/>
          </a:xfrm>
          <a:prstGeom prst="lightningBolt">
            <a:avLst/>
          </a:prstGeom>
          <a:solidFill>
            <a:srgbClr val="cc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08BF3-E7AE-4AE3-8ACA-4F019726835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41440" y="907560"/>
            <a:ext cx="82771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800" spc="-1" strike="noStrike">
                <a:solidFill>
                  <a:srgbClr val="666666"/>
                </a:solidFill>
                <a:latin typeface="Arial"/>
              </a:rPr>
              <a:t>Identification, Valuation, Depreciation: Difficulties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9280" y="1917360"/>
            <a:ext cx="8201160" cy="410364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524"/>
              </a:spcBef>
              <a:buClr>
                <a:srgbClr val="cc0033"/>
              </a:buClr>
              <a:buFont typeface="Wingdings" charset="2"/>
              <a:buChar char="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Identification and Classification of the produc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524"/>
              </a:spcBef>
              <a:buClr>
                <a:srgbClr val="cc0033"/>
              </a:buClr>
              <a:buFont typeface="Wingdings" charset="2"/>
              <a:buChar char="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Valuation of the gross fixed capital formation (GFCF) of different types of R&amp;D - imputations like capital services of the stock of current knowledg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524"/>
              </a:spcBef>
              <a:buClr>
                <a:srgbClr val="cc0033"/>
              </a:buClr>
              <a:buFont typeface="Wingdings" charset="2"/>
              <a:buChar char="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Estimation of mortality tables and expected service lives on an objective basi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524"/>
              </a:spcBef>
              <a:buClr>
                <a:srgbClr val="cc0033"/>
              </a:buClr>
              <a:buFont typeface="Wingdings" charset="2"/>
              <a:buChar char="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Availability of long series of GFCF as precondition of the perpetual inventory method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524"/>
              </a:spcBef>
              <a:buClr>
                <a:srgbClr val="cc0033"/>
              </a:buClr>
              <a:buFont typeface="Wingdings" charset="2"/>
              <a:buChar char="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Availability of deflators – price indices for never standardised R&amp;D service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524"/>
              </a:spcBef>
              <a:buClr>
                <a:srgbClr val="cc0033"/>
              </a:buClr>
              <a:buFont typeface="Wingdings" charset="2"/>
              <a:buChar char="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Valuation of a specific contribution of R&amp;D to production, (based on the accumulation of knowledge)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E3A2E-D98C-42F7-A92C-BE83DDE6409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1440" y="907560"/>
            <a:ext cx="827712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800" spc="-1" strike="noStrike">
                <a:solidFill>
                  <a:srgbClr val="666666"/>
                </a:solidFill>
                <a:latin typeface="Arial"/>
              </a:rPr>
              <a:t>Future Work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488080" cy="45511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marL="174600"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vestigate via satellite accou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524"/>
              </a:spcBef>
              <a:buClr>
                <a:srgbClr val="cc0033"/>
              </a:buClr>
              <a:buFont typeface="Wingdings" charset="2"/>
              <a:buChar char="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Bridging R&amp;D statistics to national accounts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524"/>
              </a:spcBef>
              <a:buClr>
                <a:srgbClr val="cc0033"/>
              </a:buClr>
              <a:buFont typeface="Wingdings" charset="2"/>
              <a:buChar char="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Imputation of yearly (and quarterly) SNA data without yearly R&amp;D surveys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524"/>
              </a:spcBef>
              <a:buClr>
                <a:srgbClr val="cc0033"/>
              </a:buClr>
              <a:buFont typeface="Wingdings" charset="2"/>
              <a:buChar char="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Deflators and long time series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524"/>
              </a:spcBef>
              <a:buClr>
                <a:srgbClr val="cc0033"/>
              </a:buClr>
              <a:buFont typeface="Wingdings" charset="2"/>
              <a:buChar char="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Service lives and mortality/retirement function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524"/>
              </a:spcBef>
              <a:buClr>
                <a:srgbClr val="cc0033"/>
              </a:buClr>
              <a:buFont typeface="Wingdings" charset="2"/>
              <a:buChar char="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spcBef>
                <a:spcPts val="52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atellite accounts should be applied to examine the effects of different solutions of the identification problem (e.g. public good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0EEC2-DDFD-49BB-B6AF-CE7356A5A58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41440" y="907560"/>
            <a:ext cx="82771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800" spc="-1" strike="noStrike">
                <a:solidFill>
                  <a:srgbClr val="666666"/>
                </a:solidFill>
                <a:latin typeface="Arial"/>
              </a:rPr>
              <a:t>Measuring wealth and productivity </a:t>
            </a:r>
            <a:br>
              <a:rPr sz="2800"/>
            </a:br>
            <a:r>
              <a:rPr b="1" lang="en-GB" sz="2800" spc="-1" strike="noStrike">
                <a:solidFill>
                  <a:srgbClr val="666666"/>
                </a:solidFill>
                <a:latin typeface="Arial"/>
              </a:rPr>
              <a:t>The concept of capital services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26920" y="2852640"/>
            <a:ext cx="194472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4360" y="2637000"/>
            <a:ext cx="50472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627280" y="3429000"/>
            <a:ext cx="504720" cy="431640"/>
          </a:xfrm>
          <a:prstGeom prst="rightArrow">
            <a:avLst>
              <a:gd name="adj1" fmla="val 50000"/>
              <a:gd name="adj2" fmla="val 2923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55640" y="5084640"/>
            <a:ext cx="194472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11280" y="4869000"/>
            <a:ext cx="50472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56000" y="5661000"/>
            <a:ext cx="504720" cy="432000"/>
          </a:xfrm>
          <a:prstGeom prst="rightArrow">
            <a:avLst>
              <a:gd name="adj1" fmla="val 50000"/>
              <a:gd name="adj2" fmla="val 2920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4000" y="2060640"/>
            <a:ext cx="165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ccumulation (investment)</a:t>
            </a:r>
            <a:endParaRPr b="0" lang="en-US" sz="16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4000" y="422100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ccumulation (investment)</a:t>
            </a:r>
            <a:endParaRPr b="0" lang="en-US" sz="16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00000" y="2852640"/>
            <a:ext cx="1800360" cy="9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ross stock</a:t>
            </a:r>
            <a:endParaRPr b="0" lang="en-US" sz="18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663300"/>
                </a:solidFill>
                <a:latin typeface="Arial"/>
              </a:rPr>
              <a:t>Tradit.: Capacity Potential</a:t>
            </a:r>
            <a:endParaRPr b="0" lang="en-US" sz="16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59280" y="1989000"/>
            <a:ext cx="37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 integrated system of capital flow and stock statistics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132000" y="342900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etirements</a:t>
            </a:r>
            <a:endParaRPr b="0" lang="en-US" sz="16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042920" y="5229360"/>
            <a:ext cx="14414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t stock</a:t>
            </a:r>
            <a:endParaRPr b="0" lang="en-US" sz="18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33"/>
                </a:solidFill>
                <a:latin typeface="Arial"/>
              </a:rPr>
              <a:t>Wealth</a:t>
            </a:r>
            <a:endParaRPr b="0" lang="en-US" sz="1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59280" y="5734080"/>
            <a:ext cx="144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epreciation</a:t>
            </a:r>
            <a:endParaRPr b="0" lang="en-US" sz="16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64000" y="5084640"/>
            <a:ext cx="194472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219640" y="4869000"/>
            <a:ext cx="50472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164360" y="5661000"/>
            <a:ext cx="504720" cy="432000"/>
          </a:xfrm>
          <a:prstGeom prst="rightArrow">
            <a:avLst>
              <a:gd name="adj1" fmla="val 50000"/>
              <a:gd name="adj2" fmla="val 2920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995640" y="4221000"/>
            <a:ext cx="158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ccumulation (investment)</a:t>
            </a:r>
            <a:endParaRPr b="0" lang="en-US" sz="16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580000" y="522936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33"/>
                </a:solidFill>
                <a:latin typeface="Arial"/>
              </a:rPr>
              <a:t>Productive stock</a:t>
            </a:r>
            <a:endParaRPr b="0" lang="en-US" sz="1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651640" y="4221000"/>
            <a:ext cx="3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0033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156360" y="4221000"/>
            <a:ext cx="115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33"/>
                </a:solidFill>
                <a:latin typeface="Arial"/>
              </a:rPr>
              <a:t>Return to Capital</a:t>
            </a:r>
            <a:endParaRPr b="0" lang="en-US" sz="16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67640" y="5589720"/>
            <a:ext cx="115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33"/>
                </a:solidFill>
                <a:latin typeface="Arial"/>
              </a:rPr>
              <a:t>Capital services</a:t>
            </a:r>
            <a:endParaRPr b="0" lang="en-US" sz="16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50920" y="5013360"/>
            <a:ext cx="36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6633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6633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6633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0986E-E967-4197-BC20-306CA6B5887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41440" y="907920"/>
            <a:ext cx="82771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800" spc="-1" strike="noStrike">
                <a:solidFill>
                  <a:srgbClr val="666666"/>
                </a:solidFill>
                <a:latin typeface="Arial"/>
              </a:rPr>
              <a:t>Questions to the authors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520" y="1484280"/>
            <a:ext cx="8278560" cy="47671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800" spc="-1" strike="noStrike">
                <a:solidFill>
                  <a:srgbClr val="0066ff"/>
                </a:solidFill>
                <a:latin typeface="Arial"/>
              </a:rPr>
              <a:t>Netherlands: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ineation of knowledge capital creation by R&amp;D and the creation of  human capital and other forms of “intangibles” – conceptual level and implementation in practic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800" spc="-1" strike="noStrike">
                <a:solidFill>
                  <a:srgbClr val="0066ff"/>
                </a:solidFill>
                <a:latin typeface="Arial"/>
              </a:rPr>
              <a:t>Netherlands and Australia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 do you see the interdependence of capital services for non-market producers and the valuation of R&amp;D according to non-market production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posal for the further treatment of technical issues – a new forum, new project, new revision or what els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800" spc="-1" strike="noStrike">
                <a:solidFill>
                  <a:srgbClr val="0066ff"/>
                </a:solidFill>
                <a:latin typeface="Arial"/>
              </a:rPr>
              <a:t>Switzerland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iability of the national accounts data including R&amp;D from your first estimates for political purpose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act on level and growth rate of GDP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937D4-C8E4-49C8-AE9D-5FA23FC2ABE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41440" y="907920"/>
            <a:ext cx="82771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2800" spc="-1" strike="noStrike">
                <a:solidFill>
                  <a:srgbClr val="666666"/>
                </a:solidFill>
                <a:latin typeface="Arial"/>
              </a:rPr>
              <a:t>Questions to the authors (2)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3520" y="1557000"/>
            <a:ext cx="8278560" cy="469404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800" spc="-1" strike="noStrike">
                <a:solidFill>
                  <a:srgbClr val="0066ff"/>
                </a:solidFill>
                <a:latin typeface="Arial"/>
              </a:rPr>
              <a:t>Eurosta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deas for the work of the Eurostat Task Force on the development of satellite accounts for R&amp;D in the light of the OECD Task Force working in parallel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the quality of primary statistics on R&amp;D appropriate? Do national R&amp;D-figures adequately reflect the shift in economy towards globalised ways of production and towards a higher importance of service industrie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800" spc="-1" strike="noStrike">
                <a:solidFill>
                  <a:srgbClr val="0066ff"/>
                </a:solidFill>
                <a:latin typeface="Arial"/>
              </a:rPr>
              <a:t>Australia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what extent is the concept of capital services necessary for the analysis of productivity? How far does it help to show the productivity effects of “intangibles” better than now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9A873-B6E5-45F2-8AAD-5F06F2B9FEA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41440" y="907920"/>
            <a:ext cx="827712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800" spc="-1" strike="noStrike">
                <a:solidFill>
                  <a:srgbClr val="666666"/>
                </a:solidFill>
                <a:latin typeface="Arial"/>
              </a:rPr>
              <a:t>Questions for the general discussion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3520" y="1413000"/>
            <a:ext cx="8278560" cy="483840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marL="174600"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R&amp;D – difficult to measure in any case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575"/>
              </a:spcBef>
              <a:buClr>
                <a:srgbClr val="cc0033"/>
              </a:buClr>
              <a:buFont typeface="Wingdings" charset="2"/>
              <a:buChar char="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Rough estimate or no estimate at all?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575"/>
              </a:spcBef>
              <a:buClr>
                <a:srgbClr val="cc0033"/>
              </a:buClr>
              <a:buFont typeface="Wingdings" charset="2"/>
              <a:buChar char="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Very rough estimates may mislead user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vs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Rejection of estimation may damage the macroeconomic quality of the accou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cc0033"/>
              </a:buClr>
              <a:buFont typeface="Wingdings" charset="2"/>
              <a:buChar char="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Should national accounts data be based on statistically measurable variables, focused on observable market transactions rather than imputations?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cc0033"/>
              </a:buClr>
              <a:buFont typeface="Wingdings" charset="2"/>
              <a:buChar char="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Extension of the capital boundary </a:t>
            </a:r>
            <a:r>
              <a:rPr b="1" lang="en-GB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 Switching over to </a:t>
            </a:r>
            <a:r>
              <a:rPr b="1" lang="en-GB" sz="2300" spc="-1" strike="noStrike" u="sng">
                <a:solidFill>
                  <a:srgbClr val="000000"/>
                </a:solidFill>
                <a:uFillTx/>
                <a:latin typeface="Arial"/>
              </a:rPr>
              <a:t>net</a:t>
            </a: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 domestic product for international comparisons?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39EB0-DF8D-4205-A750-635AD21B4FA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41440" y="836280"/>
            <a:ext cx="827712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3200" spc="-1" strike="noStrike">
                <a:solidFill>
                  <a:srgbClr val="666666"/>
                </a:solidFill>
                <a:latin typeface="Arial"/>
              </a:rPr>
              <a:t>Papers </a:t>
            </a:r>
            <a:r>
              <a:rPr b="1" lang="en-GB" sz="3600" spc="-1" strike="noStrike">
                <a:solidFill>
                  <a:srgbClr val="66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628280"/>
            <a:ext cx="8278560" cy="46227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Capital Measurement in the Netherlands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cccccc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100" spc="-1" strike="noStrike">
                <a:solidFill>
                  <a:srgbClr val="0066ff"/>
                </a:solidFill>
                <a:latin typeface="Arial"/>
              </a:rPr>
              <a:t>M. de Haan, D. van den Bergen and M. van Rooijen-Horsten,    </a:t>
            </a:r>
            <a:br>
              <a:rPr sz="2100"/>
            </a:br>
            <a:r>
              <a:rPr b="1" lang="en-GB" sz="2100" spc="-1" strike="noStrike">
                <a:solidFill>
                  <a:srgbClr val="0066ff"/>
                </a:solidFill>
                <a:latin typeface="Arial"/>
              </a:rPr>
              <a:t> CBS-N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The Capital Boundary in the 1993 SNA, Rev. 1 – Challenges for National Statistical Offices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cccccc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100" spc="-1" strike="noStrike">
                <a:solidFill>
                  <a:srgbClr val="0066ff"/>
                </a:solidFill>
                <a:latin typeface="Arial"/>
              </a:rPr>
              <a:t>P. Sollberger, Ph. Stauffer and R. Meier, SFO-CH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Capitalisation of research and development expenditure: points of view and experiences in the European Union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cccccc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100" spc="-1" strike="noStrike">
                <a:solidFill>
                  <a:srgbClr val="0066ff"/>
                </a:solidFill>
                <a:latin typeface="Arial"/>
              </a:rPr>
              <a:t>G. Gueye and F. Malherbe, Eurosta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An Integrated System of Capital Flow and Stock Statistics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cccccc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100" spc="-1" strike="noStrike">
                <a:solidFill>
                  <a:srgbClr val="0066ff"/>
                </a:solidFill>
                <a:latin typeface="Arial"/>
              </a:rPr>
              <a:t>P. Harper, ABS-AU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64795-928B-43C3-AF3C-A79BDF03C4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24000" y="763560"/>
            <a:ext cx="8820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700360" y="2421000"/>
            <a:ext cx="3384360" cy="1584360"/>
          </a:xfrm>
          <a:prstGeom prst="flowChartExtra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490920" y="30384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ality of Statistics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280" y="836280"/>
            <a:ext cx="82789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400" spc="-1" strike="noStrike">
                <a:solidFill>
                  <a:srgbClr val="666666"/>
                </a:solidFill>
                <a:latin typeface="Arial"/>
              </a:rPr>
              <a:t>„</a:t>
            </a:r>
            <a:r>
              <a:rPr b="1" lang="en-GB" sz="2400" spc="-1" strike="noStrike">
                <a:solidFill>
                  <a:srgbClr val="666666"/>
                </a:solidFill>
                <a:latin typeface="Arial"/>
              </a:rPr>
              <a:t>You have to have facts. Theories are not good unless you have facts to back them.“ (Wassilij Leontief)</a:t>
            </a: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562200" y="1879560"/>
            <a:ext cx="16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istency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084720" y="3753000"/>
            <a:ext cx="18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ability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116000" y="3753000"/>
            <a:ext cx="16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evance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11280" y="479736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666666"/>
                </a:solidFill>
                <a:latin typeface="Arial"/>
              </a:rPr>
              <a:t>THANK YOU VERY MUCH FOR YOUR ATTENTION !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76513-03B9-4C9F-83C7-37549E777D4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3600" spc="-1" strike="noStrike">
                <a:solidFill>
                  <a:srgbClr val="666666"/>
                </a:solidFill>
                <a:latin typeface="Arial"/>
              </a:rPr>
              <a:t>Focus of the Papers</a:t>
            </a: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39640" y="2133720"/>
          <a:ext cx="8278560" cy="3786120"/>
        </p:xfrm>
        <a:graphic>
          <a:graphicData uri="http://schemas.openxmlformats.org/drawingml/2006/table">
            <a:tbl>
              <a:tblPr/>
              <a:tblGrid>
                <a:gridCol w="2525760"/>
                <a:gridCol w="2665080"/>
                <a:gridCol w="3087720"/>
              </a:tblGrid>
              <a:tr h="150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italisation of R&amp;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lth &amp; Productivity: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ated Capital Measurem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23209-CC17-4794-9D52-8AFDD944D3F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3600" spc="-1" strike="noStrike">
                <a:solidFill>
                  <a:srgbClr val="666666"/>
                </a:solidFill>
                <a:latin typeface="Arial"/>
              </a:rPr>
              <a:t>The dictum:</a:t>
            </a: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844280"/>
            <a:ext cx="4182840" cy="4248360"/>
          </a:xfrm>
          <a:prstGeom prst="rect">
            <a:avLst/>
          </a:prstGeom>
          <a:noFill/>
          <a:ln w="0">
            <a:noFill/>
          </a:ln>
        </p:spPr>
        <p:txBody>
          <a:bodyPr lIns="108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he only statistics you can trust are those you falsified yourself“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184320">
              <a:spcBef>
                <a:spcPts val="601"/>
              </a:spcBef>
              <a:buClr>
                <a:srgbClr val="cc0033"/>
              </a:buClr>
              <a:buSzPct val="80000"/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urchill’s authorship has not been proved to this day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184320">
              <a:spcBef>
                <a:spcPts val="601"/>
              </a:spcBef>
              <a:buClr>
                <a:srgbClr val="cc0033"/>
              </a:buClr>
              <a:buSzPct val="80000"/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slander campaign in the propaganda war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184320">
              <a:spcBef>
                <a:spcPts val="601"/>
              </a:spcBef>
              <a:buClr>
                <a:srgbClr val="cc0033"/>
              </a:buClr>
              <a:buSzPct val="80000"/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sible author: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urchill’s arch-enemy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seph Goebb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257800" y="2997360"/>
            <a:ext cx="1511280" cy="26049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948360" y="1268280"/>
            <a:ext cx="1782720" cy="2376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6156360" y="2349360"/>
            <a:ext cx="144000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969696"/>
                  </a:solidFill>
                  <a:miter/>
                </a:ln>
                <a:solidFill>
                  <a:srgbClr val="000000">
                    <a:alpha val="73000"/>
                  </a:srgbClr>
                </a:solidFill>
                <a:latin typeface="MetaNormalLF-Roman"/>
              </a:rPr>
              <a:t>?</a:t>
            </a:r>
            <a:endParaRPr b="0" lang="en-US" sz="9600" spc="1" strike="noStrike">
              <a:ln w="9360">
                <a:solidFill>
                  <a:srgbClr val="969696"/>
                </a:solidFill>
                <a:miter/>
              </a:ln>
              <a:solidFill>
                <a:srgbClr val="000000">
                  <a:alpha val="73000"/>
                </a:srgbClr>
              </a:solidFill>
              <a:latin typeface="MetaNormalLF-Roman"/>
              <a:ea typeface="MetaNormal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98AF7-F349-444C-8962-562DA9E427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3200" spc="-1" strike="noStrike">
                <a:solidFill>
                  <a:srgbClr val="666666"/>
                </a:solidFill>
                <a:latin typeface="Arial"/>
              </a:rPr>
              <a:t>This is what Winston Churchill really said:</a:t>
            </a:r>
            <a:endParaRPr b="1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373720" y="1752480"/>
            <a:ext cx="3375000" cy="4498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11280" y="2722680"/>
            <a:ext cx="43210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You must look at the facts because they look at you!”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ech in the British House of Commons, 7 May 1925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D3623-07D0-4CD5-9DE4-FD7BAFFFC4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41440" y="1133280"/>
            <a:ext cx="82771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3600" spc="-1" strike="noStrike">
                <a:solidFill>
                  <a:srgbClr val="666666"/>
                </a:solidFill>
                <a:latin typeface="Arial"/>
              </a:rPr>
              <a:t>This is ascribed to Kennedy:</a:t>
            </a: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916280"/>
            <a:ext cx="424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tatistics are like a bikini, what they reveal is suggestive, but what they conceal is vital.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3716280"/>
            <a:ext cx="460836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cc00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aron Levenstein (1901-1986), economics professor  in New York, is the real author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cc00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078520" y="1844640"/>
            <a:ext cx="3492360" cy="38894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5940360" y="1413000"/>
            <a:ext cx="2592360" cy="47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969696"/>
                  </a:solidFill>
                  <a:miter/>
                </a:ln>
                <a:solidFill>
                  <a:srgbClr val="000000">
                    <a:alpha val="73000"/>
                  </a:srgbClr>
                </a:solidFill>
                <a:latin typeface="MetaNormalLF-Roman"/>
              </a:rPr>
              <a:t>/</a:t>
            </a:r>
            <a:endParaRPr b="0" lang="en-US" sz="9600" spc="1" strike="noStrike">
              <a:ln w="9360">
                <a:solidFill>
                  <a:srgbClr val="969696"/>
                </a:solidFill>
                <a:miter/>
              </a:ln>
              <a:solidFill>
                <a:srgbClr val="000000">
                  <a:alpha val="73000"/>
                </a:srgbClr>
              </a:solidFill>
              <a:latin typeface="MetaNormalLF-Roman"/>
              <a:ea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6AEFD-2555-4F77-B080-C5C63B8EC44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3600" spc="-1" strike="noStrike">
                <a:solidFill>
                  <a:srgbClr val="666666"/>
                </a:solidFill>
                <a:latin typeface="Arial"/>
              </a:rPr>
              <a:t>Goodhart‘s Law</a:t>
            </a: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2101680"/>
            <a:ext cx="8278560" cy="26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y observed statistical regularity will tend to collapse once pressure is placed upon it for control purposes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Charles Goodhart)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 more generall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en a measure becomes a target, it ceases to be a good measure (Keith </a:t>
            </a: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Hoskin)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8C63C-B453-4D9D-AE9E-63D8BA972F3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24000" y="763560"/>
            <a:ext cx="8820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6666"/>
                </a:solidFill>
                <a:latin typeface="Arial"/>
              </a:rPr>
              <a:t>“</a:t>
            </a:r>
            <a:r>
              <a:rPr b="1" lang="en-GB" sz="2800" spc="-1" strike="noStrike">
                <a:solidFill>
                  <a:srgbClr val="666666"/>
                </a:solidFill>
                <a:latin typeface="Arial"/>
              </a:rPr>
              <a:t>Good policy needs good statistics” (Tony Blair)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8000" y="2527200"/>
            <a:ext cx="5040360" cy="2516400"/>
          </a:xfrm>
          <a:prstGeom prst="flowChartExtra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59280" y="3573360"/>
            <a:ext cx="27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uality of Statistics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27280" y="184464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oretical Consistency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93080" y="453852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mpirical Measurability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4538520"/>
            <a:ext cx="165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litical Relevance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14" name=""/>
          <p:cNvSpPr/>
          <p:nvPr/>
        </p:nvSpPr>
        <p:spPr>
          <a:xfrm rot="19096200">
            <a:off x="2268360" y="3212640"/>
            <a:ext cx="1214640" cy="486000"/>
          </a:xfrm>
          <a:prstGeom prst="leftRightArrow">
            <a:avLst>
              <a:gd name="adj1" fmla="val 50000"/>
              <a:gd name="adj2" fmla="val 4975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62440" y="5157720"/>
            <a:ext cx="1214280" cy="486000"/>
          </a:xfrm>
          <a:prstGeom prst="leftRightArrow">
            <a:avLst>
              <a:gd name="adj1" fmla="val 50000"/>
              <a:gd name="adj2" fmla="val 4973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16" name=""/>
          <p:cNvSpPr/>
          <p:nvPr/>
        </p:nvSpPr>
        <p:spPr>
          <a:xfrm rot="2851200">
            <a:off x="5360040" y="3288240"/>
            <a:ext cx="1214280" cy="486000"/>
          </a:xfrm>
          <a:prstGeom prst="leftRightArrow">
            <a:avLst>
              <a:gd name="adj1" fmla="val 50000"/>
              <a:gd name="adj2" fmla="val 4973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17A03-F3FC-4A65-A74E-5ADFC774989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8000" y="980640"/>
            <a:ext cx="8278920" cy="512604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Economic Asse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Entities functioning as a store of value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298440">
              <a:spcBef>
                <a:spcPts val="476"/>
              </a:spcBef>
              <a:buClr>
                <a:srgbClr val="cc0033"/>
              </a:buClr>
              <a:buSzPct val="80000"/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over which ownership rights are enforced by institutional units, individually or collectively, and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298440">
              <a:spcBef>
                <a:spcPts val="476"/>
              </a:spcBef>
              <a:buClr>
                <a:srgbClr val="cc0033"/>
              </a:buClr>
              <a:buSzPct val="80000"/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from which economic benefits may be derived by their owners by holding them or using them over a period of tim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300" spc="-1" strike="noStrike">
                <a:solidFill>
                  <a:srgbClr val="000000"/>
                </a:solidFill>
                <a:latin typeface="Arial"/>
                <a:ea typeface="Arial"/>
              </a:rPr>
              <a:t>public goods and infrastructure resulting from an </a:t>
            </a:r>
            <a:br>
              <a:rPr sz="2300"/>
            </a:br>
            <a:r>
              <a:rPr b="1" lang="en-GB" sz="2300" spc="-1" strike="noStrike">
                <a:solidFill>
                  <a:srgbClr val="000000"/>
                </a:solidFill>
                <a:latin typeface="Arial"/>
                <a:ea typeface="Arial"/>
              </a:rPr>
              <a:t>       accumulation of knowledge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55640" y="4797360"/>
            <a:ext cx="576360" cy="432000"/>
          </a:xfrm>
          <a:prstGeom prst="lightningBolt">
            <a:avLst/>
          </a:prstGeom>
          <a:solidFill>
            <a:srgbClr val="cc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27F6F-B005-4ECB-A673-E2D1CB0E038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1T15:21:30Z</dcterms:created>
  <dc:creator>Brugger-P</dc:creator>
  <dc:description/>
  <dc:language>en-US</dc:language>
  <cp:lastModifiedBy>Schmalwasser-O</cp:lastModifiedBy>
  <cp:lastPrinted>2002-05-22T15:37:50Z</cp:lastPrinted>
  <dcterms:modified xsi:type="dcterms:W3CDTF">2007-06-05T07:30:35Z</dcterms:modified>
  <cp:revision>129</cp:revision>
  <dc:subject/>
  <dc:title>Kurzvorstellung</dc:title>
</cp:coreProperties>
</file>